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F9D-9983-4E1A-A936-A7729B8E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955-53BF-4518-B4F4-7A2D148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9D1-AC66-45D2-81C6-603D7401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544-B11E-4367-9118-82980F7D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E25-1120-4D47-916C-FBEB792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265-115E-4996-82A5-425D0E5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30B-FF36-403E-AB84-BF944969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878-FF77-4C98-B669-1F7F44C4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972-AB51-4AF5-9A58-6056176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DC4-6B88-48DB-89C1-B015803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85D-D952-4F03-B345-A90039A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2E5-B2E6-4B7E-9B47-D2D8F3C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657-57F6-4BAE-B45A-EF5272DC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e Auxiliar FI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357336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nter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422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radores * y ++ se asocian de derecha 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es equivalente a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a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por lo tanto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*(a+i) es equivalente a 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 cálculo del largo de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(n=0; *s!=‘\0’; ++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con aritmética de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har*p=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*p!=‘\0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p-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Esta rutina NO INTERCAMBIA VALORE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swap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hacer con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*x, int *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*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swap2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puntero se puede considerar como un índice de un gran arreglo de bytes, que representa la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reservamos “n” bytes de memoria, se está reservando “n” elementos contiguos del arreglo de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asignamos un puntero a esa reserva, apuntará al primer byte re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j[1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*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j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p= &amp;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jp=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f(“ip = 0x%x jp= 0x%x\n”, ip, j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punteros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b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loc: reserva un espacio de memoria del tamaño que se indica y retorna un pu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poner un cast para que el tipo de puntero se adapte a lo que s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= (char *) malloc(100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reserva un área de 100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bytes*/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reves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que reserva un espacio de memoria de tamaño exacto para copiar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my_strdup(char *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= (char *)malloc(strlen(s)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p !=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cpy(p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dir memoria para un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malloc y calcular el espacio 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 =(int *)malloc(100*sizeof(int)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100 in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calloc con dos parámetros: número de celdas y tamaño de las cel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 (int *)calloc(100,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oc inicializa en cero la memoria qu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erminar de usar la memoria pedida dinámicamente, es necesario devolve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p apunta al inicia del área de memoria que se libera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 no hay recolección automática de basura por default (como e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mory Leak”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 de error que se presenta en los programas que funcionan por mucho tiempo y “olvidan” liberar memoria: errores muy difíciles de investi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Malo!!!! Porque primero libera y luego acced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 correcta de liberar memoria de una lista enlaz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q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q= p-&gt;n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Courier New"/>
              </a:rPr>
              <a:t>/*guarda donde estaba parado p y luego lo libera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orma correcta es guardar lo necesario antes de lib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z[0]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2:18:38Z</dcterms:created>
  <dc:creator>Maria Fernanda Duran</dc:creator>
  <dc:description/>
  <dc:language>en-US</dc:language>
  <cp:lastModifiedBy>Maria Fernanda Duran</cp:lastModifiedBy>
  <dcterms:modified xsi:type="dcterms:W3CDTF">2006-08-30T14:30:50Z</dcterms:modified>
  <cp:revision>14</cp:revision>
  <dc:subject/>
  <dc:title>Clase Auxiliar nº1  FI46A</dc:title>
</cp:coreProperties>
</file>