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664A9-F121-4B52-8D1C-FD55ADB71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EAE21-565B-46E9-9243-4F85AC0BF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D2E66-8939-4950-9719-B7C8D417C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B8CDD-05B7-4B8D-9505-15C22BD6C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54FEA-FA73-489B-9D60-0409EF899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F68F8-38B0-4031-94D3-2A8156524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52F91-6E87-4567-A357-3A3977650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3E3EF-3962-48B3-B1F8-A3683EFFA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739DA-F194-44E5-8B98-2D5F40154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99074-3932-403D-A19B-BAF663889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47B3E-7ADE-4CBB-A3E7-12257E414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238A3-5D77-4302-893F-B2F37873A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e2f1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E34C2-5987-41DF-827D-8C64FB18B0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e2f1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9079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Clase Auxiliar FI46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252360" y="3573360"/>
            <a:ext cx="6400800" cy="16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unteros 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Memoria Dinám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076720" y="2852640"/>
            <a:ext cx="3422880" cy="32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e2f1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Punteros y Arreg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*ip es un 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*ip =*ip + 10; </a:t>
            </a:r>
            <a:r>
              <a:rPr b="0" lang="es-ES" sz="2200" spc="-1" strike="noStrike">
                <a:solidFill>
                  <a:srgbClr val="808080"/>
                </a:solidFill>
                <a:latin typeface="Courier New"/>
              </a:rPr>
              <a:t>/*incrementa *ip en 10*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y = *ip + 1; </a:t>
            </a:r>
            <a:r>
              <a:rPr b="0" lang="es-ES" sz="2200" spc="-1" strike="noStrike">
                <a:solidFill>
                  <a:srgbClr val="808080"/>
                </a:solidFill>
                <a:latin typeface="Courier New"/>
              </a:rPr>
              <a:t>/*(lo apuntado por ip) + 1*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*ip +=1; </a:t>
            </a:r>
            <a:r>
              <a:rPr b="0" lang="es-ES" sz="2200" spc="-1" strike="noStrike">
                <a:solidFill>
                  <a:srgbClr val="808080"/>
                </a:solidFill>
                <a:latin typeface="Courier New"/>
              </a:rPr>
              <a:t>/*incrementa en 1 lo apuntado por ip*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++*ip; </a:t>
            </a:r>
            <a:r>
              <a:rPr b="0" lang="es-ES" sz="2200" spc="-1" strike="noStrike">
                <a:solidFill>
                  <a:srgbClr val="808080"/>
                </a:solidFill>
                <a:latin typeface="Courier New"/>
              </a:rPr>
              <a:t>/*idem*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*ip)++; </a:t>
            </a:r>
            <a:r>
              <a:rPr b="0" lang="es-ES" sz="2200" spc="-1" strike="noStrike">
                <a:solidFill>
                  <a:srgbClr val="808080"/>
                </a:solidFill>
                <a:latin typeface="Courier New"/>
              </a:rPr>
              <a:t>/*idem*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e2f1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Punteros y Arreg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*ip es un 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*ip =*ip + 10; </a:t>
            </a:r>
            <a:r>
              <a:rPr b="0" lang="es-ES" sz="2200" spc="-1" strike="noStrike">
                <a:solidFill>
                  <a:srgbClr val="808080"/>
                </a:solidFill>
                <a:latin typeface="Courier New"/>
              </a:rPr>
              <a:t>/*incrementa *ip en 10*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y = *ip + 1; </a:t>
            </a:r>
            <a:r>
              <a:rPr b="0" lang="es-ES" sz="2200" spc="-1" strike="noStrike">
                <a:solidFill>
                  <a:srgbClr val="808080"/>
                </a:solidFill>
                <a:latin typeface="Courier New"/>
              </a:rPr>
              <a:t>/*(lo apuntado por ip) + 1*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*ip +=1; </a:t>
            </a:r>
            <a:r>
              <a:rPr b="0" lang="es-ES" sz="2200" spc="-1" strike="noStrike">
                <a:solidFill>
                  <a:srgbClr val="808080"/>
                </a:solidFill>
                <a:latin typeface="Courier New"/>
              </a:rPr>
              <a:t>/*incrementa en 1 lo apuntado por ip*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++*ip; </a:t>
            </a:r>
            <a:r>
              <a:rPr b="0" lang="es-ES" sz="2200" spc="-1" strike="noStrike">
                <a:solidFill>
                  <a:srgbClr val="808080"/>
                </a:solidFill>
                <a:latin typeface="Courier New"/>
              </a:rPr>
              <a:t>/*idem*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*ip)++; </a:t>
            </a:r>
            <a:r>
              <a:rPr b="0" lang="es-ES" sz="2200" spc="-1" strike="noStrike">
                <a:solidFill>
                  <a:srgbClr val="808080"/>
                </a:solidFill>
                <a:latin typeface="Courier New"/>
              </a:rPr>
              <a:t>/*idem*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Operadores * y ++ se asocian de derecha a izquier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e2f1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Punteros y Arreg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int a[10]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int *p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p= &amp;a[0]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printf(“%d\n”,*(p+1)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printf(“%d\n”,*(p+i)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e2f1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Punteros y Arreg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int a[10]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int *p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p= &amp;a[0]; </a:t>
            </a:r>
            <a:r>
              <a:rPr b="0" lang="es-ES" sz="2200" spc="-1" strike="noStrike">
                <a:solidFill>
                  <a:srgbClr val="808080"/>
                </a:solidFill>
                <a:latin typeface="Courier New"/>
              </a:rPr>
              <a:t>/* p apunta al primer elemento de a*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printf(“%d\n”,*(p+1)); </a:t>
            </a:r>
            <a:r>
              <a:rPr b="0" lang="es-ES" sz="2200" spc="-1" strike="noStrike">
                <a:solidFill>
                  <a:srgbClr val="808080"/>
                </a:solidFill>
                <a:latin typeface="Courier New"/>
              </a:rPr>
              <a:t>/*imprime a[1]*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printf(“%d\n”,*(p+i)); </a:t>
            </a:r>
            <a:r>
              <a:rPr b="0" lang="es-ES" sz="2200" spc="-1" strike="noStrike">
                <a:solidFill>
                  <a:srgbClr val="808080"/>
                </a:solidFill>
                <a:latin typeface="Courier New"/>
              </a:rPr>
              <a:t>/*imprime a[i]*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e2f1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Punteros y Arreg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int a[10]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int *p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p= &amp;a[0]; </a:t>
            </a:r>
            <a:r>
              <a:rPr b="0" lang="es-ES" sz="2200" spc="-1" strike="noStrike">
                <a:solidFill>
                  <a:srgbClr val="808080"/>
                </a:solidFill>
                <a:latin typeface="Courier New"/>
              </a:rPr>
              <a:t>/* p apunta al primer elemento de a*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printf(“%d\n”,*(p+1)); </a:t>
            </a:r>
            <a:r>
              <a:rPr b="0" lang="es-ES" sz="2200" spc="-1" strike="noStrike">
                <a:solidFill>
                  <a:srgbClr val="808080"/>
                </a:solidFill>
                <a:latin typeface="Courier New"/>
              </a:rPr>
              <a:t>/*imprime a[1]*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printf(“%d\n”,*(p+i)); </a:t>
            </a:r>
            <a:r>
              <a:rPr b="0" lang="es-ES" sz="2200" spc="-1" strike="noStrike">
                <a:solidFill>
                  <a:srgbClr val="808080"/>
                </a:solidFill>
                <a:latin typeface="Courier New"/>
              </a:rPr>
              <a:t>/*imprime a[i]*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demás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p= &amp;a[0];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s-ES" sz="2200" spc="-1" strike="noStrike">
                <a:solidFill>
                  <a:srgbClr val="808080"/>
                </a:solidFill>
                <a:latin typeface="Courier New"/>
              </a:rPr>
              <a:t>/*es equivalente a *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p=a;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s-ES" sz="2200" spc="-1" strike="noStrike">
                <a:solidFill>
                  <a:srgbClr val="808080"/>
                </a:solidFill>
                <a:latin typeface="Courier New"/>
              </a:rPr>
              <a:t>/*por lo tanto*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*(a+i) es equivalente a a[i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e2f1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Punteros y Arreg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jemplo: cálculo del largo de un st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int my_strlen(char *s){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int n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for (n=0; *s!=‘\0’; ++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n++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return n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main(){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printf(“%d\n”, my_strlen(“hola”)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e2f1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Punteros y Arreg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Implementación con aritmética de punter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int my_strlen(char *s){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char*p=s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while(*p!=‘\0’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++p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return p-s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main(){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printf(“%d\n”, my_strlen(“hola”)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e2f1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Punteros y Argumentos de Funcio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jemplo de rutina SWAP (intercambi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void swap(int x, int y){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int tmp=x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x=y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y=tmp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e2f1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Punteros y Argumentos de Funcio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jemplo de rutina SWAP (intercambi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void swap(int x, int y){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int tmp=x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x=y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y=tmp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ff0000"/>
                </a:solidFill>
                <a:latin typeface="Courier New"/>
              </a:rPr>
              <a:t>Esta rutina NO INTERCAMBIA VALORES!!!!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(swap.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e2f1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Punteros y Argumentos de Funcio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e debe hacer con punter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void swap(int *x, int *y){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int tmp=*x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*x=*y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*y=tmp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(swap2.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e2f1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Punter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Operador &amp; entrega la dirección de memoria de un obje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Operador * da acceso al objeto que señala el punte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Courier New"/>
              </a:rPr>
              <a:t>int x=1, y=2, z[10]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Courier New"/>
              </a:rPr>
              <a:t>int *ip; </a:t>
            </a:r>
            <a:r>
              <a:rPr b="0" lang="es-ES" sz="2500" spc="-1" strike="noStrike">
                <a:solidFill>
                  <a:srgbClr val="808080"/>
                </a:solidFill>
                <a:latin typeface="Courier New"/>
              </a:rPr>
              <a:t>/*puntero a int*/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Courier New"/>
              </a:rPr>
              <a:t>ip=&amp;x;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Courier New"/>
              </a:rPr>
              <a:t>y=*ip;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Courier New"/>
              </a:rPr>
              <a:t>*ip=0;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Courier New"/>
              </a:rPr>
              <a:t>ip=&amp;z[0];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e2f1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Punteros y Memoria Dinám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Un puntero se puede considerar como un índice de un gran arreglo de bytes, que representa la memor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uando reservamos “n” bytes de memoria, se está reservando “n” elementos contiguos del arreglo de memor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i asignamos un puntero a esa reserva, apuntará al primer byte reserva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e2f1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Punteros y Memoria Dinám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main()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char j[14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int i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int *ip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char *jp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ip= &amp;i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jp=j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printf(“ip = 0x%x jp= 0x%x\n”, ip, jp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(punteros.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e2f1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Memoria Dinám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Función bás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malloc: reserva un espacio de memoria del tamaño que se indica y retorna un punte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nteponer un cast para que el tipo de puntero se adapte a lo que se espe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#include &lt;stdlib.h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char *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s= (char *) malloc(100); </a:t>
            </a:r>
            <a:r>
              <a:rPr b="0" lang="es-ES" sz="2000" spc="-1" strike="noStrike">
                <a:solidFill>
                  <a:srgbClr val="808080"/>
                </a:solidFill>
                <a:latin typeface="Courier New"/>
              </a:rPr>
              <a:t>/*reserva un área de 100 </a:t>
            </a:r>
            <a:r>
              <a:rPr b="0" lang="es-ES" sz="2000" spc="-1" strike="noStrike">
                <a:solidFill>
                  <a:srgbClr val="808080"/>
                </a:solidFill>
                <a:latin typeface="Courier New"/>
              </a:rPr>
              <a:t>	</a:t>
            </a:r>
            <a:r>
              <a:rPr b="0" lang="es-ES" sz="2000" spc="-1" strike="noStrike">
                <a:solidFill>
                  <a:srgbClr val="808080"/>
                </a:solidFill>
                <a:latin typeface="Courier New"/>
              </a:rPr>
              <a:t>	</a:t>
            </a:r>
            <a:r>
              <a:rPr b="0" lang="es-ES" sz="2000" spc="-1" strike="noStrike">
                <a:solidFill>
                  <a:srgbClr val="808080"/>
                </a:solidFill>
                <a:latin typeface="Courier New"/>
              </a:rPr>
              <a:t>	</a:t>
            </a:r>
            <a:r>
              <a:rPr b="0" lang="es-ES" sz="2000" spc="-1" strike="noStrike">
                <a:solidFill>
                  <a:srgbClr val="808080"/>
                </a:solidFill>
                <a:latin typeface="Courier New"/>
              </a:rPr>
              <a:t>	</a:t>
            </a:r>
            <a:r>
              <a:rPr b="0" lang="es-ES" sz="2000" spc="-1" strike="noStrike">
                <a:solidFill>
                  <a:srgbClr val="808080"/>
                </a:solidFill>
                <a:latin typeface="Courier New"/>
              </a:rPr>
              <a:t>	</a:t>
            </a:r>
            <a:r>
              <a:rPr b="0" lang="es-ES" sz="2000" spc="-1" strike="noStrike">
                <a:solidFill>
                  <a:srgbClr val="808080"/>
                </a:solidFill>
                <a:latin typeface="Courier New"/>
              </a:rPr>
              <a:t>bytes*/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(reves.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e2f1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Memoria Dinám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Función que reserva un espacio de memoria de tamaño exacto para copiar un st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char *my_strdup(char *s)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char *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p= (char *)malloc(strlen(s)+1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f(p !=NUL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strcpy(p,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e2f1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Memoria Dinám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Pedir memoria para un arreg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Usar malloc y calcular el espacio requeri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p =(int *)malloc(100*sizeof(int)); </a:t>
            </a:r>
            <a:r>
              <a:rPr b="0" lang="es-ES" sz="2000" spc="-1" strike="noStrike">
                <a:solidFill>
                  <a:srgbClr val="808080"/>
                </a:solidFill>
                <a:latin typeface="Courier New"/>
              </a:rPr>
              <a:t>/*100 int*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Usar calloc con dos parámetros: número de celdas y tamaño de las celd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p= (int *)calloc(100,sizeof(int)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alloc inicializa en cero la memoria que entreg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e2f1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Memoria Dinám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l terminar de usar la memoria pedida dinámicamente, es necesario devolver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free(p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808080"/>
                </a:solidFill>
                <a:latin typeface="Courier New"/>
              </a:rPr>
              <a:t>/*p apunta al inicia del área de memoria que se libera*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n C no hay recolección automática de basura por default (como en jav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s-ES" sz="2800" spc="-1" strike="noStrike">
                <a:solidFill>
                  <a:srgbClr val="000000"/>
                </a:solidFill>
                <a:latin typeface="Arial"/>
              </a:rPr>
              <a:t>Memory Leak” 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Tipo de error que se presenta en los programas que funcionan por mucho tiempo y “olvidan” liberar memoria: errores muy difíciles de investig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e2f1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Memoria Dinám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No hay restricciones sobre el orden en que se debe liberar la memoria pedi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uidado con liberar algo no obtenido con malloc o call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e2f1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Memoria Dinám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No hay restricciones sobre el orden en que se debe liberar la memoria pedi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uidado con liberar algo no obtenido con malloc o call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uidado con usar algo que ya se ha libera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jemplo: liberar objetos de una lis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for(p=head; p != NULL; p=p-&gt;next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free(p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e2f1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Memoria Dinám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No hay restricciones sobre el orden en que se debe liberar la memoria pedi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uidado con liberar algo no obtenido con malloc o callo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uidado con usar algo que ya se ha liber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jemplo: liberar objetos de una lis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for(p=head; p != NULL; p=p-&gt;nex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free(p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ff0000"/>
                </a:solidFill>
                <a:latin typeface="Courier New"/>
              </a:rPr>
              <a:t>Malo!!!! Porque primero libera y luego accede!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e2f1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Memoria Dinám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Forma correcta de liberar memoria de una lista enlazad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for(p=head; p != NULL; p=q){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q= p-&gt;nex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free(p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808080"/>
                </a:solidFill>
                <a:latin typeface="Courier New"/>
              </a:rPr>
              <a:t>/*guarda donde estaba parado p y luego lo libera*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a forma correcta es guardar lo necesario antes de liber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e2f1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Punter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Operador &amp; entrega la dirección de memoria de un obje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Operador * da acceso al objeto que señala el punte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Courier New"/>
              </a:rPr>
              <a:t>int x=1, y=2, z[10]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Courier New"/>
              </a:rPr>
              <a:t>int *ip; </a:t>
            </a:r>
            <a:r>
              <a:rPr b="0" lang="es-ES" sz="2500" spc="-1" strike="noStrike">
                <a:solidFill>
                  <a:srgbClr val="808080"/>
                </a:solidFill>
                <a:latin typeface="Courier New"/>
              </a:rPr>
              <a:t>/*puntero a int*/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Courier New"/>
              </a:rPr>
              <a:t>ip=&amp;x; </a:t>
            </a:r>
            <a:r>
              <a:rPr b="0" lang="es-ES" sz="2500" spc="-1" strike="noStrike">
                <a:solidFill>
                  <a:srgbClr val="808080"/>
                </a:solidFill>
                <a:latin typeface="Courier New"/>
              </a:rPr>
              <a:t>/*ip apunta a x*/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Courier New"/>
              </a:rPr>
              <a:t>y=*ip;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Courier New"/>
              </a:rPr>
              <a:t>*ip=0;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Courier New"/>
              </a:rPr>
              <a:t>ip=&amp;z[0];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e2f1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Punter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Operador &amp; entrega la dirección de memoria de un obje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Operador * da acceso al objeto que señala el punte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Courier New"/>
              </a:rPr>
              <a:t>int x=1, y=2, z[10]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Courier New"/>
              </a:rPr>
              <a:t>int *ip; </a:t>
            </a:r>
            <a:r>
              <a:rPr b="0" lang="es-ES" sz="2500" spc="-1" strike="noStrike">
                <a:solidFill>
                  <a:srgbClr val="808080"/>
                </a:solidFill>
                <a:latin typeface="Courier New"/>
              </a:rPr>
              <a:t>/*puntero a int*/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Courier New"/>
              </a:rPr>
              <a:t>ip=&amp;x; </a:t>
            </a:r>
            <a:r>
              <a:rPr b="0" lang="es-ES" sz="2500" spc="-1" strike="noStrike">
                <a:solidFill>
                  <a:srgbClr val="808080"/>
                </a:solidFill>
                <a:latin typeface="Courier New"/>
              </a:rPr>
              <a:t>/*ip apunta a x*/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Courier New"/>
              </a:rPr>
              <a:t>y=*ip; </a:t>
            </a:r>
            <a:r>
              <a:rPr b="0" lang="es-ES" sz="2500" spc="-1" strike="noStrike">
                <a:solidFill>
                  <a:srgbClr val="808080"/>
                </a:solidFill>
                <a:latin typeface="Courier New"/>
              </a:rPr>
              <a:t>/*y toma el valor 1*/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Courier New"/>
              </a:rPr>
              <a:t>*ip=0;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Courier New"/>
              </a:rPr>
              <a:t>ip=&amp;z[0];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e2f1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Punter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Operador &amp; entrega la dirección de memoria de un obje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Operador * da acceso al objeto que señala el punte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Courier New"/>
              </a:rPr>
              <a:t>int x=1, y=2, z[10]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Courier New"/>
              </a:rPr>
              <a:t>int *ip; </a:t>
            </a:r>
            <a:r>
              <a:rPr b="0" lang="es-ES" sz="2500" spc="-1" strike="noStrike">
                <a:solidFill>
                  <a:srgbClr val="808080"/>
                </a:solidFill>
                <a:latin typeface="Courier New"/>
              </a:rPr>
              <a:t>/*puntero a int*/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Courier New"/>
              </a:rPr>
              <a:t>ip=&amp;x; </a:t>
            </a:r>
            <a:r>
              <a:rPr b="0" lang="es-ES" sz="2500" spc="-1" strike="noStrike">
                <a:solidFill>
                  <a:srgbClr val="808080"/>
                </a:solidFill>
                <a:latin typeface="Courier New"/>
              </a:rPr>
              <a:t>/*ip apunta a x*/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Courier New"/>
              </a:rPr>
              <a:t>y=*ip; </a:t>
            </a:r>
            <a:r>
              <a:rPr b="0" lang="es-ES" sz="2500" spc="-1" strike="noStrike">
                <a:solidFill>
                  <a:srgbClr val="808080"/>
                </a:solidFill>
                <a:latin typeface="Courier New"/>
              </a:rPr>
              <a:t>/*y toma el valor 1*/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Courier New"/>
              </a:rPr>
              <a:t>*ip=0; </a:t>
            </a:r>
            <a:r>
              <a:rPr b="0" lang="es-ES" sz="2500" spc="-1" strike="noStrike">
                <a:solidFill>
                  <a:srgbClr val="808080"/>
                </a:solidFill>
                <a:latin typeface="Courier New"/>
              </a:rPr>
              <a:t>/*x toma el valor 0*/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Courier New"/>
              </a:rPr>
              <a:t>ip=&amp;z[0];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e2f1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Punter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Operador &amp; entrega la dirección de memoria de un obje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Operador * da acceso al objeto que señala el punte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Courier New"/>
              </a:rPr>
              <a:t>int x=1, y=2, z[10]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Courier New"/>
              </a:rPr>
              <a:t>int *ip; </a:t>
            </a:r>
            <a:r>
              <a:rPr b="0" lang="es-ES" sz="2500" spc="-1" strike="noStrike">
                <a:solidFill>
                  <a:srgbClr val="808080"/>
                </a:solidFill>
                <a:latin typeface="Courier New"/>
              </a:rPr>
              <a:t>/*puntero a int*/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Courier New"/>
              </a:rPr>
              <a:t>ip=&amp;x; </a:t>
            </a:r>
            <a:r>
              <a:rPr b="0" lang="es-ES" sz="2500" spc="-1" strike="noStrike">
                <a:solidFill>
                  <a:srgbClr val="808080"/>
                </a:solidFill>
                <a:latin typeface="Courier New"/>
              </a:rPr>
              <a:t>/*ip apunta a x*/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Courier New"/>
              </a:rPr>
              <a:t>y=*ip; </a:t>
            </a:r>
            <a:r>
              <a:rPr b="0" lang="es-ES" sz="2500" spc="-1" strike="noStrike">
                <a:solidFill>
                  <a:srgbClr val="808080"/>
                </a:solidFill>
                <a:latin typeface="Courier New"/>
              </a:rPr>
              <a:t>/*y toma el valor 1*/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Courier New"/>
              </a:rPr>
              <a:t>*ip=0; </a:t>
            </a:r>
            <a:r>
              <a:rPr b="0" lang="es-ES" sz="2500" spc="-1" strike="noStrike">
                <a:solidFill>
                  <a:srgbClr val="808080"/>
                </a:solidFill>
                <a:latin typeface="Courier New"/>
              </a:rPr>
              <a:t>/*x toma el valor 0*/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Courier New"/>
              </a:rPr>
              <a:t>ip=&amp;z[0]; </a:t>
            </a:r>
            <a:r>
              <a:rPr b="0" lang="es-ES" sz="2500" spc="-1" strike="noStrike">
                <a:solidFill>
                  <a:srgbClr val="808080"/>
                </a:solidFill>
                <a:latin typeface="Courier New"/>
              </a:rPr>
              <a:t>/*ip apunta a z[0]*/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e2f1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Punteros y Arreg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*ip es un 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*ip =*ip + 10; </a:t>
            </a:r>
            <a:r>
              <a:rPr b="0" lang="es-ES" sz="2200" spc="-1" strike="noStrike">
                <a:solidFill>
                  <a:srgbClr val="808080"/>
                </a:solidFill>
                <a:latin typeface="Courier New"/>
              </a:rPr>
              <a:t>/*incrementa *ip en 10*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e2f1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Punteros y Arreg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*ip es un 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*ip =*ip + 10; </a:t>
            </a:r>
            <a:r>
              <a:rPr b="0" lang="es-ES" sz="2200" spc="-1" strike="noStrike">
                <a:solidFill>
                  <a:srgbClr val="808080"/>
                </a:solidFill>
                <a:latin typeface="Courier New"/>
              </a:rPr>
              <a:t>/*incrementa *ip en 10*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y = *ip + 1; </a:t>
            </a:r>
            <a:r>
              <a:rPr b="0" lang="es-ES" sz="2200" spc="-1" strike="noStrike">
                <a:solidFill>
                  <a:srgbClr val="808080"/>
                </a:solidFill>
                <a:latin typeface="Courier New"/>
              </a:rPr>
              <a:t>/*(lo apuntado por ip) + 1*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e2f1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Punteros y Arreg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*ip es un 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*ip =*ip + 10; </a:t>
            </a:r>
            <a:r>
              <a:rPr b="0" lang="es-ES" sz="2200" spc="-1" strike="noStrike">
                <a:solidFill>
                  <a:srgbClr val="808080"/>
                </a:solidFill>
                <a:latin typeface="Courier New"/>
              </a:rPr>
              <a:t>/*incrementa *ip en 10*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y = *ip + 1; </a:t>
            </a:r>
            <a:r>
              <a:rPr b="0" lang="es-ES" sz="2200" spc="-1" strike="noStrike">
                <a:solidFill>
                  <a:srgbClr val="808080"/>
                </a:solidFill>
                <a:latin typeface="Courier New"/>
              </a:rPr>
              <a:t>/*(lo apuntado por ip) + 1*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*ip +=1; </a:t>
            </a:r>
            <a:r>
              <a:rPr b="0" lang="es-ES" sz="2200" spc="-1" strike="noStrike">
                <a:solidFill>
                  <a:srgbClr val="808080"/>
                </a:solidFill>
                <a:latin typeface="Courier New"/>
              </a:rPr>
              <a:t>/*incrementa en 1 lo apuntado por ip*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26T02:18:38Z</dcterms:created>
  <dc:creator>Maria Fernanda Duran</dc:creator>
  <dc:description/>
  <dc:language>en-US</dc:language>
  <cp:lastModifiedBy>Maria Fernanda Duran</cp:lastModifiedBy>
  <dcterms:modified xsi:type="dcterms:W3CDTF">2006-08-30T14:30:50Z</dcterms:modified>
  <cp:revision>14</cp:revision>
  <dc:subject/>
  <dc:title>Clase Auxiliar nº1  FI46A</dc:title>
</cp:coreProperties>
</file>