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B05-461F-4B7C-A8C9-F5452A26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0F3-05A3-4410-8722-1C9C46A9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006-2B7C-4EB8-A033-6F31E260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D48-8D3B-4266-A56E-D7C5634E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093-E76F-4B37-8D44-1E0F623D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F41-EC3E-4CA3-94C1-639FC670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DB1-F162-45EC-8FCB-EF6129AA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E10-865E-432A-8A0F-CFF85E9B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5A7-2B60-4C34-A346-E1528A28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9F7-13F1-41DA-B0DA-A73646C1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487-E50B-4340-BF7F-775331E7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459-6410-4682-A257-0F69845B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82D7-A10E-4E89-BDE2-2644BA934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e Auxiliar FI4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252360" y="3573360"/>
            <a:ext cx="64008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nteros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34228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*ip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*ip)++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*ip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*ip)++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peradores * y ++ se asocian de derecha a izqui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 p apunta al primer elemento de a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1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i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 p apunta al primer elemento de a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1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i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es equivalente a 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a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por lo tanto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*(a+i) es equivalente a 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 cálculo del largo de un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y_strlen(char *s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 (n=0; *s!=‘\0’; ++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++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 my_strlen(“hola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ación con aritmética de pun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y_strlen(char *s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char*p=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*p!=‘\0’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p-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 my_strlen(“hola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 de rutina SWAP (intercamb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x, int 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x=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 de rutina SWAP (intercamb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x, int 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x=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Courier New"/>
              </a:rPr>
              <a:t>Esta rutina NO INTERCAMBIA VALORES!!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swap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be hacer con pun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*x, int *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*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x=*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swap2.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puntero se puede considerar como un índice de un gran arreglo de bytes, que representa la mem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reservamos “n” bytes de memoria, se está reservando “n” elementos contiguos del arreglo de mem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asignamos un puntero a esa reserva, apuntará al primer byte reserv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j[14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*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*j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p= &amp;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jp=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f(“ip = 0x%x jp= 0x%x\n”, ip, j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punteros.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ión bá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lloc: reserva un espacio de memoria del tamaño que se indica y retorna un pun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teponer un cast para que el tipo de puntero se adapte a lo que se e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*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= (char *) malloc(100);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reserva un área de 100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bytes*/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reves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ón que reserva un espacio de memoria de tamaño exacto para copiar un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har *my_strdup(char *s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har 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= (char *)malloc(strlen(s)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p !=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cpy(p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dir memoria para un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r malloc y calcular el espacio reque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 =(int *)malloc(100*sizeof(int));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100 int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r calloc con dos parámetros: número de celdas y tamaño de las cel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= (int *)calloc(100,sizeof(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loc inicializa en cero la memoria que ent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terminar de usar la memoria pedida dinámicamente, es necesario devolver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p apunta al inicia del área de memoria que se libera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 no hay recolección automática de basura por default (como en 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emory Leak”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po de error que se presenta en los programas que funcionan por mucho tiempo y “olvidan” liberar memoria: errores muy difíciles de investi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idado con usar algo que ya se ha libe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 liberar objetos de un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(p=head; p != NULL; p=p-&gt;ne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usar algo que ya se ha lib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liberar objetos de un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or(p=head; p != NULL; p=p-&gt;n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Courier New"/>
              </a:rPr>
              <a:t>Malo!!!! Porque primero libera y luego acced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a correcta de liberar memoria de una lista enlaz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(p=head; p != NULL; p=q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q= p-&gt;nex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Courier New"/>
              </a:rPr>
              <a:t>/*guarda donde estaba parado p y luego lo libera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orma correcta es guardar lo necesario antes de libe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x toma el valor 0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x toma el valor 0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z[0]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02:18:38Z</dcterms:created>
  <dc:creator>Maria Fernanda Duran</dc:creator>
  <dc:description/>
  <dc:language>en-US</dc:language>
  <cp:lastModifiedBy>Maria Fernanda Duran</cp:lastModifiedBy>
  <dcterms:modified xsi:type="dcterms:W3CDTF">2006-08-30T14:30:50Z</dcterms:modified>
  <cp:revision>14</cp:revision>
  <dc:subject/>
  <dc:title>Clase Auxiliar nº1  FI46A</dc:title>
</cp:coreProperties>
</file>