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636-991E-4DC8-9733-C5A55299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E3B3-6887-417A-AEDD-3B7E898E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243B-0B50-4481-AFB8-B6EA76C4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DBBF-BE02-4DA5-AF64-CB89BCE8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67D7-EB69-4634-ACD9-D8E9FE54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6AE4-786F-4E67-8429-0AA3E9F7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F438-B2B3-4B70-9FC4-941B6C1D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12D9-B877-4910-A810-8585AE04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B547-D152-4762-A077-0AEF9FB6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BBBE-FF5C-4581-B177-9DEBC829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C718-706C-4C97-A8EA-5F7E6CA3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B43C-1C80-4426-A3FA-F49BA53F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C979-1AB5-44B1-A952-CB04858CD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lase Auxiliar FI46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252360" y="3573360"/>
            <a:ext cx="6400800" cy="16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nteros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76720" y="2852640"/>
            <a:ext cx="34228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*ip es un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=*ip + 10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*ip en 10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y = *ip + 1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(lo apuntado por ip) + 1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+=1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en 1 lo apuntado por ip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++*ip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dem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*ip)++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dem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*ip es un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=*ip + 10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*ip en 10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y = *ip + 1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(lo apuntado por ip) + 1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+=1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en 1 lo apuntado por ip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++*ip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dem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*ip)++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dem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peradores * y ++ se asocian de derecha a izquie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a[10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*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= &amp;a[0]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*(p+1)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*(p+i)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a[10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*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= &amp;a[0]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 p apunta al primer elemento de a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*(p+1))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mprime a[1]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*(p+i))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mprime a[i]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a[10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*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= &amp;a[0]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 p apunta al primer elemento de a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*(p+1))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mprime a[1]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*(p+i))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mprime a[i]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emá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= &amp;a[0];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es equivalente a 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=a;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por lo tanto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*(a+i) es equivalente a 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: cálculo del largo de un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my_strlen(char *s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or (n=0; *s!=‘\0’; ++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n++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 my_strlen(“hola”)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lementación con aritmética de punt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my_strlen(char *s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char*p=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*p!=‘\0’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++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p-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f(“%d\n”, my_strlen(“hola”)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unteros y Argumentos de Fun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 de rutina SWAP (intercamb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void swap(int x, int y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tmp=x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x=y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y=tm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unteros y Argumentos de Fun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 de rutina SWAP (intercamb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void swap(int x, int y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tmp=x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x=y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y=tm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0000"/>
                </a:solidFill>
                <a:latin typeface="Courier New"/>
              </a:rPr>
              <a:t>Esta rutina NO INTERCAMBIA VALORES!!!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(swap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unteros y Argumentos de Fun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debe hacer con punt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void swap(int *x, int *y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tmp=*x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x=*y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y=tm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swap2.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&amp; entrega la dirección de memoria de un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* da acceso al objeto que señala el pun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x=1, y=2, z[10]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puntero a int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x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y=*ip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*ip=0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z[0]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 puntero se puede considerar como un índice de un gran arreglo de bytes, que representa la memo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ndo reservamos “n” bytes de memoria, se está reservando “n” elementos contiguos del arreglo de memo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asignamos un puntero a esa reserva, apuntará al primer byte reserv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har j[14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*i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har *j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p= &amp;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jp=j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f(“ip = 0x%x jp= 0x%x\n”, ip, j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(punteros.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ión bá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lloc: reserva un espacio de memoria del tamaño que se indica y retorna un pun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teponer un cast para que el tipo de puntero se adapte a lo que se es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#include &lt;stdlib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har *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= (char *) malloc(100); 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/*reserva un área de 100 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bytes*/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(reves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ón que reserva un espacio de memoria de tamaño exacto para copiar un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har *my_strdup(char *s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har *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= (char *)malloc(strlen(s)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p !=NU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cpy(p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dir memoria para un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r malloc y calcular el espacio requer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 =(int *)malloc(100*sizeof(int)); </a:t>
            </a: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/*100 int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r calloc con dos parámetros: número de celdas y tamaño de las cel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= (int *)calloc(100,sizeof(int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lloc inicializa en cero la memoria que entr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terminar de usar la memoria pedida dinámicamente, es necesario devolver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ree(p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Courier New"/>
              </a:rPr>
              <a:t>/*p apunta al inicia del área de memoria que se libera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C no hay recolección automática de basura por default (como en ja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Memory Leak”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po de error que se presenta en los programas que funcionan por mucho tiempo y “olvidan” liberar memoria: errores muy difíciles de investi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hay restricciones sobre el orden en que se debe liberar la memoria ped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idado con liberar algo no obtenido con malloc o call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hay restricciones sobre el orden en que se debe liberar la memoria ped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idado con liberar algo no obtenido con malloc o call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idado con usar algo que ya se ha libe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: liberar objetos de una 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or(p=head; p != NULL; p=p-&gt;nex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ree(p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hay restricciones sobre el orden en que se debe liberar la memoria ped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idado con liberar algo no obtenido con malloc o cal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idado con usar algo que ya se ha libe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 liberar objetos de una 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or(p=head; p != NULL; p=p-&gt;n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ree(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0000"/>
                </a:solidFill>
                <a:latin typeface="Courier New"/>
              </a:rPr>
              <a:t>Malo!!!! Porque primero libera y luego accede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mori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orma correcta de liberar memoria de una lista enlaza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or(p=head; p != NULL; p=q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q= p-&gt;nex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ree(p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8080"/>
                </a:solidFill>
                <a:latin typeface="Courier New"/>
              </a:rPr>
              <a:t>/*guarda donde estaba parado p y luego lo libera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forma correcta es guardar lo necesario antes de libe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&amp; entrega la dirección de memoria de un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* da acceso al objeto que señala el pun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x=1, y=2, z[10]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puntero a int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x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ip apunta a x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y=*ip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*ip=0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z[0]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&amp; entrega la dirección de memoria de un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* da acceso al objeto que señala el pun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x=1, y=2, z[10]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puntero a int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x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ip apunta a x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y=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y toma el valor 1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*ip=0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z[0]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&amp; entrega la dirección de memoria de un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* da acceso al objeto que señala el pun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x=1, y=2, z[10]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puntero a int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x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ip apunta a x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y=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y toma el valor 1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*ip=0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x toma el valor 0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z[0]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&amp; entrega la dirección de memoria de un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erador * da acceso al objeto que señala el pun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x=1, y=2, z[10]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nt 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puntero a int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x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ip apunta a x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y=*ip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y toma el valor 1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*ip=0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x toma el valor 0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ip=&amp;z[0]; </a:t>
            </a:r>
            <a:r>
              <a:rPr b="0" lang="es-ES" sz="2500" spc="-1" strike="noStrike">
                <a:solidFill>
                  <a:srgbClr val="808080"/>
                </a:solidFill>
                <a:latin typeface="Courier New"/>
              </a:rPr>
              <a:t>/*ip apunta a z[0]*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*ip es un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=*ip + 10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*ip en 10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*ip es un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=*ip + 10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*ip en 10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y = *ip + 1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(lo apuntado por ip) + 1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e2f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unteros y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*ip es un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=*ip + 10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*ip en 10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y = *ip + 1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(lo apuntado por ip) + 1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*ip +=1; </a:t>
            </a:r>
            <a:r>
              <a:rPr b="0" lang="es-ES" sz="2200" spc="-1" strike="noStrike">
                <a:solidFill>
                  <a:srgbClr val="808080"/>
                </a:solidFill>
                <a:latin typeface="Courier New"/>
              </a:rPr>
              <a:t>/*incrementa en 1 lo apuntado por ip*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6T02:18:38Z</dcterms:created>
  <dc:creator>Maria Fernanda Duran</dc:creator>
  <dc:description/>
  <dc:language>en-US</dc:language>
  <cp:lastModifiedBy>Maria Fernanda Duran</cp:lastModifiedBy>
  <dcterms:modified xsi:type="dcterms:W3CDTF">2006-08-30T14:30:50Z</dcterms:modified>
  <cp:revision>14</cp:revision>
  <dc:subject/>
  <dc:title>Clase Auxiliar nº1  FI46A</dc:title>
</cp:coreProperties>
</file>