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A70F-44ED-4484-A2BE-6BD34B784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ECEA-74AC-4A42-B097-019081E3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AF04-1629-407E-AEF3-01519B13D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593A-71A5-4BA6-8BF5-3F064632C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EA29-3012-41E0-99B3-CF59B2BB7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3DAB-E505-46EA-A856-FE2EE97C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62CA-55E2-422F-A0A7-13A8BEF7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89CB-B558-4D8E-82E5-7C0D25A4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4E69-7EF3-4A53-9521-54B3848C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D45E-B9B3-4A45-B562-D44F4D24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933D-5061-41A9-A686-48E95B54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E2E0-A8E1-4638-B479-B86906F8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E764-8F6D-48B1-9E23-A5BA7D8B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348B-09AD-42D0-B8A1-9B59EEAB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64A5-E474-4BFF-8EB2-FF473C03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A9E3-6710-44B6-8B53-CB453E5B3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03C0-28B8-4444-831B-0CD03FAE7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1D9E-E87B-4399-9AE0-7E480266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615C-3508-4524-A7AF-B99ACB5D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91AA-5E63-45AD-AC15-5EDBE4D7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1DF5-52ED-402E-8FCB-887F4DC5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2FF0-11DE-453B-8147-85BF2269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9C1B-B954-40B3-99C7-E7505DBA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1A28-4469-45B8-8866-AE80AE08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7fc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7fc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77E2-A5BD-4D7A-B5BE-0223EBE5301D}" type="datetime">
              <a:rPr b="0" lang="en-US" sz="1400" spc="-1" strike="noStrike">
                <a:solidFill>
                  <a:srgbClr val="009999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D774-ADF4-492D-914D-B909576FC281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7fc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7fc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C79B-C6A4-4565-BBFA-5ABA5291A8F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005D-24DB-4D84-AC61-ECD0F13A45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3" marL="1371600" algn="ctr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4" marL="1828800" algn="ctr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5" marL="1828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6" marL="1828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EM 736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057400" y="36576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ENERGIA GEOTERMICA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CRISTIAN HERMANSEN R.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UNIVERSIDAD DE CHILE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DEPARTAMENTO DE INGENIERIA ELECTRICA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638680" y="5907240"/>
          <a:ext cx="327672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5907240"/>
                    <a:ext cx="327672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D0F6-E584-4D3B-9203-189CC13E66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LEY Nº 19.657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ENERGIA GEOTERMICA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Obtenida del calor natural de la Tierra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Bien del Estado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Se entrega en concesión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Energía eléctrica obtenida de geotermia se regula por DFL Nº 1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16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284400" indent="-28440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CONCESIONES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Exploración ( determinar la potencialidad del recurso)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Explotación ( extracción y producción)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334120" y="5715000"/>
          <a:ext cx="2819160" cy="7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5715000"/>
                    <a:ext cx="281916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A1CB-03B2-4C6A-A20A-0AA8F83E3A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CONCESIONES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CONTENIDO DECRETOS 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DERECHOS  DEL CONCESIONARIO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Concesión exclusiva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Transferible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OBLIGACIONES DEL CONCESIONARIO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Pago patente: 1/10 UTM / Ha.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Informes anuales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EXPLORACION: Plazo 2 años con prórroga por 2 años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EXPLOTACION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EXTINCION DE LA CONCESION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CASTIGA SUSTRACCION DE ENERGIA GEOTERMICA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12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410080" y="6172200"/>
          <a:ext cx="26672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6172200"/>
                    <a:ext cx="26672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5853-7027-43C5-8340-B9C714A9A3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REGLAMENTO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OMITÉ DE ANALISIS DE ENERGIA GEOTERMICA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7fc59f"/>
                </a:solidFill>
                <a:latin typeface="Arial"/>
              </a:rPr>
              <a:t>Funciones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7fc59f"/>
                </a:solidFill>
                <a:latin typeface="Arial"/>
              </a:rPr>
              <a:t>Composición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PROCEDIMIENTO PARA OTORGAR LA CONCESION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7fc59f"/>
                </a:solidFill>
                <a:latin typeface="Arial"/>
              </a:rPr>
              <a:t>Solicitud de concesión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7fc59f"/>
                </a:solidFill>
                <a:latin typeface="Arial"/>
              </a:rPr>
              <a:t>Licitaciones públicas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7fc59f"/>
                </a:solidFill>
                <a:latin typeface="Arial"/>
              </a:rPr>
              <a:t>Derecho exclusivo Artículo 14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FORMA Y CABIDA DE LAS CONCESIONES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TRANSFERENCIA DE CONCESIONES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ATASTRO DE CONCESIONES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638680" y="5638680"/>
          <a:ext cx="31244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5638680"/>
                    <a:ext cx="3124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1FA5-0781-461B-926B-E3E04B5710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38080" y="9144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ENERGIA GEOTERM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7fc59f"/>
              </a:buClr>
              <a:buFont typeface="Arial"/>
              <a:buChar char="•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c59f"/>
                </a:solidFill>
                <a:latin typeface="Arial"/>
              </a:rPr>
              <a:t>TIPOS DE CAMPOS GEOTERMICOS</a:t>
            </a:r>
            <a:endParaRPr b="1" lang="en-US" sz="2000" spc="-1" strike="noStrike">
              <a:solidFill>
                <a:srgbClr val="7fc59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7fc59f"/>
              </a:buClr>
              <a:buFont typeface="Arial"/>
              <a:buChar char="–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c59f"/>
                </a:solidFill>
                <a:latin typeface="Arial"/>
              </a:rPr>
              <a:t>Energía geotérmica de alta temperatura: 150-400ºC</a:t>
            </a:r>
            <a:endParaRPr b="0" lang="en-US" sz="2000" spc="-1" strike="noStrike">
              <a:solidFill>
                <a:srgbClr val="7fc59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7fc59f"/>
              </a:buClr>
              <a:buFont typeface="Arial"/>
              <a:buChar char="–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c59f"/>
                </a:solidFill>
                <a:latin typeface="Arial"/>
              </a:rPr>
              <a:t>Energía geotérmica de temperatura media: 70-150ºC</a:t>
            </a:r>
            <a:endParaRPr b="0" lang="en-US" sz="2000" spc="-1" strike="noStrike">
              <a:solidFill>
                <a:srgbClr val="7fc59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7fc59f"/>
              </a:buClr>
              <a:buFont typeface="Arial"/>
              <a:buChar char="–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c59f"/>
                </a:solidFill>
                <a:latin typeface="Arial"/>
              </a:rPr>
              <a:t>Energía geotérmica de baja temperatura media: 20-60ºC</a:t>
            </a:r>
            <a:endParaRPr b="0" lang="en-US" sz="2000" spc="-1" strike="noStrike">
              <a:solidFill>
                <a:srgbClr val="7fc59f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fc59f"/>
              </a:buClr>
              <a:buFont typeface="Arial"/>
              <a:buChar char="•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c59f"/>
                </a:solidFill>
                <a:latin typeface="Arial"/>
              </a:rPr>
              <a:t>USOS</a:t>
            </a:r>
            <a:endParaRPr b="1" lang="en-US" sz="2000" spc="-1" strike="noStrike">
              <a:solidFill>
                <a:srgbClr val="7fc59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7fc59f"/>
              </a:buClr>
              <a:buFont typeface="Arial"/>
              <a:buChar char="–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c59f"/>
                </a:solidFill>
                <a:latin typeface="Arial"/>
              </a:rPr>
              <a:t>Calefacción y agua caliente</a:t>
            </a:r>
            <a:endParaRPr b="0" lang="en-US" sz="2000" spc="-1" strike="noStrike">
              <a:solidFill>
                <a:srgbClr val="7fc59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7fc59f"/>
              </a:buClr>
              <a:buFont typeface="Arial"/>
              <a:buChar char="–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c59f"/>
                </a:solidFill>
                <a:latin typeface="Arial"/>
              </a:rPr>
              <a:t>Electricidad</a:t>
            </a:r>
            <a:endParaRPr b="0" lang="en-US" sz="2000" spc="-1" strike="noStrike">
              <a:solidFill>
                <a:srgbClr val="7fc59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7fc59f"/>
              </a:buClr>
              <a:buFont typeface="Arial"/>
              <a:buChar char="–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c59f"/>
                </a:solidFill>
                <a:latin typeface="Arial"/>
              </a:rPr>
              <a:t>Extracción de minerales</a:t>
            </a:r>
            <a:endParaRPr b="0" lang="en-US" sz="2000" spc="-1" strike="noStrike">
              <a:solidFill>
                <a:srgbClr val="7fc59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7fc59f"/>
              </a:buClr>
              <a:buFont typeface="Arial"/>
              <a:buChar char="–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c59f"/>
                </a:solidFill>
                <a:latin typeface="Arial"/>
              </a:rPr>
              <a:t>Agricultura y acuicultura</a:t>
            </a:r>
            <a:endParaRPr b="0" lang="en-US" sz="20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486400" y="5486400"/>
          <a:ext cx="327672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5486400"/>
                    <a:ext cx="327672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0080-2413-4DA6-A47F-6E5B2256D4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GENERACION GEOTERMICA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ABE4-48A0-4E3A-B622-F45E934673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POTENCIA INSTALADA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EUROPA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1.180 MW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AFRICA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   128 MW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AMERICA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3.387 MW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ASIA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3.220 MW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OCEANIA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   441 MW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TOTAL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8.356 MW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638680" y="5410080"/>
          <a:ext cx="3276720" cy="7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5410080"/>
                    <a:ext cx="3276720" cy="7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CA29-4227-4176-B78D-EBCE9647EA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POTENCIAL GEOTERMICO EN CHILE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645" b="524"/>
          <a:stretch/>
        </p:blipFill>
        <p:spPr>
          <a:xfrm>
            <a:off x="1079640" y="31680"/>
            <a:ext cx="5546520" cy="683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"/>
          <p:cNvGraphicFramePr/>
          <p:nvPr/>
        </p:nvGraphicFramePr>
        <p:xfrm>
          <a:off x="5867280" y="5486400"/>
          <a:ext cx="3276720" cy="77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5486400"/>
                    <a:ext cx="327672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A434-D3D7-4167-844E-604368E90D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CONCESIONES DE EXPLORACION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NOMBRE REGIÓN SUPERFICIE(HA) CONCESIONARIO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Puchuldiza I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50.0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ORFO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Apacheta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II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33.000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Geotérmica del Norte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El Tatio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II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7.2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Geotérmica del Tatio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La Torta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II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39.1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Geotérmica del Norte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V. San José R.M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40.0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FG Chile S.A.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alabozo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VII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75.0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FG Chile S.A.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opahue I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VIII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72.9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FG Chile S.A.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opahue II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VIII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7.0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FG Chile S.A.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334120" y="5715000"/>
          <a:ext cx="289548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5715000"/>
                    <a:ext cx="28954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3E5E-356A-4696-8447-B981424A82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CONCESIONES DE EXPLORACION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195120" algn="ctr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NOMBRE REGIÓN SUPERFICIE(HA) CONCESIONARIO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195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L. Del Maule   VII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60.000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Universidad de Chile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195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Puyehue - C1   X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28.0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Universidad de Chile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195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Puyehue - C2   X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12.600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Universidad de Chile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195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arrán - Venados X 12.6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Universidad de Chile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195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hillán        VIII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34.200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CFG Chile S.A. 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486400" y="5334120"/>
          <a:ext cx="327672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5334120"/>
                    <a:ext cx="327672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3A8D-703E-427B-8E8F-4F1626B811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LEGISLACION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LEY Nº 19.657      (AÑO 2000)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Ley sobre Concesiones de Energía Geotérmica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DECRETO Nº 32   (AÑO 2004)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Reglamento para la aplicación de la Ley Nº19.657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410080" y="5334120"/>
          <a:ext cx="327672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5334120"/>
                    <a:ext cx="327672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81D7-BB5C-4C07-A9B1-B146558FE8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LEY Nº 19.657</a:t>
            </a:r>
            <a:br>
              <a:rPr sz="2600"/>
            </a:b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REGULA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Energía geotérmica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Concesiones para exploración y explotación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Servidumbres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Condiciones de seguridad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Relaciones entre las partes ( concesionarios,Estado, dueños terrenos, pertenencias mineras, contratos de operación petroleros, exploración y explotación hidrocarburos, derechos aprovechamiento de aguas)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Funciones del Estado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No se aplica a aguas termales (Rige DFL 237 de 1931)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334120" y="5867280"/>
          <a:ext cx="2895480" cy="7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5867280"/>
                    <a:ext cx="28954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A73D-CE10-4867-83B8-A1E9E84252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15:00:02Z</dcterms:created>
  <dc:creator>CRISTIAN HERMANSEN R.</dc:creator>
  <dc:description/>
  <dc:language>en-US</dc:language>
  <cp:lastModifiedBy>Cristian Hermansen</cp:lastModifiedBy>
  <cp:lastPrinted>2005-11-22T20:27:01Z</cp:lastPrinted>
  <dcterms:modified xsi:type="dcterms:W3CDTF">2006-08-22T00:17:03Z</dcterms:modified>
  <cp:revision>63</cp:revision>
  <dc:subject/>
  <dc:title>Sin título de diapositiva</dc:title>
</cp:coreProperties>
</file>