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CC2-46BB-4110-A84C-54519E83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4A5-ED15-4AE2-B518-7B87C589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B02-317C-42F7-8B34-B0BA7E08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773-DA37-46E6-8E26-E0B7EA92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C09-E0DA-4D72-9197-A8ABE428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BA08-03A9-47CF-ACA5-9D408C38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8C4C-8CAD-4616-BB94-260021B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B6B4-59DF-437C-B6A3-DBEEB79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90E0-B1D2-4CDF-9B13-4F9B22F8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4FD3-312E-4836-A6D5-3FF9B4E7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C86-308F-43D8-A725-4E368CF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498-3BEC-4489-B397-D0CD8B8C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104D-A656-4ABC-86A6-0EF4606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97A0-5B7B-4FB1-A55B-64A774E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CB69-8AC6-4935-B4B8-12D87009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993B-D688-4A1B-B2F8-642763E5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054-9EBD-4726-A45C-96A5BF6A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88F-2D28-4A26-AD04-E5723989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6EE-9288-4937-981E-C7E9FA7A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091-3054-4D8E-B2E6-F1FDEBE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041-E776-4B21-9E4A-C1719EC7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C27-0C09-4F1B-8B31-251D59B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4C6-8145-456F-8B67-C294EF4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CF9-43EB-4F9B-8FBA-A4A8D5F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C37F-E9A8-4167-89D8-25DB7D547028}" type="datetime">
              <a:rPr b="0" lang="en-US" sz="1400" spc="-1" strike="noStrike">
                <a:solidFill>
                  <a:srgbClr val="009999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9B9-8F2D-4CF0-B171-7A495E07F2EA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7fc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A31A-A4A2-4393-8455-82FC1A461D5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970B-88E2-4B6A-8F9A-902FB5AFA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M 736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RISTIAN HERMANSEN R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PARTAMENTO DE INGENIERIA ELECTR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590724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90724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BC52-1F4F-4C60-8AF4-EFAE046AE9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Obtenida del calor natural de la Tierr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Bien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 entrega en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eléctrica obtenida de geotermia se regula por DFL Nº 1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ración ( determinar la potencialidad del recurso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16680" indent="-2372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xplotación ( extracción y producción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4120" y="5715000"/>
          <a:ext cx="2819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19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274-CC94-45E2-9A18-301798B66E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ONTENIDO DECRETOS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RECHOS 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ón exclusiv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Transferible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BLIGACIONES DEL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Pago patente: 1/10 UTM / Ha.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Informes anual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RACION: Plazo 2 años con prórroga por 2 año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PLOTAC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XTINCION DE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CASTIGA SUSTRACCION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10080" y="6172200"/>
          <a:ext cx="26672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6172200"/>
                    <a:ext cx="26672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34F-A7CA-4F4D-98E7-84FB9843BE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REGLAMENTO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MITÉ DE ANALISIS DE ENERGIA GEOTERMIC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Funcion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Composi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ROCEDIMIENTO PARA OTORGAR LA CONCESION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Solicitud de conces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Licitaciones pública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7fc59f"/>
                </a:solidFill>
                <a:latin typeface="Arial"/>
              </a:rPr>
              <a:t>Derecho exclusivo Artículo 14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FORMA Y CABIDA DE LAS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TRANSFERENCIA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TASTRO DE CONCESIONES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38680" y="5638680"/>
          <a:ext cx="31244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638680"/>
                    <a:ext cx="3124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71A-E702-446B-ACEE-B0C235052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830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ENERGIA GEOTERM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TIPOS DE CAMPOS GEOTERMIC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alta temperatura: 150-40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temperatura media: 70-15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nergía geotérmica de baja temperatura media: 20-60ºC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c59f"/>
              </a:buClr>
              <a:buFont typeface="Arial"/>
              <a:buChar char="•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c59f"/>
                </a:solidFill>
                <a:latin typeface="Arial"/>
              </a:rPr>
              <a:t>USOS</a:t>
            </a:r>
            <a:endParaRPr b="1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Calefacción y agua caliente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lectricidad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Extracción de minerales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7fc59f"/>
              </a:buClr>
              <a:buFont typeface="Arial"/>
              <a:buChar char="–"/>
              <a:tabLst>
                <a:tab algn="l" pos="378000"/>
                <a:tab algn="l" pos="48276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c59f"/>
                </a:solidFill>
                <a:latin typeface="Arial"/>
              </a:rPr>
              <a:t>Agricultura y acuicultura</a:t>
            </a:r>
            <a:endParaRPr b="0" lang="en-US" sz="20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486400" y="548640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D04-E7D7-4F72-A551-AA9B235A77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GENERACION GEOTERMIC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58A-A66A-464E-9934-39E3F3DF28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 INSTALADA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EUROP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1.18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F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128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MERIC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387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AS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3.220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OCEANIA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   441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TOTAL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8.356 MW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638680" y="5410080"/>
          <a:ext cx="3276720" cy="7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410080"/>
                    <a:ext cx="327672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F8D-29C7-4697-88B5-D526B2E3A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POTENCIAL GEOTERMICO EN CHILE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645" b="524"/>
          <a:stretch/>
        </p:blipFill>
        <p:spPr>
          <a:xfrm>
            <a:off x="1079640" y="31680"/>
            <a:ext cx="5546520" cy="683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5867280" y="5486400"/>
          <a:ext cx="327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548640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EE8-B457-4194-B1BA-763797416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chuldiza 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5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RF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Apache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33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El Tatio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.2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Tat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a Torta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9.1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Geotérmica del Nort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. San José R.M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40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labozo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75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2.9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opahue 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VIII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7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FG Chile S.A.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4120" y="5715000"/>
          <a:ext cx="2895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715000"/>
                    <a:ext cx="28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A56-444A-4749-8E95-179DA11B53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CONCESIONES DE EXPLOR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195120" algn="ctr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NOMBRE REGIÓN SUPERFICIE(HA) CONCESIONARIO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L. Del Maule   V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60.0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1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28.0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Puyehue - C2   X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12.6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arrán - Venados X 12.600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Universidad de Chile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indent="19512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Chillán        VIII 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34.200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7fc59f"/>
                </a:solidFill>
                <a:latin typeface="Arial"/>
              </a:rPr>
              <a:t> CFG Chile S.A. 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48640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1C0-EE65-450B-A68E-B06B2DC64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GISLACION</a:t>
            </a: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LEY Nº 19.657      (AÑO 2000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Ley sobre Concesiones de 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DECRETO Nº 32   (AÑO 2004)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glamento para la aplicación de la Ley Nº19.657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5334120"/>
          <a:ext cx="3276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34120"/>
                    <a:ext cx="327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546-970A-4264-BC55-C6B667F4BE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dddd"/>
                </a:solidFill>
                <a:latin typeface="Arial"/>
              </a:rPr>
              <a:t>LEY Nº 19.657</a:t>
            </a:r>
            <a:br>
              <a:rPr sz="2600"/>
            </a:br>
            <a:endParaRPr b="1" lang="en-US" sz="2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7fc5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fc59f"/>
                </a:solidFill>
                <a:latin typeface="Arial"/>
              </a:rPr>
              <a:t>REGULA</a:t>
            </a: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Energía geotérmica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cesiones para exploración y explotación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Servidumbres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Condiciones de seguridad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Relaciones entre las partes ( concesionarios,Estado, dueños terrenos, pertenencias mineras, contratos de operación petroleros, exploración y explotación hidrocarburos, derechos aprovechamiento de aguas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Funciones del Estado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7fc5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c59f"/>
                </a:solidFill>
                <a:latin typeface="Arial"/>
              </a:rPr>
              <a:t>No se aplica a aguas termales (Rige DFL 237 de 1931)</a:t>
            </a: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7fc59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34120" y="5867280"/>
          <a:ext cx="289548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5867280"/>
                    <a:ext cx="28954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istian Hermansen R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CCFF-13CC-4094-A55C-BFD68D3199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00:02Z</dcterms:created>
  <dc:creator>CRISTIAN HERMANSEN R.</dc:creator>
  <dc:description/>
  <dc:language>en-US</dc:language>
  <cp:lastModifiedBy>Cristian Hermansen</cp:lastModifiedBy>
  <cp:lastPrinted>2005-11-22T20:27:01Z</cp:lastPrinted>
  <dcterms:modified xsi:type="dcterms:W3CDTF">2006-08-22T00:17:03Z</dcterms:modified>
  <cp:revision>63</cp:revision>
  <dc:subject/>
  <dc:title>Sin título de diapositiva</dc:title>
</cp:coreProperties>
</file>