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2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5.wmf" ContentType="image/x-wmf"/>
  <Override PartName="/ppt/media/image25.png" ContentType="image/png"/>
  <Override PartName="/ppt/media/image10.wmf" ContentType="image/x-wmf"/>
  <Override PartName="/ppt/media/image6.wmf" ContentType="image/x-wmf"/>
  <Override PartName="/ppt/media/image26.png" ContentType="image/png"/>
  <Override PartName="/ppt/media/image38.png" ContentType="image/png"/>
  <Override PartName="/ppt/media/image39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35.png" ContentType="image/png"/>
  <Override PartName="/ppt/media/image47.png" ContentType="image/png"/>
  <Override PartName="/ppt/media/image7.wmf" ContentType="image/x-wmf"/>
  <Override PartName="/ppt/media/image36.png" ContentType="image/png"/>
  <Override PartName="/ppt/media/image48.png" ContentType="image/png"/>
  <Override PartName="/ppt/media/image40.png" ContentType="image/png"/>
  <Override PartName="/ppt/media/image8.wmf" ContentType="image/x-wmf"/>
  <Override PartName="/ppt/media/image37.png" ContentType="image/png"/>
  <Override PartName="/ppt/media/image49.png" ContentType="image/png"/>
  <Override PartName="/ppt/media/image41.png" ContentType="image/png"/>
  <Override PartName="/ppt/media/image9.wmf" ContentType="image/x-wmf"/>
  <Override PartName="/ppt/media/image32.png" ContentType="image/png"/>
  <Override PartName="/ppt/media/image30.png" ContentType="image/png"/>
  <Override PartName="/ppt/media/image13.wmf" ContentType="image/x-wmf"/>
  <Override PartName="/ppt/media/image28.png" ContentType="image/png"/>
  <Override PartName="/ppt/media/image12.wmf" ContentType="image/x-wmf"/>
  <Override PartName="/ppt/media/image27.png" ContentType="image/png"/>
  <Override PartName="/ppt/media/image4.png" ContentType="image/png"/>
  <Override PartName="/ppt/media/image34.png" ContentType="image/png"/>
  <Override PartName="/ppt/media/image50.png" ContentType="image/png"/>
  <Override PartName="/ppt/media/image11.wmf" ContentType="image/x-wmf"/>
  <Override PartName="/ppt/media/image3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907588" cy="6858000"/>
  <p:notesSz cx="9291638" cy="7005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91600" cy="700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1238400" y="3327120"/>
            <a:ext cx="6813360" cy="32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2754360" y="529920"/>
            <a:ext cx="3781440" cy="261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11840" y="6697800"/>
            <a:ext cx="12679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0320"/>
                <a:tab algn="l" pos="1521000"/>
                <a:tab algn="l" pos="2281320"/>
                <a:tab algn="l" pos="3041640"/>
                <a:tab algn="l" pos="3801960"/>
                <a:tab algn="l" pos="4562640"/>
                <a:tab algn="l" pos="5322960"/>
                <a:tab algn="l" pos="6083280"/>
                <a:tab algn="l" pos="6843600"/>
                <a:tab algn="l" pos="7604280"/>
                <a:tab algn="l" pos="8364600"/>
                <a:tab algn="l" pos="9124920"/>
                <a:tab algn="l" pos="9885240"/>
                <a:tab algn="l" pos="10645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eite </a:t>
            </a:r>
            <a:fld id="{E65B1B3F-4A5B-4F39-BBDB-ACBF746B3A0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sldImg"/>
          </p:nvPr>
        </p:nvSpPr>
        <p:spPr>
          <a:xfrm>
            <a:off x="2754360" y="530280"/>
            <a:ext cx="3781440" cy="2617560"/>
          </a:xfrm>
          <a:prstGeom prst="rect">
            <a:avLst/>
          </a:prstGeom>
          <a:ln w="0">
            <a:noFill/>
          </a:ln>
        </p:spPr>
      </p:sp>
      <p:sp>
        <p:nvSpPr>
          <p:cNvPr id="1999" name="PlaceHolder 2"/>
          <p:cNvSpPr>
            <a:spLocks noGrp="1"/>
          </p:cNvSpPr>
          <p:nvPr>
            <p:ph type="body"/>
          </p:nvPr>
        </p:nvSpPr>
        <p:spPr>
          <a:xfrm>
            <a:off x="1238400" y="3327120"/>
            <a:ext cx="6813360" cy="320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lassifizierung der Durchleitungen im Netz der SW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3 unterschiedliche Durchleitungsty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feile kennzeichnen vertragliche Beziehungen zwischen Lieferant und Durchleitungsempfä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asten = Kund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0 Kunden im MS-Ne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   Kunde im HS-Netz (Mannesmann Demag Prüfstr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i Verbundnetz-zu-Punkt-DL erfolgt physikalische Einspeisung über Kuppelquerschnitt zum RWE-Netz (Bezu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i Punkt-zu-Verbundnetz-DL erfolgt physikalische Ausspeisung über Kuppelquerschnitt zum RWE-Netz (Lieferu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1875"/>
              </a:lnSpc>
              <a:spcBef>
                <a:spcPts val="6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marL="194040" indent="0">
              <a:lnSpc>
                <a:spcPts val="21875"/>
              </a:lnSpc>
              <a:spcBef>
                <a:spcPts val="6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Univer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762120"/>
          </a:xfrm>
          <a:prstGeom prst="rect">
            <a:avLst/>
          </a:prstGeom>
          <a:gradFill rotWithShape="0">
            <a:gsLst>
              <a:gs pos="0">
                <a:srgbClr val="b9c7e2"/>
              </a:gs>
              <a:gs pos="100000">
                <a:srgbClr val="00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73800"/>
            <a:ext cx="9906120" cy="484200"/>
          </a:xfrm>
          <a:prstGeom prst="rect">
            <a:avLst/>
          </a:prstGeom>
          <a:gradFill rotWithShape="0">
            <a:gsLst>
              <a:gs pos="0">
                <a:srgbClr val="00008a"/>
              </a:gs>
              <a:gs pos="100000">
                <a:srgbClr val="b7b7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762120"/>
            <a:ext cx="9906120" cy="56116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1920" y="-3348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340760" y="6359400"/>
            <a:ext cx="2610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EM735 Mercados Internacionales de la Energí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Dr.-Ing. Rodrigo Palma Behnk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Depto. de Ingeniería Eléctr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Arial"/>
              </a:rPr>
              <a:t>Universidad de Chile  /  Primavera 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28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28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28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28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86440" y="1919160"/>
            <a:ext cx="637884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1. Módulo A1: Conceptos Bás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</a:rPr>
              <a:t>1.3 Modelos de Formación de Precios (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3.1 Int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3.2 Mercados Mayoristas/Minor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3.3 Tarificación de Sistemas de Transm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1120" y="18936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Contenido Sección 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"/>
          <p:cNvGrpSpPr/>
          <p:nvPr/>
        </p:nvGrpSpPr>
        <p:grpSpPr>
          <a:xfrm>
            <a:off x="3344760" y="1990800"/>
            <a:ext cx="2101680" cy="372960"/>
            <a:chOff x="3344760" y="1990800"/>
            <a:chExt cx="2101680" cy="372960"/>
          </a:xfrm>
        </p:grpSpPr>
        <p:sp>
          <p:nvSpPr>
            <p:cNvPr id="518" name=""/>
            <p:cNvSpPr/>
            <p:nvPr/>
          </p:nvSpPr>
          <p:spPr>
            <a:xfrm flipH="1">
              <a:off x="3353040" y="1991520"/>
              <a:ext cx="247680" cy="35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3540600" y="1990800"/>
              <a:ext cx="268560" cy="37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547800" y="2059920"/>
              <a:ext cx="183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497040" y="2137680"/>
              <a:ext cx="182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44120" y="2208960"/>
              <a:ext cx="183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401640" y="2282760"/>
              <a:ext cx="182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3754080" y="1992600"/>
              <a:ext cx="26136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3980880" y="2000520"/>
              <a:ext cx="24984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4196880" y="1998360"/>
              <a:ext cx="26136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4383720" y="2000520"/>
              <a:ext cx="26028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4588200" y="1999440"/>
              <a:ext cx="249840" cy="35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4803840" y="1997640"/>
              <a:ext cx="26028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4991760" y="2000520"/>
              <a:ext cx="26136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5174280" y="1992600"/>
              <a:ext cx="264600" cy="36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91000" y="1994760"/>
              <a:ext cx="185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344760" y="2357640"/>
              <a:ext cx="183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97120" y="1918800"/>
            <a:ext cx="331920" cy="406440"/>
            <a:chOff x="2697120" y="1918800"/>
            <a:chExt cx="331920" cy="406440"/>
          </a:xfrm>
        </p:grpSpPr>
        <p:sp>
          <p:nvSpPr>
            <p:cNvPr id="535" name=""/>
            <p:cNvSpPr/>
            <p:nvPr/>
          </p:nvSpPr>
          <p:spPr>
            <a:xfrm flipV="1">
              <a:off x="3029040" y="191880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2886480" y="2122200"/>
              <a:ext cx="14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16200000">
              <a:off x="2690280" y="202716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16200000">
              <a:off x="2740680" y="2074680"/>
              <a:ext cx="101520" cy="946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4497480" y="2689200"/>
            <a:ext cx="2101320" cy="372960"/>
            <a:chOff x="4497480" y="2689200"/>
            <a:chExt cx="2101320" cy="372960"/>
          </a:xfrm>
        </p:grpSpPr>
        <p:sp>
          <p:nvSpPr>
            <p:cNvPr id="540" name=""/>
            <p:cNvSpPr/>
            <p:nvPr/>
          </p:nvSpPr>
          <p:spPr>
            <a:xfrm flipH="1">
              <a:off x="4505760" y="2689920"/>
              <a:ext cx="247680" cy="35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4693320" y="2689200"/>
              <a:ext cx="268560" cy="37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00520" y="2758320"/>
              <a:ext cx="1833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49760" y="2836080"/>
              <a:ext cx="182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596840" y="2907360"/>
              <a:ext cx="18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554360" y="2981160"/>
              <a:ext cx="182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4906800" y="2691000"/>
              <a:ext cx="26136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5133240" y="2698920"/>
              <a:ext cx="24984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5349240" y="2696760"/>
              <a:ext cx="26136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5536080" y="2698920"/>
              <a:ext cx="26028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5740920" y="2697840"/>
              <a:ext cx="249840" cy="35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5956560" y="2696040"/>
              <a:ext cx="26028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6144120" y="2698920"/>
              <a:ext cx="26136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6326640" y="2691000"/>
              <a:ext cx="264600" cy="36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743720" y="2693160"/>
              <a:ext cx="185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497480" y="3056040"/>
              <a:ext cx="183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5370480" y="2427120"/>
            <a:ext cx="406440" cy="331920"/>
            <a:chOff x="5370480" y="2427120"/>
            <a:chExt cx="406440" cy="331920"/>
          </a:xfrm>
        </p:grpSpPr>
        <p:sp>
          <p:nvSpPr>
            <p:cNvPr id="557" name=""/>
            <p:cNvSpPr/>
            <p:nvPr/>
          </p:nvSpPr>
          <p:spPr>
            <a:xfrm>
              <a:off x="5370480" y="2759040"/>
              <a:ext cx="40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5573520" y="2616480"/>
              <a:ext cx="0" cy="142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472000" y="242712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522760" y="2474280"/>
              <a:ext cx="101520" cy="946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6048360" y="2343240"/>
            <a:ext cx="203040" cy="189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048360" y="2436840"/>
            <a:ext cx="203040" cy="190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 flipV="1">
            <a:off x="6148440" y="2155320"/>
            <a:ext cx="144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6149880" y="2627280"/>
            <a:ext cx="0" cy="1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957920" y="2525760"/>
            <a:ext cx="20304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 flipV="1">
            <a:off x="5057280" y="2281320"/>
            <a:ext cx="1800" cy="14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059440" y="2716200"/>
            <a:ext cx="0" cy="1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087720" y="3592440"/>
            <a:ext cx="2101320" cy="372960"/>
            <a:chOff x="3087720" y="3592440"/>
            <a:chExt cx="2101320" cy="372960"/>
          </a:xfrm>
        </p:grpSpPr>
        <p:sp>
          <p:nvSpPr>
            <p:cNvPr id="569" name=""/>
            <p:cNvSpPr/>
            <p:nvPr/>
          </p:nvSpPr>
          <p:spPr>
            <a:xfrm flipH="1">
              <a:off x="3096000" y="3593160"/>
              <a:ext cx="247680" cy="35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3283560" y="3592440"/>
              <a:ext cx="268560" cy="37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290760" y="3661560"/>
              <a:ext cx="1833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240000" y="3739320"/>
              <a:ext cx="182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187080" y="3810600"/>
              <a:ext cx="18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144600" y="3884400"/>
              <a:ext cx="182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3497040" y="3594240"/>
              <a:ext cx="26136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3723480" y="3602160"/>
              <a:ext cx="24984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3939480" y="3600000"/>
              <a:ext cx="26136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4126320" y="3602160"/>
              <a:ext cx="26028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4331160" y="3601080"/>
              <a:ext cx="249840" cy="35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4546800" y="3599280"/>
              <a:ext cx="26028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4734360" y="3602160"/>
              <a:ext cx="26136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4916880" y="3594240"/>
              <a:ext cx="264600" cy="36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333960" y="3596400"/>
              <a:ext cx="185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87720" y="3959280"/>
              <a:ext cx="183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3548160" y="3146400"/>
            <a:ext cx="203040" cy="283680"/>
            <a:chOff x="3548160" y="3146400"/>
            <a:chExt cx="203040" cy="283680"/>
          </a:xfrm>
        </p:grpSpPr>
        <p:sp>
          <p:nvSpPr>
            <p:cNvPr id="586" name=""/>
            <p:cNvSpPr/>
            <p:nvPr/>
          </p:nvSpPr>
          <p:spPr>
            <a:xfrm>
              <a:off x="3548160" y="3146400"/>
              <a:ext cx="203040" cy="189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548160" y="3241080"/>
              <a:ext cx="203040" cy="189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"/>
          <p:cNvSpPr/>
          <p:nvPr/>
        </p:nvSpPr>
        <p:spPr>
          <a:xfrm flipV="1">
            <a:off x="3659040" y="2205000"/>
            <a:ext cx="0" cy="92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H="1" flipV="1">
            <a:off x="3641760" y="3431880"/>
            <a:ext cx="7920" cy="33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3135240" y="3567240"/>
            <a:ext cx="406440" cy="331560"/>
            <a:chOff x="3135240" y="3567240"/>
            <a:chExt cx="406440" cy="331560"/>
          </a:xfrm>
        </p:grpSpPr>
        <p:sp>
          <p:nvSpPr>
            <p:cNvPr id="591" name=""/>
            <p:cNvSpPr/>
            <p:nvPr/>
          </p:nvSpPr>
          <p:spPr>
            <a:xfrm>
              <a:off x="3135240" y="3898800"/>
              <a:ext cx="40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3338280" y="3756600"/>
              <a:ext cx="0" cy="141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236760" y="3567240"/>
              <a:ext cx="203400" cy="189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287520" y="3614400"/>
              <a:ext cx="101520" cy="943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4846680" y="3146400"/>
            <a:ext cx="203040" cy="189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846680" y="3240000"/>
            <a:ext cx="203040" cy="190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4948200" y="2968200"/>
            <a:ext cx="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4948200" y="3421080"/>
            <a:ext cx="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957920" y="2430360"/>
            <a:ext cx="203040" cy="190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5805360" y="2000160"/>
            <a:ext cx="2101680" cy="372960"/>
            <a:chOff x="5805360" y="2000160"/>
            <a:chExt cx="2101680" cy="372960"/>
          </a:xfrm>
        </p:grpSpPr>
        <p:sp>
          <p:nvSpPr>
            <p:cNvPr id="601" name=""/>
            <p:cNvSpPr/>
            <p:nvPr/>
          </p:nvSpPr>
          <p:spPr>
            <a:xfrm flipH="1">
              <a:off x="5813640" y="2000880"/>
              <a:ext cx="24768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6001200" y="2000160"/>
              <a:ext cx="268560" cy="37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008400" y="2069280"/>
              <a:ext cx="183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957640" y="2147040"/>
              <a:ext cx="182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904720" y="2218320"/>
              <a:ext cx="183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862240" y="2292480"/>
              <a:ext cx="182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6214680" y="2001960"/>
              <a:ext cx="26136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6441480" y="2009880"/>
              <a:ext cx="249840" cy="35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6657480" y="2007720"/>
              <a:ext cx="26136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6844320" y="2009880"/>
              <a:ext cx="26028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7048800" y="2008800"/>
              <a:ext cx="249840" cy="35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7264440" y="2007000"/>
              <a:ext cx="26028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7452360" y="2009880"/>
              <a:ext cx="26136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7634880" y="2001960"/>
              <a:ext cx="264600" cy="36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51600" y="2004120"/>
              <a:ext cx="185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05360" y="2367360"/>
              <a:ext cx="183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5759280" y="3610080"/>
            <a:ext cx="2101680" cy="374040"/>
            <a:chOff x="5759280" y="3610080"/>
            <a:chExt cx="2101680" cy="374040"/>
          </a:xfrm>
        </p:grpSpPr>
        <p:sp>
          <p:nvSpPr>
            <p:cNvPr id="618" name=""/>
            <p:cNvSpPr/>
            <p:nvPr/>
          </p:nvSpPr>
          <p:spPr>
            <a:xfrm flipH="1">
              <a:off x="5767560" y="3610800"/>
              <a:ext cx="247680" cy="35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5955120" y="3610080"/>
              <a:ext cx="268560" cy="37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962320" y="3679200"/>
              <a:ext cx="183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911560" y="3757680"/>
              <a:ext cx="182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58640" y="3828960"/>
              <a:ext cx="183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816160" y="3903120"/>
              <a:ext cx="182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6168600" y="3611880"/>
              <a:ext cx="261360" cy="36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6395400" y="3619800"/>
              <a:ext cx="24984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6611400" y="3617640"/>
              <a:ext cx="261360" cy="3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798240" y="3619800"/>
              <a:ext cx="260280" cy="36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7002720" y="3618720"/>
              <a:ext cx="249840" cy="35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7218360" y="3616920"/>
              <a:ext cx="260280" cy="36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7406280" y="3619800"/>
              <a:ext cx="261360" cy="36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7588800" y="3611880"/>
              <a:ext cx="264600" cy="36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005520" y="3614040"/>
              <a:ext cx="185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759280" y="3978360"/>
              <a:ext cx="183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7335720" y="3119400"/>
            <a:ext cx="203400" cy="285840"/>
            <a:chOff x="7335720" y="3119400"/>
            <a:chExt cx="203400" cy="285840"/>
          </a:xfrm>
        </p:grpSpPr>
        <p:sp>
          <p:nvSpPr>
            <p:cNvPr id="635" name=""/>
            <p:cNvSpPr/>
            <p:nvPr/>
          </p:nvSpPr>
          <p:spPr>
            <a:xfrm>
              <a:off x="7335720" y="3119400"/>
              <a:ext cx="203400" cy="190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335720" y="3214800"/>
              <a:ext cx="203400" cy="190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"/>
          <p:cNvSpPr/>
          <p:nvPr/>
        </p:nvSpPr>
        <p:spPr>
          <a:xfrm flipH="1" flipV="1">
            <a:off x="7426440" y="2114280"/>
            <a:ext cx="1440" cy="99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7437600" y="3405240"/>
            <a:ext cx="0" cy="22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5824440" y="3568680"/>
            <a:ext cx="406440" cy="331920"/>
            <a:chOff x="5824440" y="3568680"/>
            <a:chExt cx="406440" cy="331920"/>
          </a:xfrm>
        </p:grpSpPr>
        <p:sp>
          <p:nvSpPr>
            <p:cNvPr id="640" name=""/>
            <p:cNvSpPr/>
            <p:nvPr/>
          </p:nvSpPr>
          <p:spPr>
            <a:xfrm>
              <a:off x="5824440" y="3900600"/>
              <a:ext cx="40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6027480" y="3758040"/>
              <a:ext cx="0" cy="142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925960" y="35686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76720" y="3615840"/>
              <a:ext cx="101520" cy="946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6075360" y="3146400"/>
            <a:ext cx="203040" cy="190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6075360" y="3241800"/>
            <a:ext cx="203040" cy="188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6184440" y="2970000"/>
            <a:ext cx="180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6176880" y="3430440"/>
            <a:ext cx="0" cy="26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154400" y="415440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4255920" y="3809520"/>
            <a:ext cx="0" cy="24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4265640" y="4344480"/>
            <a:ext cx="0" cy="1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154400" y="4059360"/>
            <a:ext cx="203400" cy="190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627360" y="4451400"/>
            <a:ext cx="2101680" cy="374400"/>
            <a:chOff x="3627360" y="4451400"/>
            <a:chExt cx="2101680" cy="374400"/>
          </a:xfrm>
        </p:grpSpPr>
        <p:sp>
          <p:nvSpPr>
            <p:cNvPr id="653" name=""/>
            <p:cNvSpPr/>
            <p:nvPr/>
          </p:nvSpPr>
          <p:spPr>
            <a:xfrm flipH="1">
              <a:off x="3635640" y="4452120"/>
              <a:ext cx="24768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3823200" y="4451400"/>
              <a:ext cx="268560" cy="37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830400" y="4520880"/>
              <a:ext cx="183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779640" y="4599000"/>
              <a:ext cx="182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726720" y="4670640"/>
              <a:ext cx="183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684240" y="4744800"/>
              <a:ext cx="182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4036680" y="4453200"/>
              <a:ext cx="261360" cy="36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4263480" y="4461120"/>
              <a:ext cx="24984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4479480" y="4458960"/>
              <a:ext cx="261360" cy="36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4666320" y="4461120"/>
              <a:ext cx="260280" cy="36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4870800" y="4460040"/>
              <a:ext cx="249840" cy="35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5086440" y="4458240"/>
              <a:ext cx="260280" cy="36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5274360" y="4461120"/>
              <a:ext cx="261360" cy="36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5456880" y="4453200"/>
              <a:ext cx="264600" cy="36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73600" y="4455360"/>
              <a:ext cx="185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627360" y="4820040"/>
              <a:ext cx="183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4224240" y="5013360"/>
            <a:ext cx="203400" cy="190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4325760" y="4741560"/>
            <a:ext cx="0" cy="1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4325760" y="5203440"/>
            <a:ext cx="0" cy="19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24240" y="4917960"/>
            <a:ext cx="203400" cy="190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487680" y="5329080"/>
            <a:ext cx="2101680" cy="372960"/>
            <a:chOff x="3487680" y="5329080"/>
            <a:chExt cx="2101680" cy="372960"/>
          </a:xfrm>
        </p:grpSpPr>
        <p:sp>
          <p:nvSpPr>
            <p:cNvPr id="674" name=""/>
            <p:cNvSpPr/>
            <p:nvPr/>
          </p:nvSpPr>
          <p:spPr>
            <a:xfrm flipH="1">
              <a:off x="3495960" y="5329800"/>
              <a:ext cx="247680" cy="35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3683520" y="5329080"/>
              <a:ext cx="268560" cy="37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690720" y="5398200"/>
              <a:ext cx="183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639960" y="5475960"/>
              <a:ext cx="182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587040" y="5547240"/>
              <a:ext cx="183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544560" y="5621400"/>
              <a:ext cx="182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3897000" y="5330880"/>
              <a:ext cx="26136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4123800" y="5338800"/>
              <a:ext cx="249840" cy="35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4339800" y="5336640"/>
              <a:ext cx="26136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4526640" y="5338800"/>
              <a:ext cx="26028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4731120" y="5337720"/>
              <a:ext cx="249840" cy="35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4946760" y="5335920"/>
              <a:ext cx="260280" cy="36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5134680" y="5338800"/>
              <a:ext cx="261360" cy="36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5317200" y="5330880"/>
              <a:ext cx="264600" cy="368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733920" y="5333040"/>
              <a:ext cx="185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487680" y="5696280"/>
              <a:ext cx="183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5288400" y="2079720"/>
            <a:ext cx="67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169600" y="3714840"/>
            <a:ext cx="67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6631200" y="2835360"/>
            <a:ext cx="806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602320" y="4552920"/>
            <a:ext cx="806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621400" y="5470560"/>
            <a:ext cx="806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100" spc="-1" strike="noStrike">
                <a:solidFill>
                  <a:srgbClr val="000000"/>
                </a:solidFill>
                <a:latin typeface="Symbol"/>
                <a:ea typeface="Symbol"/>
              </a:rPr>
              <a:t>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818400" y="4186080"/>
            <a:ext cx="203040" cy="189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6918480" y="3832200"/>
            <a:ext cx="1440" cy="25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6919920" y="4375080"/>
            <a:ext cx="0" cy="11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818400" y="4091040"/>
            <a:ext cx="203040" cy="190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879560" y="3287880"/>
            <a:ext cx="60958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866960" y="5064120"/>
            <a:ext cx="5632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879560" y="5796000"/>
            <a:ext cx="55818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6732720" y="2233440"/>
            <a:ext cx="203040" cy="238320"/>
            <a:chOff x="6732720" y="2233440"/>
            <a:chExt cx="203040" cy="238320"/>
          </a:xfrm>
        </p:grpSpPr>
        <p:sp>
          <p:nvSpPr>
            <p:cNvPr id="703" name=""/>
            <p:cNvSpPr/>
            <p:nvPr/>
          </p:nvSpPr>
          <p:spPr>
            <a:xfrm>
              <a:off x="6833880" y="2233440"/>
              <a:ext cx="0" cy="23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732720" y="2233440"/>
              <a:ext cx="20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4141800" y="2297160"/>
            <a:ext cx="203040" cy="236520"/>
            <a:chOff x="4141800" y="2297160"/>
            <a:chExt cx="203040" cy="236520"/>
          </a:xfrm>
        </p:grpSpPr>
        <p:sp>
          <p:nvSpPr>
            <p:cNvPr id="706" name=""/>
            <p:cNvSpPr/>
            <p:nvPr/>
          </p:nvSpPr>
          <p:spPr>
            <a:xfrm>
              <a:off x="4242960" y="2297160"/>
              <a:ext cx="0" cy="23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141800" y="2297160"/>
              <a:ext cx="20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4726080" y="2755800"/>
            <a:ext cx="203040" cy="236520"/>
            <a:chOff x="4726080" y="2755800"/>
            <a:chExt cx="203040" cy="236520"/>
          </a:xfrm>
        </p:grpSpPr>
        <p:sp>
          <p:nvSpPr>
            <p:cNvPr id="709" name=""/>
            <p:cNvSpPr/>
            <p:nvPr/>
          </p:nvSpPr>
          <p:spPr>
            <a:xfrm>
              <a:off x="4827240" y="2755800"/>
              <a:ext cx="0" cy="23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726080" y="2755800"/>
              <a:ext cx="20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6504120" y="3681360"/>
            <a:ext cx="203040" cy="238320"/>
            <a:chOff x="6504120" y="3681360"/>
            <a:chExt cx="203040" cy="238320"/>
          </a:xfrm>
        </p:grpSpPr>
        <p:sp>
          <p:nvSpPr>
            <p:cNvPr id="712" name=""/>
            <p:cNvSpPr/>
            <p:nvPr/>
          </p:nvSpPr>
          <p:spPr>
            <a:xfrm>
              <a:off x="6605280" y="3681360"/>
              <a:ext cx="0" cy="23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504120" y="3681360"/>
              <a:ext cx="20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3843360" y="3672000"/>
            <a:ext cx="203040" cy="237960"/>
            <a:chOff x="3843360" y="3672000"/>
            <a:chExt cx="203040" cy="237960"/>
          </a:xfrm>
        </p:grpSpPr>
        <p:sp>
          <p:nvSpPr>
            <p:cNvPr id="715" name=""/>
            <p:cNvSpPr/>
            <p:nvPr/>
          </p:nvSpPr>
          <p:spPr>
            <a:xfrm>
              <a:off x="3944520" y="3672000"/>
              <a:ext cx="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843360" y="3672000"/>
              <a:ext cx="20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4103640" y="4606920"/>
            <a:ext cx="203400" cy="237960"/>
            <a:chOff x="4103640" y="4606920"/>
            <a:chExt cx="203400" cy="237960"/>
          </a:xfrm>
        </p:grpSpPr>
        <p:sp>
          <p:nvSpPr>
            <p:cNvPr id="718" name=""/>
            <p:cNvSpPr/>
            <p:nvPr/>
          </p:nvSpPr>
          <p:spPr>
            <a:xfrm>
              <a:off x="4205160" y="4606920"/>
              <a:ext cx="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103640" y="4606920"/>
              <a:ext cx="203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4010040" y="5407200"/>
            <a:ext cx="203040" cy="237960"/>
            <a:chOff x="4010040" y="5407200"/>
            <a:chExt cx="203040" cy="237960"/>
          </a:xfrm>
        </p:grpSpPr>
        <p:sp>
          <p:nvSpPr>
            <p:cNvPr id="721" name=""/>
            <p:cNvSpPr/>
            <p:nvPr/>
          </p:nvSpPr>
          <p:spPr>
            <a:xfrm>
              <a:off x="4111200" y="5407200"/>
              <a:ext cx="0" cy="23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010040" y="5407200"/>
              <a:ext cx="20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1851120" y="5143680"/>
            <a:ext cx="9982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Comic Sans MS"/>
              </a:rPr>
              <a:t>Baja Tensió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mic Sans MS"/>
              </a:rPr>
              <a:t>B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316400" y="2035080"/>
            <a:ext cx="111600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omic Sans MS"/>
              </a:rPr>
              <a:t>500 o &gt; k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342040" y="2827440"/>
            <a:ext cx="98748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omic Sans MS"/>
              </a:rPr>
              <a:t>&gt; 23kV k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81480" y="3695760"/>
            <a:ext cx="650880" cy="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omic Sans MS"/>
              </a:rPr>
              <a:t>23 k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958080" y="3716280"/>
            <a:ext cx="66024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omic Sans MS"/>
              </a:rPr>
              <a:t>23 k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313160" y="4451400"/>
            <a:ext cx="947880" cy="22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omic Sans MS"/>
              </a:rPr>
              <a:t>&gt;0.4k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446720" y="5400720"/>
            <a:ext cx="961920" cy="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omic Sans MS"/>
              </a:rPr>
              <a:t>=&lt; 0.4 k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906560" y="1363680"/>
            <a:ext cx="60958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837560" y="1389240"/>
            <a:ext cx="2311200" cy="20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Comic Sans MS"/>
              </a:rPr>
              <a:t>Sistemas de Transm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c0128"/>
                </a:solidFill>
                <a:latin typeface="Comic Sans MS"/>
              </a:rPr>
              <a:t>Troncal A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c0128"/>
                </a:solidFill>
                <a:latin typeface="Comic Sans MS"/>
              </a:rPr>
              <a:t>Troncal R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c0128"/>
                </a:solidFill>
                <a:latin typeface="Comic Sans MS"/>
              </a:rPr>
              <a:t>Iny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c0128"/>
                </a:solidFill>
                <a:latin typeface="Comic Sans MS"/>
              </a:rPr>
              <a:t>Subtransmi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860480" y="3492360"/>
            <a:ext cx="1446120" cy="7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Comic Sans MS"/>
              </a:rPr>
              <a:t>MediaTensión, Alta Tensión en Distribució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mic Sans MS"/>
              </a:rPr>
              <a:t>M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847880" y="1430280"/>
            <a:ext cx="144612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Comic Sans MS"/>
              </a:rPr>
              <a:t>AltaTensió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omic Sans MS"/>
              </a:rPr>
              <a:t>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3030480" y="2124000"/>
            <a:ext cx="6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3119400" y="2025720"/>
            <a:ext cx="283680" cy="203040"/>
            <a:chOff x="3119400" y="2025720"/>
            <a:chExt cx="283680" cy="203040"/>
          </a:xfrm>
        </p:grpSpPr>
        <p:sp>
          <p:nvSpPr>
            <p:cNvPr id="736" name=""/>
            <p:cNvSpPr/>
            <p:nvPr/>
          </p:nvSpPr>
          <p:spPr>
            <a:xfrm rot="16200000">
              <a:off x="3112560" y="2032560"/>
              <a:ext cx="203040" cy="189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6200000">
              <a:off x="3206880" y="2032560"/>
              <a:ext cx="203040" cy="189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 flipH="1" flipV="1">
            <a:off x="3398400" y="2136240"/>
            <a:ext cx="2523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5487840" y="1595160"/>
            <a:ext cx="331920" cy="406440"/>
            <a:chOff x="5487840" y="1595160"/>
            <a:chExt cx="331920" cy="406440"/>
          </a:xfrm>
        </p:grpSpPr>
        <p:sp>
          <p:nvSpPr>
            <p:cNvPr id="740" name=""/>
            <p:cNvSpPr/>
            <p:nvPr/>
          </p:nvSpPr>
          <p:spPr>
            <a:xfrm flipV="1">
              <a:off x="5819760" y="1595160"/>
              <a:ext cx="0" cy="406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5677200" y="1798560"/>
              <a:ext cx="14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16200000">
              <a:off x="5481000" y="170352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16200000">
              <a:off x="5531400" y="1751040"/>
              <a:ext cx="101520" cy="946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4" name=""/>
          <p:cNvSpPr/>
          <p:nvPr/>
        </p:nvSpPr>
        <p:spPr>
          <a:xfrm flipH="1">
            <a:off x="5821200" y="1800360"/>
            <a:ext cx="6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5910120" y="1701360"/>
            <a:ext cx="284040" cy="203400"/>
            <a:chOff x="5910120" y="1701360"/>
            <a:chExt cx="284040" cy="203400"/>
          </a:xfrm>
        </p:grpSpPr>
        <p:sp>
          <p:nvSpPr>
            <p:cNvPr id="746" name=""/>
            <p:cNvSpPr/>
            <p:nvPr/>
          </p:nvSpPr>
          <p:spPr>
            <a:xfrm rot="16200000">
              <a:off x="5903280" y="1708200"/>
              <a:ext cx="203400" cy="189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16200000">
              <a:off x="5997600" y="1708200"/>
              <a:ext cx="203400" cy="189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8" name=""/>
          <p:cNvSpPr/>
          <p:nvPr/>
        </p:nvSpPr>
        <p:spPr>
          <a:xfrm flipH="1" flipV="1">
            <a:off x="6189480" y="1812960"/>
            <a:ext cx="252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6440400" y="1811160"/>
            <a:ext cx="4680" cy="18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264520" y="3676680"/>
            <a:ext cx="164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c0128"/>
                </a:solidFill>
                <a:latin typeface="Comic Sans MS"/>
              </a:rPr>
              <a:t>Sistemas de Distrib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853320" y="2022480"/>
            <a:ext cx="968400" cy="17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Comic Sans MS"/>
              </a:rPr>
              <a:t>500 o &gt; k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3570120" y="5276880"/>
            <a:ext cx="406440" cy="331920"/>
            <a:chOff x="3570120" y="5276880"/>
            <a:chExt cx="406440" cy="331920"/>
          </a:xfrm>
        </p:grpSpPr>
        <p:sp>
          <p:nvSpPr>
            <p:cNvPr id="753" name=""/>
            <p:cNvSpPr/>
            <p:nvPr/>
          </p:nvSpPr>
          <p:spPr>
            <a:xfrm>
              <a:off x="3570120" y="5608800"/>
              <a:ext cx="40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3773160" y="5466240"/>
              <a:ext cx="0" cy="142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671640" y="527688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722400" y="5324040"/>
              <a:ext cx="101520" cy="946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5048280" y="4270320"/>
            <a:ext cx="406440" cy="331920"/>
            <a:chOff x="5048280" y="4270320"/>
            <a:chExt cx="406440" cy="331920"/>
          </a:xfrm>
        </p:grpSpPr>
        <p:sp>
          <p:nvSpPr>
            <p:cNvPr id="758" name=""/>
            <p:cNvSpPr/>
            <p:nvPr/>
          </p:nvSpPr>
          <p:spPr>
            <a:xfrm>
              <a:off x="5048280" y="4602240"/>
              <a:ext cx="40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5251320" y="4459680"/>
              <a:ext cx="0" cy="142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149800" y="4270320"/>
              <a:ext cx="203400" cy="189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0560" y="4317480"/>
              <a:ext cx="101520" cy="946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48"/>
                  </a:moveTo>
                  <a:cubicBezTo>
                    <a:pt x="16" y="24"/>
                    <a:pt x="32" y="0"/>
                    <a:pt x="48" y="0"/>
                  </a:cubicBezTo>
                  <a:cubicBezTo>
                    <a:pt x="64" y="0"/>
                    <a:pt x="80" y="32"/>
                    <a:pt x="96" y="48"/>
                  </a:cubicBezTo>
                  <a:cubicBezTo>
                    <a:pt x="112" y="64"/>
                    <a:pt x="128" y="96"/>
                    <a:pt x="144" y="96"/>
                  </a:cubicBezTo>
                  <a:cubicBezTo>
                    <a:pt x="160" y="96"/>
                    <a:pt x="176" y="72"/>
                    <a:pt x="192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"/>
          <p:cNvSpPr/>
          <p:nvPr/>
        </p:nvSpPr>
        <p:spPr>
          <a:xfrm>
            <a:off x="457200" y="321120"/>
            <a:ext cx="91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Componentes de Co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412920" y="800280"/>
            <a:ext cx="836280" cy="53784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2724840" y="743040"/>
            <a:ext cx="50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0"/>
                </a:solidFill>
                <a:latin typeface="Comic Sans MS"/>
              </a:rPr>
              <a:t>Para un Sistema Interconec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-254160" y="1339920"/>
            <a:ext cx="231156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Comic Sans MS"/>
              </a:rPr>
              <a:t>Clas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ae00"/>
                </a:solidFill>
                <a:latin typeface="Comic Sans MS"/>
              </a:rPr>
              <a:t>Nivele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ae00"/>
                </a:solidFill>
                <a:latin typeface="Comic Sans MS"/>
              </a:rPr>
              <a:t>Tensión o Ca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ae00"/>
                </a:solidFill>
                <a:latin typeface="Comic Sans MS"/>
              </a:rPr>
              <a:t>de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6600" y="2838600"/>
            <a:ext cx="16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ae00"/>
                </a:solidFill>
                <a:latin typeface="Comic Sans MS"/>
              </a:rPr>
              <a:t>Areas Eléctricas</a:t>
            </a:r>
            <a:r>
              <a:rPr b="0" lang="de-DE" sz="1800" spc="-1" strike="noStrike">
                <a:solidFill>
                  <a:srgbClr val="fc0128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7000" y="3708360"/>
            <a:ext cx="1641600" cy="32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99"/>
                </a:solidFill>
                <a:latin typeface="Comic Sans MS"/>
              </a:rPr>
              <a:t>Crite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ae00"/>
                </a:solidFill>
                <a:latin typeface="Comic Sans MS"/>
              </a:rPr>
              <a:t>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ae00"/>
                </a:solidFill>
                <a:latin typeface="Comic Sans MS"/>
              </a:rPr>
              <a:t>Econó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ae00"/>
                </a:solidFill>
                <a:latin typeface="Comic Sans MS"/>
              </a:rPr>
              <a:t> </a:t>
            </a:r>
            <a:r>
              <a:rPr b="1" lang="de-DE" sz="1800" spc="-1" strike="noStrike">
                <a:solidFill>
                  <a:srgbClr val="00ae00"/>
                </a:solidFill>
                <a:latin typeface="Comic Sans MS"/>
              </a:rPr>
              <a:t>Conectividad Eléc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ae00"/>
                </a:solidFill>
                <a:latin typeface="Comic Sans MS"/>
              </a:rPr>
              <a:t>Estructura de Propi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7805880" y="3819600"/>
            <a:ext cx="384120" cy="171360"/>
          </a:xfrm>
          <a:prstGeom prst="line">
            <a:avLst/>
          </a:prstGeom>
          <a:ln w="3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7785000" y="4074840"/>
            <a:ext cx="397080" cy="1314360"/>
          </a:xfrm>
          <a:prstGeom prst="line">
            <a:avLst/>
          </a:prstGeom>
          <a:ln w="3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678800" y="2500200"/>
            <a:ext cx="385560" cy="12960"/>
          </a:xfrm>
          <a:prstGeom prst="line">
            <a:avLst/>
          </a:prstGeom>
          <a:ln w="3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941480" y="5902200"/>
            <a:ext cx="796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0"/>
                </a:solidFill>
                <a:latin typeface="Comic Sans MS"/>
              </a:rPr>
              <a:t>Comentario: </a:t>
            </a:r>
            <a:r>
              <a:rPr b="1" lang="de-DE" sz="2400" spc="-1" strike="noStrike">
                <a:solidFill>
                  <a:srgbClr val="fc0128"/>
                </a:solidFill>
                <a:latin typeface="Comic Sans MS"/>
              </a:rPr>
              <a:t>Definición estática en el tiemp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525600" y="825480"/>
            <a:ext cx="8972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Corresponde a la metodología básica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la </a:t>
            </a:r>
            <a:r>
              <a:rPr b="1" lang="de-DE" sz="2000" spc="-1" strike="noStrike">
                <a:solidFill>
                  <a:srgbClr val="fc0128"/>
                </a:solidFill>
                <a:latin typeface="Comic Sans MS"/>
              </a:rPr>
              <a:t>identificación del uso</a:t>
            </a: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 que realiza un agente, de u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ae00"/>
                </a:solidFill>
                <a:latin typeface="Comic Sans MS"/>
              </a:rPr>
              <a:t>componente de costo</a:t>
            </a: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 del sistema para 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ae00"/>
                </a:solidFill>
                <a:latin typeface="Comic Sans MS"/>
              </a:rPr>
              <a:t>componente de tarifa</a:t>
            </a: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 determin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509760" y="351360"/>
            <a:ext cx="91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Principios de 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1"/>
          <a:stretch/>
        </p:blipFill>
        <p:spPr>
          <a:xfrm>
            <a:off x="63360" y="876240"/>
            <a:ext cx="836640" cy="538200"/>
          </a:xfrm>
          <a:prstGeom prst="rect">
            <a:avLst/>
          </a:prstGeom>
          <a:ln w="0">
            <a:noFill/>
          </a:ln>
        </p:spPr>
      </p:pic>
      <p:sp>
        <p:nvSpPr>
          <p:cNvPr id="777" name=""/>
          <p:cNvSpPr/>
          <p:nvPr/>
        </p:nvSpPr>
        <p:spPr>
          <a:xfrm>
            <a:off x="66600" y="2417760"/>
            <a:ext cx="526104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Comic Sans MS"/>
              </a:rPr>
              <a:t>Crite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buClr>
                <a:srgbClr val="fc01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c0128"/>
                </a:solidFill>
                <a:latin typeface="Comic Sans MS"/>
              </a:rPr>
              <a:t>Tarificación margin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buClr>
                <a:srgbClr val="fc01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buClr>
                <a:srgbClr val="fc01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c0128"/>
                </a:solidFill>
                <a:latin typeface="Comic Sans MS"/>
              </a:rPr>
              <a:t>Basado en identificación de flujos: Propiedades eléctr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buClr>
                <a:srgbClr val="fc01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c0128"/>
                </a:solidFill>
                <a:latin typeface="Comic Sans MS"/>
              </a:rPr>
              <a:t>Basado en identificación de flujos: Análisis topológico y/o teoría de graf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buClr>
                <a:srgbClr val="fc01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buClr>
                <a:srgbClr val="fc01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c0128"/>
                </a:solidFill>
                <a:latin typeface="Comic Sans MS"/>
              </a:rPr>
              <a:t>Estampill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buClr>
                <a:srgbClr val="fc01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buClr>
                <a:srgbClr val="fc01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c0128"/>
                </a:solidFill>
                <a:latin typeface="Comic Sans MS"/>
              </a:rPr>
              <a:t>Estableciendo el beneficio de cada agente al hacer uso del siste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614920" y="2144880"/>
            <a:ext cx="4046760" cy="40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Comic Sans MS"/>
              </a:rPr>
              <a:t>Vari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c0128"/>
                </a:solidFill>
                <a:latin typeface="Comic Sans MS"/>
              </a:rPr>
              <a:t>Unidad base de medida: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utilización de una medida de energía (MWh, potencia firme), potencia y/o suponer la existencia de perfiles de consu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c012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c0128"/>
                </a:solidFill>
                <a:latin typeface="Comic Sans MS"/>
              </a:rPr>
              <a:t>Análisis Temporal :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esquemas en que se anticipa un comportamiento del sistema (análisis a priori) vs. un análisis a posteriori, intervalos de tiem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V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3619440" y="950760"/>
            <a:ext cx="203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Cubrir de Co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232680" y="2435400"/>
            <a:ext cx="367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9900cc"/>
                </a:solidFill>
                <a:latin typeface="Comic Sans MS"/>
              </a:rPr>
              <a:t>Generar señales económicas eficientes en la operación e inversión de agentes involucr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84040" y="340668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Comic Sans MS"/>
              </a:rPr>
              <a:t>Repartición </a:t>
            </a:r>
            <a:r>
              <a:rPr b="1" lang="de-DE" sz="2400" spc="-1" strike="noStrike">
                <a:solidFill>
                  <a:srgbClr val="ff6600"/>
                </a:solidFill>
                <a:latin typeface="Comic Sans MS"/>
              </a:rPr>
              <a:t>Justa</a:t>
            </a:r>
            <a:r>
              <a:rPr b="0" lang="de-DE" sz="2400" spc="-1" strike="noStrike">
                <a:solidFill>
                  <a:srgbClr val="ff6600"/>
                </a:solidFill>
                <a:latin typeface="Comic Sans MS"/>
              </a:rPr>
              <a:t> de Costos según responsa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278160" y="2867040"/>
            <a:ext cx="289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Comic Sans MS"/>
              </a:rPr>
              <a:t>Transparencia (Metodología y Procedimien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15880" y="1292400"/>
            <a:ext cx="247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ae00"/>
                </a:solidFill>
                <a:latin typeface="Comic Sans MS"/>
              </a:rPr>
              <a:t>Factibilidad y facilidad de impleme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7246800" y="4989600"/>
            <a:ext cx="20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Estabilidad de Pre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583080" y="5002200"/>
            <a:ext cx="243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99ff"/>
                </a:solidFill>
                <a:latin typeface="Comic Sans MS"/>
              </a:rPr>
              <a:t>Políticamente implemen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240600" y="839880"/>
            <a:ext cx="258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Comic Sans MS"/>
              </a:rPr>
              <a:t>Trato no Discrimina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96800" y="324360"/>
            <a:ext cx="91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Cualidades Esperadas de una Metodología Adecu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V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522360" y="298800"/>
            <a:ext cx="91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Universo de Metodologías Estudi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17680" y="739800"/>
            <a:ext cx="1641240" cy="56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Comic Sans MS"/>
              </a:rPr>
              <a:t>Principio de U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Margin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Id. Flujos: base eléc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Id. Flujos: grafos, top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Estampil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Benef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727360" y="760320"/>
            <a:ext cx="2714760" cy="58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Comic Sans MS"/>
              </a:rPr>
              <a:t>Concepto de Ac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Comic Sans MS"/>
              </a:rPr>
              <a:t>Comu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Retiro-Iny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unto-Iny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unto-a-P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unto-Ret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unto-Ret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unto-Iny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unto-Ret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unto-Iny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unto-a-P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unto-Reti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unto-Iny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627520" y="771480"/>
            <a:ext cx="4443480" cy="56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Comic Sans MS"/>
              </a:rPr>
              <a:t>Metodolog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Comic Sans MS"/>
              </a:rPr>
              <a:t>Específ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CP, LP, 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GGDF, GGDFC, GSDF, Mét. Corr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MW-M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GLDF, GLDFC, GSDF, Mét. Corr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Bialek G, Kirschen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Bialek L, Kirschen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Estratificado Bruto/Neto, V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Teoría de Jue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Rams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73160" y="1492200"/>
            <a:ext cx="95533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85760" y="1467000"/>
            <a:ext cx="9553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73160" y="1936800"/>
            <a:ext cx="95533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85760" y="3016080"/>
            <a:ext cx="9553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198360" y="4299120"/>
            <a:ext cx="9553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10960" y="5378400"/>
            <a:ext cx="9553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2440080" y="789120"/>
            <a:ext cx="4680" cy="5580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5546880" y="759960"/>
            <a:ext cx="4680" cy="56199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V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6" name=""/>
          <p:cNvGraphicFramePr/>
          <p:nvPr/>
        </p:nvGraphicFramePr>
        <p:xfrm>
          <a:off x="2490840" y="4184640"/>
          <a:ext cx="232416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0840" y="4184640"/>
                    <a:ext cx="23241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8" name=""/>
          <p:cNvGraphicFramePr/>
          <p:nvPr/>
        </p:nvGraphicFramePr>
        <p:xfrm>
          <a:off x="692280" y="4165560"/>
          <a:ext cx="2247840" cy="4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2280" y="4165560"/>
                    <a:ext cx="2247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0" name=""/>
          <p:cNvSpPr/>
          <p:nvPr/>
        </p:nvSpPr>
        <p:spPr>
          <a:xfrm>
            <a:off x="489600" y="325440"/>
            <a:ext cx="47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actores de Distribución GS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98320" y="976320"/>
            <a:ext cx="273240" cy="254160"/>
          </a:xfrm>
          <a:custGeom>
            <a:avLst/>
            <a:gdLst/>
            <a:ahLst/>
            <a:rect l="l" t="t" r="r" b="b"/>
            <a:pathLst>
              <a:path w="159" h="160">
                <a:moveTo>
                  <a:pt x="5" y="55"/>
                </a:moveTo>
                <a:lnTo>
                  <a:pt x="5" y="50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50"/>
                </a:lnTo>
                <a:lnTo>
                  <a:pt x="153" y="55"/>
                </a:lnTo>
                <a:lnTo>
                  <a:pt x="159" y="83"/>
                </a:lnTo>
                <a:lnTo>
                  <a:pt x="159" y="83"/>
                </a:lnTo>
                <a:lnTo>
                  <a:pt x="153" y="110"/>
                </a:lnTo>
                <a:lnTo>
                  <a:pt x="153" y="116"/>
                </a:lnTo>
                <a:lnTo>
                  <a:pt x="137" y="138"/>
                </a:lnTo>
                <a:lnTo>
                  <a:pt x="137" y="138"/>
                </a:lnTo>
                <a:lnTo>
                  <a:pt x="115" y="154"/>
                </a:lnTo>
                <a:lnTo>
                  <a:pt x="109" y="154"/>
                </a:lnTo>
                <a:lnTo>
                  <a:pt x="82" y="160"/>
                </a:lnTo>
                <a:lnTo>
                  <a:pt x="82" y="160"/>
                </a:lnTo>
                <a:lnTo>
                  <a:pt x="49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5" y="116"/>
                </a:lnTo>
                <a:lnTo>
                  <a:pt x="5" y="110"/>
                </a:lnTo>
                <a:lnTo>
                  <a:pt x="0" y="83"/>
                </a:lnTo>
                <a:lnTo>
                  <a:pt x="16" y="83"/>
                </a:lnTo>
                <a:lnTo>
                  <a:pt x="22" y="110"/>
                </a:lnTo>
                <a:lnTo>
                  <a:pt x="33" y="127"/>
                </a:lnTo>
                <a:lnTo>
                  <a:pt x="49" y="138"/>
                </a:lnTo>
                <a:lnTo>
                  <a:pt x="82" y="143"/>
                </a:lnTo>
                <a:lnTo>
                  <a:pt x="109" y="138"/>
                </a:lnTo>
                <a:lnTo>
                  <a:pt x="126" y="127"/>
                </a:lnTo>
                <a:lnTo>
                  <a:pt x="137" y="110"/>
                </a:lnTo>
                <a:lnTo>
                  <a:pt x="142" y="83"/>
                </a:lnTo>
                <a:lnTo>
                  <a:pt x="137" y="61"/>
                </a:lnTo>
                <a:lnTo>
                  <a:pt x="115" y="28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44" y="28"/>
                </a:lnTo>
                <a:lnTo>
                  <a:pt x="22" y="61"/>
                </a:lnTo>
                <a:lnTo>
                  <a:pt x="5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98320" y="1063800"/>
            <a:ext cx="38160" cy="4428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5" y="0"/>
                </a:lnTo>
                <a:lnTo>
                  <a:pt x="22" y="0"/>
                </a:lnTo>
                <a:lnTo>
                  <a:pt x="16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74640" y="1073160"/>
            <a:ext cx="122400" cy="6048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5"/>
                </a:lnTo>
                <a:lnTo>
                  <a:pt x="22" y="0"/>
                </a:lnTo>
                <a:lnTo>
                  <a:pt x="27" y="5"/>
                </a:lnTo>
                <a:lnTo>
                  <a:pt x="33" y="22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720720" y="1220760"/>
            <a:ext cx="270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82560" y="1360440"/>
            <a:ext cx="1144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55760" y="1525680"/>
            <a:ext cx="53784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93560" y="284004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306520" y="2840040"/>
            <a:ext cx="962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560680" y="976320"/>
            <a:ext cx="272880" cy="254160"/>
          </a:xfrm>
          <a:custGeom>
            <a:avLst/>
            <a:gdLst/>
            <a:ahLst/>
            <a:rect l="l" t="t" r="r" b="b"/>
            <a:pathLst>
              <a:path w="159" h="160">
                <a:moveTo>
                  <a:pt x="6" y="55"/>
                </a:moveTo>
                <a:lnTo>
                  <a:pt x="6" y="50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50" y="6"/>
                </a:lnTo>
                <a:lnTo>
                  <a:pt x="77" y="0"/>
                </a:lnTo>
                <a:lnTo>
                  <a:pt x="77" y="0"/>
                </a:lnTo>
                <a:lnTo>
                  <a:pt x="110" y="6"/>
                </a:lnTo>
                <a:lnTo>
                  <a:pt x="116" y="6"/>
                </a:lnTo>
                <a:lnTo>
                  <a:pt x="137" y="22"/>
                </a:lnTo>
                <a:lnTo>
                  <a:pt x="137" y="22"/>
                </a:lnTo>
                <a:lnTo>
                  <a:pt x="154" y="50"/>
                </a:lnTo>
                <a:lnTo>
                  <a:pt x="154" y="55"/>
                </a:lnTo>
                <a:lnTo>
                  <a:pt x="159" y="83"/>
                </a:lnTo>
                <a:lnTo>
                  <a:pt x="159" y="83"/>
                </a:lnTo>
                <a:lnTo>
                  <a:pt x="154" y="110"/>
                </a:lnTo>
                <a:lnTo>
                  <a:pt x="154" y="116"/>
                </a:lnTo>
                <a:lnTo>
                  <a:pt x="137" y="138"/>
                </a:lnTo>
                <a:lnTo>
                  <a:pt x="137" y="138"/>
                </a:lnTo>
                <a:lnTo>
                  <a:pt x="116" y="154"/>
                </a:lnTo>
                <a:lnTo>
                  <a:pt x="110" y="154"/>
                </a:lnTo>
                <a:lnTo>
                  <a:pt x="77" y="160"/>
                </a:lnTo>
                <a:lnTo>
                  <a:pt x="77" y="160"/>
                </a:lnTo>
                <a:lnTo>
                  <a:pt x="50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6" y="116"/>
                </a:lnTo>
                <a:lnTo>
                  <a:pt x="6" y="110"/>
                </a:lnTo>
                <a:lnTo>
                  <a:pt x="0" y="83"/>
                </a:lnTo>
                <a:lnTo>
                  <a:pt x="17" y="83"/>
                </a:lnTo>
                <a:lnTo>
                  <a:pt x="22" y="110"/>
                </a:lnTo>
                <a:lnTo>
                  <a:pt x="33" y="127"/>
                </a:lnTo>
                <a:lnTo>
                  <a:pt x="50" y="138"/>
                </a:lnTo>
                <a:lnTo>
                  <a:pt x="77" y="143"/>
                </a:lnTo>
                <a:lnTo>
                  <a:pt x="110" y="138"/>
                </a:lnTo>
                <a:lnTo>
                  <a:pt x="127" y="127"/>
                </a:lnTo>
                <a:lnTo>
                  <a:pt x="137" y="110"/>
                </a:lnTo>
                <a:lnTo>
                  <a:pt x="143" y="83"/>
                </a:lnTo>
                <a:lnTo>
                  <a:pt x="137" y="61"/>
                </a:lnTo>
                <a:lnTo>
                  <a:pt x="116" y="28"/>
                </a:lnTo>
                <a:lnTo>
                  <a:pt x="110" y="22"/>
                </a:lnTo>
                <a:lnTo>
                  <a:pt x="77" y="17"/>
                </a:lnTo>
                <a:lnTo>
                  <a:pt x="50" y="22"/>
                </a:lnTo>
                <a:lnTo>
                  <a:pt x="44" y="28"/>
                </a:lnTo>
                <a:lnTo>
                  <a:pt x="22" y="61"/>
                </a:lnTo>
                <a:lnTo>
                  <a:pt x="6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560680" y="1063800"/>
            <a:ext cx="38160" cy="4428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6" y="0"/>
                </a:lnTo>
                <a:lnTo>
                  <a:pt x="22" y="0"/>
                </a:lnTo>
                <a:lnTo>
                  <a:pt x="17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637000" y="1073160"/>
            <a:ext cx="123840" cy="6048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5"/>
                </a:lnTo>
                <a:lnTo>
                  <a:pt x="17" y="0"/>
                </a:lnTo>
                <a:lnTo>
                  <a:pt x="33" y="22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674800" y="1220760"/>
            <a:ext cx="288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637000" y="1360440"/>
            <a:ext cx="1126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268360" y="1525680"/>
            <a:ext cx="89712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308480" y="2292480"/>
            <a:ext cx="27288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5"/>
                </a:moveTo>
                <a:lnTo>
                  <a:pt x="5" y="49"/>
                </a:lnTo>
                <a:lnTo>
                  <a:pt x="22" y="22"/>
                </a:lnTo>
                <a:lnTo>
                  <a:pt x="22" y="22"/>
                </a:lnTo>
                <a:lnTo>
                  <a:pt x="44" y="5"/>
                </a:lnTo>
                <a:lnTo>
                  <a:pt x="49" y="5"/>
                </a:lnTo>
                <a:lnTo>
                  <a:pt x="82" y="0"/>
                </a:lnTo>
                <a:lnTo>
                  <a:pt x="82" y="0"/>
                </a:lnTo>
                <a:lnTo>
                  <a:pt x="109" y="5"/>
                </a:lnTo>
                <a:lnTo>
                  <a:pt x="115" y="5"/>
                </a:lnTo>
                <a:lnTo>
                  <a:pt x="137" y="22"/>
                </a:lnTo>
                <a:lnTo>
                  <a:pt x="137" y="22"/>
                </a:lnTo>
                <a:lnTo>
                  <a:pt x="153" y="49"/>
                </a:lnTo>
                <a:lnTo>
                  <a:pt x="153" y="55"/>
                </a:lnTo>
                <a:lnTo>
                  <a:pt x="159" y="82"/>
                </a:lnTo>
                <a:lnTo>
                  <a:pt x="159" y="82"/>
                </a:lnTo>
                <a:lnTo>
                  <a:pt x="153" y="109"/>
                </a:lnTo>
                <a:lnTo>
                  <a:pt x="153" y="115"/>
                </a:lnTo>
                <a:lnTo>
                  <a:pt x="137" y="137"/>
                </a:lnTo>
                <a:lnTo>
                  <a:pt x="137" y="137"/>
                </a:lnTo>
                <a:lnTo>
                  <a:pt x="115" y="153"/>
                </a:lnTo>
                <a:lnTo>
                  <a:pt x="109" y="153"/>
                </a:lnTo>
                <a:lnTo>
                  <a:pt x="82" y="159"/>
                </a:lnTo>
                <a:lnTo>
                  <a:pt x="82" y="159"/>
                </a:lnTo>
                <a:lnTo>
                  <a:pt x="49" y="153"/>
                </a:lnTo>
                <a:lnTo>
                  <a:pt x="44" y="153"/>
                </a:lnTo>
                <a:lnTo>
                  <a:pt x="22" y="137"/>
                </a:lnTo>
                <a:lnTo>
                  <a:pt x="22" y="137"/>
                </a:lnTo>
                <a:lnTo>
                  <a:pt x="5" y="115"/>
                </a:lnTo>
                <a:lnTo>
                  <a:pt x="5" y="109"/>
                </a:lnTo>
                <a:lnTo>
                  <a:pt x="0" y="82"/>
                </a:lnTo>
                <a:lnTo>
                  <a:pt x="16" y="82"/>
                </a:lnTo>
                <a:lnTo>
                  <a:pt x="22" y="109"/>
                </a:lnTo>
                <a:lnTo>
                  <a:pt x="33" y="126"/>
                </a:lnTo>
                <a:lnTo>
                  <a:pt x="49" y="137"/>
                </a:lnTo>
                <a:lnTo>
                  <a:pt x="82" y="142"/>
                </a:lnTo>
                <a:lnTo>
                  <a:pt x="109" y="137"/>
                </a:lnTo>
                <a:lnTo>
                  <a:pt x="126" y="126"/>
                </a:lnTo>
                <a:lnTo>
                  <a:pt x="137" y="109"/>
                </a:lnTo>
                <a:lnTo>
                  <a:pt x="142" y="82"/>
                </a:lnTo>
                <a:lnTo>
                  <a:pt x="137" y="60"/>
                </a:lnTo>
                <a:lnTo>
                  <a:pt x="115" y="27"/>
                </a:lnTo>
                <a:lnTo>
                  <a:pt x="109" y="22"/>
                </a:lnTo>
                <a:lnTo>
                  <a:pt x="82" y="16"/>
                </a:lnTo>
                <a:lnTo>
                  <a:pt x="49" y="22"/>
                </a:lnTo>
                <a:lnTo>
                  <a:pt x="44" y="27"/>
                </a:lnTo>
                <a:lnTo>
                  <a:pt x="22" y="60"/>
                </a:lnTo>
                <a:lnTo>
                  <a:pt x="5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308480" y="237960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383000" y="2387520"/>
            <a:ext cx="122400" cy="6048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5"/>
                </a:lnTo>
                <a:lnTo>
                  <a:pt x="16" y="0"/>
                </a:lnTo>
                <a:lnTo>
                  <a:pt x="27" y="5"/>
                </a:lnTo>
                <a:lnTo>
                  <a:pt x="32" y="16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421160" y="2535120"/>
            <a:ext cx="2844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383000" y="2674800"/>
            <a:ext cx="112680" cy="157320"/>
          </a:xfrm>
          <a:custGeom>
            <a:avLst/>
            <a:gdLst/>
            <a:ahLst/>
            <a:rect l="l" t="t" r="r" b="b"/>
            <a:pathLst>
              <a:path w="65" h="99">
                <a:moveTo>
                  <a:pt x="32" y="99"/>
                </a:moveTo>
                <a:lnTo>
                  <a:pt x="0" y="0"/>
                </a:lnTo>
                <a:lnTo>
                  <a:pt x="32" y="22"/>
                </a:lnTo>
                <a:lnTo>
                  <a:pt x="65" y="0"/>
                </a:lnTo>
                <a:lnTo>
                  <a:pt x="32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165560" y="284004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674800" y="1595520"/>
            <a:ext cx="19080" cy="12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82560" y="1595520"/>
            <a:ext cx="1793880" cy="209520"/>
          </a:xfrm>
          <a:custGeom>
            <a:avLst/>
            <a:gdLst/>
            <a:ahLst/>
            <a:rect l="l" t="t" r="r" b="b"/>
            <a:pathLst>
              <a:path w="1043" h="132">
                <a:moveTo>
                  <a:pt x="11" y="0"/>
                </a:moveTo>
                <a:lnTo>
                  <a:pt x="11" y="121"/>
                </a:lnTo>
                <a:lnTo>
                  <a:pt x="1032" y="121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2"/>
                </a:lnTo>
                <a:lnTo>
                  <a:pt x="6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043520" y="1535040"/>
            <a:ext cx="745920" cy="9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957400" y="1595520"/>
            <a:ext cx="1227240" cy="209520"/>
          </a:xfrm>
          <a:custGeom>
            <a:avLst/>
            <a:gdLst/>
            <a:ahLst/>
            <a:rect l="l" t="t" r="r" b="b"/>
            <a:pathLst>
              <a:path w="713" h="132">
                <a:moveTo>
                  <a:pt x="11" y="0"/>
                </a:moveTo>
                <a:lnTo>
                  <a:pt x="11" y="121"/>
                </a:lnTo>
                <a:lnTo>
                  <a:pt x="702" y="121"/>
                </a:lnTo>
                <a:lnTo>
                  <a:pt x="702" y="0"/>
                </a:lnTo>
                <a:lnTo>
                  <a:pt x="713" y="0"/>
                </a:lnTo>
                <a:lnTo>
                  <a:pt x="713" y="126"/>
                </a:lnTo>
                <a:lnTo>
                  <a:pt x="708" y="132"/>
                </a:lnTo>
                <a:lnTo>
                  <a:pt x="5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957400" y="2901960"/>
            <a:ext cx="1511280" cy="208080"/>
          </a:xfrm>
          <a:custGeom>
            <a:avLst/>
            <a:gdLst/>
            <a:ahLst/>
            <a:rect l="l" t="t" r="r" b="b"/>
            <a:pathLst>
              <a:path w="878" h="131">
                <a:moveTo>
                  <a:pt x="11" y="0"/>
                </a:moveTo>
                <a:lnTo>
                  <a:pt x="11" y="120"/>
                </a:lnTo>
                <a:lnTo>
                  <a:pt x="867" y="120"/>
                </a:lnTo>
                <a:lnTo>
                  <a:pt x="867" y="0"/>
                </a:lnTo>
                <a:lnTo>
                  <a:pt x="878" y="0"/>
                </a:lnTo>
                <a:lnTo>
                  <a:pt x="878" y="126"/>
                </a:lnTo>
                <a:lnTo>
                  <a:pt x="872" y="131"/>
                </a:lnTo>
                <a:lnTo>
                  <a:pt x="5" y="131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957400" y="1595520"/>
            <a:ext cx="1650960" cy="1244520"/>
          </a:xfrm>
          <a:custGeom>
            <a:avLst/>
            <a:gdLst/>
            <a:ahLst/>
            <a:rect l="l" t="t" r="r" b="b"/>
            <a:pathLst>
              <a:path w="960" h="784">
                <a:moveTo>
                  <a:pt x="0" y="784"/>
                </a:moveTo>
                <a:lnTo>
                  <a:pt x="0" y="658"/>
                </a:lnTo>
                <a:lnTo>
                  <a:pt x="5" y="653"/>
                </a:lnTo>
                <a:lnTo>
                  <a:pt x="949" y="126"/>
                </a:lnTo>
                <a:lnTo>
                  <a:pt x="949" y="0"/>
                </a:lnTo>
                <a:lnTo>
                  <a:pt x="960" y="0"/>
                </a:lnTo>
                <a:lnTo>
                  <a:pt x="960" y="126"/>
                </a:lnTo>
                <a:lnTo>
                  <a:pt x="955" y="132"/>
                </a:lnTo>
                <a:lnTo>
                  <a:pt x="11" y="658"/>
                </a:lnTo>
                <a:lnTo>
                  <a:pt x="11" y="784"/>
                </a:lnTo>
                <a:lnTo>
                  <a:pt x="0" y="7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82560" y="2901960"/>
            <a:ext cx="1793880" cy="208080"/>
          </a:xfrm>
          <a:custGeom>
            <a:avLst/>
            <a:gdLst/>
            <a:ahLst/>
            <a:rect l="l" t="t" r="r" b="b"/>
            <a:pathLst>
              <a:path w="1043" h="131">
                <a:moveTo>
                  <a:pt x="11" y="0"/>
                </a:moveTo>
                <a:lnTo>
                  <a:pt x="11" y="120"/>
                </a:lnTo>
                <a:lnTo>
                  <a:pt x="1032" y="120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1"/>
                </a:lnTo>
                <a:lnTo>
                  <a:pt x="6" y="131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23280" y="1247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164680" y="123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872880" y="123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32640" y="2552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64680" y="2552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4015800" y="2552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966240" y="9856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117440" y="1073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947680" y="9856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098880" y="1073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665240" y="22226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816440" y="2317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17760" y="4226040"/>
            <a:ext cx="2635200" cy="1576440"/>
          </a:xfrm>
          <a:custGeom>
            <a:avLst/>
            <a:gdLst/>
            <a:ahLst/>
            <a:rect l="l" t="t" r="r" b="b"/>
            <a:pathLst>
              <a:path w="1532" h="993">
                <a:moveTo>
                  <a:pt x="1433" y="0"/>
                </a:moveTo>
                <a:lnTo>
                  <a:pt x="0" y="828"/>
                </a:lnTo>
                <a:lnTo>
                  <a:pt x="94" y="993"/>
                </a:lnTo>
                <a:lnTo>
                  <a:pt x="1532" y="165"/>
                </a:lnTo>
                <a:lnTo>
                  <a:pt x="1433" y="0"/>
                </a:lnTo>
                <a:close/>
              </a:path>
            </a:pathLst>
          </a:custGeom>
          <a:solidFill>
            <a:srgbClr val="ffff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d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492280" y="4365720"/>
            <a:ext cx="565200" cy="1306440"/>
          </a:xfrm>
          <a:custGeom>
            <a:avLst/>
            <a:gdLst/>
            <a:ahLst/>
            <a:rect l="l" t="t" r="r" b="b"/>
            <a:pathLst>
              <a:path w="329" h="823">
                <a:moveTo>
                  <a:pt x="0" y="0"/>
                </a:moveTo>
                <a:lnTo>
                  <a:pt x="0" y="823"/>
                </a:lnTo>
                <a:lnTo>
                  <a:pt x="329" y="823"/>
                </a:lnTo>
                <a:lnTo>
                  <a:pt x="329" y="0"/>
                </a:lnTo>
                <a:lnTo>
                  <a:pt x="32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492280" y="4365720"/>
            <a:ext cx="584280" cy="1323720"/>
          </a:xfrm>
          <a:prstGeom prst="rect">
            <a:avLst/>
          </a:prstGeom>
          <a:solidFill>
            <a:srgbClr val="fffd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d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89040" y="3686040"/>
            <a:ext cx="274680" cy="25272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0"/>
                </a:moveTo>
                <a:lnTo>
                  <a:pt x="5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44"/>
                </a:lnTo>
                <a:lnTo>
                  <a:pt x="153" y="50"/>
                </a:lnTo>
                <a:lnTo>
                  <a:pt x="159" y="77"/>
                </a:lnTo>
                <a:lnTo>
                  <a:pt x="159" y="77"/>
                </a:lnTo>
                <a:lnTo>
                  <a:pt x="153" y="110"/>
                </a:lnTo>
                <a:lnTo>
                  <a:pt x="153" y="115"/>
                </a:lnTo>
                <a:lnTo>
                  <a:pt x="137" y="137"/>
                </a:lnTo>
                <a:lnTo>
                  <a:pt x="137" y="137"/>
                </a:lnTo>
                <a:lnTo>
                  <a:pt x="115" y="154"/>
                </a:lnTo>
                <a:lnTo>
                  <a:pt x="109" y="154"/>
                </a:lnTo>
                <a:lnTo>
                  <a:pt x="82" y="159"/>
                </a:lnTo>
                <a:lnTo>
                  <a:pt x="82" y="159"/>
                </a:lnTo>
                <a:lnTo>
                  <a:pt x="49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5" y="115"/>
                </a:lnTo>
                <a:lnTo>
                  <a:pt x="5" y="110"/>
                </a:lnTo>
                <a:lnTo>
                  <a:pt x="0" y="77"/>
                </a:lnTo>
                <a:lnTo>
                  <a:pt x="16" y="77"/>
                </a:lnTo>
                <a:lnTo>
                  <a:pt x="22" y="110"/>
                </a:lnTo>
                <a:lnTo>
                  <a:pt x="33" y="126"/>
                </a:lnTo>
                <a:lnTo>
                  <a:pt x="49" y="137"/>
                </a:lnTo>
                <a:lnTo>
                  <a:pt x="82" y="143"/>
                </a:lnTo>
                <a:lnTo>
                  <a:pt x="109" y="137"/>
                </a:lnTo>
                <a:lnTo>
                  <a:pt x="126" y="126"/>
                </a:lnTo>
                <a:lnTo>
                  <a:pt x="137" y="110"/>
                </a:lnTo>
                <a:lnTo>
                  <a:pt x="142" y="77"/>
                </a:lnTo>
                <a:lnTo>
                  <a:pt x="137" y="50"/>
                </a:lnTo>
                <a:lnTo>
                  <a:pt x="126" y="33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33" y="33"/>
                </a:lnTo>
                <a:lnTo>
                  <a:pt x="16" y="55"/>
                </a:lnTo>
                <a:lnTo>
                  <a:pt x="5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89040" y="376560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65000" y="3773520"/>
            <a:ext cx="122400" cy="6012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6"/>
                </a:lnTo>
                <a:lnTo>
                  <a:pt x="22" y="0"/>
                </a:lnTo>
                <a:lnTo>
                  <a:pt x="33" y="22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811080" y="3921120"/>
            <a:ext cx="2880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774720" y="4060800"/>
            <a:ext cx="1126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547560" y="4226040"/>
            <a:ext cx="53820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84280" y="554040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2397240" y="5540400"/>
            <a:ext cx="96336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652840" y="3686040"/>
            <a:ext cx="272880" cy="25272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6" y="50"/>
                </a:moveTo>
                <a:lnTo>
                  <a:pt x="6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50" y="6"/>
                </a:lnTo>
                <a:lnTo>
                  <a:pt x="77" y="0"/>
                </a:lnTo>
                <a:lnTo>
                  <a:pt x="77" y="0"/>
                </a:lnTo>
                <a:lnTo>
                  <a:pt x="110" y="6"/>
                </a:lnTo>
                <a:lnTo>
                  <a:pt x="116" y="6"/>
                </a:lnTo>
                <a:lnTo>
                  <a:pt x="137" y="22"/>
                </a:lnTo>
                <a:lnTo>
                  <a:pt x="137" y="22"/>
                </a:lnTo>
                <a:lnTo>
                  <a:pt x="154" y="44"/>
                </a:lnTo>
                <a:lnTo>
                  <a:pt x="154" y="50"/>
                </a:lnTo>
                <a:lnTo>
                  <a:pt x="159" y="77"/>
                </a:lnTo>
                <a:lnTo>
                  <a:pt x="159" y="77"/>
                </a:lnTo>
                <a:lnTo>
                  <a:pt x="154" y="110"/>
                </a:lnTo>
                <a:lnTo>
                  <a:pt x="154" y="115"/>
                </a:lnTo>
                <a:lnTo>
                  <a:pt x="137" y="137"/>
                </a:lnTo>
                <a:lnTo>
                  <a:pt x="137" y="137"/>
                </a:lnTo>
                <a:lnTo>
                  <a:pt x="116" y="154"/>
                </a:lnTo>
                <a:lnTo>
                  <a:pt x="110" y="154"/>
                </a:lnTo>
                <a:lnTo>
                  <a:pt x="77" y="159"/>
                </a:lnTo>
                <a:lnTo>
                  <a:pt x="77" y="159"/>
                </a:lnTo>
                <a:lnTo>
                  <a:pt x="50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6" y="115"/>
                </a:lnTo>
                <a:lnTo>
                  <a:pt x="6" y="110"/>
                </a:lnTo>
                <a:lnTo>
                  <a:pt x="0" y="77"/>
                </a:lnTo>
                <a:lnTo>
                  <a:pt x="17" y="77"/>
                </a:lnTo>
                <a:lnTo>
                  <a:pt x="22" y="110"/>
                </a:lnTo>
                <a:lnTo>
                  <a:pt x="33" y="126"/>
                </a:lnTo>
                <a:lnTo>
                  <a:pt x="50" y="137"/>
                </a:lnTo>
                <a:lnTo>
                  <a:pt x="77" y="143"/>
                </a:lnTo>
                <a:lnTo>
                  <a:pt x="110" y="137"/>
                </a:lnTo>
                <a:lnTo>
                  <a:pt x="127" y="126"/>
                </a:lnTo>
                <a:lnTo>
                  <a:pt x="137" y="110"/>
                </a:lnTo>
                <a:lnTo>
                  <a:pt x="143" y="77"/>
                </a:lnTo>
                <a:lnTo>
                  <a:pt x="137" y="50"/>
                </a:lnTo>
                <a:lnTo>
                  <a:pt x="127" y="33"/>
                </a:lnTo>
                <a:lnTo>
                  <a:pt x="110" y="22"/>
                </a:lnTo>
                <a:lnTo>
                  <a:pt x="77" y="17"/>
                </a:lnTo>
                <a:lnTo>
                  <a:pt x="50" y="22"/>
                </a:lnTo>
                <a:lnTo>
                  <a:pt x="33" y="33"/>
                </a:lnTo>
                <a:lnTo>
                  <a:pt x="17" y="55"/>
                </a:lnTo>
                <a:lnTo>
                  <a:pt x="6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2652840" y="3765600"/>
            <a:ext cx="363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6" y="0"/>
                </a:lnTo>
                <a:lnTo>
                  <a:pt x="22" y="0"/>
                </a:lnTo>
                <a:lnTo>
                  <a:pt x="17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727360" y="3773520"/>
            <a:ext cx="123840" cy="6012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6"/>
                </a:lnTo>
                <a:lnTo>
                  <a:pt x="17" y="0"/>
                </a:lnTo>
                <a:lnTo>
                  <a:pt x="33" y="22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765520" y="3921120"/>
            <a:ext cx="2844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727360" y="4060800"/>
            <a:ext cx="11412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359080" y="4226040"/>
            <a:ext cx="89856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4398840" y="5000760"/>
            <a:ext cx="27324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0"/>
                </a:moveTo>
                <a:lnTo>
                  <a:pt x="5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44"/>
                </a:lnTo>
                <a:lnTo>
                  <a:pt x="153" y="50"/>
                </a:lnTo>
                <a:lnTo>
                  <a:pt x="159" y="77"/>
                </a:lnTo>
                <a:lnTo>
                  <a:pt x="159" y="77"/>
                </a:lnTo>
                <a:lnTo>
                  <a:pt x="153" y="110"/>
                </a:lnTo>
                <a:lnTo>
                  <a:pt x="153" y="116"/>
                </a:lnTo>
                <a:lnTo>
                  <a:pt x="137" y="138"/>
                </a:lnTo>
                <a:lnTo>
                  <a:pt x="137" y="138"/>
                </a:lnTo>
                <a:lnTo>
                  <a:pt x="115" y="154"/>
                </a:lnTo>
                <a:lnTo>
                  <a:pt x="109" y="154"/>
                </a:lnTo>
                <a:lnTo>
                  <a:pt x="82" y="159"/>
                </a:lnTo>
                <a:lnTo>
                  <a:pt x="82" y="159"/>
                </a:lnTo>
                <a:lnTo>
                  <a:pt x="49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5" y="116"/>
                </a:lnTo>
                <a:lnTo>
                  <a:pt x="5" y="110"/>
                </a:lnTo>
                <a:lnTo>
                  <a:pt x="0" y="77"/>
                </a:lnTo>
                <a:lnTo>
                  <a:pt x="16" y="77"/>
                </a:lnTo>
                <a:lnTo>
                  <a:pt x="22" y="110"/>
                </a:lnTo>
                <a:lnTo>
                  <a:pt x="33" y="127"/>
                </a:lnTo>
                <a:lnTo>
                  <a:pt x="49" y="138"/>
                </a:lnTo>
                <a:lnTo>
                  <a:pt x="82" y="143"/>
                </a:lnTo>
                <a:lnTo>
                  <a:pt x="109" y="138"/>
                </a:lnTo>
                <a:lnTo>
                  <a:pt x="126" y="127"/>
                </a:lnTo>
                <a:lnTo>
                  <a:pt x="137" y="110"/>
                </a:lnTo>
                <a:lnTo>
                  <a:pt x="142" y="77"/>
                </a:lnTo>
                <a:lnTo>
                  <a:pt x="137" y="50"/>
                </a:lnTo>
                <a:lnTo>
                  <a:pt x="126" y="33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33" y="33"/>
                </a:lnTo>
                <a:lnTo>
                  <a:pt x="16" y="55"/>
                </a:lnTo>
                <a:lnTo>
                  <a:pt x="5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398840" y="507996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475160" y="5087880"/>
            <a:ext cx="122400" cy="61920"/>
          </a:xfrm>
          <a:custGeom>
            <a:avLst/>
            <a:gdLst/>
            <a:ahLst/>
            <a:rect l="l" t="t" r="r" b="b"/>
            <a:pathLst>
              <a:path w="71" h="39">
                <a:moveTo>
                  <a:pt x="0" y="22"/>
                </a:moveTo>
                <a:lnTo>
                  <a:pt x="11" y="6"/>
                </a:lnTo>
                <a:lnTo>
                  <a:pt x="16" y="0"/>
                </a:lnTo>
                <a:lnTo>
                  <a:pt x="32" y="22"/>
                </a:lnTo>
                <a:lnTo>
                  <a:pt x="49" y="39"/>
                </a:lnTo>
                <a:lnTo>
                  <a:pt x="60" y="39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513320" y="5237280"/>
            <a:ext cx="270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475160" y="5375160"/>
            <a:ext cx="111240" cy="157320"/>
          </a:xfrm>
          <a:custGeom>
            <a:avLst/>
            <a:gdLst/>
            <a:ahLst/>
            <a:rect l="l" t="t" r="r" b="b"/>
            <a:pathLst>
              <a:path w="65" h="99">
                <a:moveTo>
                  <a:pt x="32" y="99"/>
                </a:moveTo>
                <a:lnTo>
                  <a:pt x="0" y="0"/>
                </a:lnTo>
                <a:lnTo>
                  <a:pt x="32" y="22"/>
                </a:lnTo>
                <a:lnTo>
                  <a:pt x="65" y="0"/>
                </a:lnTo>
                <a:lnTo>
                  <a:pt x="32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4255920" y="554040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765520" y="4295880"/>
            <a:ext cx="19080" cy="12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774720" y="4295880"/>
            <a:ext cx="1792440" cy="209520"/>
          </a:xfrm>
          <a:custGeom>
            <a:avLst/>
            <a:gdLst/>
            <a:ahLst/>
            <a:rect l="l" t="t" r="r" b="b"/>
            <a:pathLst>
              <a:path w="1043" h="132">
                <a:moveTo>
                  <a:pt x="11" y="0"/>
                </a:moveTo>
                <a:lnTo>
                  <a:pt x="11" y="121"/>
                </a:lnTo>
                <a:lnTo>
                  <a:pt x="1032" y="121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2"/>
                </a:lnTo>
                <a:lnTo>
                  <a:pt x="6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4133880" y="4235400"/>
            <a:ext cx="747720" cy="9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049560" y="4295880"/>
            <a:ext cx="1225440" cy="209520"/>
          </a:xfrm>
          <a:custGeom>
            <a:avLst/>
            <a:gdLst/>
            <a:ahLst/>
            <a:rect l="l" t="t" r="r" b="b"/>
            <a:pathLst>
              <a:path w="713" h="132">
                <a:moveTo>
                  <a:pt x="11" y="0"/>
                </a:moveTo>
                <a:lnTo>
                  <a:pt x="11" y="121"/>
                </a:lnTo>
                <a:lnTo>
                  <a:pt x="702" y="121"/>
                </a:lnTo>
                <a:lnTo>
                  <a:pt x="702" y="0"/>
                </a:lnTo>
                <a:lnTo>
                  <a:pt x="713" y="0"/>
                </a:lnTo>
                <a:lnTo>
                  <a:pt x="713" y="126"/>
                </a:lnTo>
                <a:lnTo>
                  <a:pt x="708" y="132"/>
                </a:lnTo>
                <a:lnTo>
                  <a:pt x="5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049560" y="5610240"/>
            <a:ext cx="1509840" cy="201600"/>
          </a:xfrm>
          <a:custGeom>
            <a:avLst/>
            <a:gdLst/>
            <a:ahLst/>
            <a:rect l="l" t="t" r="r" b="b"/>
            <a:pathLst>
              <a:path w="878" h="127">
                <a:moveTo>
                  <a:pt x="11" y="0"/>
                </a:moveTo>
                <a:lnTo>
                  <a:pt x="11" y="116"/>
                </a:lnTo>
                <a:lnTo>
                  <a:pt x="867" y="116"/>
                </a:lnTo>
                <a:lnTo>
                  <a:pt x="867" y="0"/>
                </a:lnTo>
                <a:lnTo>
                  <a:pt x="878" y="0"/>
                </a:lnTo>
                <a:lnTo>
                  <a:pt x="878" y="121"/>
                </a:lnTo>
                <a:lnTo>
                  <a:pt x="872" y="127"/>
                </a:lnTo>
                <a:lnTo>
                  <a:pt x="5" y="127"/>
                </a:lnTo>
                <a:lnTo>
                  <a:pt x="0" y="121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049560" y="4295880"/>
            <a:ext cx="1650960" cy="1244520"/>
          </a:xfrm>
          <a:custGeom>
            <a:avLst/>
            <a:gdLst/>
            <a:ahLst/>
            <a:rect l="l" t="t" r="r" b="b"/>
            <a:pathLst>
              <a:path w="960" h="784">
                <a:moveTo>
                  <a:pt x="0" y="784"/>
                </a:moveTo>
                <a:lnTo>
                  <a:pt x="0" y="664"/>
                </a:lnTo>
                <a:lnTo>
                  <a:pt x="5" y="658"/>
                </a:lnTo>
                <a:lnTo>
                  <a:pt x="949" y="126"/>
                </a:lnTo>
                <a:lnTo>
                  <a:pt x="949" y="0"/>
                </a:lnTo>
                <a:lnTo>
                  <a:pt x="960" y="0"/>
                </a:lnTo>
                <a:lnTo>
                  <a:pt x="960" y="126"/>
                </a:lnTo>
                <a:lnTo>
                  <a:pt x="955" y="132"/>
                </a:lnTo>
                <a:lnTo>
                  <a:pt x="11" y="664"/>
                </a:lnTo>
                <a:lnTo>
                  <a:pt x="11" y="784"/>
                </a:lnTo>
                <a:lnTo>
                  <a:pt x="0" y="7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74720" y="5610240"/>
            <a:ext cx="1792440" cy="201600"/>
          </a:xfrm>
          <a:custGeom>
            <a:avLst/>
            <a:gdLst/>
            <a:ahLst/>
            <a:rect l="l" t="t" r="r" b="b"/>
            <a:pathLst>
              <a:path w="1043" h="127">
                <a:moveTo>
                  <a:pt x="11" y="0"/>
                </a:moveTo>
                <a:lnTo>
                  <a:pt x="11" y="116"/>
                </a:lnTo>
                <a:lnTo>
                  <a:pt x="1032" y="116"/>
                </a:lnTo>
                <a:lnTo>
                  <a:pt x="1032" y="0"/>
                </a:lnTo>
                <a:lnTo>
                  <a:pt x="1043" y="0"/>
                </a:lnTo>
                <a:lnTo>
                  <a:pt x="1043" y="121"/>
                </a:lnTo>
                <a:lnTo>
                  <a:pt x="1037" y="127"/>
                </a:lnTo>
                <a:lnTo>
                  <a:pt x="6" y="127"/>
                </a:lnTo>
                <a:lnTo>
                  <a:pt x="0" y="121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413640" y="3948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255400" y="39402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963240" y="39402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24800" y="5254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255400" y="5254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106160" y="5254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1056960" y="36860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209600" y="37814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3038040" y="36860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3191040" y="37814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757400" y="492300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908600" y="50180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937880" y="3338640"/>
            <a:ext cx="208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rea of Influence from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4106880" y="342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920" y="1424160"/>
            <a:ext cx="11160" cy="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0" y="1944720"/>
            <a:ext cx="19080" cy="1440"/>
          </a:xfrm>
          <a:custGeom>
            <a:avLst/>
            <a:gdLst/>
            <a:ahLst/>
            <a:rect l="l" t="t" r="r" b="b"/>
            <a:pathLst>
              <a:path w="11" h="0">
                <a:moveTo>
                  <a:pt x="11" y="0"/>
                </a:move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0" y="1424160"/>
            <a:ext cx="190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0" y="2747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8" name=""/>
          <p:cNvGraphicFramePr/>
          <p:nvPr/>
        </p:nvGraphicFramePr>
        <p:xfrm>
          <a:off x="6211800" y="2486160"/>
          <a:ext cx="2627280" cy="227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1800" y="2486160"/>
                    <a:ext cx="2627280" cy="22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0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0" y="3276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2" name=""/>
          <p:cNvGraphicFramePr/>
          <p:nvPr/>
        </p:nvGraphicFramePr>
        <p:xfrm>
          <a:off x="5756400" y="1387440"/>
          <a:ext cx="3394080" cy="99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56400" y="1387440"/>
                    <a:ext cx="339408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4" name=""/>
          <p:cNvSpPr/>
          <p:nvPr/>
        </p:nvSpPr>
        <p:spPr>
          <a:xfrm>
            <a:off x="5249880" y="4900680"/>
            <a:ext cx="481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Dependen de barra de ref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No dependen de cond. de ope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Relación incre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I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7" name=""/>
          <p:cNvGraphicFramePr/>
          <p:nvPr/>
        </p:nvGraphicFramePr>
        <p:xfrm>
          <a:off x="2490840" y="4184640"/>
          <a:ext cx="232416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0840" y="4184640"/>
                    <a:ext cx="23241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9" name=""/>
          <p:cNvGraphicFramePr/>
          <p:nvPr/>
        </p:nvGraphicFramePr>
        <p:xfrm>
          <a:off x="692280" y="4165560"/>
          <a:ext cx="2247840" cy="4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2280" y="4165560"/>
                    <a:ext cx="2247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1" name=""/>
          <p:cNvSpPr/>
          <p:nvPr/>
        </p:nvSpPr>
        <p:spPr>
          <a:xfrm>
            <a:off x="555120" y="330120"/>
            <a:ext cx="479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actores de Distribución GG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98320" y="976320"/>
            <a:ext cx="273240" cy="254160"/>
          </a:xfrm>
          <a:custGeom>
            <a:avLst/>
            <a:gdLst/>
            <a:ahLst/>
            <a:rect l="l" t="t" r="r" b="b"/>
            <a:pathLst>
              <a:path w="159" h="160">
                <a:moveTo>
                  <a:pt x="5" y="55"/>
                </a:moveTo>
                <a:lnTo>
                  <a:pt x="5" y="50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50"/>
                </a:lnTo>
                <a:lnTo>
                  <a:pt x="153" y="55"/>
                </a:lnTo>
                <a:lnTo>
                  <a:pt x="159" y="83"/>
                </a:lnTo>
                <a:lnTo>
                  <a:pt x="159" y="83"/>
                </a:lnTo>
                <a:lnTo>
                  <a:pt x="153" y="110"/>
                </a:lnTo>
                <a:lnTo>
                  <a:pt x="153" y="116"/>
                </a:lnTo>
                <a:lnTo>
                  <a:pt x="137" y="138"/>
                </a:lnTo>
                <a:lnTo>
                  <a:pt x="137" y="138"/>
                </a:lnTo>
                <a:lnTo>
                  <a:pt x="115" y="154"/>
                </a:lnTo>
                <a:lnTo>
                  <a:pt x="109" y="154"/>
                </a:lnTo>
                <a:lnTo>
                  <a:pt x="82" y="160"/>
                </a:lnTo>
                <a:lnTo>
                  <a:pt x="82" y="160"/>
                </a:lnTo>
                <a:lnTo>
                  <a:pt x="49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5" y="116"/>
                </a:lnTo>
                <a:lnTo>
                  <a:pt x="5" y="110"/>
                </a:lnTo>
                <a:lnTo>
                  <a:pt x="0" y="83"/>
                </a:lnTo>
                <a:lnTo>
                  <a:pt x="16" y="83"/>
                </a:lnTo>
                <a:lnTo>
                  <a:pt x="22" y="110"/>
                </a:lnTo>
                <a:lnTo>
                  <a:pt x="33" y="127"/>
                </a:lnTo>
                <a:lnTo>
                  <a:pt x="49" y="138"/>
                </a:lnTo>
                <a:lnTo>
                  <a:pt x="82" y="143"/>
                </a:lnTo>
                <a:lnTo>
                  <a:pt x="109" y="138"/>
                </a:lnTo>
                <a:lnTo>
                  <a:pt x="126" y="127"/>
                </a:lnTo>
                <a:lnTo>
                  <a:pt x="137" y="110"/>
                </a:lnTo>
                <a:lnTo>
                  <a:pt x="142" y="83"/>
                </a:lnTo>
                <a:lnTo>
                  <a:pt x="137" y="61"/>
                </a:lnTo>
                <a:lnTo>
                  <a:pt x="115" y="28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44" y="28"/>
                </a:lnTo>
                <a:lnTo>
                  <a:pt x="22" y="61"/>
                </a:lnTo>
                <a:lnTo>
                  <a:pt x="5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98320" y="1063800"/>
            <a:ext cx="38160" cy="4428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5" y="0"/>
                </a:lnTo>
                <a:lnTo>
                  <a:pt x="22" y="0"/>
                </a:lnTo>
                <a:lnTo>
                  <a:pt x="16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74640" y="1073160"/>
            <a:ext cx="122400" cy="6048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5"/>
                </a:lnTo>
                <a:lnTo>
                  <a:pt x="22" y="0"/>
                </a:lnTo>
                <a:lnTo>
                  <a:pt x="27" y="5"/>
                </a:lnTo>
                <a:lnTo>
                  <a:pt x="33" y="22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720720" y="1220760"/>
            <a:ext cx="270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682560" y="1360440"/>
            <a:ext cx="1144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455760" y="1525680"/>
            <a:ext cx="53784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93560" y="284004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306520" y="2840040"/>
            <a:ext cx="962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560680" y="976320"/>
            <a:ext cx="272880" cy="254160"/>
          </a:xfrm>
          <a:custGeom>
            <a:avLst/>
            <a:gdLst/>
            <a:ahLst/>
            <a:rect l="l" t="t" r="r" b="b"/>
            <a:pathLst>
              <a:path w="159" h="160">
                <a:moveTo>
                  <a:pt x="6" y="55"/>
                </a:moveTo>
                <a:lnTo>
                  <a:pt x="6" y="50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50" y="6"/>
                </a:lnTo>
                <a:lnTo>
                  <a:pt x="77" y="0"/>
                </a:lnTo>
                <a:lnTo>
                  <a:pt x="77" y="0"/>
                </a:lnTo>
                <a:lnTo>
                  <a:pt x="110" y="6"/>
                </a:lnTo>
                <a:lnTo>
                  <a:pt x="116" y="6"/>
                </a:lnTo>
                <a:lnTo>
                  <a:pt x="137" y="22"/>
                </a:lnTo>
                <a:lnTo>
                  <a:pt x="137" y="22"/>
                </a:lnTo>
                <a:lnTo>
                  <a:pt x="154" y="50"/>
                </a:lnTo>
                <a:lnTo>
                  <a:pt x="154" y="55"/>
                </a:lnTo>
                <a:lnTo>
                  <a:pt x="159" y="83"/>
                </a:lnTo>
                <a:lnTo>
                  <a:pt x="159" y="83"/>
                </a:lnTo>
                <a:lnTo>
                  <a:pt x="154" y="110"/>
                </a:lnTo>
                <a:lnTo>
                  <a:pt x="154" y="116"/>
                </a:lnTo>
                <a:lnTo>
                  <a:pt x="137" y="138"/>
                </a:lnTo>
                <a:lnTo>
                  <a:pt x="137" y="138"/>
                </a:lnTo>
                <a:lnTo>
                  <a:pt x="116" y="154"/>
                </a:lnTo>
                <a:lnTo>
                  <a:pt x="110" y="154"/>
                </a:lnTo>
                <a:lnTo>
                  <a:pt x="77" y="160"/>
                </a:lnTo>
                <a:lnTo>
                  <a:pt x="77" y="160"/>
                </a:lnTo>
                <a:lnTo>
                  <a:pt x="50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6" y="116"/>
                </a:lnTo>
                <a:lnTo>
                  <a:pt x="6" y="110"/>
                </a:lnTo>
                <a:lnTo>
                  <a:pt x="0" y="83"/>
                </a:lnTo>
                <a:lnTo>
                  <a:pt x="17" y="83"/>
                </a:lnTo>
                <a:lnTo>
                  <a:pt x="22" y="110"/>
                </a:lnTo>
                <a:lnTo>
                  <a:pt x="33" y="127"/>
                </a:lnTo>
                <a:lnTo>
                  <a:pt x="50" y="138"/>
                </a:lnTo>
                <a:lnTo>
                  <a:pt x="77" y="143"/>
                </a:lnTo>
                <a:lnTo>
                  <a:pt x="110" y="138"/>
                </a:lnTo>
                <a:lnTo>
                  <a:pt x="127" y="127"/>
                </a:lnTo>
                <a:lnTo>
                  <a:pt x="137" y="110"/>
                </a:lnTo>
                <a:lnTo>
                  <a:pt x="143" y="83"/>
                </a:lnTo>
                <a:lnTo>
                  <a:pt x="137" y="61"/>
                </a:lnTo>
                <a:lnTo>
                  <a:pt x="116" y="28"/>
                </a:lnTo>
                <a:lnTo>
                  <a:pt x="110" y="22"/>
                </a:lnTo>
                <a:lnTo>
                  <a:pt x="77" y="17"/>
                </a:lnTo>
                <a:lnTo>
                  <a:pt x="50" y="22"/>
                </a:lnTo>
                <a:lnTo>
                  <a:pt x="44" y="28"/>
                </a:lnTo>
                <a:lnTo>
                  <a:pt x="22" y="61"/>
                </a:lnTo>
                <a:lnTo>
                  <a:pt x="6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560680" y="1063800"/>
            <a:ext cx="38160" cy="4428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6" y="0"/>
                </a:lnTo>
                <a:lnTo>
                  <a:pt x="22" y="0"/>
                </a:lnTo>
                <a:lnTo>
                  <a:pt x="17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637000" y="1073160"/>
            <a:ext cx="123840" cy="6048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5"/>
                </a:lnTo>
                <a:lnTo>
                  <a:pt x="17" y="0"/>
                </a:lnTo>
                <a:lnTo>
                  <a:pt x="33" y="22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674800" y="1220760"/>
            <a:ext cx="288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637000" y="1360440"/>
            <a:ext cx="1126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268360" y="1525680"/>
            <a:ext cx="89712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4308480" y="2292480"/>
            <a:ext cx="27288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5"/>
                </a:moveTo>
                <a:lnTo>
                  <a:pt x="5" y="49"/>
                </a:lnTo>
                <a:lnTo>
                  <a:pt x="22" y="22"/>
                </a:lnTo>
                <a:lnTo>
                  <a:pt x="22" y="22"/>
                </a:lnTo>
                <a:lnTo>
                  <a:pt x="44" y="5"/>
                </a:lnTo>
                <a:lnTo>
                  <a:pt x="49" y="5"/>
                </a:lnTo>
                <a:lnTo>
                  <a:pt x="82" y="0"/>
                </a:lnTo>
                <a:lnTo>
                  <a:pt x="82" y="0"/>
                </a:lnTo>
                <a:lnTo>
                  <a:pt x="109" y="5"/>
                </a:lnTo>
                <a:lnTo>
                  <a:pt x="115" y="5"/>
                </a:lnTo>
                <a:lnTo>
                  <a:pt x="137" y="22"/>
                </a:lnTo>
                <a:lnTo>
                  <a:pt x="137" y="22"/>
                </a:lnTo>
                <a:lnTo>
                  <a:pt x="153" y="49"/>
                </a:lnTo>
                <a:lnTo>
                  <a:pt x="153" y="55"/>
                </a:lnTo>
                <a:lnTo>
                  <a:pt x="159" y="82"/>
                </a:lnTo>
                <a:lnTo>
                  <a:pt x="159" y="82"/>
                </a:lnTo>
                <a:lnTo>
                  <a:pt x="153" y="109"/>
                </a:lnTo>
                <a:lnTo>
                  <a:pt x="153" y="115"/>
                </a:lnTo>
                <a:lnTo>
                  <a:pt x="137" y="137"/>
                </a:lnTo>
                <a:lnTo>
                  <a:pt x="137" y="137"/>
                </a:lnTo>
                <a:lnTo>
                  <a:pt x="115" y="153"/>
                </a:lnTo>
                <a:lnTo>
                  <a:pt x="109" y="153"/>
                </a:lnTo>
                <a:lnTo>
                  <a:pt x="82" y="159"/>
                </a:lnTo>
                <a:lnTo>
                  <a:pt x="82" y="159"/>
                </a:lnTo>
                <a:lnTo>
                  <a:pt x="49" y="153"/>
                </a:lnTo>
                <a:lnTo>
                  <a:pt x="44" y="153"/>
                </a:lnTo>
                <a:lnTo>
                  <a:pt x="22" y="137"/>
                </a:lnTo>
                <a:lnTo>
                  <a:pt x="22" y="137"/>
                </a:lnTo>
                <a:lnTo>
                  <a:pt x="5" y="115"/>
                </a:lnTo>
                <a:lnTo>
                  <a:pt x="5" y="109"/>
                </a:lnTo>
                <a:lnTo>
                  <a:pt x="0" y="82"/>
                </a:lnTo>
                <a:lnTo>
                  <a:pt x="16" y="82"/>
                </a:lnTo>
                <a:lnTo>
                  <a:pt x="22" y="109"/>
                </a:lnTo>
                <a:lnTo>
                  <a:pt x="33" y="126"/>
                </a:lnTo>
                <a:lnTo>
                  <a:pt x="49" y="137"/>
                </a:lnTo>
                <a:lnTo>
                  <a:pt x="82" y="142"/>
                </a:lnTo>
                <a:lnTo>
                  <a:pt x="109" y="137"/>
                </a:lnTo>
                <a:lnTo>
                  <a:pt x="126" y="126"/>
                </a:lnTo>
                <a:lnTo>
                  <a:pt x="137" y="109"/>
                </a:lnTo>
                <a:lnTo>
                  <a:pt x="142" y="82"/>
                </a:lnTo>
                <a:lnTo>
                  <a:pt x="137" y="60"/>
                </a:lnTo>
                <a:lnTo>
                  <a:pt x="115" y="27"/>
                </a:lnTo>
                <a:lnTo>
                  <a:pt x="109" y="22"/>
                </a:lnTo>
                <a:lnTo>
                  <a:pt x="82" y="16"/>
                </a:lnTo>
                <a:lnTo>
                  <a:pt x="49" y="22"/>
                </a:lnTo>
                <a:lnTo>
                  <a:pt x="44" y="27"/>
                </a:lnTo>
                <a:lnTo>
                  <a:pt x="22" y="60"/>
                </a:lnTo>
                <a:lnTo>
                  <a:pt x="5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4308480" y="237960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4383000" y="2387520"/>
            <a:ext cx="122400" cy="6048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5"/>
                </a:lnTo>
                <a:lnTo>
                  <a:pt x="16" y="0"/>
                </a:lnTo>
                <a:lnTo>
                  <a:pt x="27" y="5"/>
                </a:lnTo>
                <a:lnTo>
                  <a:pt x="32" y="16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4421160" y="2535120"/>
            <a:ext cx="2844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4383000" y="2674800"/>
            <a:ext cx="112680" cy="157320"/>
          </a:xfrm>
          <a:custGeom>
            <a:avLst/>
            <a:gdLst/>
            <a:ahLst/>
            <a:rect l="l" t="t" r="r" b="b"/>
            <a:pathLst>
              <a:path w="65" h="99">
                <a:moveTo>
                  <a:pt x="32" y="99"/>
                </a:moveTo>
                <a:lnTo>
                  <a:pt x="0" y="0"/>
                </a:lnTo>
                <a:lnTo>
                  <a:pt x="32" y="22"/>
                </a:lnTo>
                <a:lnTo>
                  <a:pt x="65" y="0"/>
                </a:lnTo>
                <a:lnTo>
                  <a:pt x="32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4165560" y="284004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2674800" y="1595520"/>
            <a:ext cx="19080" cy="12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82560" y="1595520"/>
            <a:ext cx="1793880" cy="209520"/>
          </a:xfrm>
          <a:custGeom>
            <a:avLst/>
            <a:gdLst/>
            <a:ahLst/>
            <a:rect l="l" t="t" r="r" b="b"/>
            <a:pathLst>
              <a:path w="1043" h="132">
                <a:moveTo>
                  <a:pt x="11" y="0"/>
                </a:moveTo>
                <a:lnTo>
                  <a:pt x="11" y="121"/>
                </a:lnTo>
                <a:lnTo>
                  <a:pt x="1032" y="121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2"/>
                </a:lnTo>
                <a:lnTo>
                  <a:pt x="6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4043520" y="1535040"/>
            <a:ext cx="745920" cy="9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2957400" y="1595520"/>
            <a:ext cx="1227240" cy="209520"/>
          </a:xfrm>
          <a:custGeom>
            <a:avLst/>
            <a:gdLst/>
            <a:ahLst/>
            <a:rect l="l" t="t" r="r" b="b"/>
            <a:pathLst>
              <a:path w="713" h="132">
                <a:moveTo>
                  <a:pt x="11" y="0"/>
                </a:moveTo>
                <a:lnTo>
                  <a:pt x="11" y="121"/>
                </a:lnTo>
                <a:lnTo>
                  <a:pt x="702" y="121"/>
                </a:lnTo>
                <a:lnTo>
                  <a:pt x="702" y="0"/>
                </a:lnTo>
                <a:lnTo>
                  <a:pt x="713" y="0"/>
                </a:lnTo>
                <a:lnTo>
                  <a:pt x="713" y="126"/>
                </a:lnTo>
                <a:lnTo>
                  <a:pt x="708" y="132"/>
                </a:lnTo>
                <a:lnTo>
                  <a:pt x="5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2957400" y="2901960"/>
            <a:ext cx="1511280" cy="208080"/>
          </a:xfrm>
          <a:custGeom>
            <a:avLst/>
            <a:gdLst/>
            <a:ahLst/>
            <a:rect l="l" t="t" r="r" b="b"/>
            <a:pathLst>
              <a:path w="878" h="131">
                <a:moveTo>
                  <a:pt x="11" y="0"/>
                </a:moveTo>
                <a:lnTo>
                  <a:pt x="11" y="120"/>
                </a:lnTo>
                <a:lnTo>
                  <a:pt x="867" y="120"/>
                </a:lnTo>
                <a:lnTo>
                  <a:pt x="867" y="0"/>
                </a:lnTo>
                <a:lnTo>
                  <a:pt x="878" y="0"/>
                </a:lnTo>
                <a:lnTo>
                  <a:pt x="878" y="126"/>
                </a:lnTo>
                <a:lnTo>
                  <a:pt x="872" y="131"/>
                </a:lnTo>
                <a:lnTo>
                  <a:pt x="5" y="131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957400" y="1595520"/>
            <a:ext cx="1650960" cy="1244520"/>
          </a:xfrm>
          <a:custGeom>
            <a:avLst/>
            <a:gdLst/>
            <a:ahLst/>
            <a:rect l="l" t="t" r="r" b="b"/>
            <a:pathLst>
              <a:path w="960" h="784">
                <a:moveTo>
                  <a:pt x="0" y="784"/>
                </a:moveTo>
                <a:lnTo>
                  <a:pt x="0" y="658"/>
                </a:lnTo>
                <a:lnTo>
                  <a:pt x="5" y="653"/>
                </a:lnTo>
                <a:lnTo>
                  <a:pt x="949" y="126"/>
                </a:lnTo>
                <a:lnTo>
                  <a:pt x="949" y="0"/>
                </a:lnTo>
                <a:lnTo>
                  <a:pt x="960" y="0"/>
                </a:lnTo>
                <a:lnTo>
                  <a:pt x="960" y="126"/>
                </a:lnTo>
                <a:lnTo>
                  <a:pt x="955" y="132"/>
                </a:lnTo>
                <a:lnTo>
                  <a:pt x="11" y="658"/>
                </a:lnTo>
                <a:lnTo>
                  <a:pt x="11" y="784"/>
                </a:lnTo>
                <a:lnTo>
                  <a:pt x="0" y="7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82560" y="2901960"/>
            <a:ext cx="1793880" cy="208080"/>
          </a:xfrm>
          <a:custGeom>
            <a:avLst/>
            <a:gdLst/>
            <a:ahLst/>
            <a:rect l="l" t="t" r="r" b="b"/>
            <a:pathLst>
              <a:path w="1043" h="131">
                <a:moveTo>
                  <a:pt x="11" y="0"/>
                </a:moveTo>
                <a:lnTo>
                  <a:pt x="11" y="120"/>
                </a:lnTo>
                <a:lnTo>
                  <a:pt x="1032" y="120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1"/>
                </a:lnTo>
                <a:lnTo>
                  <a:pt x="6" y="131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23280" y="1247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164680" y="123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872880" y="123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32640" y="2552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2164680" y="2552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4015800" y="2552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966240" y="9856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1117440" y="1073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2947680" y="9856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098880" y="1073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4665240" y="22226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4816440" y="2317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2417760" y="4226040"/>
            <a:ext cx="2635200" cy="1576440"/>
          </a:xfrm>
          <a:custGeom>
            <a:avLst/>
            <a:gdLst/>
            <a:ahLst/>
            <a:rect l="l" t="t" r="r" b="b"/>
            <a:pathLst>
              <a:path w="1532" h="993">
                <a:moveTo>
                  <a:pt x="1433" y="0"/>
                </a:moveTo>
                <a:lnTo>
                  <a:pt x="0" y="828"/>
                </a:lnTo>
                <a:lnTo>
                  <a:pt x="94" y="993"/>
                </a:lnTo>
                <a:lnTo>
                  <a:pt x="1532" y="165"/>
                </a:lnTo>
                <a:lnTo>
                  <a:pt x="1433" y="0"/>
                </a:lnTo>
                <a:close/>
              </a:path>
            </a:pathLst>
          </a:custGeom>
          <a:solidFill>
            <a:srgbClr val="ffff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d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2492280" y="4365720"/>
            <a:ext cx="565200" cy="1306440"/>
          </a:xfrm>
          <a:custGeom>
            <a:avLst/>
            <a:gdLst/>
            <a:ahLst/>
            <a:rect l="l" t="t" r="r" b="b"/>
            <a:pathLst>
              <a:path w="329" h="823">
                <a:moveTo>
                  <a:pt x="0" y="0"/>
                </a:moveTo>
                <a:lnTo>
                  <a:pt x="0" y="823"/>
                </a:lnTo>
                <a:lnTo>
                  <a:pt x="329" y="823"/>
                </a:lnTo>
                <a:lnTo>
                  <a:pt x="329" y="0"/>
                </a:lnTo>
                <a:lnTo>
                  <a:pt x="32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2492280" y="4365720"/>
            <a:ext cx="584280" cy="1323720"/>
          </a:xfrm>
          <a:prstGeom prst="rect">
            <a:avLst/>
          </a:prstGeom>
          <a:solidFill>
            <a:srgbClr val="fffd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d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689040" y="3686040"/>
            <a:ext cx="274680" cy="25272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0"/>
                </a:moveTo>
                <a:lnTo>
                  <a:pt x="5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44"/>
                </a:lnTo>
                <a:lnTo>
                  <a:pt x="153" y="50"/>
                </a:lnTo>
                <a:lnTo>
                  <a:pt x="159" y="77"/>
                </a:lnTo>
                <a:lnTo>
                  <a:pt x="159" y="77"/>
                </a:lnTo>
                <a:lnTo>
                  <a:pt x="153" y="110"/>
                </a:lnTo>
                <a:lnTo>
                  <a:pt x="153" y="115"/>
                </a:lnTo>
                <a:lnTo>
                  <a:pt x="137" y="137"/>
                </a:lnTo>
                <a:lnTo>
                  <a:pt x="137" y="137"/>
                </a:lnTo>
                <a:lnTo>
                  <a:pt x="115" y="154"/>
                </a:lnTo>
                <a:lnTo>
                  <a:pt x="109" y="154"/>
                </a:lnTo>
                <a:lnTo>
                  <a:pt x="82" y="159"/>
                </a:lnTo>
                <a:lnTo>
                  <a:pt x="82" y="159"/>
                </a:lnTo>
                <a:lnTo>
                  <a:pt x="49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5" y="115"/>
                </a:lnTo>
                <a:lnTo>
                  <a:pt x="5" y="110"/>
                </a:lnTo>
                <a:lnTo>
                  <a:pt x="0" y="77"/>
                </a:lnTo>
                <a:lnTo>
                  <a:pt x="16" y="77"/>
                </a:lnTo>
                <a:lnTo>
                  <a:pt x="22" y="110"/>
                </a:lnTo>
                <a:lnTo>
                  <a:pt x="33" y="126"/>
                </a:lnTo>
                <a:lnTo>
                  <a:pt x="49" y="137"/>
                </a:lnTo>
                <a:lnTo>
                  <a:pt x="82" y="143"/>
                </a:lnTo>
                <a:lnTo>
                  <a:pt x="109" y="137"/>
                </a:lnTo>
                <a:lnTo>
                  <a:pt x="126" y="126"/>
                </a:lnTo>
                <a:lnTo>
                  <a:pt x="137" y="110"/>
                </a:lnTo>
                <a:lnTo>
                  <a:pt x="142" y="77"/>
                </a:lnTo>
                <a:lnTo>
                  <a:pt x="137" y="50"/>
                </a:lnTo>
                <a:lnTo>
                  <a:pt x="126" y="33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33" y="33"/>
                </a:lnTo>
                <a:lnTo>
                  <a:pt x="16" y="55"/>
                </a:lnTo>
                <a:lnTo>
                  <a:pt x="5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689040" y="376560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765000" y="3773520"/>
            <a:ext cx="122400" cy="6012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6"/>
                </a:lnTo>
                <a:lnTo>
                  <a:pt x="22" y="0"/>
                </a:lnTo>
                <a:lnTo>
                  <a:pt x="33" y="22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811080" y="3921120"/>
            <a:ext cx="2880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774720" y="4060800"/>
            <a:ext cx="1126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47560" y="4226040"/>
            <a:ext cx="53820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84280" y="554040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2397240" y="5540400"/>
            <a:ext cx="96336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2652840" y="3686040"/>
            <a:ext cx="272880" cy="25272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6" y="50"/>
                </a:moveTo>
                <a:lnTo>
                  <a:pt x="6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50" y="6"/>
                </a:lnTo>
                <a:lnTo>
                  <a:pt x="77" y="0"/>
                </a:lnTo>
                <a:lnTo>
                  <a:pt x="77" y="0"/>
                </a:lnTo>
                <a:lnTo>
                  <a:pt x="110" y="6"/>
                </a:lnTo>
                <a:lnTo>
                  <a:pt x="116" y="6"/>
                </a:lnTo>
                <a:lnTo>
                  <a:pt x="137" y="22"/>
                </a:lnTo>
                <a:lnTo>
                  <a:pt x="137" y="22"/>
                </a:lnTo>
                <a:lnTo>
                  <a:pt x="154" y="44"/>
                </a:lnTo>
                <a:lnTo>
                  <a:pt x="154" y="50"/>
                </a:lnTo>
                <a:lnTo>
                  <a:pt x="159" y="77"/>
                </a:lnTo>
                <a:lnTo>
                  <a:pt x="159" y="77"/>
                </a:lnTo>
                <a:lnTo>
                  <a:pt x="154" y="110"/>
                </a:lnTo>
                <a:lnTo>
                  <a:pt x="154" y="115"/>
                </a:lnTo>
                <a:lnTo>
                  <a:pt x="137" y="137"/>
                </a:lnTo>
                <a:lnTo>
                  <a:pt x="137" y="137"/>
                </a:lnTo>
                <a:lnTo>
                  <a:pt x="116" y="154"/>
                </a:lnTo>
                <a:lnTo>
                  <a:pt x="110" y="154"/>
                </a:lnTo>
                <a:lnTo>
                  <a:pt x="77" y="159"/>
                </a:lnTo>
                <a:lnTo>
                  <a:pt x="77" y="159"/>
                </a:lnTo>
                <a:lnTo>
                  <a:pt x="50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6" y="115"/>
                </a:lnTo>
                <a:lnTo>
                  <a:pt x="6" y="110"/>
                </a:lnTo>
                <a:lnTo>
                  <a:pt x="0" y="77"/>
                </a:lnTo>
                <a:lnTo>
                  <a:pt x="17" y="77"/>
                </a:lnTo>
                <a:lnTo>
                  <a:pt x="22" y="110"/>
                </a:lnTo>
                <a:lnTo>
                  <a:pt x="33" y="126"/>
                </a:lnTo>
                <a:lnTo>
                  <a:pt x="50" y="137"/>
                </a:lnTo>
                <a:lnTo>
                  <a:pt x="77" y="143"/>
                </a:lnTo>
                <a:lnTo>
                  <a:pt x="110" y="137"/>
                </a:lnTo>
                <a:lnTo>
                  <a:pt x="127" y="126"/>
                </a:lnTo>
                <a:lnTo>
                  <a:pt x="137" y="110"/>
                </a:lnTo>
                <a:lnTo>
                  <a:pt x="143" y="77"/>
                </a:lnTo>
                <a:lnTo>
                  <a:pt x="137" y="50"/>
                </a:lnTo>
                <a:lnTo>
                  <a:pt x="127" y="33"/>
                </a:lnTo>
                <a:lnTo>
                  <a:pt x="110" y="22"/>
                </a:lnTo>
                <a:lnTo>
                  <a:pt x="77" y="17"/>
                </a:lnTo>
                <a:lnTo>
                  <a:pt x="50" y="22"/>
                </a:lnTo>
                <a:lnTo>
                  <a:pt x="33" y="33"/>
                </a:lnTo>
                <a:lnTo>
                  <a:pt x="17" y="55"/>
                </a:lnTo>
                <a:lnTo>
                  <a:pt x="6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2652840" y="3765600"/>
            <a:ext cx="363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6" y="0"/>
                </a:lnTo>
                <a:lnTo>
                  <a:pt x="22" y="0"/>
                </a:lnTo>
                <a:lnTo>
                  <a:pt x="17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2727360" y="3773520"/>
            <a:ext cx="123840" cy="6012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6"/>
                </a:lnTo>
                <a:lnTo>
                  <a:pt x="17" y="0"/>
                </a:lnTo>
                <a:lnTo>
                  <a:pt x="33" y="22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2765520" y="3921120"/>
            <a:ext cx="2844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2727360" y="4060800"/>
            <a:ext cx="11412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2359080" y="4226040"/>
            <a:ext cx="89856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4398840" y="5000760"/>
            <a:ext cx="27324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0"/>
                </a:moveTo>
                <a:lnTo>
                  <a:pt x="5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44"/>
                </a:lnTo>
                <a:lnTo>
                  <a:pt x="153" y="50"/>
                </a:lnTo>
                <a:lnTo>
                  <a:pt x="159" y="77"/>
                </a:lnTo>
                <a:lnTo>
                  <a:pt x="159" y="77"/>
                </a:lnTo>
                <a:lnTo>
                  <a:pt x="153" y="110"/>
                </a:lnTo>
                <a:lnTo>
                  <a:pt x="153" y="116"/>
                </a:lnTo>
                <a:lnTo>
                  <a:pt x="137" y="138"/>
                </a:lnTo>
                <a:lnTo>
                  <a:pt x="137" y="138"/>
                </a:lnTo>
                <a:lnTo>
                  <a:pt x="115" y="154"/>
                </a:lnTo>
                <a:lnTo>
                  <a:pt x="109" y="154"/>
                </a:lnTo>
                <a:lnTo>
                  <a:pt x="82" y="159"/>
                </a:lnTo>
                <a:lnTo>
                  <a:pt x="82" y="159"/>
                </a:lnTo>
                <a:lnTo>
                  <a:pt x="49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5" y="116"/>
                </a:lnTo>
                <a:lnTo>
                  <a:pt x="5" y="110"/>
                </a:lnTo>
                <a:lnTo>
                  <a:pt x="0" y="77"/>
                </a:lnTo>
                <a:lnTo>
                  <a:pt x="16" y="77"/>
                </a:lnTo>
                <a:lnTo>
                  <a:pt x="22" y="110"/>
                </a:lnTo>
                <a:lnTo>
                  <a:pt x="33" y="127"/>
                </a:lnTo>
                <a:lnTo>
                  <a:pt x="49" y="138"/>
                </a:lnTo>
                <a:lnTo>
                  <a:pt x="82" y="143"/>
                </a:lnTo>
                <a:lnTo>
                  <a:pt x="109" y="138"/>
                </a:lnTo>
                <a:lnTo>
                  <a:pt x="126" y="127"/>
                </a:lnTo>
                <a:lnTo>
                  <a:pt x="137" y="110"/>
                </a:lnTo>
                <a:lnTo>
                  <a:pt x="142" y="77"/>
                </a:lnTo>
                <a:lnTo>
                  <a:pt x="137" y="50"/>
                </a:lnTo>
                <a:lnTo>
                  <a:pt x="126" y="33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33" y="33"/>
                </a:lnTo>
                <a:lnTo>
                  <a:pt x="16" y="55"/>
                </a:lnTo>
                <a:lnTo>
                  <a:pt x="5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398840" y="507996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475160" y="5087880"/>
            <a:ext cx="122400" cy="61920"/>
          </a:xfrm>
          <a:custGeom>
            <a:avLst/>
            <a:gdLst/>
            <a:ahLst/>
            <a:rect l="l" t="t" r="r" b="b"/>
            <a:pathLst>
              <a:path w="71" h="39">
                <a:moveTo>
                  <a:pt x="0" y="22"/>
                </a:moveTo>
                <a:lnTo>
                  <a:pt x="11" y="6"/>
                </a:lnTo>
                <a:lnTo>
                  <a:pt x="16" y="0"/>
                </a:lnTo>
                <a:lnTo>
                  <a:pt x="32" y="22"/>
                </a:lnTo>
                <a:lnTo>
                  <a:pt x="49" y="39"/>
                </a:lnTo>
                <a:lnTo>
                  <a:pt x="60" y="39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4513320" y="5237280"/>
            <a:ext cx="270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4475160" y="5375160"/>
            <a:ext cx="111240" cy="157320"/>
          </a:xfrm>
          <a:custGeom>
            <a:avLst/>
            <a:gdLst/>
            <a:ahLst/>
            <a:rect l="l" t="t" r="r" b="b"/>
            <a:pathLst>
              <a:path w="65" h="99">
                <a:moveTo>
                  <a:pt x="32" y="99"/>
                </a:moveTo>
                <a:lnTo>
                  <a:pt x="0" y="0"/>
                </a:lnTo>
                <a:lnTo>
                  <a:pt x="32" y="22"/>
                </a:lnTo>
                <a:lnTo>
                  <a:pt x="65" y="0"/>
                </a:lnTo>
                <a:lnTo>
                  <a:pt x="32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4255920" y="554040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2765520" y="4295880"/>
            <a:ext cx="19080" cy="12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774720" y="4295880"/>
            <a:ext cx="1792440" cy="209520"/>
          </a:xfrm>
          <a:custGeom>
            <a:avLst/>
            <a:gdLst/>
            <a:ahLst/>
            <a:rect l="l" t="t" r="r" b="b"/>
            <a:pathLst>
              <a:path w="1043" h="132">
                <a:moveTo>
                  <a:pt x="11" y="0"/>
                </a:moveTo>
                <a:lnTo>
                  <a:pt x="11" y="121"/>
                </a:lnTo>
                <a:lnTo>
                  <a:pt x="1032" y="121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2"/>
                </a:lnTo>
                <a:lnTo>
                  <a:pt x="6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133880" y="4235400"/>
            <a:ext cx="747720" cy="9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3049560" y="4295880"/>
            <a:ext cx="1225440" cy="209520"/>
          </a:xfrm>
          <a:custGeom>
            <a:avLst/>
            <a:gdLst/>
            <a:ahLst/>
            <a:rect l="l" t="t" r="r" b="b"/>
            <a:pathLst>
              <a:path w="713" h="132">
                <a:moveTo>
                  <a:pt x="11" y="0"/>
                </a:moveTo>
                <a:lnTo>
                  <a:pt x="11" y="121"/>
                </a:lnTo>
                <a:lnTo>
                  <a:pt x="702" y="121"/>
                </a:lnTo>
                <a:lnTo>
                  <a:pt x="702" y="0"/>
                </a:lnTo>
                <a:lnTo>
                  <a:pt x="713" y="0"/>
                </a:lnTo>
                <a:lnTo>
                  <a:pt x="713" y="126"/>
                </a:lnTo>
                <a:lnTo>
                  <a:pt x="708" y="132"/>
                </a:lnTo>
                <a:lnTo>
                  <a:pt x="5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049560" y="5610240"/>
            <a:ext cx="1509840" cy="201600"/>
          </a:xfrm>
          <a:custGeom>
            <a:avLst/>
            <a:gdLst/>
            <a:ahLst/>
            <a:rect l="l" t="t" r="r" b="b"/>
            <a:pathLst>
              <a:path w="878" h="127">
                <a:moveTo>
                  <a:pt x="11" y="0"/>
                </a:moveTo>
                <a:lnTo>
                  <a:pt x="11" y="116"/>
                </a:lnTo>
                <a:lnTo>
                  <a:pt x="867" y="116"/>
                </a:lnTo>
                <a:lnTo>
                  <a:pt x="867" y="0"/>
                </a:lnTo>
                <a:lnTo>
                  <a:pt x="878" y="0"/>
                </a:lnTo>
                <a:lnTo>
                  <a:pt x="878" y="121"/>
                </a:lnTo>
                <a:lnTo>
                  <a:pt x="872" y="127"/>
                </a:lnTo>
                <a:lnTo>
                  <a:pt x="5" y="127"/>
                </a:lnTo>
                <a:lnTo>
                  <a:pt x="0" y="121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049560" y="4295880"/>
            <a:ext cx="1650960" cy="1244520"/>
          </a:xfrm>
          <a:custGeom>
            <a:avLst/>
            <a:gdLst/>
            <a:ahLst/>
            <a:rect l="l" t="t" r="r" b="b"/>
            <a:pathLst>
              <a:path w="960" h="784">
                <a:moveTo>
                  <a:pt x="0" y="784"/>
                </a:moveTo>
                <a:lnTo>
                  <a:pt x="0" y="664"/>
                </a:lnTo>
                <a:lnTo>
                  <a:pt x="5" y="658"/>
                </a:lnTo>
                <a:lnTo>
                  <a:pt x="949" y="126"/>
                </a:lnTo>
                <a:lnTo>
                  <a:pt x="949" y="0"/>
                </a:lnTo>
                <a:lnTo>
                  <a:pt x="960" y="0"/>
                </a:lnTo>
                <a:lnTo>
                  <a:pt x="960" y="126"/>
                </a:lnTo>
                <a:lnTo>
                  <a:pt x="955" y="132"/>
                </a:lnTo>
                <a:lnTo>
                  <a:pt x="11" y="664"/>
                </a:lnTo>
                <a:lnTo>
                  <a:pt x="11" y="784"/>
                </a:lnTo>
                <a:lnTo>
                  <a:pt x="0" y="7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774720" y="5610240"/>
            <a:ext cx="1792440" cy="201600"/>
          </a:xfrm>
          <a:custGeom>
            <a:avLst/>
            <a:gdLst/>
            <a:ahLst/>
            <a:rect l="l" t="t" r="r" b="b"/>
            <a:pathLst>
              <a:path w="1043" h="127">
                <a:moveTo>
                  <a:pt x="11" y="0"/>
                </a:moveTo>
                <a:lnTo>
                  <a:pt x="11" y="116"/>
                </a:lnTo>
                <a:lnTo>
                  <a:pt x="1032" y="116"/>
                </a:lnTo>
                <a:lnTo>
                  <a:pt x="1032" y="0"/>
                </a:lnTo>
                <a:lnTo>
                  <a:pt x="1043" y="0"/>
                </a:lnTo>
                <a:lnTo>
                  <a:pt x="1043" y="121"/>
                </a:lnTo>
                <a:lnTo>
                  <a:pt x="1037" y="127"/>
                </a:lnTo>
                <a:lnTo>
                  <a:pt x="6" y="127"/>
                </a:lnTo>
                <a:lnTo>
                  <a:pt x="0" y="121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413640" y="3948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2255400" y="39402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963240" y="39402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424800" y="5254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255400" y="5254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4106160" y="5254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056960" y="36860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209600" y="37814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038040" y="36860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3191040" y="37814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4757400" y="492300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4908600" y="50180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937880" y="3338640"/>
            <a:ext cx="208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rea of Influence from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4106880" y="342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7920" y="1424160"/>
            <a:ext cx="11160" cy="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0" y="1944720"/>
            <a:ext cx="19080" cy="1440"/>
          </a:xfrm>
          <a:custGeom>
            <a:avLst/>
            <a:gdLst/>
            <a:ahLst/>
            <a:rect l="l" t="t" r="r" b="b"/>
            <a:pathLst>
              <a:path w="11" h="0">
                <a:moveTo>
                  <a:pt x="11" y="0"/>
                </a:move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0" y="1424160"/>
            <a:ext cx="190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2747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0" y="3276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5189400" y="4869000"/>
            <a:ext cx="499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No dependen de barra de ref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Dependen de con. de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0" y="3276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2" name=""/>
          <p:cNvGraphicFramePr/>
          <p:nvPr/>
        </p:nvGraphicFramePr>
        <p:xfrm>
          <a:off x="5456160" y="1062000"/>
          <a:ext cx="3745080" cy="72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56160" y="1062000"/>
                    <a:ext cx="374508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4" name=""/>
          <p:cNvSpPr/>
          <p:nvPr/>
        </p:nvSpPr>
        <p:spPr>
          <a:xfrm>
            <a:off x="0" y="3300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5" name=""/>
          <p:cNvGraphicFramePr/>
          <p:nvPr/>
        </p:nvGraphicFramePr>
        <p:xfrm>
          <a:off x="5986440" y="2368440"/>
          <a:ext cx="3017880" cy="51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86440" y="2368440"/>
                    <a:ext cx="3017880" cy="51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7" name=""/>
          <p:cNvSpPr/>
          <p:nvPr/>
        </p:nvSpPr>
        <p:spPr>
          <a:xfrm>
            <a:off x="0" y="32004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8" name=""/>
          <p:cNvGraphicFramePr/>
          <p:nvPr/>
        </p:nvGraphicFramePr>
        <p:xfrm>
          <a:off x="5986440" y="3247920"/>
          <a:ext cx="3152880" cy="809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86440" y="3247920"/>
                    <a:ext cx="315288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0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2" name=""/>
          <p:cNvGraphicFramePr/>
          <p:nvPr/>
        </p:nvGraphicFramePr>
        <p:xfrm>
          <a:off x="2490840" y="4184640"/>
          <a:ext cx="2324160" cy="4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0840" y="4184640"/>
                    <a:ext cx="23241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4" name=""/>
          <p:cNvGraphicFramePr/>
          <p:nvPr/>
        </p:nvGraphicFramePr>
        <p:xfrm>
          <a:off x="692280" y="4165560"/>
          <a:ext cx="2247840" cy="4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2280" y="4165560"/>
                    <a:ext cx="22478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6" name=""/>
          <p:cNvSpPr/>
          <p:nvPr/>
        </p:nvSpPr>
        <p:spPr>
          <a:xfrm>
            <a:off x="705600" y="343080"/>
            <a:ext cx="47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actores de Distribución GL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598320" y="976320"/>
            <a:ext cx="273240" cy="254160"/>
          </a:xfrm>
          <a:custGeom>
            <a:avLst/>
            <a:gdLst/>
            <a:ahLst/>
            <a:rect l="l" t="t" r="r" b="b"/>
            <a:pathLst>
              <a:path w="159" h="160">
                <a:moveTo>
                  <a:pt x="5" y="55"/>
                </a:moveTo>
                <a:lnTo>
                  <a:pt x="5" y="50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50"/>
                </a:lnTo>
                <a:lnTo>
                  <a:pt x="153" y="55"/>
                </a:lnTo>
                <a:lnTo>
                  <a:pt x="159" y="83"/>
                </a:lnTo>
                <a:lnTo>
                  <a:pt x="159" y="83"/>
                </a:lnTo>
                <a:lnTo>
                  <a:pt x="153" y="110"/>
                </a:lnTo>
                <a:lnTo>
                  <a:pt x="153" y="116"/>
                </a:lnTo>
                <a:lnTo>
                  <a:pt x="137" y="138"/>
                </a:lnTo>
                <a:lnTo>
                  <a:pt x="137" y="138"/>
                </a:lnTo>
                <a:lnTo>
                  <a:pt x="115" y="154"/>
                </a:lnTo>
                <a:lnTo>
                  <a:pt x="109" y="154"/>
                </a:lnTo>
                <a:lnTo>
                  <a:pt x="82" y="160"/>
                </a:lnTo>
                <a:lnTo>
                  <a:pt x="82" y="160"/>
                </a:lnTo>
                <a:lnTo>
                  <a:pt x="49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5" y="116"/>
                </a:lnTo>
                <a:lnTo>
                  <a:pt x="5" y="110"/>
                </a:lnTo>
                <a:lnTo>
                  <a:pt x="0" y="83"/>
                </a:lnTo>
                <a:lnTo>
                  <a:pt x="16" y="83"/>
                </a:lnTo>
                <a:lnTo>
                  <a:pt x="22" y="110"/>
                </a:lnTo>
                <a:lnTo>
                  <a:pt x="33" y="127"/>
                </a:lnTo>
                <a:lnTo>
                  <a:pt x="49" y="138"/>
                </a:lnTo>
                <a:lnTo>
                  <a:pt x="82" y="143"/>
                </a:lnTo>
                <a:lnTo>
                  <a:pt x="109" y="138"/>
                </a:lnTo>
                <a:lnTo>
                  <a:pt x="126" y="127"/>
                </a:lnTo>
                <a:lnTo>
                  <a:pt x="137" y="110"/>
                </a:lnTo>
                <a:lnTo>
                  <a:pt x="142" y="83"/>
                </a:lnTo>
                <a:lnTo>
                  <a:pt x="137" y="61"/>
                </a:lnTo>
                <a:lnTo>
                  <a:pt x="115" y="28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44" y="28"/>
                </a:lnTo>
                <a:lnTo>
                  <a:pt x="22" y="61"/>
                </a:lnTo>
                <a:lnTo>
                  <a:pt x="5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598320" y="1063800"/>
            <a:ext cx="38160" cy="4428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5" y="0"/>
                </a:lnTo>
                <a:lnTo>
                  <a:pt x="22" y="0"/>
                </a:lnTo>
                <a:lnTo>
                  <a:pt x="16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674640" y="1073160"/>
            <a:ext cx="122400" cy="6048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5"/>
                </a:lnTo>
                <a:lnTo>
                  <a:pt x="22" y="0"/>
                </a:lnTo>
                <a:lnTo>
                  <a:pt x="27" y="5"/>
                </a:lnTo>
                <a:lnTo>
                  <a:pt x="33" y="22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720720" y="1220760"/>
            <a:ext cx="270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682560" y="1360440"/>
            <a:ext cx="1144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455760" y="1525680"/>
            <a:ext cx="53784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493560" y="284004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2306520" y="2840040"/>
            <a:ext cx="962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2560680" y="976320"/>
            <a:ext cx="272880" cy="254160"/>
          </a:xfrm>
          <a:custGeom>
            <a:avLst/>
            <a:gdLst/>
            <a:ahLst/>
            <a:rect l="l" t="t" r="r" b="b"/>
            <a:pathLst>
              <a:path w="159" h="160">
                <a:moveTo>
                  <a:pt x="6" y="55"/>
                </a:moveTo>
                <a:lnTo>
                  <a:pt x="6" y="50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50" y="6"/>
                </a:lnTo>
                <a:lnTo>
                  <a:pt x="77" y="0"/>
                </a:lnTo>
                <a:lnTo>
                  <a:pt x="77" y="0"/>
                </a:lnTo>
                <a:lnTo>
                  <a:pt x="110" y="6"/>
                </a:lnTo>
                <a:lnTo>
                  <a:pt x="116" y="6"/>
                </a:lnTo>
                <a:lnTo>
                  <a:pt x="137" y="22"/>
                </a:lnTo>
                <a:lnTo>
                  <a:pt x="137" y="22"/>
                </a:lnTo>
                <a:lnTo>
                  <a:pt x="154" y="50"/>
                </a:lnTo>
                <a:lnTo>
                  <a:pt x="154" y="55"/>
                </a:lnTo>
                <a:lnTo>
                  <a:pt x="159" y="83"/>
                </a:lnTo>
                <a:lnTo>
                  <a:pt x="159" y="83"/>
                </a:lnTo>
                <a:lnTo>
                  <a:pt x="154" y="110"/>
                </a:lnTo>
                <a:lnTo>
                  <a:pt x="154" y="116"/>
                </a:lnTo>
                <a:lnTo>
                  <a:pt x="137" y="138"/>
                </a:lnTo>
                <a:lnTo>
                  <a:pt x="137" y="138"/>
                </a:lnTo>
                <a:lnTo>
                  <a:pt x="116" y="154"/>
                </a:lnTo>
                <a:lnTo>
                  <a:pt x="110" y="154"/>
                </a:lnTo>
                <a:lnTo>
                  <a:pt x="77" y="160"/>
                </a:lnTo>
                <a:lnTo>
                  <a:pt x="77" y="160"/>
                </a:lnTo>
                <a:lnTo>
                  <a:pt x="50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6" y="116"/>
                </a:lnTo>
                <a:lnTo>
                  <a:pt x="6" y="110"/>
                </a:lnTo>
                <a:lnTo>
                  <a:pt x="0" y="83"/>
                </a:lnTo>
                <a:lnTo>
                  <a:pt x="17" y="83"/>
                </a:lnTo>
                <a:lnTo>
                  <a:pt x="22" y="110"/>
                </a:lnTo>
                <a:lnTo>
                  <a:pt x="33" y="127"/>
                </a:lnTo>
                <a:lnTo>
                  <a:pt x="50" y="138"/>
                </a:lnTo>
                <a:lnTo>
                  <a:pt x="77" y="143"/>
                </a:lnTo>
                <a:lnTo>
                  <a:pt x="110" y="138"/>
                </a:lnTo>
                <a:lnTo>
                  <a:pt x="127" y="127"/>
                </a:lnTo>
                <a:lnTo>
                  <a:pt x="137" y="110"/>
                </a:lnTo>
                <a:lnTo>
                  <a:pt x="143" y="83"/>
                </a:lnTo>
                <a:lnTo>
                  <a:pt x="137" y="61"/>
                </a:lnTo>
                <a:lnTo>
                  <a:pt x="116" y="28"/>
                </a:lnTo>
                <a:lnTo>
                  <a:pt x="110" y="22"/>
                </a:lnTo>
                <a:lnTo>
                  <a:pt x="77" y="17"/>
                </a:lnTo>
                <a:lnTo>
                  <a:pt x="50" y="22"/>
                </a:lnTo>
                <a:lnTo>
                  <a:pt x="44" y="28"/>
                </a:lnTo>
                <a:lnTo>
                  <a:pt x="22" y="61"/>
                </a:lnTo>
                <a:lnTo>
                  <a:pt x="6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560680" y="1063800"/>
            <a:ext cx="38160" cy="4428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6" y="0"/>
                </a:lnTo>
                <a:lnTo>
                  <a:pt x="22" y="0"/>
                </a:lnTo>
                <a:lnTo>
                  <a:pt x="17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2637000" y="1073160"/>
            <a:ext cx="123840" cy="6048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5"/>
                </a:lnTo>
                <a:lnTo>
                  <a:pt x="17" y="0"/>
                </a:lnTo>
                <a:lnTo>
                  <a:pt x="33" y="22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2674800" y="1220760"/>
            <a:ext cx="288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2637000" y="1360440"/>
            <a:ext cx="1126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2268360" y="1525680"/>
            <a:ext cx="89712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4308480" y="2292480"/>
            <a:ext cx="27288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5"/>
                </a:moveTo>
                <a:lnTo>
                  <a:pt x="5" y="49"/>
                </a:lnTo>
                <a:lnTo>
                  <a:pt x="22" y="22"/>
                </a:lnTo>
                <a:lnTo>
                  <a:pt x="22" y="22"/>
                </a:lnTo>
                <a:lnTo>
                  <a:pt x="44" y="5"/>
                </a:lnTo>
                <a:lnTo>
                  <a:pt x="49" y="5"/>
                </a:lnTo>
                <a:lnTo>
                  <a:pt x="82" y="0"/>
                </a:lnTo>
                <a:lnTo>
                  <a:pt x="82" y="0"/>
                </a:lnTo>
                <a:lnTo>
                  <a:pt x="109" y="5"/>
                </a:lnTo>
                <a:lnTo>
                  <a:pt x="115" y="5"/>
                </a:lnTo>
                <a:lnTo>
                  <a:pt x="137" y="22"/>
                </a:lnTo>
                <a:lnTo>
                  <a:pt x="137" y="22"/>
                </a:lnTo>
                <a:lnTo>
                  <a:pt x="153" y="49"/>
                </a:lnTo>
                <a:lnTo>
                  <a:pt x="153" y="55"/>
                </a:lnTo>
                <a:lnTo>
                  <a:pt x="159" y="82"/>
                </a:lnTo>
                <a:lnTo>
                  <a:pt x="159" y="82"/>
                </a:lnTo>
                <a:lnTo>
                  <a:pt x="153" y="109"/>
                </a:lnTo>
                <a:lnTo>
                  <a:pt x="153" y="115"/>
                </a:lnTo>
                <a:lnTo>
                  <a:pt x="137" y="137"/>
                </a:lnTo>
                <a:lnTo>
                  <a:pt x="137" y="137"/>
                </a:lnTo>
                <a:lnTo>
                  <a:pt x="115" y="153"/>
                </a:lnTo>
                <a:lnTo>
                  <a:pt x="109" y="153"/>
                </a:lnTo>
                <a:lnTo>
                  <a:pt x="82" y="159"/>
                </a:lnTo>
                <a:lnTo>
                  <a:pt x="82" y="159"/>
                </a:lnTo>
                <a:lnTo>
                  <a:pt x="49" y="153"/>
                </a:lnTo>
                <a:lnTo>
                  <a:pt x="44" y="153"/>
                </a:lnTo>
                <a:lnTo>
                  <a:pt x="22" y="137"/>
                </a:lnTo>
                <a:lnTo>
                  <a:pt x="22" y="137"/>
                </a:lnTo>
                <a:lnTo>
                  <a:pt x="5" y="115"/>
                </a:lnTo>
                <a:lnTo>
                  <a:pt x="5" y="109"/>
                </a:lnTo>
                <a:lnTo>
                  <a:pt x="0" y="82"/>
                </a:lnTo>
                <a:lnTo>
                  <a:pt x="16" y="82"/>
                </a:lnTo>
                <a:lnTo>
                  <a:pt x="22" y="109"/>
                </a:lnTo>
                <a:lnTo>
                  <a:pt x="33" y="126"/>
                </a:lnTo>
                <a:lnTo>
                  <a:pt x="49" y="137"/>
                </a:lnTo>
                <a:lnTo>
                  <a:pt x="82" y="142"/>
                </a:lnTo>
                <a:lnTo>
                  <a:pt x="109" y="137"/>
                </a:lnTo>
                <a:lnTo>
                  <a:pt x="126" y="126"/>
                </a:lnTo>
                <a:lnTo>
                  <a:pt x="137" y="109"/>
                </a:lnTo>
                <a:lnTo>
                  <a:pt x="142" y="82"/>
                </a:lnTo>
                <a:lnTo>
                  <a:pt x="137" y="60"/>
                </a:lnTo>
                <a:lnTo>
                  <a:pt x="115" y="27"/>
                </a:lnTo>
                <a:lnTo>
                  <a:pt x="109" y="22"/>
                </a:lnTo>
                <a:lnTo>
                  <a:pt x="82" y="16"/>
                </a:lnTo>
                <a:lnTo>
                  <a:pt x="49" y="22"/>
                </a:lnTo>
                <a:lnTo>
                  <a:pt x="44" y="27"/>
                </a:lnTo>
                <a:lnTo>
                  <a:pt x="22" y="60"/>
                </a:lnTo>
                <a:lnTo>
                  <a:pt x="5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4308480" y="237960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4383000" y="2387520"/>
            <a:ext cx="122400" cy="6048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5"/>
                </a:lnTo>
                <a:lnTo>
                  <a:pt x="16" y="0"/>
                </a:lnTo>
                <a:lnTo>
                  <a:pt x="27" y="5"/>
                </a:lnTo>
                <a:lnTo>
                  <a:pt x="32" y="16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4421160" y="2535120"/>
            <a:ext cx="2844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4383000" y="2674800"/>
            <a:ext cx="112680" cy="157320"/>
          </a:xfrm>
          <a:custGeom>
            <a:avLst/>
            <a:gdLst/>
            <a:ahLst/>
            <a:rect l="l" t="t" r="r" b="b"/>
            <a:pathLst>
              <a:path w="65" h="99">
                <a:moveTo>
                  <a:pt x="32" y="99"/>
                </a:moveTo>
                <a:lnTo>
                  <a:pt x="0" y="0"/>
                </a:lnTo>
                <a:lnTo>
                  <a:pt x="32" y="22"/>
                </a:lnTo>
                <a:lnTo>
                  <a:pt x="65" y="0"/>
                </a:lnTo>
                <a:lnTo>
                  <a:pt x="32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4165560" y="284004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2674800" y="1595520"/>
            <a:ext cx="19080" cy="12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82560" y="1595520"/>
            <a:ext cx="1793880" cy="209520"/>
          </a:xfrm>
          <a:custGeom>
            <a:avLst/>
            <a:gdLst/>
            <a:ahLst/>
            <a:rect l="l" t="t" r="r" b="b"/>
            <a:pathLst>
              <a:path w="1043" h="132">
                <a:moveTo>
                  <a:pt x="11" y="0"/>
                </a:moveTo>
                <a:lnTo>
                  <a:pt x="11" y="121"/>
                </a:lnTo>
                <a:lnTo>
                  <a:pt x="1032" y="121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2"/>
                </a:lnTo>
                <a:lnTo>
                  <a:pt x="6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4043520" y="1535040"/>
            <a:ext cx="745920" cy="9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2957400" y="1595520"/>
            <a:ext cx="1227240" cy="209520"/>
          </a:xfrm>
          <a:custGeom>
            <a:avLst/>
            <a:gdLst/>
            <a:ahLst/>
            <a:rect l="l" t="t" r="r" b="b"/>
            <a:pathLst>
              <a:path w="713" h="132">
                <a:moveTo>
                  <a:pt x="11" y="0"/>
                </a:moveTo>
                <a:lnTo>
                  <a:pt x="11" y="121"/>
                </a:lnTo>
                <a:lnTo>
                  <a:pt x="702" y="121"/>
                </a:lnTo>
                <a:lnTo>
                  <a:pt x="702" y="0"/>
                </a:lnTo>
                <a:lnTo>
                  <a:pt x="713" y="0"/>
                </a:lnTo>
                <a:lnTo>
                  <a:pt x="713" y="126"/>
                </a:lnTo>
                <a:lnTo>
                  <a:pt x="708" y="132"/>
                </a:lnTo>
                <a:lnTo>
                  <a:pt x="5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957400" y="2901960"/>
            <a:ext cx="1511280" cy="208080"/>
          </a:xfrm>
          <a:custGeom>
            <a:avLst/>
            <a:gdLst/>
            <a:ahLst/>
            <a:rect l="l" t="t" r="r" b="b"/>
            <a:pathLst>
              <a:path w="878" h="131">
                <a:moveTo>
                  <a:pt x="11" y="0"/>
                </a:moveTo>
                <a:lnTo>
                  <a:pt x="11" y="120"/>
                </a:lnTo>
                <a:lnTo>
                  <a:pt x="867" y="120"/>
                </a:lnTo>
                <a:lnTo>
                  <a:pt x="867" y="0"/>
                </a:lnTo>
                <a:lnTo>
                  <a:pt x="878" y="0"/>
                </a:lnTo>
                <a:lnTo>
                  <a:pt x="878" y="126"/>
                </a:lnTo>
                <a:lnTo>
                  <a:pt x="872" y="131"/>
                </a:lnTo>
                <a:lnTo>
                  <a:pt x="5" y="131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957400" y="1595520"/>
            <a:ext cx="1650960" cy="1244520"/>
          </a:xfrm>
          <a:custGeom>
            <a:avLst/>
            <a:gdLst/>
            <a:ahLst/>
            <a:rect l="l" t="t" r="r" b="b"/>
            <a:pathLst>
              <a:path w="960" h="784">
                <a:moveTo>
                  <a:pt x="0" y="784"/>
                </a:moveTo>
                <a:lnTo>
                  <a:pt x="0" y="658"/>
                </a:lnTo>
                <a:lnTo>
                  <a:pt x="5" y="653"/>
                </a:lnTo>
                <a:lnTo>
                  <a:pt x="949" y="126"/>
                </a:lnTo>
                <a:lnTo>
                  <a:pt x="949" y="0"/>
                </a:lnTo>
                <a:lnTo>
                  <a:pt x="960" y="0"/>
                </a:lnTo>
                <a:lnTo>
                  <a:pt x="960" y="126"/>
                </a:lnTo>
                <a:lnTo>
                  <a:pt x="955" y="132"/>
                </a:lnTo>
                <a:lnTo>
                  <a:pt x="11" y="658"/>
                </a:lnTo>
                <a:lnTo>
                  <a:pt x="11" y="784"/>
                </a:lnTo>
                <a:lnTo>
                  <a:pt x="0" y="7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682560" y="2901960"/>
            <a:ext cx="1793880" cy="208080"/>
          </a:xfrm>
          <a:custGeom>
            <a:avLst/>
            <a:gdLst/>
            <a:ahLst/>
            <a:rect l="l" t="t" r="r" b="b"/>
            <a:pathLst>
              <a:path w="1043" h="131">
                <a:moveTo>
                  <a:pt x="11" y="0"/>
                </a:moveTo>
                <a:lnTo>
                  <a:pt x="11" y="120"/>
                </a:lnTo>
                <a:lnTo>
                  <a:pt x="1032" y="120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1"/>
                </a:lnTo>
                <a:lnTo>
                  <a:pt x="6" y="131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23280" y="1247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2164680" y="123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3872880" y="123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332640" y="2552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2164680" y="2552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4015800" y="2552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966240" y="9856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1117440" y="1073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2947680" y="9856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3098880" y="10731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4665240" y="22226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4816440" y="2317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417760" y="4226040"/>
            <a:ext cx="2635200" cy="1576440"/>
          </a:xfrm>
          <a:custGeom>
            <a:avLst/>
            <a:gdLst/>
            <a:ahLst/>
            <a:rect l="l" t="t" r="r" b="b"/>
            <a:pathLst>
              <a:path w="1532" h="993">
                <a:moveTo>
                  <a:pt x="1433" y="0"/>
                </a:moveTo>
                <a:lnTo>
                  <a:pt x="0" y="828"/>
                </a:lnTo>
                <a:lnTo>
                  <a:pt x="94" y="993"/>
                </a:lnTo>
                <a:lnTo>
                  <a:pt x="1532" y="165"/>
                </a:lnTo>
                <a:lnTo>
                  <a:pt x="1433" y="0"/>
                </a:lnTo>
                <a:close/>
              </a:path>
            </a:pathLst>
          </a:custGeom>
          <a:solidFill>
            <a:srgbClr val="ffff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d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2492280" y="4365720"/>
            <a:ext cx="565200" cy="1306440"/>
          </a:xfrm>
          <a:custGeom>
            <a:avLst/>
            <a:gdLst/>
            <a:ahLst/>
            <a:rect l="l" t="t" r="r" b="b"/>
            <a:pathLst>
              <a:path w="329" h="823">
                <a:moveTo>
                  <a:pt x="0" y="0"/>
                </a:moveTo>
                <a:lnTo>
                  <a:pt x="0" y="823"/>
                </a:lnTo>
                <a:lnTo>
                  <a:pt x="329" y="823"/>
                </a:lnTo>
                <a:lnTo>
                  <a:pt x="329" y="0"/>
                </a:lnTo>
                <a:lnTo>
                  <a:pt x="32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2492280" y="4365720"/>
            <a:ext cx="584280" cy="1323720"/>
          </a:xfrm>
          <a:prstGeom prst="rect">
            <a:avLst/>
          </a:prstGeom>
          <a:solidFill>
            <a:srgbClr val="fffd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d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2500200" y="4365720"/>
            <a:ext cx="54936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a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2511360" y="4365720"/>
            <a:ext cx="52704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2519280" y="4365720"/>
            <a:ext cx="51120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f2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2530440" y="4365720"/>
            <a:ext cx="48888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2538360" y="4365720"/>
            <a:ext cx="47304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b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2549520" y="4365720"/>
            <a:ext cx="45072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2557440" y="4365720"/>
            <a:ext cx="43488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4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2567160" y="4365720"/>
            <a:ext cx="41580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e0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2576520" y="4365720"/>
            <a:ext cx="39672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2585880" y="4365720"/>
            <a:ext cx="37800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9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2595600" y="4365720"/>
            <a:ext cx="35856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5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604960" y="4365720"/>
            <a:ext cx="33984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d1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2614680" y="4365720"/>
            <a:ext cx="32076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e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2624040" y="4365720"/>
            <a:ext cx="30168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633760" y="4365720"/>
            <a:ext cx="28260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6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643120" y="4365720"/>
            <a:ext cx="26352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c3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2652840" y="4365720"/>
            <a:ext cx="24444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f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2662200" y="4365720"/>
            <a:ext cx="22536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2670120" y="4365720"/>
            <a:ext cx="20952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8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2681280" y="4365720"/>
            <a:ext cx="18900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b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2689200" y="4365720"/>
            <a:ext cx="17136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2700360" y="4365720"/>
            <a:ext cx="15084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b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708280" y="4365720"/>
            <a:ext cx="13320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7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2719440" y="4365720"/>
            <a:ext cx="11268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2727360" y="4365720"/>
            <a:ext cx="9504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a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2738520" y="4365720"/>
            <a:ext cx="7452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2746440" y="4365720"/>
            <a:ext cx="5724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2757600" y="4365720"/>
            <a:ext cx="3636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5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2765520" y="4365720"/>
            <a:ext cx="1908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2776680" y="3844800"/>
            <a:ext cx="360" cy="130680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689040" y="3686040"/>
            <a:ext cx="274680" cy="25272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0"/>
                </a:moveTo>
                <a:lnTo>
                  <a:pt x="5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44"/>
                </a:lnTo>
                <a:lnTo>
                  <a:pt x="153" y="50"/>
                </a:lnTo>
                <a:lnTo>
                  <a:pt x="159" y="77"/>
                </a:lnTo>
                <a:lnTo>
                  <a:pt x="159" y="77"/>
                </a:lnTo>
                <a:lnTo>
                  <a:pt x="153" y="110"/>
                </a:lnTo>
                <a:lnTo>
                  <a:pt x="153" y="115"/>
                </a:lnTo>
                <a:lnTo>
                  <a:pt x="137" y="137"/>
                </a:lnTo>
                <a:lnTo>
                  <a:pt x="137" y="137"/>
                </a:lnTo>
                <a:lnTo>
                  <a:pt x="115" y="154"/>
                </a:lnTo>
                <a:lnTo>
                  <a:pt x="109" y="154"/>
                </a:lnTo>
                <a:lnTo>
                  <a:pt x="82" y="159"/>
                </a:lnTo>
                <a:lnTo>
                  <a:pt x="82" y="159"/>
                </a:lnTo>
                <a:lnTo>
                  <a:pt x="49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5" y="115"/>
                </a:lnTo>
                <a:lnTo>
                  <a:pt x="5" y="110"/>
                </a:lnTo>
                <a:lnTo>
                  <a:pt x="0" y="77"/>
                </a:lnTo>
                <a:lnTo>
                  <a:pt x="16" y="77"/>
                </a:lnTo>
                <a:lnTo>
                  <a:pt x="22" y="110"/>
                </a:lnTo>
                <a:lnTo>
                  <a:pt x="33" y="126"/>
                </a:lnTo>
                <a:lnTo>
                  <a:pt x="49" y="137"/>
                </a:lnTo>
                <a:lnTo>
                  <a:pt x="82" y="143"/>
                </a:lnTo>
                <a:lnTo>
                  <a:pt x="109" y="137"/>
                </a:lnTo>
                <a:lnTo>
                  <a:pt x="126" y="126"/>
                </a:lnTo>
                <a:lnTo>
                  <a:pt x="137" y="110"/>
                </a:lnTo>
                <a:lnTo>
                  <a:pt x="142" y="77"/>
                </a:lnTo>
                <a:lnTo>
                  <a:pt x="137" y="50"/>
                </a:lnTo>
                <a:lnTo>
                  <a:pt x="126" y="33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33" y="33"/>
                </a:lnTo>
                <a:lnTo>
                  <a:pt x="16" y="55"/>
                </a:lnTo>
                <a:lnTo>
                  <a:pt x="5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689040" y="376560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765000" y="3773520"/>
            <a:ext cx="122400" cy="6012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6"/>
                </a:lnTo>
                <a:lnTo>
                  <a:pt x="22" y="0"/>
                </a:lnTo>
                <a:lnTo>
                  <a:pt x="33" y="22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811080" y="3921120"/>
            <a:ext cx="2880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774720" y="4060800"/>
            <a:ext cx="1126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547560" y="4226040"/>
            <a:ext cx="53820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584280" y="554040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2397240" y="5540400"/>
            <a:ext cx="96336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2652840" y="3686040"/>
            <a:ext cx="272880" cy="25272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6" y="50"/>
                </a:moveTo>
                <a:lnTo>
                  <a:pt x="6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50" y="6"/>
                </a:lnTo>
                <a:lnTo>
                  <a:pt x="77" y="0"/>
                </a:lnTo>
                <a:lnTo>
                  <a:pt x="77" y="0"/>
                </a:lnTo>
                <a:lnTo>
                  <a:pt x="110" y="6"/>
                </a:lnTo>
                <a:lnTo>
                  <a:pt x="116" y="6"/>
                </a:lnTo>
                <a:lnTo>
                  <a:pt x="137" y="22"/>
                </a:lnTo>
                <a:lnTo>
                  <a:pt x="137" y="22"/>
                </a:lnTo>
                <a:lnTo>
                  <a:pt x="154" y="44"/>
                </a:lnTo>
                <a:lnTo>
                  <a:pt x="154" y="50"/>
                </a:lnTo>
                <a:lnTo>
                  <a:pt x="159" y="77"/>
                </a:lnTo>
                <a:lnTo>
                  <a:pt x="159" y="77"/>
                </a:lnTo>
                <a:lnTo>
                  <a:pt x="154" y="110"/>
                </a:lnTo>
                <a:lnTo>
                  <a:pt x="154" y="115"/>
                </a:lnTo>
                <a:lnTo>
                  <a:pt x="137" y="137"/>
                </a:lnTo>
                <a:lnTo>
                  <a:pt x="137" y="137"/>
                </a:lnTo>
                <a:lnTo>
                  <a:pt x="116" y="154"/>
                </a:lnTo>
                <a:lnTo>
                  <a:pt x="110" y="154"/>
                </a:lnTo>
                <a:lnTo>
                  <a:pt x="77" y="159"/>
                </a:lnTo>
                <a:lnTo>
                  <a:pt x="77" y="159"/>
                </a:lnTo>
                <a:lnTo>
                  <a:pt x="50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6" y="115"/>
                </a:lnTo>
                <a:lnTo>
                  <a:pt x="6" y="110"/>
                </a:lnTo>
                <a:lnTo>
                  <a:pt x="0" y="77"/>
                </a:lnTo>
                <a:lnTo>
                  <a:pt x="17" y="77"/>
                </a:lnTo>
                <a:lnTo>
                  <a:pt x="22" y="110"/>
                </a:lnTo>
                <a:lnTo>
                  <a:pt x="33" y="126"/>
                </a:lnTo>
                <a:lnTo>
                  <a:pt x="50" y="137"/>
                </a:lnTo>
                <a:lnTo>
                  <a:pt x="77" y="143"/>
                </a:lnTo>
                <a:lnTo>
                  <a:pt x="110" y="137"/>
                </a:lnTo>
                <a:lnTo>
                  <a:pt x="127" y="126"/>
                </a:lnTo>
                <a:lnTo>
                  <a:pt x="137" y="110"/>
                </a:lnTo>
                <a:lnTo>
                  <a:pt x="143" y="77"/>
                </a:lnTo>
                <a:lnTo>
                  <a:pt x="137" y="50"/>
                </a:lnTo>
                <a:lnTo>
                  <a:pt x="127" y="33"/>
                </a:lnTo>
                <a:lnTo>
                  <a:pt x="110" y="22"/>
                </a:lnTo>
                <a:lnTo>
                  <a:pt x="77" y="17"/>
                </a:lnTo>
                <a:lnTo>
                  <a:pt x="50" y="22"/>
                </a:lnTo>
                <a:lnTo>
                  <a:pt x="33" y="33"/>
                </a:lnTo>
                <a:lnTo>
                  <a:pt x="17" y="55"/>
                </a:lnTo>
                <a:lnTo>
                  <a:pt x="6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2652840" y="3765600"/>
            <a:ext cx="363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6" y="0"/>
                </a:lnTo>
                <a:lnTo>
                  <a:pt x="22" y="0"/>
                </a:lnTo>
                <a:lnTo>
                  <a:pt x="17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2727360" y="3773520"/>
            <a:ext cx="123840" cy="6012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6"/>
                </a:lnTo>
                <a:lnTo>
                  <a:pt x="17" y="0"/>
                </a:lnTo>
                <a:lnTo>
                  <a:pt x="33" y="22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2765520" y="3921120"/>
            <a:ext cx="2844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2727360" y="4060800"/>
            <a:ext cx="11412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2359080" y="4226040"/>
            <a:ext cx="89856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4398840" y="5000760"/>
            <a:ext cx="27324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0"/>
                </a:moveTo>
                <a:lnTo>
                  <a:pt x="5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44"/>
                </a:lnTo>
                <a:lnTo>
                  <a:pt x="153" y="50"/>
                </a:lnTo>
                <a:lnTo>
                  <a:pt x="159" y="77"/>
                </a:lnTo>
                <a:lnTo>
                  <a:pt x="159" y="77"/>
                </a:lnTo>
                <a:lnTo>
                  <a:pt x="153" y="110"/>
                </a:lnTo>
                <a:lnTo>
                  <a:pt x="153" y="116"/>
                </a:lnTo>
                <a:lnTo>
                  <a:pt x="137" y="138"/>
                </a:lnTo>
                <a:lnTo>
                  <a:pt x="137" y="138"/>
                </a:lnTo>
                <a:lnTo>
                  <a:pt x="115" y="154"/>
                </a:lnTo>
                <a:lnTo>
                  <a:pt x="109" y="154"/>
                </a:lnTo>
                <a:lnTo>
                  <a:pt x="82" y="159"/>
                </a:lnTo>
                <a:lnTo>
                  <a:pt x="82" y="159"/>
                </a:lnTo>
                <a:lnTo>
                  <a:pt x="49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5" y="116"/>
                </a:lnTo>
                <a:lnTo>
                  <a:pt x="5" y="110"/>
                </a:lnTo>
                <a:lnTo>
                  <a:pt x="0" y="77"/>
                </a:lnTo>
                <a:lnTo>
                  <a:pt x="16" y="77"/>
                </a:lnTo>
                <a:lnTo>
                  <a:pt x="22" y="110"/>
                </a:lnTo>
                <a:lnTo>
                  <a:pt x="33" y="127"/>
                </a:lnTo>
                <a:lnTo>
                  <a:pt x="49" y="138"/>
                </a:lnTo>
                <a:lnTo>
                  <a:pt x="82" y="143"/>
                </a:lnTo>
                <a:lnTo>
                  <a:pt x="109" y="138"/>
                </a:lnTo>
                <a:lnTo>
                  <a:pt x="126" y="127"/>
                </a:lnTo>
                <a:lnTo>
                  <a:pt x="137" y="110"/>
                </a:lnTo>
                <a:lnTo>
                  <a:pt x="142" y="77"/>
                </a:lnTo>
                <a:lnTo>
                  <a:pt x="137" y="50"/>
                </a:lnTo>
                <a:lnTo>
                  <a:pt x="126" y="33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33" y="33"/>
                </a:lnTo>
                <a:lnTo>
                  <a:pt x="16" y="55"/>
                </a:lnTo>
                <a:lnTo>
                  <a:pt x="5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4398840" y="507996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4475160" y="5087880"/>
            <a:ext cx="122400" cy="61920"/>
          </a:xfrm>
          <a:custGeom>
            <a:avLst/>
            <a:gdLst/>
            <a:ahLst/>
            <a:rect l="l" t="t" r="r" b="b"/>
            <a:pathLst>
              <a:path w="71" h="39">
                <a:moveTo>
                  <a:pt x="0" y="22"/>
                </a:moveTo>
                <a:lnTo>
                  <a:pt x="11" y="6"/>
                </a:lnTo>
                <a:lnTo>
                  <a:pt x="16" y="0"/>
                </a:lnTo>
                <a:lnTo>
                  <a:pt x="32" y="22"/>
                </a:lnTo>
                <a:lnTo>
                  <a:pt x="49" y="39"/>
                </a:lnTo>
                <a:lnTo>
                  <a:pt x="60" y="39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513320" y="5237280"/>
            <a:ext cx="270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4475160" y="5375160"/>
            <a:ext cx="111240" cy="157320"/>
          </a:xfrm>
          <a:custGeom>
            <a:avLst/>
            <a:gdLst/>
            <a:ahLst/>
            <a:rect l="l" t="t" r="r" b="b"/>
            <a:pathLst>
              <a:path w="65" h="99">
                <a:moveTo>
                  <a:pt x="32" y="99"/>
                </a:moveTo>
                <a:lnTo>
                  <a:pt x="0" y="0"/>
                </a:lnTo>
                <a:lnTo>
                  <a:pt x="32" y="22"/>
                </a:lnTo>
                <a:lnTo>
                  <a:pt x="65" y="0"/>
                </a:lnTo>
                <a:lnTo>
                  <a:pt x="32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4255920" y="554040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2765520" y="4295880"/>
            <a:ext cx="19080" cy="12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774720" y="4295880"/>
            <a:ext cx="1792440" cy="209520"/>
          </a:xfrm>
          <a:custGeom>
            <a:avLst/>
            <a:gdLst/>
            <a:ahLst/>
            <a:rect l="l" t="t" r="r" b="b"/>
            <a:pathLst>
              <a:path w="1043" h="132">
                <a:moveTo>
                  <a:pt x="11" y="0"/>
                </a:moveTo>
                <a:lnTo>
                  <a:pt x="11" y="121"/>
                </a:lnTo>
                <a:lnTo>
                  <a:pt x="1032" y="121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2"/>
                </a:lnTo>
                <a:lnTo>
                  <a:pt x="6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4133880" y="4235400"/>
            <a:ext cx="747720" cy="9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3049560" y="4295880"/>
            <a:ext cx="1225440" cy="209520"/>
          </a:xfrm>
          <a:custGeom>
            <a:avLst/>
            <a:gdLst/>
            <a:ahLst/>
            <a:rect l="l" t="t" r="r" b="b"/>
            <a:pathLst>
              <a:path w="713" h="132">
                <a:moveTo>
                  <a:pt x="11" y="0"/>
                </a:moveTo>
                <a:lnTo>
                  <a:pt x="11" y="121"/>
                </a:lnTo>
                <a:lnTo>
                  <a:pt x="702" y="121"/>
                </a:lnTo>
                <a:lnTo>
                  <a:pt x="702" y="0"/>
                </a:lnTo>
                <a:lnTo>
                  <a:pt x="713" y="0"/>
                </a:lnTo>
                <a:lnTo>
                  <a:pt x="713" y="126"/>
                </a:lnTo>
                <a:lnTo>
                  <a:pt x="708" y="132"/>
                </a:lnTo>
                <a:lnTo>
                  <a:pt x="5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3049560" y="5610240"/>
            <a:ext cx="1509840" cy="201600"/>
          </a:xfrm>
          <a:custGeom>
            <a:avLst/>
            <a:gdLst/>
            <a:ahLst/>
            <a:rect l="l" t="t" r="r" b="b"/>
            <a:pathLst>
              <a:path w="878" h="127">
                <a:moveTo>
                  <a:pt x="11" y="0"/>
                </a:moveTo>
                <a:lnTo>
                  <a:pt x="11" y="116"/>
                </a:lnTo>
                <a:lnTo>
                  <a:pt x="867" y="116"/>
                </a:lnTo>
                <a:lnTo>
                  <a:pt x="867" y="0"/>
                </a:lnTo>
                <a:lnTo>
                  <a:pt x="878" y="0"/>
                </a:lnTo>
                <a:lnTo>
                  <a:pt x="878" y="121"/>
                </a:lnTo>
                <a:lnTo>
                  <a:pt x="872" y="127"/>
                </a:lnTo>
                <a:lnTo>
                  <a:pt x="5" y="127"/>
                </a:lnTo>
                <a:lnTo>
                  <a:pt x="0" y="121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049560" y="4295880"/>
            <a:ext cx="1650960" cy="1244520"/>
          </a:xfrm>
          <a:custGeom>
            <a:avLst/>
            <a:gdLst/>
            <a:ahLst/>
            <a:rect l="l" t="t" r="r" b="b"/>
            <a:pathLst>
              <a:path w="960" h="784">
                <a:moveTo>
                  <a:pt x="0" y="784"/>
                </a:moveTo>
                <a:lnTo>
                  <a:pt x="0" y="664"/>
                </a:lnTo>
                <a:lnTo>
                  <a:pt x="5" y="658"/>
                </a:lnTo>
                <a:lnTo>
                  <a:pt x="949" y="126"/>
                </a:lnTo>
                <a:lnTo>
                  <a:pt x="949" y="0"/>
                </a:lnTo>
                <a:lnTo>
                  <a:pt x="960" y="0"/>
                </a:lnTo>
                <a:lnTo>
                  <a:pt x="960" y="126"/>
                </a:lnTo>
                <a:lnTo>
                  <a:pt x="955" y="132"/>
                </a:lnTo>
                <a:lnTo>
                  <a:pt x="11" y="664"/>
                </a:lnTo>
                <a:lnTo>
                  <a:pt x="11" y="784"/>
                </a:lnTo>
                <a:lnTo>
                  <a:pt x="0" y="7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774720" y="5610240"/>
            <a:ext cx="1792440" cy="201600"/>
          </a:xfrm>
          <a:custGeom>
            <a:avLst/>
            <a:gdLst/>
            <a:ahLst/>
            <a:rect l="l" t="t" r="r" b="b"/>
            <a:pathLst>
              <a:path w="1043" h="127">
                <a:moveTo>
                  <a:pt x="11" y="0"/>
                </a:moveTo>
                <a:lnTo>
                  <a:pt x="11" y="116"/>
                </a:lnTo>
                <a:lnTo>
                  <a:pt x="1032" y="116"/>
                </a:lnTo>
                <a:lnTo>
                  <a:pt x="1032" y="0"/>
                </a:lnTo>
                <a:lnTo>
                  <a:pt x="1043" y="0"/>
                </a:lnTo>
                <a:lnTo>
                  <a:pt x="1043" y="121"/>
                </a:lnTo>
                <a:lnTo>
                  <a:pt x="1037" y="127"/>
                </a:lnTo>
                <a:lnTo>
                  <a:pt x="6" y="127"/>
                </a:lnTo>
                <a:lnTo>
                  <a:pt x="0" y="121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413640" y="3948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2255400" y="39402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3963240" y="39402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424800" y="5254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2255400" y="5254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106160" y="5254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1056960" y="36860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1209600" y="37814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3038040" y="36860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3191040" y="37814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757400" y="492300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4908600" y="501804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937880" y="3338640"/>
            <a:ext cx="208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rea of Influence from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4106880" y="34257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7920" y="1424160"/>
            <a:ext cx="11160" cy="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0" y="1944720"/>
            <a:ext cx="19080" cy="1440"/>
          </a:xfrm>
          <a:custGeom>
            <a:avLst/>
            <a:gdLst/>
            <a:ahLst/>
            <a:rect l="l" t="t" r="r" b="b"/>
            <a:pathLst>
              <a:path w="11" h="0">
                <a:moveTo>
                  <a:pt x="11" y="0"/>
                </a:move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0" y="1424160"/>
            <a:ext cx="190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0" y="2747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0" y="3276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5189400" y="4869000"/>
            <a:ext cx="499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No dependen de barra de ref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Dependen de con. de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Tienden a estampil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0" y="3276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0" y="3300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0" y="32004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1" name=""/>
          <p:cNvGraphicFramePr/>
          <p:nvPr/>
        </p:nvGraphicFramePr>
        <p:xfrm>
          <a:off x="5742000" y="900000"/>
          <a:ext cx="3301920" cy="72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42000" y="900000"/>
                    <a:ext cx="3301920" cy="7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3" name=""/>
          <p:cNvSpPr/>
          <p:nvPr/>
        </p:nvSpPr>
        <p:spPr>
          <a:xfrm>
            <a:off x="0" y="3300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4" name=""/>
          <p:cNvGraphicFramePr/>
          <p:nvPr/>
        </p:nvGraphicFramePr>
        <p:xfrm>
          <a:off x="5727600" y="2065320"/>
          <a:ext cx="3448080" cy="57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27600" y="2065320"/>
                    <a:ext cx="344808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6" name=""/>
          <p:cNvSpPr/>
          <p:nvPr/>
        </p:nvSpPr>
        <p:spPr>
          <a:xfrm>
            <a:off x="0" y="32004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7" name=""/>
          <p:cNvGraphicFramePr/>
          <p:nvPr/>
        </p:nvGraphicFramePr>
        <p:xfrm>
          <a:off x="5967360" y="3216240"/>
          <a:ext cx="2965680" cy="77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7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67360" y="3216240"/>
                    <a:ext cx="296568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9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"/>
          <p:cNvSpPr/>
          <p:nvPr/>
        </p:nvSpPr>
        <p:spPr>
          <a:xfrm>
            <a:off x="431640" y="317520"/>
            <a:ext cx="30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ed Line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598320" y="1293840"/>
            <a:ext cx="273240" cy="253800"/>
          </a:xfrm>
          <a:custGeom>
            <a:avLst/>
            <a:gdLst/>
            <a:ahLst/>
            <a:rect l="l" t="t" r="r" b="b"/>
            <a:pathLst>
              <a:path w="159" h="160">
                <a:moveTo>
                  <a:pt x="5" y="55"/>
                </a:moveTo>
                <a:lnTo>
                  <a:pt x="5" y="50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50"/>
                </a:lnTo>
                <a:lnTo>
                  <a:pt x="153" y="55"/>
                </a:lnTo>
                <a:lnTo>
                  <a:pt x="159" y="83"/>
                </a:lnTo>
                <a:lnTo>
                  <a:pt x="159" y="83"/>
                </a:lnTo>
                <a:lnTo>
                  <a:pt x="153" y="110"/>
                </a:lnTo>
                <a:lnTo>
                  <a:pt x="153" y="116"/>
                </a:lnTo>
                <a:lnTo>
                  <a:pt x="137" y="138"/>
                </a:lnTo>
                <a:lnTo>
                  <a:pt x="137" y="138"/>
                </a:lnTo>
                <a:lnTo>
                  <a:pt x="115" y="154"/>
                </a:lnTo>
                <a:lnTo>
                  <a:pt x="109" y="154"/>
                </a:lnTo>
                <a:lnTo>
                  <a:pt x="82" y="160"/>
                </a:lnTo>
                <a:lnTo>
                  <a:pt x="82" y="160"/>
                </a:lnTo>
                <a:lnTo>
                  <a:pt x="49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5" y="116"/>
                </a:lnTo>
                <a:lnTo>
                  <a:pt x="5" y="110"/>
                </a:lnTo>
                <a:lnTo>
                  <a:pt x="0" y="83"/>
                </a:lnTo>
                <a:lnTo>
                  <a:pt x="16" y="83"/>
                </a:lnTo>
                <a:lnTo>
                  <a:pt x="22" y="110"/>
                </a:lnTo>
                <a:lnTo>
                  <a:pt x="33" y="127"/>
                </a:lnTo>
                <a:lnTo>
                  <a:pt x="49" y="138"/>
                </a:lnTo>
                <a:lnTo>
                  <a:pt x="82" y="143"/>
                </a:lnTo>
                <a:lnTo>
                  <a:pt x="109" y="138"/>
                </a:lnTo>
                <a:lnTo>
                  <a:pt x="126" y="127"/>
                </a:lnTo>
                <a:lnTo>
                  <a:pt x="137" y="110"/>
                </a:lnTo>
                <a:lnTo>
                  <a:pt x="142" y="83"/>
                </a:lnTo>
                <a:lnTo>
                  <a:pt x="137" y="61"/>
                </a:lnTo>
                <a:lnTo>
                  <a:pt x="115" y="28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44" y="28"/>
                </a:lnTo>
                <a:lnTo>
                  <a:pt x="22" y="61"/>
                </a:lnTo>
                <a:lnTo>
                  <a:pt x="5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598320" y="1380960"/>
            <a:ext cx="38160" cy="4464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5" y="0"/>
                </a:lnTo>
                <a:lnTo>
                  <a:pt x="22" y="0"/>
                </a:lnTo>
                <a:lnTo>
                  <a:pt x="16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674640" y="1390680"/>
            <a:ext cx="122400" cy="6012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5"/>
                </a:lnTo>
                <a:lnTo>
                  <a:pt x="22" y="0"/>
                </a:lnTo>
                <a:lnTo>
                  <a:pt x="27" y="5"/>
                </a:lnTo>
                <a:lnTo>
                  <a:pt x="33" y="22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720720" y="1538280"/>
            <a:ext cx="270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682560" y="1677960"/>
            <a:ext cx="1144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455760" y="1843200"/>
            <a:ext cx="53784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493560" y="315756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2306520" y="3157560"/>
            <a:ext cx="962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2560680" y="1293840"/>
            <a:ext cx="272880" cy="253800"/>
          </a:xfrm>
          <a:custGeom>
            <a:avLst/>
            <a:gdLst/>
            <a:ahLst/>
            <a:rect l="l" t="t" r="r" b="b"/>
            <a:pathLst>
              <a:path w="159" h="160">
                <a:moveTo>
                  <a:pt x="6" y="55"/>
                </a:moveTo>
                <a:lnTo>
                  <a:pt x="6" y="50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50" y="6"/>
                </a:lnTo>
                <a:lnTo>
                  <a:pt x="77" y="0"/>
                </a:lnTo>
                <a:lnTo>
                  <a:pt x="77" y="0"/>
                </a:lnTo>
                <a:lnTo>
                  <a:pt x="110" y="6"/>
                </a:lnTo>
                <a:lnTo>
                  <a:pt x="116" y="6"/>
                </a:lnTo>
                <a:lnTo>
                  <a:pt x="137" y="22"/>
                </a:lnTo>
                <a:lnTo>
                  <a:pt x="137" y="22"/>
                </a:lnTo>
                <a:lnTo>
                  <a:pt x="154" y="50"/>
                </a:lnTo>
                <a:lnTo>
                  <a:pt x="154" y="55"/>
                </a:lnTo>
                <a:lnTo>
                  <a:pt x="159" y="83"/>
                </a:lnTo>
                <a:lnTo>
                  <a:pt x="159" y="83"/>
                </a:lnTo>
                <a:lnTo>
                  <a:pt x="154" y="110"/>
                </a:lnTo>
                <a:lnTo>
                  <a:pt x="154" y="116"/>
                </a:lnTo>
                <a:lnTo>
                  <a:pt x="137" y="138"/>
                </a:lnTo>
                <a:lnTo>
                  <a:pt x="137" y="138"/>
                </a:lnTo>
                <a:lnTo>
                  <a:pt x="116" y="154"/>
                </a:lnTo>
                <a:lnTo>
                  <a:pt x="110" y="154"/>
                </a:lnTo>
                <a:lnTo>
                  <a:pt x="77" y="160"/>
                </a:lnTo>
                <a:lnTo>
                  <a:pt x="77" y="160"/>
                </a:lnTo>
                <a:lnTo>
                  <a:pt x="50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6" y="116"/>
                </a:lnTo>
                <a:lnTo>
                  <a:pt x="6" y="110"/>
                </a:lnTo>
                <a:lnTo>
                  <a:pt x="0" y="83"/>
                </a:lnTo>
                <a:lnTo>
                  <a:pt x="17" y="83"/>
                </a:lnTo>
                <a:lnTo>
                  <a:pt x="22" y="110"/>
                </a:lnTo>
                <a:lnTo>
                  <a:pt x="33" y="127"/>
                </a:lnTo>
                <a:lnTo>
                  <a:pt x="50" y="138"/>
                </a:lnTo>
                <a:lnTo>
                  <a:pt x="77" y="143"/>
                </a:lnTo>
                <a:lnTo>
                  <a:pt x="110" y="138"/>
                </a:lnTo>
                <a:lnTo>
                  <a:pt x="127" y="127"/>
                </a:lnTo>
                <a:lnTo>
                  <a:pt x="137" y="110"/>
                </a:lnTo>
                <a:lnTo>
                  <a:pt x="143" y="83"/>
                </a:lnTo>
                <a:lnTo>
                  <a:pt x="137" y="61"/>
                </a:lnTo>
                <a:lnTo>
                  <a:pt x="116" y="28"/>
                </a:lnTo>
                <a:lnTo>
                  <a:pt x="110" y="22"/>
                </a:lnTo>
                <a:lnTo>
                  <a:pt x="77" y="17"/>
                </a:lnTo>
                <a:lnTo>
                  <a:pt x="50" y="22"/>
                </a:lnTo>
                <a:lnTo>
                  <a:pt x="44" y="28"/>
                </a:lnTo>
                <a:lnTo>
                  <a:pt x="22" y="61"/>
                </a:lnTo>
                <a:lnTo>
                  <a:pt x="6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2560680" y="1380960"/>
            <a:ext cx="38160" cy="4464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6" y="0"/>
                </a:lnTo>
                <a:lnTo>
                  <a:pt x="22" y="0"/>
                </a:lnTo>
                <a:lnTo>
                  <a:pt x="17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2637000" y="1390680"/>
            <a:ext cx="123840" cy="6012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5"/>
                </a:lnTo>
                <a:lnTo>
                  <a:pt x="17" y="0"/>
                </a:lnTo>
                <a:lnTo>
                  <a:pt x="33" y="22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674800" y="1538280"/>
            <a:ext cx="288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2637000" y="1677960"/>
            <a:ext cx="1126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2268360" y="1843200"/>
            <a:ext cx="89712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4308480" y="2610000"/>
            <a:ext cx="27288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5"/>
                </a:moveTo>
                <a:lnTo>
                  <a:pt x="5" y="49"/>
                </a:lnTo>
                <a:lnTo>
                  <a:pt x="22" y="22"/>
                </a:lnTo>
                <a:lnTo>
                  <a:pt x="22" y="22"/>
                </a:lnTo>
                <a:lnTo>
                  <a:pt x="44" y="5"/>
                </a:lnTo>
                <a:lnTo>
                  <a:pt x="49" y="5"/>
                </a:lnTo>
                <a:lnTo>
                  <a:pt x="82" y="0"/>
                </a:lnTo>
                <a:lnTo>
                  <a:pt x="82" y="0"/>
                </a:lnTo>
                <a:lnTo>
                  <a:pt x="109" y="5"/>
                </a:lnTo>
                <a:lnTo>
                  <a:pt x="115" y="5"/>
                </a:lnTo>
                <a:lnTo>
                  <a:pt x="137" y="22"/>
                </a:lnTo>
                <a:lnTo>
                  <a:pt x="137" y="22"/>
                </a:lnTo>
                <a:lnTo>
                  <a:pt x="153" y="49"/>
                </a:lnTo>
                <a:lnTo>
                  <a:pt x="153" y="55"/>
                </a:lnTo>
                <a:lnTo>
                  <a:pt x="159" y="82"/>
                </a:lnTo>
                <a:lnTo>
                  <a:pt x="159" y="82"/>
                </a:lnTo>
                <a:lnTo>
                  <a:pt x="153" y="109"/>
                </a:lnTo>
                <a:lnTo>
                  <a:pt x="153" y="115"/>
                </a:lnTo>
                <a:lnTo>
                  <a:pt x="137" y="137"/>
                </a:lnTo>
                <a:lnTo>
                  <a:pt x="137" y="137"/>
                </a:lnTo>
                <a:lnTo>
                  <a:pt x="115" y="153"/>
                </a:lnTo>
                <a:lnTo>
                  <a:pt x="109" y="153"/>
                </a:lnTo>
                <a:lnTo>
                  <a:pt x="82" y="159"/>
                </a:lnTo>
                <a:lnTo>
                  <a:pt x="82" y="159"/>
                </a:lnTo>
                <a:lnTo>
                  <a:pt x="49" y="153"/>
                </a:lnTo>
                <a:lnTo>
                  <a:pt x="44" y="153"/>
                </a:lnTo>
                <a:lnTo>
                  <a:pt x="22" y="137"/>
                </a:lnTo>
                <a:lnTo>
                  <a:pt x="22" y="137"/>
                </a:lnTo>
                <a:lnTo>
                  <a:pt x="5" y="115"/>
                </a:lnTo>
                <a:lnTo>
                  <a:pt x="5" y="109"/>
                </a:lnTo>
                <a:lnTo>
                  <a:pt x="0" y="82"/>
                </a:lnTo>
                <a:lnTo>
                  <a:pt x="16" y="82"/>
                </a:lnTo>
                <a:lnTo>
                  <a:pt x="22" y="109"/>
                </a:lnTo>
                <a:lnTo>
                  <a:pt x="33" y="126"/>
                </a:lnTo>
                <a:lnTo>
                  <a:pt x="49" y="137"/>
                </a:lnTo>
                <a:lnTo>
                  <a:pt x="82" y="142"/>
                </a:lnTo>
                <a:lnTo>
                  <a:pt x="109" y="137"/>
                </a:lnTo>
                <a:lnTo>
                  <a:pt x="126" y="126"/>
                </a:lnTo>
                <a:lnTo>
                  <a:pt x="137" y="109"/>
                </a:lnTo>
                <a:lnTo>
                  <a:pt x="142" y="82"/>
                </a:lnTo>
                <a:lnTo>
                  <a:pt x="137" y="60"/>
                </a:lnTo>
                <a:lnTo>
                  <a:pt x="115" y="27"/>
                </a:lnTo>
                <a:lnTo>
                  <a:pt x="109" y="22"/>
                </a:lnTo>
                <a:lnTo>
                  <a:pt x="82" y="16"/>
                </a:lnTo>
                <a:lnTo>
                  <a:pt x="49" y="22"/>
                </a:lnTo>
                <a:lnTo>
                  <a:pt x="44" y="27"/>
                </a:lnTo>
                <a:lnTo>
                  <a:pt x="22" y="60"/>
                </a:lnTo>
                <a:lnTo>
                  <a:pt x="5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4308480" y="269712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383000" y="2705040"/>
            <a:ext cx="122400" cy="6048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5"/>
                </a:lnTo>
                <a:lnTo>
                  <a:pt x="16" y="0"/>
                </a:lnTo>
                <a:lnTo>
                  <a:pt x="27" y="5"/>
                </a:lnTo>
                <a:lnTo>
                  <a:pt x="32" y="16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4421160" y="2852640"/>
            <a:ext cx="2844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4383000" y="2992320"/>
            <a:ext cx="112680" cy="157320"/>
          </a:xfrm>
          <a:custGeom>
            <a:avLst/>
            <a:gdLst/>
            <a:ahLst/>
            <a:rect l="l" t="t" r="r" b="b"/>
            <a:pathLst>
              <a:path w="65" h="99">
                <a:moveTo>
                  <a:pt x="32" y="99"/>
                </a:moveTo>
                <a:lnTo>
                  <a:pt x="0" y="0"/>
                </a:lnTo>
                <a:lnTo>
                  <a:pt x="32" y="22"/>
                </a:lnTo>
                <a:lnTo>
                  <a:pt x="65" y="0"/>
                </a:lnTo>
                <a:lnTo>
                  <a:pt x="32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4165560" y="315756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2674800" y="1913040"/>
            <a:ext cx="19080" cy="12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682560" y="1913040"/>
            <a:ext cx="1793880" cy="209520"/>
          </a:xfrm>
          <a:custGeom>
            <a:avLst/>
            <a:gdLst/>
            <a:ahLst/>
            <a:rect l="l" t="t" r="r" b="b"/>
            <a:pathLst>
              <a:path w="1043" h="132">
                <a:moveTo>
                  <a:pt x="11" y="0"/>
                </a:moveTo>
                <a:lnTo>
                  <a:pt x="11" y="121"/>
                </a:lnTo>
                <a:lnTo>
                  <a:pt x="1032" y="121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2"/>
                </a:lnTo>
                <a:lnTo>
                  <a:pt x="6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4043520" y="1852560"/>
            <a:ext cx="745920" cy="9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2957400" y="1913040"/>
            <a:ext cx="1227240" cy="209520"/>
          </a:xfrm>
          <a:custGeom>
            <a:avLst/>
            <a:gdLst/>
            <a:ahLst/>
            <a:rect l="l" t="t" r="r" b="b"/>
            <a:pathLst>
              <a:path w="713" h="132">
                <a:moveTo>
                  <a:pt x="11" y="0"/>
                </a:moveTo>
                <a:lnTo>
                  <a:pt x="11" y="121"/>
                </a:lnTo>
                <a:lnTo>
                  <a:pt x="702" y="121"/>
                </a:lnTo>
                <a:lnTo>
                  <a:pt x="702" y="0"/>
                </a:lnTo>
                <a:lnTo>
                  <a:pt x="713" y="0"/>
                </a:lnTo>
                <a:lnTo>
                  <a:pt x="713" y="126"/>
                </a:lnTo>
                <a:lnTo>
                  <a:pt x="708" y="132"/>
                </a:lnTo>
                <a:lnTo>
                  <a:pt x="5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2957400" y="3219480"/>
            <a:ext cx="1511280" cy="208080"/>
          </a:xfrm>
          <a:custGeom>
            <a:avLst/>
            <a:gdLst/>
            <a:ahLst/>
            <a:rect l="l" t="t" r="r" b="b"/>
            <a:pathLst>
              <a:path w="878" h="131">
                <a:moveTo>
                  <a:pt x="11" y="0"/>
                </a:moveTo>
                <a:lnTo>
                  <a:pt x="11" y="120"/>
                </a:lnTo>
                <a:lnTo>
                  <a:pt x="867" y="120"/>
                </a:lnTo>
                <a:lnTo>
                  <a:pt x="867" y="0"/>
                </a:lnTo>
                <a:lnTo>
                  <a:pt x="878" y="0"/>
                </a:lnTo>
                <a:lnTo>
                  <a:pt x="878" y="126"/>
                </a:lnTo>
                <a:lnTo>
                  <a:pt x="872" y="131"/>
                </a:lnTo>
                <a:lnTo>
                  <a:pt x="5" y="131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2957400" y="1913040"/>
            <a:ext cx="1650960" cy="1244520"/>
          </a:xfrm>
          <a:custGeom>
            <a:avLst/>
            <a:gdLst/>
            <a:ahLst/>
            <a:rect l="l" t="t" r="r" b="b"/>
            <a:pathLst>
              <a:path w="960" h="784">
                <a:moveTo>
                  <a:pt x="0" y="784"/>
                </a:moveTo>
                <a:lnTo>
                  <a:pt x="0" y="658"/>
                </a:lnTo>
                <a:lnTo>
                  <a:pt x="5" y="653"/>
                </a:lnTo>
                <a:lnTo>
                  <a:pt x="949" y="126"/>
                </a:lnTo>
                <a:lnTo>
                  <a:pt x="949" y="0"/>
                </a:lnTo>
                <a:lnTo>
                  <a:pt x="960" y="0"/>
                </a:lnTo>
                <a:lnTo>
                  <a:pt x="960" y="126"/>
                </a:lnTo>
                <a:lnTo>
                  <a:pt x="955" y="132"/>
                </a:lnTo>
                <a:lnTo>
                  <a:pt x="11" y="658"/>
                </a:lnTo>
                <a:lnTo>
                  <a:pt x="11" y="784"/>
                </a:lnTo>
                <a:lnTo>
                  <a:pt x="0" y="7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682560" y="3219480"/>
            <a:ext cx="1793880" cy="208080"/>
          </a:xfrm>
          <a:custGeom>
            <a:avLst/>
            <a:gdLst/>
            <a:ahLst/>
            <a:rect l="l" t="t" r="r" b="b"/>
            <a:pathLst>
              <a:path w="1043" h="131">
                <a:moveTo>
                  <a:pt x="11" y="0"/>
                </a:moveTo>
                <a:lnTo>
                  <a:pt x="11" y="120"/>
                </a:lnTo>
                <a:lnTo>
                  <a:pt x="1032" y="120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1"/>
                </a:lnTo>
                <a:lnTo>
                  <a:pt x="6" y="131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323280" y="1565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164680" y="1555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3872880" y="1555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332640" y="287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2164680" y="287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4015800" y="287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966240" y="130320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1117440" y="1390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2947680" y="130320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3098880" y="1390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4665240" y="254016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4816440" y="26352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2776680" y="4162320"/>
            <a:ext cx="36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2776680" y="4162320"/>
            <a:ext cx="360" cy="130644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2776680" y="4162320"/>
            <a:ext cx="36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2776680" y="4162320"/>
            <a:ext cx="360" cy="130644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689040" y="4003560"/>
            <a:ext cx="27468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0"/>
                </a:moveTo>
                <a:lnTo>
                  <a:pt x="5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44"/>
                </a:lnTo>
                <a:lnTo>
                  <a:pt x="153" y="50"/>
                </a:lnTo>
                <a:lnTo>
                  <a:pt x="159" y="77"/>
                </a:lnTo>
                <a:lnTo>
                  <a:pt x="159" y="77"/>
                </a:lnTo>
                <a:lnTo>
                  <a:pt x="153" y="110"/>
                </a:lnTo>
                <a:lnTo>
                  <a:pt x="153" y="115"/>
                </a:lnTo>
                <a:lnTo>
                  <a:pt x="137" y="137"/>
                </a:lnTo>
                <a:lnTo>
                  <a:pt x="137" y="137"/>
                </a:lnTo>
                <a:lnTo>
                  <a:pt x="115" y="154"/>
                </a:lnTo>
                <a:lnTo>
                  <a:pt x="109" y="154"/>
                </a:lnTo>
                <a:lnTo>
                  <a:pt x="82" y="159"/>
                </a:lnTo>
                <a:lnTo>
                  <a:pt x="82" y="159"/>
                </a:lnTo>
                <a:lnTo>
                  <a:pt x="49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5" y="115"/>
                </a:lnTo>
                <a:lnTo>
                  <a:pt x="5" y="110"/>
                </a:lnTo>
                <a:lnTo>
                  <a:pt x="0" y="77"/>
                </a:lnTo>
                <a:lnTo>
                  <a:pt x="16" y="77"/>
                </a:lnTo>
                <a:lnTo>
                  <a:pt x="22" y="110"/>
                </a:lnTo>
                <a:lnTo>
                  <a:pt x="33" y="126"/>
                </a:lnTo>
                <a:lnTo>
                  <a:pt x="49" y="137"/>
                </a:lnTo>
                <a:lnTo>
                  <a:pt x="82" y="143"/>
                </a:lnTo>
                <a:lnTo>
                  <a:pt x="109" y="137"/>
                </a:lnTo>
                <a:lnTo>
                  <a:pt x="126" y="126"/>
                </a:lnTo>
                <a:lnTo>
                  <a:pt x="137" y="110"/>
                </a:lnTo>
                <a:lnTo>
                  <a:pt x="142" y="77"/>
                </a:lnTo>
                <a:lnTo>
                  <a:pt x="137" y="50"/>
                </a:lnTo>
                <a:lnTo>
                  <a:pt x="126" y="33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33" y="33"/>
                </a:lnTo>
                <a:lnTo>
                  <a:pt x="16" y="55"/>
                </a:lnTo>
                <a:lnTo>
                  <a:pt x="5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689040" y="408312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765000" y="4091040"/>
            <a:ext cx="122400" cy="6012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6"/>
                </a:lnTo>
                <a:lnTo>
                  <a:pt x="22" y="0"/>
                </a:lnTo>
                <a:lnTo>
                  <a:pt x="33" y="22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811080" y="4238640"/>
            <a:ext cx="28800" cy="18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774720" y="4378320"/>
            <a:ext cx="1126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547560" y="4543560"/>
            <a:ext cx="53820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584280" y="585792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2397240" y="5857920"/>
            <a:ext cx="96336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2652840" y="4003560"/>
            <a:ext cx="27288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6" y="50"/>
                </a:moveTo>
                <a:lnTo>
                  <a:pt x="6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50" y="6"/>
                </a:lnTo>
                <a:lnTo>
                  <a:pt x="77" y="0"/>
                </a:lnTo>
                <a:lnTo>
                  <a:pt x="77" y="0"/>
                </a:lnTo>
                <a:lnTo>
                  <a:pt x="110" y="6"/>
                </a:lnTo>
                <a:lnTo>
                  <a:pt x="116" y="6"/>
                </a:lnTo>
                <a:lnTo>
                  <a:pt x="137" y="22"/>
                </a:lnTo>
                <a:lnTo>
                  <a:pt x="137" y="22"/>
                </a:lnTo>
                <a:lnTo>
                  <a:pt x="154" y="44"/>
                </a:lnTo>
                <a:lnTo>
                  <a:pt x="154" y="50"/>
                </a:lnTo>
                <a:lnTo>
                  <a:pt x="159" y="77"/>
                </a:lnTo>
                <a:lnTo>
                  <a:pt x="159" y="77"/>
                </a:lnTo>
                <a:lnTo>
                  <a:pt x="154" y="110"/>
                </a:lnTo>
                <a:lnTo>
                  <a:pt x="154" y="115"/>
                </a:lnTo>
                <a:lnTo>
                  <a:pt x="137" y="137"/>
                </a:lnTo>
                <a:lnTo>
                  <a:pt x="137" y="137"/>
                </a:lnTo>
                <a:lnTo>
                  <a:pt x="116" y="154"/>
                </a:lnTo>
                <a:lnTo>
                  <a:pt x="110" y="154"/>
                </a:lnTo>
                <a:lnTo>
                  <a:pt x="77" y="159"/>
                </a:lnTo>
                <a:lnTo>
                  <a:pt x="77" y="159"/>
                </a:lnTo>
                <a:lnTo>
                  <a:pt x="50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6" y="115"/>
                </a:lnTo>
                <a:lnTo>
                  <a:pt x="6" y="110"/>
                </a:lnTo>
                <a:lnTo>
                  <a:pt x="0" y="77"/>
                </a:lnTo>
                <a:lnTo>
                  <a:pt x="17" y="77"/>
                </a:lnTo>
                <a:lnTo>
                  <a:pt x="22" y="110"/>
                </a:lnTo>
                <a:lnTo>
                  <a:pt x="33" y="126"/>
                </a:lnTo>
                <a:lnTo>
                  <a:pt x="50" y="137"/>
                </a:lnTo>
                <a:lnTo>
                  <a:pt x="77" y="143"/>
                </a:lnTo>
                <a:lnTo>
                  <a:pt x="110" y="137"/>
                </a:lnTo>
                <a:lnTo>
                  <a:pt x="127" y="126"/>
                </a:lnTo>
                <a:lnTo>
                  <a:pt x="137" y="110"/>
                </a:lnTo>
                <a:lnTo>
                  <a:pt x="143" y="77"/>
                </a:lnTo>
                <a:lnTo>
                  <a:pt x="137" y="50"/>
                </a:lnTo>
                <a:lnTo>
                  <a:pt x="127" y="33"/>
                </a:lnTo>
                <a:lnTo>
                  <a:pt x="110" y="22"/>
                </a:lnTo>
                <a:lnTo>
                  <a:pt x="77" y="17"/>
                </a:lnTo>
                <a:lnTo>
                  <a:pt x="50" y="22"/>
                </a:lnTo>
                <a:lnTo>
                  <a:pt x="33" y="33"/>
                </a:lnTo>
                <a:lnTo>
                  <a:pt x="17" y="55"/>
                </a:lnTo>
                <a:lnTo>
                  <a:pt x="6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2652840" y="4083120"/>
            <a:ext cx="363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6" y="0"/>
                </a:lnTo>
                <a:lnTo>
                  <a:pt x="22" y="0"/>
                </a:lnTo>
                <a:lnTo>
                  <a:pt x="17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2727360" y="4091040"/>
            <a:ext cx="123840" cy="6012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6"/>
                </a:lnTo>
                <a:lnTo>
                  <a:pt x="17" y="0"/>
                </a:lnTo>
                <a:lnTo>
                  <a:pt x="33" y="22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2765520" y="4238640"/>
            <a:ext cx="28440" cy="18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2727360" y="4378320"/>
            <a:ext cx="11412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2359080" y="4543560"/>
            <a:ext cx="89856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4398840" y="5318280"/>
            <a:ext cx="27324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0"/>
                </a:moveTo>
                <a:lnTo>
                  <a:pt x="5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44"/>
                </a:lnTo>
                <a:lnTo>
                  <a:pt x="153" y="50"/>
                </a:lnTo>
                <a:lnTo>
                  <a:pt x="159" y="77"/>
                </a:lnTo>
                <a:lnTo>
                  <a:pt x="159" y="77"/>
                </a:lnTo>
                <a:lnTo>
                  <a:pt x="153" y="110"/>
                </a:lnTo>
                <a:lnTo>
                  <a:pt x="153" y="116"/>
                </a:lnTo>
                <a:lnTo>
                  <a:pt x="137" y="138"/>
                </a:lnTo>
                <a:lnTo>
                  <a:pt x="137" y="138"/>
                </a:lnTo>
                <a:lnTo>
                  <a:pt x="115" y="154"/>
                </a:lnTo>
                <a:lnTo>
                  <a:pt x="109" y="154"/>
                </a:lnTo>
                <a:lnTo>
                  <a:pt x="82" y="159"/>
                </a:lnTo>
                <a:lnTo>
                  <a:pt x="82" y="159"/>
                </a:lnTo>
                <a:lnTo>
                  <a:pt x="49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5" y="116"/>
                </a:lnTo>
                <a:lnTo>
                  <a:pt x="5" y="110"/>
                </a:lnTo>
                <a:lnTo>
                  <a:pt x="0" y="77"/>
                </a:lnTo>
                <a:lnTo>
                  <a:pt x="16" y="77"/>
                </a:lnTo>
                <a:lnTo>
                  <a:pt x="22" y="110"/>
                </a:lnTo>
                <a:lnTo>
                  <a:pt x="33" y="127"/>
                </a:lnTo>
                <a:lnTo>
                  <a:pt x="49" y="138"/>
                </a:lnTo>
                <a:lnTo>
                  <a:pt x="82" y="143"/>
                </a:lnTo>
                <a:lnTo>
                  <a:pt x="109" y="138"/>
                </a:lnTo>
                <a:lnTo>
                  <a:pt x="126" y="127"/>
                </a:lnTo>
                <a:lnTo>
                  <a:pt x="137" y="110"/>
                </a:lnTo>
                <a:lnTo>
                  <a:pt x="142" y="77"/>
                </a:lnTo>
                <a:lnTo>
                  <a:pt x="137" y="50"/>
                </a:lnTo>
                <a:lnTo>
                  <a:pt x="126" y="33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33" y="33"/>
                </a:lnTo>
                <a:lnTo>
                  <a:pt x="16" y="55"/>
                </a:lnTo>
                <a:lnTo>
                  <a:pt x="5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4398840" y="539748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4475160" y="5405400"/>
            <a:ext cx="122400" cy="61920"/>
          </a:xfrm>
          <a:custGeom>
            <a:avLst/>
            <a:gdLst/>
            <a:ahLst/>
            <a:rect l="l" t="t" r="r" b="b"/>
            <a:pathLst>
              <a:path w="71" h="39">
                <a:moveTo>
                  <a:pt x="0" y="22"/>
                </a:moveTo>
                <a:lnTo>
                  <a:pt x="11" y="6"/>
                </a:lnTo>
                <a:lnTo>
                  <a:pt x="16" y="0"/>
                </a:lnTo>
                <a:lnTo>
                  <a:pt x="32" y="22"/>
                </a:lnTo>
                <a:lnTo>
                  <a:pt x="49" y="39"/>
                </a:lnTo>
                <a:lnTo>
                  <a:pt x="60" y="39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4513320" y="5554800"/>
            <a:ext cx="270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4475160" y="5692680"/>
            <a:ext cx="111240" cy="157320"/>
          </a:xfrm>
          <a:custGeom>
            <a:avLst/>
            <a:gdLst/>
            <a:ahLst/>
            <a:rect l="l" t="t" r="r" b="b"/>
            <a:pathLst>
              <a:path w="65" h="99">
                <a:moveTo>
                  <a:pt x="32" y="99"/>
                </a:moveTo>
                <a:lnTo>
                  <a:pt x="0" y="0"/>
                </a:lnTo>
                <a:lnTo>
                  <a:pt x="32" y="22"/>
                </a:lnTo>
                <a:lnTo>
                  <a:pt x="65" y="0"/>
                </a:lnTo>
                <a:lnTo>
                  <a:pt x="32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4255920" y="585792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774720" y="4613400"/>
            <a:ext cx="1792440" cy="209520"/>
          </a:xfrm>
          <a:custGeom>
            <a:avLst/>
            <a:gdLst/>
            <a:ahLst/>
            <a:rect l="l" t="t" r="r" b="b"/>
            <a:pathLst>
              <a:path w="1043" h="132">
                <a:moveTo>
                  <a:pt x="11" y="0"/>
                </a:moveTo>
                <a:lnTo>
                  <a:pt x="11" y="121"/>
                </a:lnTo>
                <a:lnTo>
                  <a:pt x="1032" y="121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2"/>
                </a:lnTo>
                <a:lnTo>
                  <a:pt x="6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4133880" y="4552920"/>
            <a:ext cx="747720" cy="9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3049560" y="4613400"/>
            <a:ext cx="1225440" cy="209520"/>
          </a:xfrm>
          <a:custGeom>
            <a:avLst/>
            <a:gdLst/>
            <a:ahLst/>
            <a:rect l="l" t="t" r="r" b="b"/>
            <a:pathLst>
              <a:path w="713" h="132">
                <a:moveTo>
                  <a:pt x="11" y="0"/>
                </a:moveTo>
                <a:lnTo>
                  <a:pt x="11" y="121"/>
                </a:lnTo>
                <a:lnTo>
                  <a:pt x="702" y="121"/>
                </a:lnTo>
                <a:lnTo>
                  <a:pt x="702" y="0"/>
                </a:lnTo>
                <a:lnTo>
                  <a:pt x="713" y="0"/>
                </a:lnTo>
                <a:lnTo>
                  <a:pt x="713" y="126"/>
                </a:lnTo>
                <a:lnTo>
                  <a:pt x="708" y="132"/>
                </a:lnTo>
                <a:lnTo>
                  <a:pt x="5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3049560" y="5927760"/>
            <a:ext cx="1509840" cy="201600"/>
          </a:xfrm>
          <a:custGeom>
            <a:avLst/>
            <a:gdLst/>
            <a:ahLst/>
            <a:rect l="l" t="t" r="r" b="b"/>
            <a:pathLst>
              <a:path w="878" h="127">
                <a:moveTo>
                  <a:pt x="11" y="0"/>
                </a:moveTo>
                <a:lnTo>
                  <a:pt x="11" y="116"/>
                </a:lnTo>
                <a:lnTo>
                  <a:pt x="867" y="116"/>
                </a:lnTo>
                <a:lnTo>
                  <a:pt x="867" y="0"/>
                </a:lnTo>
                <a:lnTo>
                  <a:pt x="878" y="0"/>
                </a:lnTo>
                <a:lnTo>
                  <a:pt x="878" y="121"/>
                </a:lnTo>
                <a:lnTo>
                  <a:pt x="872" y="127"/>
                </a:lnTo>
                <a:lnTo>
                  <a:pt x="5" y="127"/>
                </a:lnTo>
                <a:lnTo>
                  <a:pt x="0" y="121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3049560" y="4613400"/>
            <a:ext cx="1650960" cy="1244520"/>
          </a:xfrm>
          <a:custGeom>
            <a:avLst/>
            <a:gdLst/>
            <a:ahLst/>
            <a:rect l="l" t="t" r="r" b="b"/>
            <a:pathLst>
              <a:path w="960" h="784">
                <a:moveTo>
                  <a:pt x="0" y="784"/>
                </a:moveTo>
                <a:lnTo>
                  <a:pt x="0" y="664"/>
                </a:lnTo>
                <a:lnTo>
                  <a:pt x="5" y="658"/>
                </a:lnTo>
                <a:lnTo>
                  <a:pt x="949" y="126"/>
                </a:lnTo>
                <a:lnTo>
                  <a:pt x="949" y="0"/>
                </a:lnTo>
                <a:lnTo>
                  <a:pt x="960" y="0"/>
                </a:lnTo>
                <a:lnTo>
                  <a:pt x="960" y="126"/>
                </a:lnTo>
                <a:lnTo>
                  <a:pt x="955" y="132"/>
                </a:lnTo>
                <a:lnTo>
                  <a:pt x="11" y="664"/>
                </a:lnTo>
                <a:lnTo>
                  <a:pt x="11" y="784"/>
                </a:lnTo>
                <a:lnTo>
                  <a:pt x="0" y="7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74720" y="5927760"/>
            <a:ext cx="1792440" cy="201600"/>
          </a:xfrm>
          <a:custGeom>
            <a:avLst/>
            <a:gdLst/>
            <a:ahLst/>
            <a:rect l="l" t="t" r="r" b="b"/>
            <a:pathLst>
              <a:path w="1043" h="127">
                <a:moveTo>
                  <a:pt x="11" y="0"/>
                </a:moveTo>
                <a:lnTo>
                  <a:pt x="11" y="116"/>
                </a:lnTo>
                <a:lnTo>
                  <a:pt x="1032" y="116"/>
                </a:lnTo>
                <a:lnTo>
                  <a:pt x="1032" y="0"/>
                </a:lnTo>
                <a:lnTo>
                  <a:pt x="1043" y="0"/>
                </a:lnTo>
                <a:lnTo>
                  <a:pt x="1043" y="121"/>
                </a:lnTo>
                <a:lnTo>
                  <a:pt x="1037" y="127"/>
                </a:lnTo>
                <a:lnTo>
                  <a:pt x="6" y="127"/>
                </a:lnTo>
                <a:lnTo>
                  <a:pt x="0" y="121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413640" y="4265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2255400" y="425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3963240" y="425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424800" y="5572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2255400" y="5572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4106160" y="5572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1056960" y="400356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209600" y="4098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3038040" y="400356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191040" y="4098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4757400" y="524016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4908600" y="5335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1937880" y="3656160"/>
            <a:ext cx="208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rea of Influence from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4106880" y="3743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7920" y="1741320"/>
            <a:ext cx="11160" cy="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2262240"/>
            <a:ext cx="19080" cy="1440"/>
          </a:xfrm>
          <a:custGeom>
            <a:avLst/>
            <a:gdLst/>
            <a:ahLst/>
            <a:rect l="l" t="t" r="r" b="b"/>
            <a:pathLst>
              <a:path w="11" h="0">
                <a:moveTo>
                  <a:pt x="11" y="0"/>
                </a:move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0" y="1741320"/>
            <a:ext cx="190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2754360" y="4562640"/>
            <a:ext cx="0" cy="1384200"/>
          </a:xfrm>
          <a:prstGeom prst="line">
            <a:avLst/>
          </a:prstGeom>
          <a:ln w="3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 flipV="1">
            <a:off x="3036960" y="5122440"/>
            <a:ext cx="1093680" cy="552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977760" y="5959440"/>
            <a:ext cx="0" cy="1792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2778120" y="5945040"/>
            <a:ext cx="0" cy="179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4386240" y="5918040"/>
            <a:ext cx="0" cy="179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885960" y="3228840"/>
            <a:ext cx="0" cy="179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2685960" y="3214800"/>
            <a:ext cx="0" cy="1792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4294080" y="3187800"/>
            <a:ext cx="0" cy="1792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822240" y="1595520"/>
            <a:ext cx="3552840" cy="1403280"/>
          </a:xfrm>
          <a:prstGeom prst="line">
            <a:avLst/>
          </a:prstGeom>
          <a:ln w="3816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5595840" y="1717560"/>
            <a:ext cx="38340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2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- Búsqueda de Camino razonable de flujo de la trans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2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- Costos a prorrata de usuarios que hacen uso de las instal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482760" y="216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"/>
          <p:cNvSpPr/>
          <p:nvPr/>
        </p:nvSpPr>
        <p:spPr>
          <a:xfrm>
            <a:off x="564480" y="32544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W-M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598320" y="1293840"/>
            <a:ext cx="273240" cy="253800"/>
          </a:xfrm>
          <a:custGeom>
            <a:avLst/>
            <a:gdLst/>
            <a:ahLst/>
            <a:rect l="l" t="t" r="r" b="b"/>
            <a:pathLst>
              <a:path w="159" h="160">
                <a:moveTo>
                  <a:pt x="5" y="55"/>
                </a:moveTo>
                <a:lnTo>
                  <a:pt x="5" y="50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50"/>
                </a:lnTo>
                <a:lnTo>
                  <a:pt x="153" y="55"/>
                </a:lnTo>
                <a:lnTo>
                  <a:pt x="159" y="83"/>
                </a:lnTo>
                <a:lnTo>
                  <a:pt x="159" y="83"/>
                </a:lnTo>
                <a:lnTo>
                  <a:pt x="153" y="110"/>
                </a:lnTo>
                <a:lnTo>
                  <a:pt x="153" y="116"/>
                </a:lnTo>
                <a:lnTo>
                  <a:pt x="137" y="138"/>
                </a:lnTo>
                <a:lnTo>
                  <a:pt x="137" y="138"/>
                </a:lnTo>
                <a:lnTo>
                  <a:pt x="115" y="154"/>
                </a:lnTo>
                <a:lnTo>
                  <a:pt x="109" y="154"/>
                </a:lnTo>
                <a:lnTo>
                  <a:pt x="82" y="160"/>
                </a:lnTo>
                <a:lnTo>
                  <a:pt x="82" y="160"/>
                </a:lnTo>
                <a:lnTo>
                  <a:pt x="49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5" y="116"/>
                </a:lnTo>
                <a:lnTo>
                  <a:pt x="5" y="110"/>
                </a:lnTo>
                <a:lnTo>
                  <a:pt x="0" y="83"/>
                </a:lnTo>
                <a:lnTo>
                  <a:pt x="16" y="83"/>
                </a:lnTo>
                <a:lnTo>
                  <a:pt x="22" y="110"/>
                </a:lnTo>
                <a:lnTo>
                  <a:pt x="33" y="127"/>
                </a:lnTo>
                <a:lnTo>
                  <a:pt x="49" y="138"/>
                </a:lnTo>
                <a:lnTo>
                  <a:pt x="82" y="143"/>
                </a:lnTo>
                <a:lnTo>
                  <a:pt x="109" y="138"/>
                </a:lnTo>
                <a:lnTo>
                  <a:pt x="126" y="127"/>
                </a:lnTo>
                <a:lnTo>
                  <a:pt x="137" y="110"/>
                </a:lnTo>
                <a:lnTo>
                  <a:pt x="142" y="83"/>
                </a:lnTo>
                <a:lnTo>
                  <a:pt x="137" y="61"/>
                </a:lnTo>
                <a:lnTo>
                  <a:pt x="115" y="28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44" y="28"/>
                </a:lnTo>
                <a:lnTo>
                  <a:pt x="22" y="61"/>
                </a:lnTo>
                <a:lnTo>
                  <a:pt x="5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598320" y="1380960"/>
            <a:ext cx="38160" cy="4464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5" y="0"/>
                </a:lnTo>
                <a:lnTo>
                  <a:pt x="22" y="0"/>
                </a:lnTo>
                <a:lnTo>
                  <a:pt x="16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674640" y="1390680"/>
            <a:ext cx="122400" cy="6012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5"/>
                </a:lnTo>
                <a:lnTo>
                  <a:pt x="22" y="0"/>
                </a:lnTo>
                <a:lnTo>
                  <a:pt x="27" y="5"/>
                </a:lnTo>
                <a:lnTo>
                  <a:pt x="33" y="22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720720" y="1538280"/>
            <a:ext cx="270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682560" y="1677960"/>
            <a:ext cx="1144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455760" y="1843200"/>
            <a:ext cx="53784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493560" y="315756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2306520" y="3157560"/>
            <a:ext cx="962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2560680" y="1293840"/>
            <a:ext cx="272880" cy="253800"/>
          </a:xfrm>
          <a:custGeom>
            <a:avLst/>
            <a:gdLst/>
            <a:ahLst/>
            <a:rect l="l" t="t" r="r" b="b"/>
            <a:pathLst>
              <a:path w="159" h="160">
                <a:moveTo>
                  <a:pt x="6" y="55"/>
                </a:moveTo>
                <a:lnTo>
                  <a:pt x="6" y="50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50" y="6"/>
                </a:lnTo>
                <a:lnTo>
                  <a:pt x="77" y="0"/>
                </a:lnTo>
                <a:lnTo>
                  <a:pt x="77" y="0"/>
                </a:lnTo>
                <a:lnTo>
                  <a:pt x="110" y="6"/>
                </a:lnTo>
                <a:lnTo>
                  <a:pt x="116" y="6"/>
                </a:lnTo>
                <a:lnTo>
                  <a:pt x="137" y="22"/>
                </a:lnTo>
                <a:lnTo>
                  <a:pt x="137" y="22"/>
                </a:lnTo>
                <a:lnTo>
                  <a:pt x="154" y="50"/>
                </a:lnTo>
                <a:lnTo>
                  <a:pt x="154" y="55"/>
                </a:lnTo>
                <a:lnTo>
                  <a:pt x="159" y="83"/>
                </a:lnTo>
                <a:lnTo>
                  <a:pt x="159" y="83"/>
                </a:lnTo>
                <a:lnTo>
                  <a:pt x="154" y="110"/>
                </a:lnTo>
                <a:lnTo>
                  <a:pt x="154" y="116"/>
                </a:lnTo>
                <a:lnTo>
                  <a:pt x="137" y="138"/>
                </a:lnTo>
                <a:lnTo>
                  <a:pt x="137" y="138"/>
                </a:lnTo>
                <a:lnTo>
                  <a:pt x="116" y="154"/>
                </a:lnTo>
                <a:lnTo>
                  <a:pt x="110" y="154"/>
                </a:lnTo>
                <a:lnTo>
                  <a:pt x="77" y="160"/>
                </a:lnTo>
                <a:lnTo>
                  <a:pt x="77" y="160"/>
                </a:lnTo>
                <a:lnTo>
                  <a:pt x="50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6" y="116"/>
                </a:lnTo>
                <a:lnTo>
                  <a:pt x="6" y="110"/>
                </a:lnTo>
                <a:lnTo>
                  <a:pt x="0" y="83"/>
                </a:lnTo>
                <a:lnTo>
                  <a:pt x="17" y="83"/>
                </a:lnTo>
                <a:lnTo>
                  <a:pt x="22" y="110"/>
                </a:lnTo>
                <a:lnTo>
                  <a:pt x="33" y="127"/>
                </a:lnTo>
                <a:lnTo>
                  <a:pt x="50" y="138"/>
                </a:lnTo>
                <a:lnTo>
                  <a:pt x="77" y="143"/>
                </a:lnTo>
                <a:lnTo>
                  <a:pt x="110" y="138"/>
                </a:lnTo>
                <a:lnTo>
                  <a:pt x="127" y="127"/>
                </a:lnTo>
                <a:lnTo>
                  <a:pt x="137" y="110"/>
                </a:lnTo>
                <a:lnTo>
                  <a:pt x="143" y="83"/>
                </a:lnTo>
                <a:lnTo>
                  <a:pt x="137" y="61"/>
                </a:lnTo>
                <a:lnTo>
                  <a:pt x="116" y="28"/>
                </a:lnTo>
                <a:lnTo>
                  <a:pt x="110" y="22"/>
                </a:lnTo>
                <a:lnTo>
                  <a:pt x="77" y="17"/>
                </a:lnTo>
                <a:lnTo>
                  <a:pt x="50" y="22"/>
                </a:lnTo>
                <a:lnTo>
                  <a:pt x="44" y="28"/>
                </a:lnTo>
                <a:lnTo>
                  <a:pt x="22" y="61"/>
                </a:lnTo>
                <a:lnTo>
                  <a:pt x="6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2560680" y="1380960"/>
            <a:ext cx="38160" cy="4464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6" y="0"/>
                </a:lnTo>
                <a:lnTo>
                  <a:pt x="22" y="0"/>
                </a:lnTo>
                <a:lnTo>
                  <a:pt x="17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2637000" y="1390680"/>
            <a:ext cx="123840" cy="6012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5"/>
                </a:lnTo>
                <a:lnTo>
                  <a:pt x="17" y="0"/>
                </a:lnTo>
                <a:lnTo>
                  <a:pt x="33" y="22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2674800" y="1538280"/>
            <a:ext cx="288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2637000" y="1677960"/>
            <a:ext cx="1126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2268360" y="1843200"/>
            <a:ext cx="89712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4308480" y="2610000"/>
            <a:ext cx="27288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5"/>
                </a:moveTo>
                <a:lnTo>
                  <a:pt x="5" y="49"/>
                </a:lnTo>
                <a:lnTo>
                  <a:pt x="22" y="22"/>
                </a:lnTo>
                <a:lnTo>
                  <a:pt x="22" y="22"/>
                </a:lnTo>
                <a:lnTo>
                  <a:pt x="44" y="5"/>
                </a:lnTo>
                <a:lnTo>
                  <a:pt x="49" y="5"/>
                </a:lnTo>
                <a:lnTo>
                  <a:pt x="82" y="0"/>
                </a:lnTo>
                <a:lnTo>
                  <a:pt x="82" y="0"/>
                </a:lnTo>
                <a:lnTo>
                  <a:pt x="109" y="5"/>
                </a:lnTo>
                <a:lnTo>
                  <a:pt x="115" y="5"/>
                </a:lnTo>
                <a:lnTo>
                  <a:pt x="137" y="22"/>
                </a:lnTo>
                <a:lnTo>
                  <a:pt x="137" y="22"/>
                </a:lnTo>
                <a:lnTo>
                  <a:pt x="153" y="49"/>
                </a:lnTo>
                <a:lnTo>
                  <a:pt x="153" y="55"/>
                </a:lnTo>
                <a:lnTo>
                  <a:pt x="159" y="82"/>
                </a:lnTo>
                <a:lnTo>
                  <a:pt x="159" y="82"/>
                </a:lnTo>
                <a:lnTo>
                  <a:pt x="153" y="109"/>
                </a:lnTo>
                <a:lnTo>
                  <a:pt x="153" y="115"/>
                </a:lnTo>
                <a:lnTo>
                  <a:pt x="137" y="137"/>
                </a:lnTo>
                <a:lnTo>
                  <a:pt x="137" y="137"/>
                </a:lnTo>
                <a:lnTo>
                  <a:pt x="115" y="153"/>
                </a:lnTo>
                <a:lnTo>
                  <a:pt x="109" y="153"/>
                </a:lnTo>
                <a:lnTo>
                  <a:pt x="82" y="159"/>
                </a:lnTo>
                <a:lnTo>
                  <a:pt x="82" y="159"/>
                </a:lnTo>
                <a:lnTo>
                  <a:pt x="49" y="153"/>
                </a:lnTo>
                <a:lnTo>
                  <a:pt x="44" y="153"/>
                </a:lnTo>
                <a:lnTo>
                  <a:pt x="22" y="137"/>
                </a:lnTo>
                <a:lnTo>
                  <a:pt x="22" y="137"/>
                </a:lnTo>
                <a:lnTo>
                  <a:pt x="5" y="115"/>
                </a:lnTo>
                <a:lnTo>
                  <a:pt x="5" y="109"/>
                </a:lnTo>
                <a:lnTo>
                  <a:pt x="0" y="82"/>
                </a:lnTo>
                <a:lnTo>
                  <a:pt x="16" y="82"/>
                </a:lnTo>
                <a:lnTo>
                  <a:pt x="22" y="109"/>
                </a:lnTo>
                <a:lnTo>
                  <a:pt x="33" y="126"/>
                </a:lnTo>
                <a:lnTo>
                  <a:pt x="49" y="137"/>
                </a:lnTo>
                <a:lnTo>
                  <a:pt x="82" y="142"/>
                </a:lnTo>
                <a:lnTo>
                  <a:pt x="109" y="137"/>
                </a:lnTo>
                <a:lnTo>
                  <a:pt x="126" y="126"/>
                </a:lnTo>
                <a:lnTo>
                  <a:pt x="137" y="109"/>
                </a:lnTo>
                <a:lnTo>
                  <a:pt x="142" y="82"/>
                </a:lnTo>
                <a:lnTo>
                  <a:pt x="137" y="60"/>
                </a:lnTo>
                <a:lnTo>
                  <a:pt x="115" y="27"/>
                </a:lnTo>
                <a:lnTo>
                  <a:pt x="109" y="22"/>
                </a:lnTo>
                <a:lnTo>
                  <a:pt x="82" y="16"/>
                </a:lnTo>
                <a:lnTo>
                  <a:pt x="49" y="22"/>
                </a:lnTo>
                <a:lnTo>
                  <a:pt x="44" y="27"/>
                </a:lnTo>
                <a:lnTo>
                  <a:pt x="22" y="60"/>
                </a:lnTo>
                <a:lnTo>
                  <a:pt x="5" y="55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4308480" y="269712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4383000" y="2705040"/>
            <a:ext cx="122400" cy="6048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5"/>
                </a:lnTo>
                <a:lnTo>
                  <a:pt x="16" y="0"/>
                </a:lnTo>
                <a:lnTo>
                  <a:pt x="27" y="5"/>
                </a:lnTo>
                <a:lnTo>
                  <a:pt x="32" y="16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4421160" y="2852640"/>
            <a:ext cx="2844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4383000" y="2992320"/>
            <a:ext cx="112680" cy="157320"/>
          </a:xfrm>
          <a:custGeom>
            <a:avLst/>
            <a:gdLst/>
            <a:ahLst/>
            <a:rect l="l" t="t" r="r" b="b"/>
            <a:pathLst>
              <a:path w="65" h="99">
                <a:moveTo>
                  <a:pt x="32" y="99"/>
                </a:moveTo>
                <a:lnTo>
                  <a:pt x="0" y="0"/>
                </a:lnTo>
                <a:lnTo>
                  <a:pt x="32" y="22"/>
                </a:lnTo>
                <a:lnTo>
                  <a:pt x="65" y="0"/>
                </a:lnTo>
                <a:lnTo>
                  <a:pt x="32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4165560" y="315756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2674800" y="1913040"/>
            <a:ext cx="19080" cy="12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682560" y="1913040"/>
            <a:ext cx="1793880" cy="209520"/>
          </a:xfrm>
          <a:custGeom>
            <a:avLst/>
            <a:gdLst/>
            <a:ahLst/>
            <a:rect l="l" t="t" r="r" b="b"/>
            <a:pathLst>
              <a:path w="1043" h="132">
                <a:moveTo>
                  <a:pt x="11" y="0"/>
                </a:moveTo>
                <a:lnTo>
                  <a:pt x="11" y="121"/>
                </a:lnTo>
                <a:lnTo>
                  <a:pt x="1032" y="121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2"/>
                </a:lnTo>
                <a:lnTo>
                  <a:pt x="6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4043520" y="1852560"/>
            <a:ext cx="745920" cy="9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2957400" y="1913040"/>
            <a:ext cx="1227240" cy="209520"/>
          </a:xfrm>
          <a:custGeom>
            <a:avLst/>
            <a:gdLst/>
            <a:ahLst/>
            <a:rect l="l" t="t" r="r" b="b"/>
            <a:pathLst>
              <a:path w="713" h="132">
                <a:moveTo>
                  <a:pt x="11" y="0"/>
                </a:moveTo>
                <a:lnTo>
                  <a:pt x="11" y="121"/>
                </a:lnTo>
                <a:lnTo>
                  <a:pt x="702" y="121"/>
                </a:lnTo>
                <a:lnTo>
                  <a:pt x="702" y="0"/>
                </a:lnTo>
                <a:lnTo>
                  <a:pt x="713" y="0"/>
                </a:lnTo>
                <a:lnTo>
                  <a:pt x="713" y="126"/>
                </a:lnTo>
                <a:lnTo>
                  <a:pt x="708" y="132"/>
                </a:lnTo>
                <a:lnTo>
                  <a:pt x="5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2957400" y="3219480"/>
            <a:ext cx="1511280" cy="208080"/>
          </a:xfrm>
          <a:custGeom>
            <a:avLst/>
            <a:gdLst/>
            <a:ahLst/>
            <a:rect l="l" t="t" r="r" b="b"/>
            <a:pathLst>
              <a:path w="878" h="131">
                <a:moveTo>
                  <a:pt x="11" y="0"/>
                </a:moveTo>
                <a:lnTo>
                  <a:pt x="11" y="120"/>
                </a:lnTo>
                <a:lnTo>
                  <a:pt x="867" y="120"/>
                </a:lnTo>
                <a:lnTo>
                  <a:pt x="867" y="0"/>
                </a:lnTo>
                <a:lnTo>
                  <a:pt x="878" y="0"/>
                </a:lnTo>
                <a:lnTo>
                  <a:pt x="878" y="126"/>
                </a:lnTo>
                <a:lnTo>
                  <a:pt x="872" y="131"/>
                </a:lnTo>
                <a:lnTo>
                  <a:pt x="5" y="131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2957400" y="1913040"/>
            <a:ext cx="1650960" cy="1244520"/>
          </a:xfrm>
          <a:custGeom>
            <a:avLst/>
            <a:gdLst/>
            <a:ahLst/>
            <a:rect l="l" t="t" r="r" b="b"/>
            <a:pathLst>
              <a:path w="960" h="784">
                <a:moveTo>
                  <a:pt x="0" y="784"/>
                </a:moveTo>
                <a:lnTo>
                  <a:pt x="0" y="658"/>
                </a:lnTo>
                <a:lnTo>
                  <a:pt x="5" y="653"/>
                </a:lnTo>
                <a:lnTo>
                  <a:pt x="949" y="126"/>
                </a:lnTo>
                <a:lnTo>
                  <a:pt x="949" y="0"/>
                </a:lnTo>
                <a:lnTo>
                  <a:pt x="960" y="0"/>
                </a:lnTo>
                <a:lnTo>
                  <a:pt x="960" y="126"/>
                </a:lnTo>
                <a:lnTo>
                  <a:pt x="955" y="132"/>
                </a:lnTo>
                <a:lnTo>
                  <a:pt x="11" y="658"/>
                </a:lnTo>
                <a:lnTo>
                  <a:pt x="11" y="784"/>
                </a:lnTo>
                <a:lnTo>
                  <a:pt x="0" y="7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682560" y="3219480"/>
            <a:ext cx="1793880" cy="208080"/>
          </a:xfrm>
          <a:custGeom>
            <a:avLst/>
            <a:gdLst/>
            <a:ahLst/>
            <a:rect l="l" t="t" r="r" b="b"/>
            <a:pathLst>
              <a:path w="1043" h="131">
                <a:moveTo>
                  <a:pt x="11" y="0"/>
                </a:moveTo>
                <a:lnTo>
                  <a:pt x="11" y="120"/>
                </a:lnTo>
                <a:lnTo>
                  <a:pt x="1032" y="120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1"/>
                </a:lnTo>
                <a:lnTo>
                  <a:pt x="6" y="131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323280" y="1565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2164680" y="1555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3872880" y="1555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332640" y="287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2164680" y="287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4015800" y="287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966240" y="130320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1117440" y="1390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2947680" y="130320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3098880" y="13906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4665240" y="254016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4816440" y="263520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2776680" y="4162320"/>
            <a:ext cx="36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2776680" y="4162320"/>
            <a:ext cx="360" cy="130644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2776680" y="4162320"/>
            <a:ext cx="36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2776680" y="4162320"/>
            <a:ext cx="360" cy="130644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689040" y="4003560"/>
            <a:ext cx="27468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0"/>
                </a:moveTo>
                <a:lnTo>
                  <a:pt x="5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44"/>
                </a:lnTo>
                <a:lnTo>
                  <a:pt x="153" y="50"/>
                </a:lnTo>
                <a:lnTo>
                  <a:pt x="159" y="77"/>
                </a:lnTo>
                <a:lnTo>
                  <a:pt x="159" y="77"/>
                </a:lnTo>
                <a:lnTo>
                  <a:pt x="153" y="110"/>
                </a:lnTo>
                <a:lnTo>
                  <a:pt x="153" y="115"/>
                </a:lnTo>
                <a:lnTo>
                  <a:pt x="137" y="137"/>
                </a:lnTo>
                <a:lnTo>
                  <a:pt x="137" y="137"/>
                </a:lnTo>
                <a:lnTo>
                  <a:pt x="115" y="154"/>
                </a:lnTo>
                <a:lnTo>
                  <a:pt x="109" y="154"/>
                </a:lnTo>
                <a:lnTo>
                  <a:pt x="82" y="159"/>
                </a:lnTo>
                <a:lnTo>
                  <a:pt x="82" y="159"/>
                </a:lnTo>
                <a:lnTo>
                  <a:pt x="49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5" y="115"/>
                </a:lnTo>
                <a:lnTo>
                  <a:pt x="5" y="110"/>
                </a:lnTo>
                <a:lnTo>
                  <a:pt x="0" y="77"/>
                </a:lnTo>
                <a:lnTo>
                  <a:pt x="16" y="77"/>
                </a:lnTo>
                <a:lnTo>
                  <a:pt x="22" y="110"/>
                </a:lnTo>
                <a:lnTo>
                  <a:pt x="33" y="126"/>
                </a:lnTo>
                <a:lnTo>
                  <a:pt x="49" y="137"/>
                </a:lnTo>
                <a:lnTo>
                  <a:pt x="82" y="143"/>
                </a:lnTo>
                <a:lnTo>
                  <a:pt x="109" y="137"/>
                </a:lnTo>
                <a:lnTo>
                  <a:pt x="126" y="126"/>
                </a:lnTo>
                <a:lnTo>
                  <a:pt x="137" y="110"/>
                </a:lnTo>
                <a:lnTo>
                  <a:pt x="142" y="77"/>
                </a:lnTo>
                <a:lnTo>
                  <a:pt x="137" y="50"/>
                </a:lnTo>
                <a:lnTo>
                  <a:pt x="126" y="33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33" y="33"/>
                </a:lnTo>
                <a:lnTo>
                  <a:pt x="16" y="55"/>
                </a:lnTo>
                <a:lnTo>
                  <a:pt x="5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689040" y="408312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765000" y="4091040"/>
            <a:ext cx="122400" cy="6012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6"/>
                </a:lnTo>
                <a:lnTo>
                  <a:pt x="22" y="0"/>
                </a:lnTo>
                <a:lnTo>
                  <a:pt x="33" y="22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811080" y="4238640"/>
            <a:ext cx="28800" cy="18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774720" y="4378320"/>
            <a:ext cx="11268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547560" y="4543560"/>
            <a:ext cx="53820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584280" y="585792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2397240" y="5857920"/>
            <a:ext cx="96336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2652840" y="4003560"/>
            <a:ext cx="27288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6" y="50"/>
                </a:moveTo>
                <a:lnTo>
                  <a:pt x="6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50" y="6"/>
                </a:lnTo>
                <a:lnTo>
                  <a:pt x="77" y="0"/>
                </a:lnTo>
                <a:lnTo>
                  <a:pt x="77" y="0"/>
                </a:lnTo>
                <a:lnTo>
                  <a:pt x="110" y="6"/>
                </a:lnTo>
                <a:lnTo>
                  <a:pt x="116" y="6"/>
                </a:lnTo>
                <a:lnTo>
                  <a:pt x="137" y="22"/>
                </a:lnTo>
                <a:lnTo>
                  <a:pt x="137" y="22"/>
                </a:lnTo>
                <a:lnTo>
                  <a:pt x="154" y="44"/>
                </a:lnTo>
                <a:lnTo>
                  <a:pt x="154" y="50"/>
                </a:lnTo>
                <a:lnTo>
                  <a:pt x="159" y="77"/>
                </a:lnTo>
                <a:lnTo>
                  <a:pt x="159" y="77"/>
                </a:lnTo>
                <a:lnTo>
                  <a:pt x="154" y="110"/>
                </a:lnTo>
                <a:lnTo>
                  <a:pt x="154" y="115"/>
                </a:lnTo>
                <a:lnTo>
                  <a:pt x="137" y="137"/>
                </a:lnTo>
                <a:lnTo>
                  <a:pt x="137" y="137"/>
                </a:lnTo>
                <a:lnTo>
                  <a:pt x="116" y="154"/>
                </a:lnTo>
                <a:lnTo>
                  <a:pt x="110" y="154"/>
                </a:lnTo>
                <a:lnTo>
                  <a:pt x="77" y="159"/>
                </a:lnTo>
                <a:lnTo>
                  <a:pt x="77" y="159"/>
                </a:lnTo>
                <a:lnTo>
                  <a:pt x="50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6" y="115"/>
                </a:lnTo>
                <a:lnTo>
                  <a:pt x="6" y="110"/>
                </a:lnTo>
                <a:lnTo>
                  <a:pt x="0" y="77"/>
                </a:lnTo>
                <a:lnTo>
                  <a:pt x="17" y="77"/>
                </a:lnTo>
                <a:lnTo>
                  <a:pt x="22" y="110"/>
                </a:lnTo>
                <a:lnTo>
                  <a:pt x="33" y="126"/>
                </a:lnTo>
                <a:lnTo>
                  <a:pt x="50" y="137"/>
                </a:lnTo>
                <a:lnTo>
                  <a:pt x="77" y="143"/>
                </a:lnTo>
                <a:lnTo>
                  <a:pt x="110" y="137"/>
                </a:lnTo>
                <a:lnTo>
                  <a:pt x="127" y="126"/>
                </a:lnTo>
                <a:lnTo>
                  <a:pt x="137" y="110"/>
                </a:lnTo>
                <a:lnTo>
                  <a:pt x="143" y="77"/>
                </a:lnTo>
                <a:lnTo>
                  <a:pt x="137" y="50"/>
                </a:lnTo>
                <a:lnTo>
                  <a:pt x="127" y="33"/>
                </a:lnTo>
                <a:lnTo>
                  <a:pt x="110" y="22"/>
                </a:lnTo>
                <a:lnTo>
                  <a:pt x="77" y="17"/>
                </a:lnTo>
                <a:lnTo>
                  <a:pt x="50" y="22"/>
                </a:lnTo>
                <a:lnTo>
                  <a:pt x="33" y="33"/>
                </a:lnTo>
                <a:lnTo>
                  <a:pt x="17" y="55"/>
                </a:lnTo>
                <a:lnTo>
                  <a:pt x="6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2652840" y="4083120"/>
            <a:ext cx="363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6" y="0"/>
                </a:lnTo>
                <a:lnTo>
                  <a:pt x="22" y="0"/>
                </a:lnTo>
                <a:lnTo>
                  <a:pt x="17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2727360" y="4091040"/>
            <a:ext cx="123840" cy="6012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6"/>
                </a:lnTo>
                <a:lnTo>
                  <a:pt x="17" y="0"/>
                </a:lnTo>
                <a:lnTo>
                  <a:pt x="33" y="22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2765520" y="4238640"/>
            <a:ext cx="28440" cy="18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/>
          <p:nvPr/>
        </p:nvSpPr>
        <p:spPr>
          <a:xfrm>
            <a:off x="2727360" y="4378320"/>
            <a:ext cx="11412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2359080" y="4543560"/>
            <a:ext cx="89856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4398840" y="5318280"/>
            <a:ext cx="273240" cy="25236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50"/>
                </a:moveTo>
                <a:lnTo>
                  <a:pt x="5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49" y="6"/>
                </a:lnTo>
                <a:lnTo>
                  <a:pt x="82" y="0"/>
                </a:lnTo>
                <a:lnTo>
                  <a:pt x="82" y="0"/>
                </a:lnTo>
                <a:lnTo>
                  <a:pt x="109" y="6"/>
                </a:lnTo>
                <a:lnTo>
                  <a:pt x="115" y="6"/>
                </a:lnTo>
                <a:lnTo>
                  <a:pt x="137" y="22"/>
                </a:lnTo>
                <a:lnTo>
                  <a:pt x="137" y="22"/>
                </a:lnTo>
                <a:lnTo>
                  <a:pt x="153" y="44"/>
                </a:lnTo>
                <a:lnTo>
                  <a:pt x="153" y="50"/>
                </a:lnTo>
                <a:lnTo>
                  <a:pt x="159" y="77"/>
                </a:lnTo>
                <a:lnTo>
                  <a:pt x="159" y="77"/>
                </a:lnTo>
                <a:lnTo>
                  <a:pt x="153" y="110"/>
                </a:lnTo>
                <a:lnTo>
                  <a:pt x="153" y="116"/>
                </a:lnTo>
                <a:lnTo>
                  <a:pt x="137" y="138"/>
                </a:lnTo>
                <a:lnTo>
                  <a:pt x="137" y="138"/>
                </a:lnTo>
                <a:lnTo>
                  <a:pt x="115" y="154"/>
                </a:lnTo>
                <a:lnTo>
                  <a:pt x="109" y="154"/>
                </a:lnTo>
                <a:lnTo>
                  <a:pt x="82" y="159"/>
                </a:lnTo>
                <a:lnTo>
                  <a:pt x="82" y="159"/>
                </a:lnTo>
                <a:lnTo>
                  <a:pt x="49" y="154"/>
                </a:lnTo>
                <a:lnTo>
                  <a:pt x="44" y="154"/>
                </a:lnTo>
                <a:lnTo>
                  <a:pt x="22" y="138"/>
                </a:lnTo>
                <a:lnTo>
                  <a:pt x="22" y="138"/>
                </a:lnTo>
                <a:lnTo>
                  <a:pt x="5" y="116"/>
                </a:lnTo>
                <a:lnTo>
                  <a:pt x="5" y="110"/>
                </a:lnTo>
                <a:lnTo>
                  <a:pt x="0" y="77"/>
                </a:lnTo>
                <a:lnTo>
                  <a:pt x="16" y="77"/>
                </a:lnTo>
                <a:lnTo>
                  <a:pt x="22" y="110"/>
                </a:lnTo>
                <a:lnTo>
                  <a:pt x="33" y="127"/>
                </a:lnTo>
                <a:lnTo>
                  <a:pt x="49" y="138"/>
                </a:lnTo>
                <a:lnTo>
                  <a:pt x="82" y="143"/>
                </a:lnTo>
                <a:lnTo>
                  <a:pt x="109" y="138"/>
                </a:lnTo>
                <a:lnTo>
                  <a:pt x="126" y="127"/>
                </a:lnTo>
                <a:lnTo>
                  <a:pt x="137" y="110"/>
                </a:lnTo>
                <a:lnTo>
                  <a:pt x="142" y="77"/>
                </a:lnTo>
                <a:lnTo>
                  <a:pt x="137" y="50"/>
                </a:lnTo>
                <a:lnTo>
                  <a:pt x="126" y="33"/>
                </a:lnTo>
                <a:lnTo>
                  <a:pt x="109" y="22"/>
                </a:lnTo>
                <a:lnTo>
                  <a:pt x="82" y="17"/>
                </a:lnTo>
                <a:lnTo>
                  <a:pt x="49" y="22"/>
                </a:lnTo>
                <a:lnTo>
                  <a:pt x="33" y="33"/>
                </a:lnTo>
                <a:lnTo>
                  <a:pt x="16" y="55"/>
                </a:lnTo>
                <a:lnTo>
                  <a:pt x="5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4398840" y="5397480"/>
            <a:ext cx="3816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5" y="0"/>
                </a:lnTo>
                <a:lnTo>
                  <a:pt x="22" y="0"/>
                </a:lnTo>
                <a:lnTo>
                  <a:pt x="16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4475160" y="5405400"/>
            <a:ext cx="122400" cy="61920"/>
          </a:xfrm>
          <a:custGeom>
            <a:avLst/>
            <a:gdLst/>
            <a:ahLst/>
            <a:rect l="l" t="t" r="r" b="b"/>
            <a:pathLst>
              <a:path w="71" h="39">
                <a:moveTo>
                  <a:pt x="0" y="22"/>
                </a:moveTo>
                <a:lnTo>
                  <a:pt x="11" y="6"/>
                </a:lnTo>
                <a:lnTo>
                  <a:pt x="16" y="0"/>
                </a:lnTo>
                <a:lnTo>
                  <a:pt x="32" y="22"/>
                </a:lnTo>
                <a:lnTo>
                  <a:pt x="49" y="39"/>
                </a:lnTo>
                <a:lnTo>
                  <a:pt x="60" y="39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4513320" y="5554800"/>
            <a:ext cx="27000" cy="18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4475160" y="5692680"/>
            <a:ext cx="111240" cy="157320"/>
          </a:xfrm>
          <a:custGeom>
            <a:avLst/>
            <a:gdLst/>
            <a:ahLst/>
            <a:rect l="l" t="t" r="r" b="b"/>
            <a:pathLst>
              <a:path w="65" h="99">
                <a:moveTo>
                  <a:pt x="32" y="99"/>
                </a:moveTo>
                <a:lnTo>
                  <a:pt x="0" y="0"/>
                </a:lnTo>
                <a:lnTo>
                  <a:pt x="32" y="22"/>
                </a:lnTo>
                <a:lnTo>
                  <a:pt x="65" y="0"/>
                </a:lnTo>
                <a:lnTo>
                  <a:pt x="32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4255920" y="5857920"/>
            <a:ext cx="53028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774720" y="4613400"/>
            <a:ext cx="1792440" cy="209520"/>
          </a:xfrm>
          <a:custGeom>
            <a:avLst/>
            <a:gdLst/>
            <a:ahLst/>
            <a:rect l="l" t="t" r="r" b="b"/>
            <a:pathLst>
              <a:path w="1043" h="132">
                <a:moveTo>
                  <a:pt x="11" y="0"/>
                </a:moveTo>
                <a:lnTo>
                  <a:pt x="11" y="121"/>
                </a:lnTo>
                <a:lnTo>
                  <a:pt x="1032" y="121"/>
                </a:lnTo>
                <a:lnTo>
                  <a:pt x="1032" y="0"/>
                </a:lnTo>
                <a:lnTo>
                  <a:pt x="1043" y="0"/>
                </a:lnTo>
                <a:lnTo>
                  <a:pt x="1043" y="126"/>
                </a:lnTo>
                <a:lnTo>
                  <a:pt x="1037" y="132"/>
                </a:lnTo>
                <a:lnTo>
                  <a:pt x="6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fc0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4133880" y="4552920"/>
            <a:ext cx="747720" cy="9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3049560" y="4613400"/>
            <a:ext cx="1225440" cy="209520"/>
          </a:xfrm>
          <a:custGeom>
            <a:avLst/>
            <a:gdLst/>
            <a:ahLst/>
            <a:rect l="l" t="t" r="r" b="b"/>
            <a:pathLst>
              <a:path w="713" h="132">
                <a:moveTo>
                  <a:pt x="11" y="0"/>
                </a:moveTo>
                <a:lnTo>
                  <a:pt x="11" y="121"/>
                </a:lnTo>
                <a:lnTo>
                  <a:pt x="702" y="121"/>
                </a:lnTo>
                <a:lnTo>
                  <a:pt x="702" y="0"/>
                </a:lnTo>
                <a:lnTo>
                  <a:pt x="713" y="0"/>
                </a:lnTo>
                <a:lnTo>
                  <a:pt x="713" y="126"/>
                </a:lnTo>
                <a:lnTo>
                  <a:pt x="708" y="132"/>
                </a:lnTo>
                <a:lnTo>
                  <a:pt x="5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3049560" y="5927760"/>
            <a:ext cx="1509840" cy="201600"/>
          </a:xfrm>
          <a:custGeom>
            <a:avLst/>
            <a:gdLst/>
            <a:ahLst/>
            <a:rect l="l" t="t" r="r" b="b"/>
            <a:pathLst>
              <a:path w="878" h="127">
                <a:moveTo>
                  <a:pt x="11" y="0"/>
                </a:moveTo>
                <a:lnTo>
                  <a:pt x="11" y="116"/>
                </a:lnTo>
                <a:lnTo>
                  <a:pt x="867" y="116"/>
                </a:lnTo>
                <a:lnTo>
                  <a:pt x="867" y="0"/>
                </a:lnTo>
                <a:lnTo>
                  <a:pt x="878" y="0"/>
                </a:lnTo>
                <a:lnTo>
                  <a:pt x="878" y="121"/>
                </a:lnTo>
                <a:lnTo>
                  <a:pt x="872" y="127"/>
                </a:lnTo>
                <a:lnTo>
                  <a:pt x="5" y="127"/>
                </a:lnTo>
                <a:lnTo>
                  <a:pt x="0" y="121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3049560" y="4613400"/>
            <a:ext cx="1650960" cy="1244520"/>
          </a:xfrm>
          <a:custGeom>
            <a:avLst/>
            <a:gdLst/>
            <a:ahLst/>
            <a:rect l="l" t="t" r="r" b="b"/>
            <a:pathLst>
              <a:path w="960" h="784">
                <a:moveTo>
                  <a:pt x="0" y="784"/>
                </a:moveTo>
                <a:lnTo>
                  <a:pt x="0" y="664"/>
                </a:lnTo>
                <a:lnTo>
                  <a:pt x="5" y="658"/>
                </a:lnTo>
                <a:lnTo>
                  <a:pt x="949" y="126"/>
                </a:lnTo>
                <a:lnTo>
                  <a:pt x="949" y="0"/>
                </a:lnTo>
                <a:lnTo>
                  <a:pt x="960" y="0"/>
                </a:lnTo>
                <a:lnTo>
                  <a:pt x="960" y="126"/>
                </a:lnTo>
                <a:lnTo>
                  <a:pt x="955" y="132"/>
                </a:lnTo>
                <a:lnTo>
                  <a:pt x="11" y="664"/>
                </a:lnTo>
                <a:lnTo>
                  <a:pt x="11" y="784"/>
                </a:lnTo>
                <a:lnTo>
                  <a:pt x="0" y="7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774720" y="5927760"/>
            <a:ext cx="1792440" cy="201600"/>
          </a:xfrm>
          <a:custGeom>
            <a:avLst/>
            <a:gdLst/>
            <a:ahLst/>
            <a:rect l="l" t="t" r="r" b="b"/>
            <a:pathLst>
              <a:path w="1043" h="127">
                <a:moveTo>
                  <a:pt x="11" y="0"/>
                </a:moveTo>
                <a:lnTo>
                  <a:pt x="11" y="116"/>
                </a:lnTo>
                <a:lnTo>
                  <a:pt x="1032" y="116"/>
                </a:lnTo>
                <a:lnTo>
                  <a:pt x="1032" y="0"/>
                </a:lnTo>
                <a:lnTo>
                  <a:pt x="1043" y="0"/>
                </a:lnTo>
                <a:lnTo>
                  <a:pt x="1043" y="121"/>
                </a:lnTo>
                <a:lnTo>
                  <a:pt x="1037" y="127"/>
                </a:lnTo>
                <a:lnTo>
                  <a:pt x="6" y="127"/>
                </a:lnTo>
                <a:lnTo>
                  <a:pt x="0" y="121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413640" y="4265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2255400" y="425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3963240" y="425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424800" y="5572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2255400" y="5572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4106160" y="5572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1056960" y="400356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1209600" y="4098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3038040" y="400356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3191040" y="40989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4757400" y="524016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4908600" y="533556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1937880" y="3656160"/>
            <a:ext cx="208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Area of Influence from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4106880" y="37432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7920" y="1741320"/>
            <a:ext cx="11160" cy="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0" y="2262240"/>
            <a:ext cx="19080" cy="1440"/>
          </a:xfrm>
          <a:custGeom>
            <a:avLst/>
            <a:gdLst/>
            <a:ahLst/>
            <a:rect l="l" t="t" r="r" b="b"/>
            <a:pathLst>
              <a:path w="11" h="0">
                <a:moveTo>
                  <a:pt x="11" y="0"/>
                </a:moveTo>
                <a:lnTo>
                  <a:pt x="11" y="0"/>
                </a:lnTo>
                <a:lnTo>
                  <a:pt x="11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0" y="1741320"/>
            <a:ext cx="190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2754360" y="4562640"/>
            <a:ext cx="0" cy="1384200"/>
          </a:xfrm>
          <a:prstGeom prst="line">
            <a:avLst/>
          </a:prstGeom>
          <a:ln w="3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3036960" y="5122440"/>
            <a:ext cx="1093680" cy="552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977760" y="5959440"/>
            <a:ext cx="0" cy="1792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2778120" y="5945040"/>
            <a:ext cx="0" cy="179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4386240" y="5918040"/>
            <a:ext cx="0" cy="179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885960" y="3228840"/>
            <a:ext cx="0" cy="1796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2685960" y="3214800"/>
            <a:ext cx="0" cy="1792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4294080" y="3187800"/>
            <a:ext cx="0" cy="1792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5673600" y="1460520"/>
            <a:ext cx="383400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2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Simulación de flujos con y sin trans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2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Flujos resultantes se multiplican por largo de línea y por factor que refleja el costo por unidad de capacidad de la lín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2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Prorrateo en función de participación de transacciones respecto del to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6" name=""/>
              <p:cNvSpPr txBox="1"/>
              <p:nvPr/>
            </p:nvSpPr>
            <p:spPr>
              <a:xfrm>
                <a:off x="1376280" y="4273560"/>
                <a:ext cx="5256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7" name=""/>
              <p:cNvSpPr txBox="1"/>
              <p:nvPr/>
            </p:nvSpPr>
            <p:spPr>
              <a:xfrm>
                <a:off x="2765520" y="4992840"/>
                <a:ext cx="55224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8" name=""/>
              <p:cNvSpPr txBox="1"/>
              <p:nvPr/>
            </p:nvSpPr>
            <p:spPr>
              <a:xfrm>
                <a:off x="3639960" y="5697360"/>
                <a:ext cx="5526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79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"/>
          <p:cNvSpPr/>
          <p:nvPr/>
        </p:nvSpPr>
        <p:spPr>
          <a:xfrm>
            <a:off x="155520" y="330120"/>
            <a:ext cx="60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ago Estampilla (Modelo Austria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3824280" y="4162320"/>
            <a:ext cx="36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3824280" y="4162320"/>
            <a:ext cx="360" cy="130644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3824280" y="4162320"/>
            <a:ext cx="360" cy="1306440"/>
          </a:xfrm>
          <a:prstGeom prst="rect">
            <a:avLst/>
          </a:prstGeom>
          <a:solidFill>
            <a:srgbClr val="ff91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3824280" y="4162320"/>
            <a:ext cx="360" cy="1306440"/>
          </a:xfrm>
          <a:prstGeom prst="rect">
            <a:avLst/>
          </a:prstGeom>
          <a:solidFill>
            <a:srgbClr val="ff8c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1055520" y="1741320"/>
            <a:ext cx="11160" cy="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1047600" y="1741320"/>
            <a:ext cx="190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1467000" y="2367000"/>
            <a:ext cx="3817800" cy="1278000"/>
          </a:xfrm>
          <a:custGeom>
            <a:avLst/>
            <a:gdLst/>
            <a:ahLst/>
            <a:rect l="l" t="t" r="r" b="b"/>
            <a:pathLst>
              <a:path w="4811" h="1611">
                <a:moveTo>
                  <a:pt x="268" y="0"/>
                </a:moveTo>
                <a:lnTo>
                  <a:pt x="241" y="2"/>
                </a:lnTo>
                <a:lnTo>
                  <a:pt x="214" y="5"/>
                </a:lnTo>
                <a:lnTo>
                  <a:pt x="189" y="12"/>
                </a:lnTo>
                <a:lnTo>
                  <a:pt x="164" y="22"/>
                </a:lnTo>
                <a:lnTo>
                  <a:pt x="140" y="32"/>
                </a:lnTo>
                <a:lnTo>
                  <a:pt x="118" y="46"/>
                </a:lnTo>
                <a:lnTo>
                  <a:pt x="98" y="61"/>
                </a:lnTo>
                <a:lnTo>
                  <a:pt x="80" y="80"/>
                </a:lnTo>
                <a:lnTo>
                  <a:pt x="61" y="98"/>
                </a:lnTo>
                <a:lnTo>
                  <a:pt x="46" y="118"/>
                </a:lnTo>
                <a:lnTo>
                  <a:pt x="32" y="140"/>
                </a:lnTo>
                <a:lnTo>
                  <a:pt x="22" y="164"/>
                </a:lnTo>
                <a:lnTo>
                  <a:pt x="12" y="189"/>
                </a:lnTo>
                <a:lnTo>
                  <a:pt x="5" y="214"/>
                </a:lnTo>
                <a:lnTo>
                  <a:pt x="2" y="241"/>
                </a:lnTo>
                <a:lnTo>
                  <a:pt x="0" y="268"/>
                </a:lnTo>
                <a:lnTo>
                  <a:pt x="0" y="1343"/>
                </a:lnTo>
                <a:lnTo>
                  <a:pt x="2" y="1370"/>
                </a:lnTo>
                <a:lnTo>
                  <a:pt x="5" y="1397"/>
                </a:lnTo>
                <a:lnTo>
                  <a:pt x="12" y="1422"/>
                </a:lnTo>
                <a:lnTo>
                  <a:pt x="22" y="1447"/>
                </a:lnTo>
                <a:lnTo>
                  <a:pt x="32" y="1471"/>
                </a:lnTo>
                <a:lnTo>
                  <a:pt x="46" y="1493"/>
                </a:lnTo>
                <a:lnTo>
                  <a:pt x="61" y="1513"/>
                </a:lnTo>
                <a:lnTo>
                  <a:pt x="80" y="1533"/>
                </a:lnTo>
                <a:lnTo>
                  <a:pt x="98" y="1550"/>
                </a:lnTo>
                <a:lnTo>
                  <a:pt x="118" y="1565"/>
                </a:lnTo>
                <a:lnTo>
                  <a:pt x="140" y="1579"/>
                </a:lnTo>
                <a:lnTo>
                  <a:pt x="164" y="1591"/>
                </a:lnTo>
                <a:lnTo>
                  <a:pt x="189" y="1599"/>
                </a:lnTo>
                <a:lnTo>
                  <a:pt x="214" y="1606"/>
                </a:lnTo>
                <a:lnTo>
                  <a:pt x="241" y="1609"/>
                </a:lnTo>
                <a:lnTo>
                  <a:pt x="268" y="1611"/>
                </a:lnTo>
                <a:lnTo>
                  <a:pt x="4543" y="1611"/>
                </a:lnTo>
                <a:lnTo>
                  <a:pt x="4570" y="1609"/>
                </a:lnTo>
                <a:lnTo>
                  <a:pt x="4597" y="1606"/>
                </a:lnTo>
                <a:lnTo>
                  <a:pt x="4622" y="1599"/>
                </a:lnTo>
                <a:lnTo>
                  <a:pt x="4648" y="1591"/>
                </a:lnTo>
                <a:lnTo>
                  <a:pt x="4671" y="1579"/>
                </a:lnTo>
                <a:lnTo>
                  <a:pt x="4693" y="1565"/>
                </a:lnTo>
                <a:lnTo>
                  <a:pt x="4713" y="1550"/>
                </a:lnTo>
                <a:lnTo>
                  <a:pt x="4733" y="1533"/>
                </a:lnTo>
                <a:lnTo>
                  <a:pt x="4750" y="1513"/>
                </a:lnTo>
                <a:lnTo>
                  <a:pt x="4765" y="1493"/>
                </a:lnTo>
                <a:lnTo>
                  <a:pt x="4779" y="1471"/>
                </a:lnTo>
                <a:lnTo>
                  <a:pt x="4791" y="1447"/>
                </a:lnTo>
                <a:lnTo>
                  <a:pt x="4799" y="1422"/>
                </a:lnTo>
                <a:lnTo>
                  <a:pt x="4806" y="1397"/>
                </a:lnTo>
                <a:lnTo>
                  <a:pt x="4809" y="1370"/>
                </a:lnTo>
                <a:lnTo>
                  <a:pt x="4811" y="1343"/>
                </a:lnTo>
                <a:lnTo>
                  <a:pt x="4811" y="268"/>
                </a:lnTo>
                <a:lnTo>
                  <a:pt x="4809" y="241"/>
                </a:lnTo>
                <a:lnTo>
                  <a:pt x="4806" y="214"/>
                </a:lnTo>
                <a:lnTo>
                  <a:pt x="4799" y="189"/>
                </a:lnTo>
                <a:lnTo>
                  <a:pt x="4791" y="164"/>
                </a:lnTo>
                <a:lnTo>
                  <a:pt x="4779" y="140"/>
                </a:lnTo>
                <a:lnTo>
                  <a:pt x="4765" y="118"/>
                </a:lnTo>
                <a:lnTo>
                  <a:pt x="4750" y="98"/>
                </a:lnTo>
                <a:lnTo>
                  <a:pt x="4733" y="80"/>
                </a:lnTo>
                <a:lnTo>
                  <a:pt x="4713" y="61"/>
                </a:lnTo>
                <a:lnTo>
                  <a:pt x="4693" y="46"/>
                </a:lnTo>
                <a:lnTo>
                  <a:pt x="4671" y="32"/>
                </a:lnTo>
                <a:lnTo>
                  <a:pt x="4648" y="22"/>
                </a:lnTo>
                <a:lnTo>
                  <a:pt x="4622" y="12"/>
                </a:lnTo>
                <a:lnTo>
                  <a:pt x="4597" y="5"/>
                </a:lnTo>
                <a:lnTo>
                  <a:pt x="4570" y="2"/>
                </a:lnTo>
                <a:lnTo>
                  <a:pt x="4543" y="0"/>
                </a:lnTo>
                <a:lnTo>
                  <a:pt x="268" y="0"/>
                </a:lnTo>
                <a:close/>
              </a:path>
            </a:pathLst>
          </a:custGeom>
          <a:solidFill>
            <a:srgbClr val="eaeaea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1498680" y="852480"/>
            <a:ext cx="6226200" cy="1128600"/>
          </a:xfrm>
          <a:custGeom>
            <a:avLst/>
            <a:gdLst/>
            <a:ahLst/>
            <a:rect l="l" t="t" r="r" b="b"/>
            <a:pathLst>
              <a:path w="7842" h="1422">
                <a:moveTo>
                  <a:pt x="237" y="0"/>
                </a:moveTo>
                <a:lnTo>
                  <a:pt x="214" y="2"/>
                </a:lnTo>
                <a:lnTo>
                  <a:pt x="190" y="5"/>
                </a:lnTo>
                <a:lnTo>
                  <a:pt x="167" y="11"/>
                </a:lnTo>
                <a:lnTo>
                  <a:pt x="145" y="19"/>
                </a:lnTo>
                <a:lnTo>
                  <a:pt x="124" y="29"/>
                </a:lnTo>
                <a:lnTo>
                  <a:pt x="104" y="41"/>
                </a:lnTo>
                <a:lnTo>
                  <a:pt x="86" y="54"/>
                </a:lnTo>
                <a:lnTo>
                  <a:pt x="69" y="69"/>
                </a:lnTo>
                <a:lnTo>
                  <a:pt x="54" y="86"/>
                </a:lnTo>
                <a:lnTo>
                  <a:pt x="40" y="105"/>
                </a:lnTo>
                <a:lnTo>
                  <a:pt x="28" y="125"/>
                </a:lnTo>
                <a:lnTo>
                  <a:pt x="18" y="145"/>
                </a:lnTo>
                <a:lnTo>
                  <a:pt x="10" y="167"/>
                </a:lnTo>
                <a:lnTo>
                  <a:pt x="5" y="191"/>
                </a:lnTo>
                <a:lnTo>
                  <a:pt x="2" y="214"/>
                </a:lnTo>
                <a:lnTo>
                  <a:pt x="0" y="238"/>
                </a:lnTo>
                <a:lnTo>
                  <a:pt x="0" y="1185"/>
                </a:lnTo>
                <a:lnTo>
                  <a:pt x="2" y="1208"/>
                </a:lnTo>
                <a:lnTo>
                  <a:pt x="5" y="1232"/>
                </a:lnTo>
                <a:lnTo>
                  <a:pt x="10" y="1255"/>
                </a:lnTo>
                <a:lnTo>
                  <a:pt x="18" y="1277"/>
                </a:lnTo>
                <a:lnTo>
                  <a:pt x="28" y="1298"/>
                </a:lnTo>
                <a:lnTo>
                  <a:pt x="40" y="1318"/>
                </a:lnTo>
                <a:lnTo>
                  <a:pt x="54" y="1336"/>
                </a:lnTo>
                <a:lnTo>
                  <a:pt x="69" y="1353"/>
                </a:lnTo>
                <a:lnTo>
                  <a:pt x="86" y="1368"/>
                </a:lnTo>
                <a:lnTo>
                  <a:pt x="104" y="1382"/>
                </a:lnTo>
                <a:lnTo>
                  <a:pt x="124" y="1394"/>
                </a:lnTo>
                <a:lnTo>
                  <a:pt x="145" y="1404"/>
                </a:lnTo>
                <a:lnTo>
                  <a:pt x="167" y="1412"/>
                </a:lnTo>
                <a:lnTo>
                  <a:pt x="190" y="1417"/>
                </a:lnTo>
                <a:lnTo>
                  <a:pt x="214" y="1421"/>
                </a:lnTo>
                <a:lnTo>
                  <a:pt x="237" y="1422"/>
                </a:lnTo>
                <a:lnTo>
                  <a:pt x="7605" y="1422"/>
                </a:lnTo>
                <a:lnTo>
                  <a:pt x="7628" y="1421"/>
                </a:lnTo>
                <a:lnTo>
                  <a:pt x="7652" y="1417"/>
                </a:lnTo>
                <a:lnTo>
                  <a:pt x="7675" y="1412"/>
                </a:lnTo>
                <a:lnTo>
                  <a:pt x="7697" y="1404"/>
                </a:lnTo>
                <a:lnTo>
                  <a:pt x="7718" y="1394"/>
                </a:lnTo>
                <a:lnTo>
                  <a:pt x="7738" y="1382"/>
                </a:lnTo>
                <a:lnTo>
                  <a:pt x="7756" y="1368"/>
                </a:lnTo>
                <a:lnTo>
                  <a:pt x="7773" y="1353"/>
                </a:lnTo>
                <a:lnTo>
                  <a:pt x="7788" y="1336"/>
                </a:lnTo>
                <a:lnTo>
                  <a:pt x="7802" y="1318"/>
                </a:lnTo>
                <a:lnTo>
                  <a:pt x="7814" y="1298"/>
                </a:lnTo>
                <a:lnTo>
                  <a:pt x="7824" y="1277"/>
                </a:lnTo>
                <a:lnTo>
                  <a:pt x="7832" y="1255"/>
                </a:lnTo>
                <a:lnTo>
                  <a:pt x="7837" y="1232"/>
                </a:lnTo>
                <a:lnTo>
                  <a:pt x="7840" y="1208"/>
                </a:lnTo>
                <a:lnTo>
                  <a:pt x="7842" y="1185"/>
                </a:lnTo>
                <a:lnTo>
                  <a:pt x="7842" y="238"/>
                </a:lnTo>
                <a:lnTo>
                  <a:pt x="7840" y="214"/>
                </a:lnTo>
                <a:lnTo>
                  <a:pt x="7837" y="191"/>
                </a:lnTo>
                <a:lnTo>
                  <a:pt x="7832" y="167"/>
                </a:lnTo>
                <a:lnTo>
                  <a:pt x="7824" y="145"/>
                </a:lnTo>
                <a:lnTo>
                  <a:pt x="7814" y="125"/>
                </a:lnTo>
                <a:lnTo>
                  <a:pt x="7802" y="105"/>
                </a:lnTo>
                <a:lnTo>
                  <a:pt x="7788" y="86"/>
                </a:lnTo>
                <a:lnTo>
                  <a:pt x="7773" y="69"/>
                </a:lnTo>
                <a:lnTo>
                  <a:pt x="7756" y="54"/>
                </a:lnTo>
                <a:lnTo>
                  <a:pt x="7738" y="41"/>
                </a:lnTo>
                <a:lnTo>
                  <a:pt x="7718" y="29"/>
                </a:lnTo>
                <a:lnTo>
                  <a:pt x="7697" y="19"/>
                </a:lnTo>
                <a:lnTo>
                  <a:pt x="7675" y="11"/>
                </a:lnTo>
                <a:lnTo>
                  <a:pt x="7652" y="5"/>
                </a:lnTo>
                <a:lnTo>
                  <a:pt x="7628" y="2"/>
                </a:lnTo>
                <a:lnTo>
                  <a:pt x="7605" y="0"/>
                </a:lnTo>
                <a:lnTo>
                  <a:pt x="237" y="0"/>
                </a:lnTo>
                <a:close/>
              </a:path>
            </a:pathLst>
          </a:custGeom>
          <a:solidFill>
            <a:srgbClr val="eaeaea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6684840" y="907920"/>
            <a:ext cx="9273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066440" y="952560"/>
            <a:ext cx="46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Capa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066800" y="121140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Hö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3" name=""/>
          <p:cNvGrpSpPr/>
          <p:nvPr/>
        </p:nvGrpSpPr>
        <p:grpSpPr>
          <a:xfrm>
            <a:off x="1848960" y="936720"/>
            <a:ext cx="1510200" cy="1073880"/>
            <a:chOff x="1848960" y="936720"/>
            <a:chExt cx="1510200" cy="1073880"/>
          </a:xfrm>
        </p:grpSpPr>
        <p:sp>
          <p:nvSpPr>
            <p:cNvPr id="1694" name=""/>
            <p:cNvSpPr/>
            <p:nvPr/>
          </p:nvSpPr>
          <p:spPr>
            <a:xfrm>
              <a:off x="2157120" y="1730520"/>
              <a:ext cx="3384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290320" y="187308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g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710440" y="9367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679120" y="130320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994120" y="1042920"/>
              <a:ext cx="36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mbrut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080880" y="117144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949040" y="117144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g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190240" y="17557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274840" y="149400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855440" y="16113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2861640" y="1055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302920" y="1055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848960" y="10555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383560" y="16095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923120" y="17272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774160" y="130320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123720" y="11714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017160" y="11714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2956680" y="1171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385000" y="1171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2043360" y="1590840"/>
              <a:ext cx="151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523600" y="1035000"/>
              <a:ext cx="11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170440" y="1035000"/>
              <a:ext cx="151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703600" y="984240"/>
              <a:ext cx="194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2717640" y="1290600"/>
              <a:ext cx="92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9" name=""/>
          <p:cNvSpPr/>
          <p:nvPr/>
        </p:nvSpPr>
        <p:spPr>
          <a:xfrm>
            <a:off x="3676680" y="2373480"/>
            <a:ext cx="156528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3782160" y="2597040"/>
            <a:ext cx="119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Umspannung Hö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4952160" y="2597040"/>
            <a:ext cx="24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/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2" name=""/>
          <p:cNvGrpSpPr/>
          <p:nvPr/>
        </p:nvGrpSpPr>
        <p:grpSpPr>
          <a:xfrm>
            <a:off x="1671120" y="2449440"/>
            <a:ext cx="1754640" cy="1091520"/>
            <a:chOff x="1671120" y="2449440"/>
            <a:chExt cx="1754640" cy="1091520"/>
          </a:xfrm>
        </p:grpSpPr>
        <p:sp>
          <p:nvSpPr>
            <p:cNvPr id="1723" name=""/>
            <p:cNvSpPr/>
            <p:nvPr/>
          </p:nvSpPr>
          <p:spPr>
            <a:xfrm>
              <a:off x="1996920" y="3263760"/>
              <a:ext cx="10620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435400" y="3274920"/>
              <a:ext cx="36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mbrut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708280" y="3013200"/>
              <a:ext cx="36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mbrut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778840" y="2449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747520" y="281448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060720" y="2554200"/>
              <a:ext cx="36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mbrut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141000" y="2684520"/>
              <a:ext cx="3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803240" y="2554200"/>
              <a:ext cx="36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900" spc="-1" strike="noStrike">
                  <a:solidFill>
                    <a:srgbClr val="000000"/>
                  </a:solidFill>
                  <a:latin typeface="Times New Roman"/>
                </a:rPr>
                <a:t>mbrutt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302920" y="32893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576160" y="30272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439360" y="30272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054160" y="3027240"/>
              <a:ext cx="127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675800" y="31449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928600" y="25686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352240" y="25686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671120" y="25686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5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396160" y="340344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670840" y="3143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507400" y="3143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172240" y="314316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755000" y="32590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2840760" y="28144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182400" y="26845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076200" y="268452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018600" y="26845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445480" y="26845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764360" y="26845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2320200" y="3006720"/>
              <a:ext cx="11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883160" y="3124080"/>
              <a:ext cx="151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593440" y="2548080"/>
              <a:ext cx="111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221200" y="2548080"/>
              <a:ext cx="151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772000" y="2496960"/>
              <a:ext cx="1944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784240" y="2803680"/>
              <a:ext cx="92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6" name=""/>
          <p:cNvSpPr/>
          <p:nvPr/>
        </p:nvSpPr>
        <p:spPr>
          <a:xfrm>
            <a:off x="1539720" y="4937040"/>
            <a:ext cx="3143520" cy="1368360"/>
          </a:xfrm>
          <a:custGeom>
            <a:avLst/>
            <a:gdLst/>
            <a:ahLst/>
            <a:rect l="l" t="t" r="r" b="b"/>
            <a:pathLst>
              <a:path w="3962" h="1723">
                <a:moveTo>
                  <a:pt x="287" y="0"/>
                </a:moveTo>
                <a:lnTo>
                  <a:pt x="258" y="1"/>
                </a:lnTo>
                <a:lnTo>
                  <a:pt x="229" y="5"/>
                </a:lnTo>
                <a:lnTo>
                  <a:pt x="201" y="13"/>
                </a:lnTo>
                <a:lnTo>
                  <a:pt x="176" y="22"/>
                </a:lnTo>
                <a:lnTo>
                  <a:pt x="150" y="35"/>
                </a:lnTo>
                <a:lnTo>
                  <a:pt x="127" y="49"/>
                </a:lnTo>
                <a:lnTo>
                  <a:pt x="105" y="65"/>
                </a:lnTo>
                <a:lnTo>
                  <a:pt x="85" y="84"/>
                </a:lnTo>
                <a:lnTo>
                  <a:pt x="66" y="104"/>
                </a:lnTo>
                <a:lnTo>
                  <a:pt x="49" y="126"/>
                </a:lnTo>
                <a:lnTo>
                  <a:pt x="36" y="150"/>
                </a:lnTo>
                <a:lnTo>
                  <a:pt x="22" y="175"/>
                </a:lnTo>
                <a:lnTo>
                  <a:pt x="14" y="200"/>
                </a:lnTo>
                <a:lnTo>
                  <a:pt x="5" y="229"/>
                </a:lnTo>
                <a:lnTo>
                  <a:pt x="2" y="258"/>
                </a:lnTo>
                <a:lnTo>
                  <a:pt x="0" y="286"/>
                </a:lnTo>
                <a:lnTo>
                  <a:pt x="0" y="1435"/>
                </a:lnTo>
                <a:lnTo>
                  <a:pt x="2" y="1465"/>
                </a:lnTo>
                <a:lnTo>
                  <a:pt x="5" y="1494"/>
                </a:lnTo>
                <a:lnTo>
                  <a:pt x="14" y="1521"/>
                </a:lnTo>
                <a:lnTo>
                  <a:pt x="22" y="1548"/>
                </a:lnTo>
                <a:lnTo>
                  <a:pt x="36" y="1573"/>
                </a:lnTo>
                <a:lnTo>
                  <a:pt x="49" y="1597"/>
                </a:lnTo>
                <a:lnTo>
                  <a:pt x="66" y="1619"/>
                </a:lnTo>
                <a:lnTo>
                  <a:pt x="85" y="1639"/>
                </a:lnTo>
                <a:lnTo>
                  <a:pt x="105" y="1657"/>
                </a:lnTo>
                <a:lnTo>
                  <a:pt x="127" y="1674"/>
                </a:lnTo>
                <a:lnTo>
                  <a:pt x="150" y="1689"/>
                </a:lnTo>
                <a:lnTo>
                  <a:pt x="176" y="1701"/>
                </a:lnTo>
                <a:lnTo>
                  <a:pt x="201" y="1710"/>
                </a:lnTo>
                <a:lnTo>
                  <a:pt x="229" y="1718"/>
                </a:lnTo>
                <a:lnTo>
                  <a:pt x="258" y="1721"/>
                </a:lnTo>
                <a:lnTo>
                  <a:pt x="287" y="1723"/>
                </a:lnTo>
                <a:lnTo>
                  <a:pt x="3676" y="1723"/>
                </a:lnTo>
                <a:lnTo>
                  <a:pt x="3704" y="1721"/>
                </a:lnTo>
                <a:lnTo>
                  <a:pt x="3733" y="1718"/>
                </a:lnTo>
                <a:lnTo>
                  <a:pt x="3762" y="1710"/>
                </a:lnTo>
                <a:lnTo>
                  <a:pt x="3787" y="1701"/>
                </a:lnTo>
                <a:lnTo>
                  <a:pt x="3812" y="1689"/>
                </a:lnTo>
                <a:lnTo>
                  <a:pt x="3836" y="1674"/>
                </a:lnTo>
                <a:lnTo>
                  <a:pt x="3858" y="1657"/>
                </a:lnTo>
                <a:lnTo>
                  <a:pt x="3878" y="1639"/>
                </a:lnTo>
                <a:lnTo>
                  <a:pt x="3896" y="1619"/>
                </a:lnTo>
                <a:lnTo>
                  <a:pt x="3913" y="1597"/>
                </a:lnTo>
                <a:lnTo>
                  <a:pt x="3928" y="1573"/>
                </a:lnTo>
                <a:lnTo>
                  <a:pt x="3940" y="1548"/>
                </a:lnTo>
                <a:lnTo>
                  <a:pt x="3948" y="1521"/>
                </a:lnTo>
                <a:lnTo>
                  <a:pt x="3957" y="1494"/>
                </a:lnTo>
                <a:lnTo>
                  <a:pt x="3960" y="1465"/>
                </a:lnTo>
                <a:lnTo>
                  <a:pt x="3962" y="1435"/>
                </a:lnTo>
                <a:lnTo>
                  <a:pt x="3962" y="286"/>
                </a:lnTo>
                <a:lnTo>
                  <a:pt x="3960" y="258"/>
                </a:lnTo>
                <a:lnTo>
                  <a:pt x="3957" y="229"/>
                </a:lnTo>
                <a:lnTo>
                  <a:pt x="3948" y="200"/>
                </a:lnTo>
                <a:lnTo>
                  <a:pt x="3940" y="175"/>
                </a:lnTo>
                <a:lnTo>
                  <a:pt x="3928" y="150"/>
                </a:lnTo>
                <a:lnTo>
                  <a:pt x="3913" y="126"/>
                </a:lnTo>
                <a:lnTo>
                  <a:pt x="3896" y="104"/>
                </a:lnTo>
                <a:lnTo>
                  <a:pt x="3878" y="84"/>
                </a:lnTo>
                <a:lnTo>
                  <a:pt x="3858" y="65"/>
                </a:lnTo>
                <a:lnTo>
                  <a:pt x="3836" y="49"/>
                </a:lnTo>
                <a:lnTo>
                  <a:pt x="3812" y="35"/>
                </a:lnTo>
                <a:lnTo>
                  <a:pt x="3787" y="22"/>
                </a:lnTo>
                <a:lnTo>
                  <a:pt x="3762" y="13"/>
                </a:lnTo>
                <a:lnTo>
                  <a:pt x="3733" y="5"/>
                </a:lnTo>
                <a:lnTo>
                  <a:pt x="3704" y="1"/>
                </a:lnTo>
                <a:lnTo>
                  <a:pt x="3676" y="0"/>
                </a:lnTo>
                <a:lnTo>
                  <a:pt x="287" y="0"/>
                </a:lnTo>
                <a:close/>
              </a:path>
            </a:pathLst>
          </a:custGeom>
          <a:solidFill>
            <a:srgbClr val="eaeaea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7" name=""/>
          <p:cNvGrpSpPr/>
          <p:nvPr/>
        </p:nvGrpSpPr>
        <p:grpSpPr>
          <a:xfrm>
            <a:off x="1669680" y="5110200"/>
            <a:ext cx="1829160" cy="1029600"/>
            <a:chOff x="1669680" y="5110200"/>
            <a:chExt cx="1829160" cy="1029600"/>
          </a:xfrm>
        </p:grpSpPr>
        <p:sp>
          <p:nvSpPr>
            <p:cNvPr id="1758" name=""/>
            <p:cNvSpPr/>
            <p:nvPr/>
          </p:nvSpPr>
          <p:spPr>
            <a:xfrm>
              <a:off x="2070000" y="5800680"/>
              <a:ext cx="1428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2671200" y="5813280"/>
              <a:ext cx="445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100" spc="-1" strike="noStrike">
                  <a:solidFill>
                    <a:srgbClr val="000000"/>
                  </a:solidFill>
                  <a:latin typeface="Times New Roman"/>
                </a:rPr>
                <a:t>mbrut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3004560" y="5492880"/>
              <a:ext cx="445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100" spc="-1" strike="noStrike">
                  <a:solidFill>
                    <a:srgbClr val="000000"/>
                  </a:solidFill>
                  <a:latin typeface="Times New Roman"/>
                </a:rPr>
                <a:t>mbrut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832760" y="5118120"/>
              <a:ext cx="445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100" spc="-1" strike="noStrike">
                  <a:solidFill>
                    <a:srgbClr val="000000"/>
                  </a:solidFill>
                  <a:latin typeface="Times New Roman"/>
                </a:rPr>
                <a:t>mbrutt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507760" y="58323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839680" y="551196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651040" y="5511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203200" y="551196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1676160" y="565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506320" y="51372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1669680" y="5137200"/>
              <a:ext cx="14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620440" y="59720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953800" y="5651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745720" y="5651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2349000" y="56516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771200" y="5794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620440" y="5275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1782360" y="5275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514600" y="5484960"/>
              <a:ext cx="135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928880" y="5629320"/>
              <a:ext cx="182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344680" y="5110200"/>
              <a:ext cx="182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9" name=""/>
          <p:cNvSpPr/>
          <p:nvPr/>
        </p:nvSpPr>
        <p:spPr>
          <a:xfrm>
            <a:off x="5767560" y="2367000"/>
            <a:ext cx="1989000" cy="1279440"/>
          </a:xfrm>
          <a:custGeom>
            <a:avLst/>
            <a:gdLst/>
            <a:ahLst/>
            <a:rect l="l" t="t" r="r" b="b"/>
            <a:pathLst>
              <a:path w="2507" h="1612">
                <a:moveTo>
                  <a:pt x="268" y="0"/>
                </a:moveTo>
                <a:lnTo>
                  <a:pt x="241" y="2"/>
                </a:lnTo>
                <a:lnTo>
                  <a:pt x="214" y="5"/>
                </a:lnTo>
                <a:lnTo>
                  <a:pt x="189" y="12"/>
                </a:lnTo>
                <a:lnTo>
                  <a:pt x="164" y="22"/>
                </a:lnTo>
                <a:lnTo>
                  <a:pt x="140" y="32"/>
                </a:lnTo>
                <a:lnTo>
                  <a:pt x="118" y="46"/>
                </a:lnTo>
                <a:lnTo>
                  <a:pt x="98" y="61"/>
                </a:lnTo>
                <a:lnTo>
                  <a:pt x="79" y="80"/>
                </a:lnTo>
                <a:lnTo>
                  <a:pt x="61" y="98"/>
                </a:lnTo>
                <a:lnTo>
                  <a:pt x="46" y="118"/>
                </a:lnTo>
                <a:lnTo>
                  <a:pt x="32" y="140"/>
                </a:lnTo>
                <a:lnTo>
                  <a:pt x="22" y="164"/>
                </a:lnTo>
                <a:lnTo>
                  <a:pt x="12" y="189"/>
                </a:lnTo>
                <a:lnTo>
                  <a:pt x="5" y="214"/>
                </a:lnTo>
                <a:lnTo>
                  <a:pt x="2" y="241"/>
                </a:lnTo>
                <a:lnTo>
                  <a:pt x="0" y="268"/>
                </a:lnTo>
                <a:lnTo>
                  <a:pt x="0" y="1343"/>
                </a:lnTo>
                <a:lnTo>
                  <a:pt x="2" y="1370"/>
                </a:lnTo>
                <a:lnTo>
                  <a:pt x="5" y="1397"/>
                </a:lnTo>
                <a:lnTo>
                  <a:pt x="12" y="1424"/>
                </a:lnTo>
                <a:lnTo>
                  <a:pt x="22" y="1449"/>
                </a:lnTo>
                <a:lnTo>
                  <a:pt x="32" y="1473"/>
                </a:lnTo>
                <a:lnTo>
                  <a:pt x="46" y="1495"/>
                </a:lnTo>
                <a:lnTo>
                  <a:pt x="61" y="1515"/>
                </a:lnTo>
                <a:lnTo>
                  <a:pt x="79" y="1533"/>
                </a:lnTo>
                <a:lnTo>
                  <a:pt x="98" y="1552"/>
                </a:lnTo>
                <a:lnTo>
                  <a:pt x="118" y="1567"/>
                </a:lnTo>
                <a:lnTo>
                  <a:pt x="140" y="1580"/>
                </a:lnTo>
                <a:lnTo>
                  <a:pt x="164" y="1592"/>
                </a:lnTo>
                <a:lnTo>
                  <a:pt x="189" y="1601"/>
                </a:lnTo>
                <a:lnTo>
                  <a:pt x="214" y="1607"/>
                </a:lnTo>
                <a:lnTo>
                  <a:pt x="241" y="1611"/>
                </a:lnTo>
                <a:lnTo>
                  <a:pt x="268" y="1612"/>
                </a:lnTo>
                <a:lnTo>
                  <a:pt x="2239" y="1612"/>
                </a:lnTo>
                <a:lnTo>
                  <a:pt x="2266" y="1611"/>
                </a:lnTo>
                <a:lnTo>
                  <a:pt x="2293" y="1607"/>
                </a:lnTo>
                <a:lnTo>
                  <a:pt x="2318" y="1601"/>
                </a:lnTo>
                <a:lnTo>
                  <a:pt x="2343" y="1592"/>
                </a:lnTo>
                <a:lnTo>
                  <a:pt x="2367" y="1580"/>
                </a:lnTo>
                <a:lnTo>
                  <a:pt x="2389" y="1567"/>
                </a:lnTo>
                <a:lnTo>
                  <a:pt x="2409" y="1552"/>
                </a:lnTo>
                <a:lnTo>
                  <a:pt x="2429" y="1533"/>
                </a:lnTo>
                <a:lnTo>
                  <a:pt x="2446" y="1515"/>
                </a:lnTo>
                <a:lnTo>
                  <a:pt x="2461" y="1495"/>
                </a:lnTo>
                <a:lnTo>
                  <a:pt x="2475" y="1473"/>
                </a:lnTo>
                <a:lnTo>
                  <a:pt x="2486" y="1449"/>
                </a:lnTo>
                <a:lnTo>
                  <a:pt x="2495" y="1424"/>
                </a:lnTo>
                <a:lnTo>
                  <a:pt x="2502" y="1397"/>
                </a:lnTo>
                <a:lnTo>
                  <a:pt x="2505" y="1370"/>
                </a:lnTo>
                <a:lnTo>
                  <a:pt x="2507" y="1343"/>
                </a:lnTo>
                <a:lnTo>
                  <a:pt x="2507" y="268"/>
                </a:lnTo>
                <a:lnTo>
                  <a:pt x="2505" y="241"/>
                </a:lnTo>
                <a:lnTo>
                  <a:pt x="2502" y="214"/>
                </a:lnTo>
                <a:lnTo>
                  <a:pt x="2495" y="189"/>
                </a:lnTo>
                <a:lnTo>
                  <a:pt x="2486" y="164"/>
                </a:lnTo>
                <a:lnTo>
                  <a:pt x="2475" y="140"/>
                </a:lnTo>
                <a:lnTo>
                  <a:pt x="2461" y="118"/>
                </a:lnTo>
                <a:lnTo>
                  <a:pt x="2446" y="98"/>
                </a:lnTo>
                <a:lnTo>
                  <a:pt x="2429" y="80"/>
                </a:lnTo>
                <a:lnTo>
                  <a:pt x="2409" y="61"/>
                </a:lnTo>
                <a:lnTo>
                  <a:pt x="2389" y="46"/>
                </a:lnTo>
                <a:lnTo>
                  <a:pt x="2367" y="32"/>
                </a:lnTo>
                <a:lnTo>
                  <a:pt x="2343" y="22"/>
                </a:lnTo>
                <a:lnTo>
                  <a:pt x="2318" y="12"/>
                </a:lnTo>
                <a:lnTo>
                  <a:pt x="2293" y="5"/>
                </a:lnTo>
                <a:lnTo>
                  <a:pt x="2266" y="2"/>
                </a:lnTo>
                <a:lnTo>
                  <a:pt x="2239" y="0"/>
                </a:lnTo>
                <a:lnTo>
                  <a:pt x="268" y="0"/>
                </a:lnTo>
                <a:close/>
              </a:path>
            </a:pathLst>
          </a:custGeom>
          <a:solidFill>
            <a:srgbClr val="eaeaea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5005440" y="4937040"/>
            <a:ext cx="1347840" cy="1379520"/>
          </a:xfrm>
          <a:custGeom>
            <a:avLst/>
            <a:gdLst/>
            <a:ahLst/>
            <a:rect l="l" t="t" r="r" b="b"/>
            <a:pathLst>
              <a:path w="1698" h="1737">
                <a:moveTo>
                  <a:pt x="283" y="0"/>
                </a:moveTo>
                <a:lnTo>
                  <a:pt x="255" y="1"/>
                </a:lnTo>
                <a:lnTo>
                  <a:pt x="226" y="5"/>
                </a:lnTo>
                <a:lnTo>
                  <a:pt x="199" y="13"/>
                </a:lnTo>
                <a:lnTo>
                  <a:pt x="174" y="22"/>
                </a:lnTo>
                <a:lnTo>
                  <a:pt x="148" y="33"/>
                </a:lnTo>
                <a:lnTo>
                  <a:pt x="125" y="49"/>
                </a:lnTo>
                <a:lnTo>
                  <a:pt x="103" y="64"/>
                </a:lnTo>
                <a:lnTo>
                  <a:pt x="83" y="82"/>
                </a:lnTo>
                <a:lnTo>
                  <a:pt x="64" y="103"/>
                </a:lnTo>
                <a:lnTo>
                  <a:pt x="49" y="124"/>
                </a:lnTo>
                <a:lnTo>
                  <a:pt x="34" y="148"/>
                </a:lnTo>
                <a:lnTo>
                  <a:pt x="22" y="173"/>
                </a:lnTo>
                <a:lnTo>
                  <a:pt x="14" y="199"/>
                </a:lnTo>
                <a:lnTo>
                  <a:pt x="5" y="226"/>
                </a:lnTo>
                <a:lnTo>
                  <a:pt x="2" y="254"/>
                </a:lnTo>
                <a:lnTo>
                  <a:pt x="0" y="283"/>
                </a:lnTo>
                <a:lnTo>
                  <a:pt x="0" y="1454"/>
                </a:lnTo>
                <a:lnTo>
                  <a:pt x="2" y="1482"/>
                </a:lnTo>
                <a:lnTo>
                  <a:pt x="5" y="1511"/>
                </a:lnTo>
                <a:lnTo>
                  <a:pt x="14" y="1538"/>
                </a:lnTo>
                <a:lnTo>
                  <a:pt x="22" y="1565"/>
                </a:lnTo>
                <a:lnTo>
                  <a:pt x="34" y="1588"/>
                </a:lnTo>
                <a:lnTo>
                  <a:pt x="49" y="1612"/>
                </a:lnTo>
                <a:lnTo>
                  <a:pt x="64" y="1634"/>
                </a:lnTo>
                <a:lnTo>
                  <a:pt x="83" y="1654"/>
                </a:lnTo>
                <a:lnTo>
                  <a:pt x="103" y="1673"/>
                </a:lnTo>
                <a:lnTo>
                  <a:pt x="125" y="1688"/>
                </a:lnTo>
                <a:lnTo>
                  <a:pt x="148" y="1703"/>
                </a:lnTo>
                <a:lnTo>
                  <a:pt x="174" y="1715"/>
                </a:lnTo>
                <a:lnTo>
                  <a:pt x="199" y="1723"/>
                </a:lnTo>
                <a:lnTo>
                  <a:pt x="226" y="1732"/>
                </a:lnTo>
                <a:lnTo>
                  <a:pt x="255" y="1735"/>
                </a:lnTo>
                <a:lnTo>
                  <a:pt x="283" y="1737"/>
                </a:lnTo>
                <a:lnTo>
                  <a:pt x="1415" y="1737"/>
                </a:lnTo>
                <a:lnTo>
                  <a:pt x="1444" y="1735"/>
                </a:lnTo>
                <a:lnTo>
                  <a:pt x="1472" y="1732"/>
                </a:lnTo>
                <a:lnTo>
                  <a:pt x="1499" y="1723"/>
                </a:lnTo>
                <a:lnTo>
                  <a:pt x="1526" y="1715"/>
                </a:lnTo>
                <a:lnTo>
                  <a:pt x="1550" y="1703"/>
                </a:lnTo>
                <a:lnTo>
                  <a:pt x="1573" y="1688"/>
                </a:lnTo>
                <a:lnTo>
                  <a:pt x="1595" y="1673"/>
                </a:lnTo>
                <a:lnTo>
                  <a:pt x="1615" y="1654"/>
                </a:lnTo>
                <a:lnTo>
                  <a:pt x="1634" y="1634"/>
                </a:lnTo>
                <a:lnTo>
                  <a:pt x="1649" y="1612"/>
                </a:lnTo>
                <a:lnTo>
                  <a:pt x="1664" y="1588"/>
                </a:lnTo>
                <a:lnTo>
                  <a:pt x="1676" y="1565"/>
                </a:lnTo>
                <a:lnTo>
                  <a:pt x="1685" y="1538"/>
                </a:lnTo>
                <a:lnTo>
                  <a:pt x="1693" y="1511"/>
                </a:lnTo>
                <a:lnTo>
                  <a:pt x="1696" y="1482"/>
                </a:lnTo>
                <a:lnTo>
                  <a:pt x="1698" y="1454"/>
                </a:lnTo>
                <a:lnTo>
                  <a:pt x="1698" y="283"/>
                </a:lnTo>
                <a:lnTo>
                  <a:pt x="1696" y="254"/>
                </a:lnTo>
                <a:lnTo>
                  <a:pt x="1693" y="226"/>
                </a:lnTo>
                <a:lnTo>
                  <a:pt x="1685" y="199"/>
                </a:lnTo>
                <a:lnTo>
                  <a:pt x="1676" y="173"/>
                </a:lnTo>
                <a:lnTo>
                  <a:pt x="1664" y="148"/>
                </a:lnTo>
                <a:lnTo>
                  <a:pt x="1649" y="124"/>
                </a:lnTo>
                <a:lnTo>
                  <a:pt x="1634" y="103"/>
                </a:lnTo>
                <a:lnTo>
                  <a:pt x="1615" y="82"/>
                </a:lnTo>
                <a:lnTo>
                  <a:pt x="1595" y="64"/>
                </a:lnTo>
                <a:lnTo>
                  <a:pt x="1573" y="49"/>
                </a:lnTo>
                <a:lnTo>
                  <a:pt x="1550" y="33"/>
                </a:lnTo>
                <a:lnTo>
                  <a:pt x="1526" y="22"/>
                </a:lnTo>
                <a:lnTo>
                  <a:pt x="1499" y="13"/>
                </a:lnTo>
                <a:lnTo>
                  <a:pt x="1472" y="5"/>
                </a:lnTo>
                <a:lnTo>
                  <a:pt x="1444" y="1"/>
                </a:lnTo>
                <a:lnTo>
                  <a:pt x="1415" y="0"/>
                </a:lnTo>
                <a:lnTo>
                  <a:pt x="283" y="0"/>
                </a:lnTo>
                <a:close/>
              </a:path>
            </a:pathLst>
          </a:custGeom>
          <a:solidFill>
            <a:srgbClr val="eaeaea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5381640" y="2558880"/>
            <a:ext cx="3492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5520240" y="26100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4683240" y="5259240"/>
            <a:ext cx="3492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4821840" y="531036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3657600" y="4937040"/>
            <a:ext cx="9255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4343760" y="51624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5345280" y="4925880"/>
            <a:ext cx="9252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6031440" y="51498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3513240" y="3776760"/>
            <a:ext cx="2300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3655800" y="383220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3655800" y="419256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3655800" y="455292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6137280" y="2381400"/>
            <a:ext cx="156384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6242760" y="2604960"/>
            <a:ext cx="119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Umspannung Hö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7412760" y="2604960"/>
            <a:ext cx="24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/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3489480" y="1981080"/>
            <a:ext cx="255600" cy="385920"/>
          </a:xfrm>
          <a:custGeom>
            <a:avLst/>
            <a:gdLst/>
            <a:ahLst/>
            <a:rect l="l" t="t" r="r" b="b"/>
            <a:pathLst>
              <a:path w="324" h="485">
                <a:moveTo>
                  <a:pt x="0" y="364"/>
                </a:moveTo>
                <a:lnTo>
                  <a:pt x="81" y="364"/>
                </a:lnTo>
                <a:lnTo>
                  <a:pt x="81" y="0"/>
                </a:lnTo>
                <a:lnTo>
                  <a:pt x="243" y="0"/>
                </a:lnTo>
                <a:lnTo>
                  <a:pt x="243" y="364"/>
                </a:lnTo>
                <a:lnTo>
                  <a:pt x="324" y="364"/>
                </a:lnTo>
                <a:lnTo>
                  <a:pt x="162" y="485"/>
                </a:lnTo>
                <a:lnTo>
                  <a:pt x="0" y="364"/>
                </a:lnTo>
                <a:close/>
              </a:path>
            </a:pathLst>
          </a:custGeom>
          <a:solidFill>
            <a:srgbClr val="00cc99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6632640" y="1981080"/>
            <a:ext cx="257040" cy="385920"/>
          </a:xfrm>
          <a:custGeom>
            <a:avLst/>
            <a:gdLst/>
            <a:ahLst/>
            <a:rect l="l" t="t" r="r" b="b"/>
            <a:pathLst>
              <a:path w="323" h="485">
                <a:moveTo>
                  <a:pt x="0" y="364"/>
                </a:moveTo>
                <a:lnTo>
                  <a:pt x="81" y="364"/>
                </a:lnTo>
                <a:lnTo>
                  <a:pt x="81" y="0"/>
                </a:lnTo>
                <a:lnTo>
                  <a:pt x="242" y="0"/>
                </a:lnTo>
                <a:lnTo>
                  <a:pt x="242" y="364"/>
                </a:lnTo>
                <a:lnTo>
                  <a:pt x="323" y="364"/>
                </a:lnTo>
                <a:lnTo>
                  <a:pt x="161" y="485"/>
                </a:lnTo>
                <a:lnTo>
                  <a:pt x="0" y="364"/>
                </a:lnTo>
                <a:close/>
              </a:path>
            </a:pathLst>
          </a:custGeom>
          <a:solidFill>
            <a:srgbClr val="00cc99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2473200" y="2046240"/>
            <a:ext cx="10303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2581920" y="2090880"/>
            <a:ext cx="88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nergiebez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5616720" y="2046240"/>
            <a:ext cx="10317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5726880" y="2090880"/>
            <a:ext cx="88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nergiebez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4218120" y="3363840"/>
            <a:ext cx="1035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4548600" y="3408480"/>
            <a:ext cx="455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Zona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6661080" y="3340080"/>
            <a:ext cx="10429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7102440" y="3384720"/>
            <a:ext cx="46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Zona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3592440" y="6046920"/>
            <a:ext cx="10350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3923280" y="6091200"/>
            <a:ext cx="455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Zona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5219640" y="6064200"/>
            <a:ext cx="10429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5687280" y="6108840"/>
            <a:ext cx="50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Zona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0" name=""/>
          <p:cNvGrpSpPr/>
          <p:nvPr/>
        </p:nvGrpSpPr>
        <p:grpSpPr>
          <a:xfrm>
            <a:off x="4411800" y="1154160"/>
            <a:ext cx="102960" cy="320760"/>
            <a:chOff x="4411800" y="1154160"/>
            <a:chExt cx="102960" cy="320760"/>
          </a:xfrm>
        </p:grpSpPr>
        <p:sp>
          <p:nvSpPr>
            <p:cNvPr id="1811" name=""/>
            <p:cNvSpPr/>
            <p:nvPr/>
          </p:nvSpPr>
          <p:spPr>
            <a:xfrm>
              <a:off x="4454280" y="1154160"/>
              <a:ext cx="1728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4411800" y="1371600"/>
              <a:ext cx="102960" cy="103320"/>
            </a:xfrm>
            <a:custGeom>
              <a:avLst/>
              <a:gdLst/>
              <a:ahLst/>
              <a:rect l="l" t="t" r="r" b="b"/>
              <a:pathLst>
                <a:path w="130" h="130">
                  <a:moveTo>
                    <a:pt x="0" y="0"/>
                  </a:moveTo>
                  <a:lnTo>
                    <a:pt x="66" y="130"/>
                  </a:lnTo>
                  <a:lnTo>
                    <a:pt x="1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3" name=""/>
          <p:cNvSpPr/>
          <p:nvPr/>
        </p:nvSpPr>
        <p:spPr>
          <a:xfrm>
            <a:off x="4335480" y="1154160"/>
            <a:ext cx="2556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4527720" y="1217520"/>
            <a:ext cx="3124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4636800" y="126360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4733280" y="135720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7" name=""/>
          <p:cNvGrpSpPr/>
          <p:nvPr/>
        </p:nvGrpSpPr>
        <p:grpSpPr>
          <a:xfrm>
            <a:off x="3511440" y="3036960"/>
            <a:ext cx="103320" cy="320760"/>
            <a:chOff x="3511440" y="3036960"/>
            <a:chExt cx="103320" cy="320760"/>
          </a:xfrm>
        </p:grpSpPr>
        <p:sp>
          <p:nvSpPr>
            <p:cNvPr id="1818" name=""/>
            <p:cNvSpPr/>
            <p:nvPr/>
          </p:nvSpPr>
          <p:spPr>
            <a:xfrm>
              <a:off x="3555720" y="3036960"/>
              <a:ext cx="1584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511440" y="3254400"/>
              <a:ext cx="103320" cy="103320"/>
            </a:xfrm>
            <a:custGeom>
              <a:avLst/>
              <a:gdLst/>
              <a:ahLst/>
              <a:rect l="l" t="t" r="r" b="b"/>
              <a:pathLst>
                <a:path w="129" h="130">
                  <a:moveTo>
                    <a:pt x="0" y="0"/>
                  </a:moveTo>
                  <a:lnTo>
                    <a:pt x="65" y="130"/>
                  </a:lnTo>
                  <a:lnTo>
                    <a:pt x="1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0" name=""/>
          <p:cNvSpPr/>
          <p:nvPr/>
        </p:nvSpPr>
        <p:spPr>
          <a:xfrm>
            <a:off x="3435480" y="3036960"/>
            <a:ext cx="257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3627360" y="3100320"/>
            <a:ext cx="3128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3736440" y="31449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3832920" y="32385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4" name=""/>
          <p:cNvGrpSpPr/>
          <p:nvPr/>
        </p:nvGrpSpPr>
        <p:grpSpPr>
          <a:xfrm>
            <a:off x="5979960" y="3048120"/>
            <a:ext cx="103320" cy="320400"/>
            <a:chOff x="5979960" y="3048120"/>
            <a:chExt cx="103320" cy="320400"/>
          </a:xfrm>
        </p:grpSpPr>
        <p:sp>
          <p:nvSpPr>
            <p:cNvPr id="1825" name=""/>
            <p:cNvSpPr/>
            <p:nvPr/>
          </p:nvSpPr>
          <p:spPr>
            <a:xfrm>
              <a:off x="6024240" y="3048120"/>
              <a:ext cx="1620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979960" y="3267000"/>
              <a:ext cx="103320" cy="101520"/>
            </a:xfrm>
            <a:custGeom>
              <a:avLst/>
              <a:gdLst/>
              <a:ahLst/>
              <a:rect l="l" t="t" r="r" b="b"/>
              <a:pathLst>
                <a:path w="129" h="130">
                  <a:moveTo>
                    <a:pt x="0" y="0"/>
                  </a:moveTo>
                  <a:lnTo>
                    <a:pt x="65" y="130"/>
                  </a:lnTo>
                  <a:lnTo>
                    <a:pt x="1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7" name=""/>
          <p:cNvSpPr/>
          <p:nvPr/>
        </p:nvSpPr>
        <p:spPr>
          <a:xfrm>
            <a:off x="5904000" y="3048120"/>
            <a:ext cx="257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6097680" y="3112920"/>
            <a:ext cx="43020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6205320" y="31575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6303240" y="3251160"/>
            <a:ext cx="17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2(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1" name=""/>
          <p:cNvGrpSpPr/>
          <p:nvPr/>
        </p:nvGrpSpPr>
        <p:grpSpPr>
          <a:xfrm>
            <a:off x="3767040" y="5530680"/>
            <a:ext cx="102960" cy="322560"/>
            <a:chOff x="3767040" y="5530680"/>
            <a:chExt cx="102960" cy="322560"/>
          </a:xfrm>
        </p:grpSpPr>
        <p:sp>
          <p:nvSpPr>
            <p:cNvPr id="1832" name=""/>
            <p:cNvSpPr/>
            <p:nvPr/>
          </p:nvSpPr>
          <p:spPr>
            <a:xfrm>
              <a:off x="3811320" y="5530680"/>
              <a:ext cx="1584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767040" y="5749920"/>
              <a:ext cx="102960" cy="103320"/>
            </a:xfrm>
            <a:custGeom>
              <a:avLst/>
              <a:gdLst/>
              <a:ahLst/>
              <a:rect l="l" t="t" r="r" b="b"/>
              <a:pathLst>
                <a:path w="130" h="130">
                  <a:moveTo>
                    <a:pt x="0" y="0"/>
                  </a:moveTo>
                  <a:lnTo>
                    <a:pt x="66" y="130"/>
                  </a:lnTo>
                  <a:lnTo>
                    <a:pt x="13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4" name=""/>
          <p:cNvSpPr/>
          <p:nvPr/>
        </p:nvSpPr>
        <p:spPr>
          <a:xfrm>
            <a:off x="3691080" y="5530680"/>
            <a:ext cx="2556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3882960" y="5595840"/>
            <a:ext cx="31284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3992040" y="56404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4088520" y="5734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8" name=""/>
          <p:cNvGrpSpPr/>
          <p:nvPr/>
        </p:nvGrpSpPr>
        <p:grpSpPr>
          <a:xfrm>
            <a:off x="5299200" y="5541840"/>
            <a:ext cx="102960" cy="320760"/>
            <a:chOff x="5299200" y="5541840"/>
            <a:chExt cx="102960" cy="320760"/>
          </a:xfrm>
        </p:grpSpPr>
        <p:sp>
          <p:nvSpPr>
            <p:cNvPr id="1839" name=""/>
            <p:cNvSpPr/>
            <p:nvPr/>
          </p:nvSpPr>
          <p:spPr>
            <a:xfrm>
              <a:off x="5343480" y="5541840"/>
              <a:ext cx="15480" cy="220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299200" y="5759280"/>
              <a:ext cx="102960" cy="103320"/>
            </a:xfrm>
            <a:custGeom>
              <a:avLst/>
              <a:gdLst/>
              <a:ahLst/>
              <a:rect l="l" t="t" r="r" b="b"/>
              <a:pathLst>
                <a:path w="129" h="130">
                  <a:moveTo>
                    <a:pt x="0" y="0"/>
                  </a:moveTo>
                  <a:lnTo>
                    <a:pt x="65" y="130"/>
                  </a:lnTo>
                  <a:lnTo>
                    <a:pt x="1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1" name=""/>
          <p:cNvSpPr/>
          <p:nvPr/>
        </p:nvSpPr>
        <p:spPr>
          <a:xfrm>
            <a:off x="5222880" y="5541840"/>
            <a:ext cx="257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5415120" y="5607000"/>
            <a:ext cx="43020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5524200" y="56516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5620680" y="5745240"/>
            <a:ext cx="17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7(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3483000" y="3639960"/>
            <a:ext cx="257040" cy="385920"/>
          </a:xfrm>
          <a:custGeom>
            <a:avLst/>
            <a:gdLst/>
            <a:ahLst/>
            <a:rect l="l" t="t" r="r" b="b"/>
            <a:pathLst>
              <a:path w="324" h="485">
                <a:moveTo>
                  <a:pt x="0" y="364"/>
                </a:moveTo>
                <a:lnTo>
                  <a:pt x="81" y="364"/>
                </a:lnTo>
                <a:lnTo>
                  <a:pt x="81" y="0"/>
                </a:lnTo>
                <a:lnTo>
                  <a:pt x="243" y="0"/>
                </a:lnTo>
                <a:lnTo>
                  <a:pt x="243" y="364"/>
                </a:lnTo>
                <a:lnTo>
                  <a:pt x="324" y="364"/>
                </a:lnTo>
                <a:lnTo>
                  <a:pt x="162" y="485"/>
                </a:lnTo>
                <a:lnTo>
                  <a:pt x="0" y="364"/>
                </a:lnTo>
                <a:close/>
              </a:path>
            </a:pathLst>
          </a:custGeom>
          <a:solidFill>
            <a:srgbClr val="00cc99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2467080" y="3705120"/>
            <a:ext cx="10303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2577240" y="3749760"/>
            <a:ext cx="88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nergiebez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7160040" y="2403360"/>
            <a:ext cx="46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Capa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4674240" y="2419200"/>
            <a:ext cx="46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Capa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4104360" y="4976640"/>
            <a:ext cx="46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Capa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5511960" y="4259160"/>
            <a:ext cx="49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99"/>
                </a:solidFill>
                <a:latin typeface="Comic Sans MS"/>
              </a:rPr>
              <a:t>Señal de localización déb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I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1120" y="1688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1 Introducción 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25600" y="746280"/>
            <a:ext cx="766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90"/>
                </a:solidFill>
                <a:latin typeface="Comic Sans MS"/>
              </a:rPr>
              <a:t>Formación de Precios en Estructuras Bás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6560" y="1843200"/>
            <a:ext cx="1703520" cy="676080"/>
          </a:xfrm>
          <a:prstGeom prst="roundRect">
            <a:avLst>
              <a:gd name="adj" fmla="val 16667"/>
            </a:avLst>
          </a:prstGeom>
          <a:solidFill>
            <a:srgbClr val="afc7dd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87840" y="2070000"/>
            <a:ext cx="1791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Centrali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96040" y="1854360"/>
            <a:ext cx="2065320" cy="676080"/>
          </a:xfrm>
          <a:prstGeom prst="roundRect">
            <a:avLst>
              <a:gd name="adj" fmla="val 16667"/>
            </a:avLst>
          </a:prstGeom>
          <a:solidFill>
            <a:srgbClr val="afc7dd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53920" y="2081160"/>
            <a:ext cx="2227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Descentrali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3042000">
            <a:off x="6616800" y="1277640"/>
            <a:ext cx="861840" cy="566640"/>
          </a:xfrm>
          <a:custGeom>
            <a:avLst/>
            <a:gdLst>
              <a:gd name="textAreaLeft" fmla="*/ 0 w 861840"/>
              <a:gd name="textAreaRight" fmla="*/ 862200 w 861840"/>
              <a:gd name="textAreaTop" fmla="*/ 0 h 566640"/>
              <a:gd name="textAreaBottom" fmla="*/ 567000 h 566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afc7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rot="18558000">
            <a:off x="2675880" y="1260360"/>
            <a:ext cx="862200" cy="566640"/>
          </a:xfrm>
          <a:custGeom>
            <a:avLst/>
            <a:gdLst>
              <a:gd name="textAreaLeft" fmla="*/ -360 w 862200"/>
              <a:gd name="textAreaRight" fmla="*/ 862200 w 862200"/>
              <a:gd name="textAreaTop" fmla="*/ 0 h 566640"/>
              <a:gd name="textAreaBottom" fmla="*/ 567000 h 5666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afc7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5520" y="2844720"/>
            <a:ext cx="1703160" cy="6764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7120" y="3071880"/>
            <a:ext cx="15325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nop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00320" y="2843280"/>
            <a:ext cx="1703520" cy="6760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40400" y="2855880"/>
            <a:ext cx="1703520" cy="6764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13280" y="3019320"/>
            <a:ext cx="1269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Bilat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Fís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9640" y="2841480"/>
            <a:ext cx="1703520" cy="6764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7600" y="3005280"/>
            <a:ext cx="1520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Bilat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Fínanci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672920" y="2548080"/>
            <a:ext cx="925560" cy="244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35160" y="2560680"/>
            <a:ext cx="901800" cy="2300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214680" y="2584440"/>
            <a:ext cx="925560" cy="244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77280" y="2597040"/>
            <a:ext cx="901440" cy="2304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7840" y="3664080"/>
            <a:ext cx="1819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Costos Me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60560" y="3637080"/>
            <a:ext cx="34610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8a"/>
                </a:solidFill>
                <a:latin typeface="Comic Sans MS"/>
              </a:rPr>
              <a:t>Pool forma general: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- Costos Marginales CP, 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63800" y="4249800"/>
            <a:ext cx="24206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8a"/>
                </a:solidFill>
                <a:latin typeface="Comic Sans MS"/>
              </a:rPr>
              <a:t>Bolsas de Energía: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Precio de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Precio Ofer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79640" y="5064120"/>
            <a:ext cx="403236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8a"/>
                </a:solidFill>
                <a:latin typeface="Comic Sans MS"/>
              </a:rPr>
              <a:t>Actividades de Re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Costos Med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(control de eficienc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Peaj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Ingreso Tarif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52560" y="3670200"/>
            <a:ext cx="23126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8a"/>
                </a:solidFill>
                <a:latin typeface="Comic Sans MS"/>
              </a:rPr>
              <a:t>Precio de Contr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02120" y="2847960"/>
            <a:ext cx="1703160" cy="6764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30960" y="5054760"/>
            <a:ext cx="314496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8a"/>
                </a:solidFill>
                <a:latin typeface="Comic Sans MS"/>
              </a:rPr>
              <a:t>Actividades de Re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Costos Med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(control de eficienc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Peajes (contrat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11520" y="3070080"/>
            <a:ext cx="732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"/>
          <p:cNvSpPr/>
          <p:nvPr/>
        </p:nvSpPr>
        <p:spPr>
          <a:xfrm>
            <a:off x="495360" y="316440"/>
            <a:ext cx="91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Breve Caracterización de Metodolog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517680" y="828720"/>
            <a:ext cx="1641240" cy="57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Comic Sans MS"/>
              </a:rPr>
              <a:t>Metodolo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GGDF-14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GGDF-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BIALEKG–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BIALEKL–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KIRSCHEN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0000"/>
                </a:solidFill>
                <a:latin typeface="Comic Sans MS"/>
              </a:rPr>
              <a:t>GLDF-14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2870280" y="770040"/>
            <a:ext cx="620532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Comic Sans MS"/>
              </a:rPr>
              <a:t>Caracterís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Factores generalizados de distribución, ecuaciones flujo DC, independencia de barra de referencia, dependencia de topología de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Factores de distribución topológicos, principio de proporcionalidad en asignación de fluj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Análisis Topológico, definición de dominios y áreas comunes y principio de proporcionalidad de apor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Factores generalizados de distribución,  ecuaciones flujo DC, independencia de barra de referencia, dependencia de topología de 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73160" y="1467000"/>
            <a:ext cx="95533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185760" y="1441440"/>
            <a:ext cx="9553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185760" y="3016080"/>
            <a:ext cx="9553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198360" y="4299120"/>
            <a:ext cx="9553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210960" y="5378400"/>
            <a:ext cx="95536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 flipV="1">
            <a:off x="2440080" y="671040"/>
            <a:ext cx="4680" cy="5697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"/>
          <p:cNvSpPr/>
          <p:nvPr/>
        </p:nvSpPr>
        <p:spPr>
          <a:xfrm>
            <a:off x="571680" y="3420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Modelo del SIC Chile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6" name="" descr=""/>
          <p:cNvPicPr/>
          <p:nvPr/>
        </p:nvPicPr>
        <p:blipFill>
          <a:blip r:embed="rId1"/>
          <a:stretch/>
        </p:blipFill>
        <p:spPr>
          <a:xfrm>
            <a:off x="135000" y="773280"/>
            <a:ext cx="2441520" cy="5584680"/>
          </a:xfrm>
          <a:prstGeom prst="rect">
            <a:avLst/>
          </a:prstGeom>
          <a:ln w="0">
            <a:noFill/>
          </a:ln>
        </p:spPr>
      </p:pic>
      <p:pic>
        <p:nvPicPr>
          <p:cNvPr id="1867" name="" descr=""/>
          <p:cNvPicPr/>
          <p:nvPr/>
        </p:nvPicPr>
        <p:blipFill>
          <a:blip r:embed="rId2"/>
          <a:stretch/>
        </p:blipFill>
        <p:spPr>
          <a:xfrm>
            <a:off x="6039000" y="758880"/>
            <a:ext cx="3824280" cy="5611680"/>
          </a:xfrm>
          <a:prstGeom prst="rect">
            <a:avLst/>
          </a:prstGeom>
          <a:ln w="0">
            <a:noFill/>
          </a:ln>
        </p:spPr>
      </p:pic>
      <p:sp>
        <p:nvSpPr>
          <p:cNvPr id="1868" name=""/>
          <p:cNvSpPr/>
          <p:nvPr/>
        </p:nvSpPr>
        <p:spPr>
          <a:xfrm>
            <a:off x="2706840" y="733680"/>
            <a:ext cx="3044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1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dos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1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ínea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1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eneradores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1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Cargas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1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Hidrologías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1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Bloques/mes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1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Horizonte 2002-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1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SLACK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    Charrú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3630600" y="3481560"/>
            <a:ext cx="1324080" cy="1077840"/>
          </a:xfrm>
          <a:custGeom>
            <a:avLst/>
            <a:gdLst>
              <a:gd name="textAreaLeft" fmla="*/ 206640 w 1324080"/>
              <a:gd name="textAreaRight" fmla="*/ 1158840 w 1324080"/>
              <a:gd name="textAreaTop" fmla="*/ 269280 h 1077840"/>
              <a:gd name="textAreaBottom" fmla="*/ 808560 h 1077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8f8f8"/>
          </a:solidFill>
          <a:ln w="3240">
            <a:solidFill>
              <a:srgbClr val="000000"/>
            </a:solidFill>
            <a:miter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2817720" y="4756680"/>
            <a:ext cx="304488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1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lujos 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10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Principios de uso: </a:t>
            </a: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GGDF, GLDF, GGDFC, GLDFC, BIALEK, KIRSCHEN, ESTAMPILL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V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3" name="" descr=""/>
          <p:cNvPicPr/>
          <p:nvPr/>
        </p:nvPicPr>
        <p:blipFill>
          <a:blip r:embed="rId1"/>
          <a:stretch/>
        </p:blipFill>
        <p:spPr>
          <a:xfrm>
            <a:off x="7550280" y="760320"/>
            <a:ext cx="2301840" cy="5586480"/>
          </a:xfrm>
          <a:prstGeom prst="rect">
            <a:avLst/>
          </a:prstGeom>
          <a:ln w="0">
            <a:noFill/>
          </a:ln>
        </p:spPr>
      </p:pic>
      <p:pic>
        <p:nvPicPr>
          <p:cNvPr id="1874" name="" descr=""/>
          <p:cNvPicPr/>
          <p:nvPr/>
        </p:nvPicPr>
        <p:blipFill>
          <a:blip r:embed="rId2"/>
          <a:stretch/>
        </p:blipFill>
        <p:spPr>
          <a:xfrm>
            <a:off x="71280" y="749160"/>
            <a:ext cx="2419560" cy="5615280"/>
          </a:xfrm>
          <a:prstGeom prst="rect">
            <a:avLst/>
          </a:prstGeom>
          <a:ln w="0">
            <a:noFill/>
          </a:ln>
        </p:spPr>
      </p:pic>
      <p:pic>
        <p:nvPicPr>
          <p:cNvPr id="1875" name="" descr=""/>
          <p:cNvPicPr/>
          <p:nvPr/>
        </p:nvPicPr>
        <p:blipFill>
          <a:blip r:embed="rId3"/>
          <a:stretch/>
        </p:blipFill>
        <p:spPr>
          <a:xfrm>
            <a:off x="2565360" y="746280"/>
            <a:ext cx="2346480" cy="5611680"/>
          </a:xfrm>
          <a:prstGeom prst="rect">
            <a:avLst/>
          </a:prstGeom>
          <a:ln w="0">
            <a:noFill/>
          </a:ln>
        </p:spPr>
      </p:pic>
      <p:sp>
        <p:nvSpPr>
          <p:cNvPr id="1876" name=""/>
          <p:cNvSpPr/>
          <p:nvPr/>
        </p:nvSpPr>
        <p:spPr>
          <a:xfrm>
            <a:off x="1239840" y="789480"/>
            <a:ext cx="123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144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3754440" y="78804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ialek-12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8798040" y="780120"/>
            <a:ext cx="12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Kirschen-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9" name="" descr=""/>
          <p:cNvPicPr/>
          <p:nvPr/>
        </p:nvPicPr>
        <p:blipFill>
          <a:blip r:embed="rId4"/>
          <a:stretch/>
        </p:blipFill>
        <p:spPr>
          <a:xfrm>
            <a:off x="5021280" y="738360"/>
            <a:ext cx="2424240" cy="5630760"/>
          </a:xfrm>
          <a:prstGeom prst="rect">
            <a:avLst/>
          </a:prstGeom>
          <a:ln w="0">
            <a:noFill/>
          </a:ln>
        </p:spPr>
      </p:pic>
      <p:sp>
        <p:nvSpPr>
          <p:cNvPr id="1880" name=""/>
          <p:cNvSpPr/>
          <p:nvPr/>
        </p:nvSpPr>
        <p:spPr>
          <a:xfrm>
            <a:off x="6181560" y="819720"/>
            <a:ext cx="12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F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533520" y="3258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Centrales Hundidas -Caso Sauz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V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4" name="" descr=""/>
          <p:cNvPicPr/>
          <p:nvPr/>
        </p:nvPicPr>
        <p:blipFill>
          <a:blip r:embed="rId5"/>
          <a:stretch/>
        </p:blipFill>
        <p:spPr>
          <a:xfrm>
            <a:off x="5662440" y="399960"/>
            <a:ext cx="4218120" cy="3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5" name="" descr=""/>
          <p:cNvPicPr/>
          <p:nvPr/>
        </p:nvPicPr>
        <p:blipFill>
          <a:blip r:embed="rId1"/>
          <a:stretch/>
        </p:blipFill>
        <p:spPr>
          <a:xfrm>
            <a:off x="4284720" y="749160"/>
            <a:ext cx="3228840" cy="2360880"/>
          </a:xfrm>
          <a:prstGeom prst="rect">
            <a:avLst/>
          </a:prstGeom>
          <a:ln w="0">
            <a:noFill/>
          </a:ln>
        </p:spPr>
      </p:pic>
      <p:pic>
        <p:nvPicPr>
          <p:cNvPr id="1886" name="" descr=""/>
          <p:cNvPicPr/>
          <p:nvPr/>
        </p:nvPicPr>
        <p:blipFill>
          <a:blip r:embed="rId2"/>
          <a:stretch/>
        </p:blipFill>
        <p:spPr>
          <a:xfrm>
            <a:off x="184320" y="782640"/>
            <a:ext cx="3341520" cy="5564160"/>
          </a:xfrm>
          <a:prstGeom prst="rect">
            <a:avLst/>
          </a:prstGeom>
          <a:ln w="0">
            <a:noFill/>
          </a:ln>
        </p:spPr>
      </p:pic>
      <p:pic>
        <p:nvPicPr>
          <p:cNvPr id="1887" name="" descr=""/>
          <p:cNvPicPr/>
          <p:nvPr/>
        </p:nvPicPr>
        <p:blipFill>
          <a:blip r:embed="rId3"/>
          <a:stretch/>
        </p:blipFill>
        <p:spPr>
          <a:xfrm>
            <a:off x="8485200" y="824040"/>
            <a:ext cx="1238400" cy="2409840"/>
          </a:xfrm>
          <a:prstGeom prst="rect">
            <a:avLst/>
          </a:prstGeom>
          <a:ln w="0">
            <a:noFill/>
          </a:ln>
        </p:spPr>
      </p:pic>
      <p:sp>
        <p:nvSpPr>
          <p:cNvPr id="1888" name=""/>
          <p:cNvSpPr/>
          <p:nvPr/>
        </p:nvSpPr>
        <p:spPr>
          <a:xfrm>
            <a:off x="5950080" y="3093120"/>
            <a:ext cx="24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a50021"/>
                </a:solidFill>
                <a:latin typeface="Comic Sans MS"/>
              </a:rPr>
              <a:t>Flujo Polpaico-Quillo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9" name="" descr=""/>
          <p:cNvPicPr/>
          <p:nvPr/>
        </p:nvPicPr>
        <p:blipFill>
          <a:blip r:embed="rId4"/>
          <a:stretch/>
        </p:blipFill>
        <p:spPr>
          <a:xfrm>
            <a:off x="4446720" y="3402000"/>
            <a:ext cx="4728960" cy="2951280"/>
          </a:xfrm>
          <a:prstGeom prst="rect">
            <a:avLst/>
          </a:prstGeom>
          <a:ln w="0">
            <a:noFill/>
          </a:ln>
        </p:spPr>
      </p:pic>
      <p:sp>
        <p:nvSpPr>
          <p:cNvPr id="1890" name=""/>
          <p:cNvSpPr/>
          <p:nvPr/>
        </p:nvSpPr>
        <p:spPr>
          <a:xfrm>
            <a:off x="2225520" y="810000"/>
            <a:ext cx="123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144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487440" y="3276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Líneas con Inversión de Flujo, Polpaico-Quillo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V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4" name="" descr=""/>
          <p:cNvPicPr/>
          <p:nvPr/>
        </p:nvPicPr>
        <p:blipFill>
          <a:blip r:embed="rId1"/>
          <a:stretch/>
        </p:blipFill>
        <p:spPr>
          <a:xfrm>
            <a:off x="7491240" y="750960"/>
            <a:ext cx="2335320" cy="5603760"/>
          </a:xfrm>
          <a:prstGeom prst="rect">
            <a:avLst/>
          </a:prstGeom>
          <a:ln w="0">
            <a:noFill/>
          </a:ln>
        </p:spPr>
      </p:pic>
      <p:pic>
        <p:nvPicPr>
          <p:cNvPr id="1895" name="" descr=""/>
          <p:cNvPicPr/>
          <p:nvPr/>
        </p:nvPicPr>
        <p:blipFill>
          <a:blip r:embed="rId2"/>
          <a:stretch/>
        </p:blipFill>
        <p:spPr>
          <a:xfrm>
            <a:off x="65160" y="770040"/>
            <a:ext cx="2457360" cy="5572080"/>
          </a:xfrm>
          <a:prstGeom prst="rect">
            <a:avLst/>
          </a:prstGeom>
          <a:ln w="0">
            <a:noFill/>
          </a:ln>
        </p:spPr>
      </p:pic>
      <p:pic>
        <p:nvPicPr>
          <p:cNvPr id="1896" name="" descr=""/>
          <p:cNvPicPr/>
          <p:nvPr/>
        </p:nvPicPr>
        <p:blipFill>
          <a:blip r:embed="rId3"/>
          <a:stretch/>
        </p:blipFill>
        <p:spPr>
          <a:xfrm>
            <a:off x="2585880" y="738360"/>
            <a:ext cx="2351160" cy="5605200"/>
          </a:xfrm>
          <a:prstGeom prst="rect">
            <a:avLst/>
          </a:prstGeom>
          <a:ln w="0">
            <a:noFill/>
          </a:ln>
        </p:spPr>
      </p:pic>
      <p:sp>
        <p:nvSpPr>
          <p:cNvPr id="1897" name=""/>
          <p:cNvSpPr/>
          <p:nvPr/>
        </p:nvSpPr>
        <p:spPr>
          <a:xfrm>
            <a:off x="1282680" y="759240"/>
            <a:ext cx="123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144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3897360" y="75780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ialek-12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9" name=""/>
          <p:cNvGrpSpPr/>
          <p:nvPr/>
        </p:nvGrpSpPr>
        <p:grpSpPr>
          <a:xfrm>
            <a:off x="2727360" y="6448320"/>
            <a:ext cx="4957560" cy="371880"/>
            <a:chOff x="2727360" y="6448320"/>
            <a:chExt cx="4957560" cy="371880"/>
          </a:xfrm>
        </p:grpSpPr>
        <p:pic>
          <p:nvPicPr>
            <p:cNvPr id="1900" name="" descr=""/>
            <p:cNvPicPr/>
            <p:nvPr/>
          </p:nvPicPr>
          <p:blipFill>
            <a:blip r:embed="rId4"/>
            <a:stretch/>
          </p:blipFill>
          <p:spPr>
            <a:xfrm>
              <a:off x="2727360" y="6448320"/>
              <a:ext cx="4957560" cy="1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1" name=""/>
            <p:cNvSpPr/>
            <p:nvPr/>
          </p:nvSpPr>
          <p:spPr>
            <a:xfrm>
              <a:off x="2735280" y="6573960"/>
              <a:ext cx="4949640" cy="2462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No      1-10    10-20   20-30  30-40  40-50   50-60  60-70   70-80 80-90  90-100  &gt;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2" name=""/>
          <p:cNvSpPr/>
          <p:nvPr/>
        </p:nvSpPr>
        <p:spPr>
          <a:xfrm>
            <a:off x="8691480" y="749880"/>
            <a:ext cx="12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Kirschen-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3" name="" descr=""/>
          <p:cNvPicPr/>
          <p:nvPr/>
        </p:nvPicPr>
        <p:blipFill>
          <a:blip r:embed="rId5"/>
          <a:stretch/>
        </p:blipFill>
        <p:spPr>
          <a:xfrm>
            <a:off x="4992840" y="743040"/>
            <a:ext cx="2435040" cy="5611680"/>
          </a:xfrm>
          <a:prstGeom prst="rect">
            <a:avLst/>
          </a:prstGeom>
          <a:ln w="0">
            <a:noFill/>
          </a:ln>
        </p:spPr>
      </p:pic>
      <p:sp>
        <p:nvSpPr>
          <p:cNvPr id="1904" name=""/>
          <p:cNvSpPr/>
          <p:nvPr/>
        </p:nvSpPr>
        <p:spPr>
          <a:xfrm>
            <a:off x="6343560" y="7480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F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5" name="" descr=""/>
          <p:cNvPicPr/>
          <p:nvPr/>
        </p:nvPicPr>
        <p:blipFill>
          <a:blip r:embed="rId6"/>
          <a:stretch/>
        </p:blipFill>
        <p:spPr>
          <a:xfrm>
            <a:off x="8997840" y="198360"/>
            <a:ext cx="811440" cy="506520"/>
          </a:xfrm>
          <a:prstGeom prst="rect">
            <a:avLst/>
          </a:prstGeom>
          <a:ln w="0">
            <a:noFill/>
          </a:ln>
        </p:spPr>
      </p:pic>
      <p:sp>
        <p:nvSpPr>
          <p:cNvPr id="1906" name=""/>
          <p:cNvSpPr/>
          <p:nvPr/>
        </p:nvSpPr>
        <p:spPr>
          <a:xfrm>
            <a:off x="527040" y="3150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Líneas con Inversión de Flujo, Polpaico-Quillo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I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9" name="" descr=""/>
          <p:cNvPicPr/>
          <p:nvPr/>
        </p:nvPicPr>
        <p:blipFill>
          <a:blip r:embed="rId1"/>
          <a:stretch/>
        </p:blipFill>
        <p:spPr>
          <a:xfrm>
            <a:off x="4978440" y="730080"/>
            <a:ext cx="2517840" cy="5600880"/>
          </a:xfrm>
          <a:prstGeom prst="rect">
            <a:avLst/>
          </a:prstGeom>
          <a:ln w="0">
            <a:noFill/>
          </a:ln>
        </p:spPr>
      </p:pic>
      <p:pic>
        <p:nvPicPr>
          <p:cNvPr id="1910" name="" descr=""/>
          <p:cNvPicPr/>
          <p:nvPr/>
        </p:nvPicPr>
        <p:blipFill>
          <a:blip r:embed="rId2"/>
          <a:stretch/>
        </p:blipFill>
        <p:spPr>
          <a:xfrm>
            <a:off x="77760" y="750960"/>
            <a:ext cx="2405160" cy="5616360"/>
          </a:xfrm>
          <a:prstGeom prst="rect">
            <a:avLst/>
          </a:prstGeom>
          <a:ln w="0">
            <a:noFill/>
          </a:ln>
        </p:spPr>
      </p:pic>
      <p:sp>
        <p:nvSpPr>
          <p:cNvPr id="1911" name=""/>
          <p:cNvSpPr/>
          <p:nvPr/>
        </p:nvSpPr>
        <p:spPr>
          <a:xfrm>
            <a:off x="1282680" y="77364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144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2" name="" descr=""/>
          <p:cNvPicPr/>
          <p:nvPr/>
        </p:nvPicPr>
        <p:blipFill>
          <a:blip r:embed="rId3"/>
          <a:stretch/>
        </p:blipFill>
        <p:spPr>
          <a:xfrm>
            <a:off x="2546280" y="741240"/>
            <a:ext cx="2378160" cy="5621400"/>
          </a:xfrm>
          <a:prstGeom prst="rect">
            <a:avLst/>
          </a:prstGeom>
          <a:ln w="0">
            <a:noFill/>
          </a:ln>
        </p:spPr>
      </p:pic>
      <p:sp>
        <p:nvSpPr>
          <p:cNvPr id="1913" name=""/>
          <p:cNvSpPr/>
          <p:nvPr/>
        </p:nvSpPr>
        <p:spPr>
          <a:xfrm>
            <a:off x="3871800" y="761040"/>
            <a:ext cx="10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ialek-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6396120" y="761040"/>
            <a:ext cx="12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F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5" name=""/>
          <p:cNvGrpSpPr/>
          <p:nvPr/>
        </p:nvGrpSpPr>
        <p:grpSpPr>
          <a:xfrm>
            <a:off x="2727360" y="6448320"/>
            <a:ext cx="4957560" cy="371880"/>
            <a:chOff x="2727360" y="6448320"/>
            <a:chExt cx="4957560" cy="371880"/>
          </a:xfrm>
        </p:grpSpPr>
        <p:pic>
          <p:nvPicPr>
            <p:cNvPr id="1916" name="" descr=""/>
            <p:cNvPicPr/>
            <p:nvPr/>
          </p:nvPicPr>
          <p:blipFill>
            <a:blip r:embed="rId4"/>
            <a:stretch/>
          </p:blipFill>
          <p:spPr>
            <a:xfrm>
              <a:off x="2727360" y="6448320"/>
              <a:ext cx="4957560" cy="1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7" name=""/>
            <p:cNvSpPr/>
            <p:nvPr/>
          </p:nvSpPr>
          <p:spPr>
            <a:xfrm>
              <a:off x="2735280" y="6573960"/>
              <a:ext cx="4949640" cy="2462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No      1-10    10-20   20-30  30-40  40-50   50-60  60-70   70-80 80-90  90-100  &gt;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8" name="" descr=""/>
          <p:cNvPicPr/>
          <p:nvPr/>
        </p:nvPicPr>
        <p:blipFill>
          <a:blip r:embed="rId5"/>
          <a:stretch/>
        </p:blipFill>
        <p:spPr>
          <a:xfrm>
            <a:off x="7559640" y="730080"/>
            <a:ext cx="2289240" cy="5613480"/>
          </a:xfrm>
          <a:prstGeom prst="rect">
            <a:avLst/>
          </a:prstGeom>
          <a:ln w="0">
            <a:noFill/>
          </a:ln>
        </p:spPr>
      </p:pic>
      <p:sp>
        <p:nvSpPr>
          <p:cNvPr id="1919" name=""/>
          <p:cNvSpPr/>
          <p:nvPr/>
        </p:nvSpPr>
        <p:spPr>
          <a:xfrm>
            <a:off x="8720280" y="735480"/>
            <a:ext cx="121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Kirschen-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465120" y="3150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Señales de Localización, Zona Nor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50796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3" name="" descr=""/>
          <p:cNvPicPr/>
          <p:nvPr/>
        </p:nvPicPr>
        <p:blipFill>
          <a:blip r:embed="rId1"/>
          <a:stretch/>
        </p:blipFill>
        <p:spPr>
          <a:xfrm>
            <a:off x="5126040" y="787320"/>
            <a:ext cx="2468520" cy="5589720"/>
          </a:xfrm>
          <a:prstGeom prst="rect">
            <a:avLst/>
          </a:prstGeom>
          <a:ln w="0">
            <a:noFill/>
          </a:ln>
        </p:spPr>
      </p:pic>
      <p:pic>
        <p:nvPicPr>
          <p:cNvPr id="1924" name="" descr=""/>
          <p:cNvPicPr/>
          <p:nvPr/>
        </p:nvPicPr>
        <p:blipFill>
          <a:blip r:embed="rId2"/>
          <a:stretch/>
        </p:blipFill>
        <p:spPr>
          <a:xfrm>
            <a:off x="54000" y="790560"/>
            <a:ext cx="2500200" cy="5567400"/>
          </a:xfrm>
          <a:prstGeom prst="rect">
            <a:avLst/>
          </a:prstGeom>
          <a:ln w="0">
            <a:noFill/>
          </a:ln>
        </p:spPr>
      </p:pic>
      <p:sp>
        <p:nvSpPr>
          <p:cNvPr id="1925" name=""/>
          <p:cNvSpPr/>
          <p:nvPr/>
        </p:nvSpPr>
        <p:spPr>
          <a:xfrm>
            <a:off x="1368360" y="788040"/>
            <a:ext cx="128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144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6" name="" descr=""/>
          <p:cNvPicPr/>
          <p:nvPr/>
        </p:nvPicPr>
        <p:blipFill>
          <a:blip r:embed="rId3"/>
          <a:stretch/>
        </p:blipFill>
        <p:spPr>
          <a:xfrm>
            <a:off x="2614680" y="798480"/>
            <a:ext cx="2432160" cy="5575320"/>
          </a:xfrm>
          <a:prstGeom prst="rect">
            <a:avLst/>
          </a:prstGeom>
          <a:ln w="0">
            <a:noFill/>
          </a:ln>
        </p:spPr>
      </p:pic>
      <p:sp>
        <p:nvSpPr>
          <p:cNvPr id="1927" name=""/>
          <p:cNvSpPr/>
          <p:nvPr/>
        </p:nvSpPr>
        <p:spPr>
          <a:xfrm>
            <a:off x="4029120" y="789480"/>
            <a:ext cx="10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ialek-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8" name=""/>
          <p:cNvGrpSpPr/>
          <p:nvPr/>
        </p:nvGrpSpPr>
        <p:grpSpPr>
          <a:xfrm>
            <a:off x="2727360" y="6448320"/>
            <a:ext cx="4957560" cy="371880"/>
            <a:chOff x="2727360" y="6448320"/>
            <a:chExt cx="4957560" cy="371880"/>
          </a:xfrm>
        </p:grpSpPr>
        <p:pic>
          <p:nvPicPr>
            <p:cNvPr id="1929" name="" descr=""/>
            <p:cNvPicPr/>
            <p:nvPr/>
          </p:nvPicPr>
          <p:blipFill>
            <a:blip r:embed="rId4"/>
            <a:stretch/>
          </p:blipFill>
          <p:spPr>
            <a:xfrm>
              <a:off x="2727360" y="6448320"/>
              <a:ext cx="4957560" cy="1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0" name=""/>
            <p:cNvSpPr/>
            <p:nvPr/>
          </p:nvSpPr>
          <p:spPr>
            <a:xfrm>
              <a:off x="2735280" y="6573960"/>
              <a:ext cx="4949640" cy="2462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No      1-10    10-20   20-30  30-40  40-50   50-60  60-70   70-80 80-90  90-100  &gt;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1" name="" descr=""/>
          <p:cNvPicPr/>
          <p:nvPr/>
        </p:nvPicPr>
        <p:blipFill>
          <a:blip r:embed="rId5"/>
          <a:stretch/>
        </p:blipFill>
        <p:spPr>
          <a:xfrm>
            <a:off x="7659720" y="812880"/>
            <a:ext cx="2181240" cy="5562360"/>
          </a:xfrm>
          <a:prstGeom prst="rect">
            <a:avLst/>
          </a:prstGeom>
          <a:ln w="0">
            <a:noFill/>
          </a:ln>
        </p:spPr>
      </p:pic>
      <p:sp>
        <p:nvSpPr>
          <p:cNvPr id="1932" name=""/>
          <p:cNvSpPr/>
          <p:nvPr/>
        </p:nvSpPr>
        <p:spPr>
          <a:xfrm>
            <a:off x="6496200" y="817920"/>
            <a:ext cx="121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F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8691480" y="825840"/>
            <a:ext cx="12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Kirschen-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530280" y="3276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Señales de Localización, Zona Cent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X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7" name="" descr=""/>
          <p:cNvPicPr/>
          <p:nvPr/>
        </p:nvPicPr>
        <p:blipFill>
          <a:blip r:embed="rId1"/>
          <a:stretch/>
        </p:blipFill>
        <p:spPr>
          <a:xfrm>
            <a:off x="7502400" y="804960"/>
            <a:ext cx="2338560" cy="5556240"/>
          </a:xfrm>
          <a:prstGeom prst="rect">
            <a:avLst/>
          </a:prstGeom>
          <a:ln w="0">
            <a:noFill/>
          </a:ln>
        </p:spPr>
      </p:pic>
      <p:pic>
        <p:nvPicPr>
          <p:cNvPr id="1938" name="" descr=""/>
          <p:cNvPicPr/>
          <p:nvPr/>
        </p:nvPicPr>
        <p:blipFill>
          <a:blip r:embed="rId2"/>
          <a:stretch/>
        </p:blipFill>
        <p:spPr>
          <a:xfrm>
            <a:off x="47520" y="787320"/>
            <a:ext cx="2451240" cy="5562720"/>
          </a:xfrm>
          <a:prstGeom prst="rect">
            <a:avLst/>
          </a:prstGeom>
          <a:ln w="0">
            <a:noFill/>
          </a:ln>
        </p:spPr>
      </p:pic>
      <p:sp>
        <p:nvSpPr>
          <p:cNvPr id="1939" name=""/>
          <p:cNvSpPr/>
          <p:nvPr/>
        </p:nvSpPr>
        <p:spPr>
          <a:xfrm>
            <a:off x="1297080" y="805320"/>
            <a:ext cx="12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144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0" name="" descr=""/>
          <p:cNvPicPr/>
          <p:nvPr/>
        </p:nvPicPr>
        <p:blipFill>
          <a:blip r:embed="rId3"/>
          <a:stretch/>
        </p:blipFill>
        <p:spPr>
          <a:xfrm>
            <a:off x="2565360" y="808200"/>
            <a:ext cx="2351160" cy="5545080"/>
          </a:xfrm>
          <a:prstGeom prst="rect">
            <a:avLst/>
          </a:prstGeom>
          <a:ln w="0">
            <a:noFill/>
          </a:ln>
        </p:spPr>
      </p:pic>
      <p:sp>
        <p:nvSpPr>
          <p:cNvPr id="1941" name=""/>
          <p:cNvSpPr/>
          <p:nvPr/>
        </p:nvSpPr>
        <p:spPr>
          <a:xfrm>
            <a:off x="3900600" y="778320"/>
            <a:ext cx="106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ialek-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2" name=""/>
          <p:cNvGrpSpPr/>
          <p:nvPr/>
        </p:nvGrpSpPr>
        <p:grpSpPr>
          <a:xfrm>
            <a:off x="2727360" y="6448320"/>
            <a:ext cx="4957560" cy="371880"/>
            <a:chOff x="2727360" y="6448320"/>
            <a:chExt cx="4957560" cy="371880"/>
          </a:xfrm>
        </p:grpSpPr>
        <p:pic>
          <p:nvPicPr>
            <p:cNvPr id="1943" name="" descr=""/>
            <p:cNvPicPr/>
            <p:nvPr/>
          </p:nvPicPr>
          <p:blipFill>
            <a:blip r:embed="rId4"/>
            <a:stretch/>
          </p:blipFill>
          <p:spPr>
            <a:xfrm>
              <a:off x="2727360" y="6448320"/>
              <a:ext cx="4957560" cy="1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4" name=""/>
            <p:cNvSpPr/>
            <p:nvPr/>
          </p:nvSpPr>
          <p:spPr>
            <a:xfrm>
              <a:off x="2735280" y="6573960"/>
              <a:ext cx="4949640" cy="2462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No      1-10    10-20   20-30  30-40  40-50   50-60  60-70   70-80 80-90  90-100  &gt;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5" name=""/>
          <p:cNvSpPr/>
          <p:nvPr/>
        </p:nvSpPr>
        <p:spPr>
          <a:xfrm>
            <a:off x="8691480" y="810000"/>
            <a:ext cx="12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Kirschen-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6" name="" descr=""/>
          <p:cNvPicPr/>
          <p:nvPr/>
        </p:nvPicPr>
        <p:blipFill>
          <a:blip r:embed="rId5"/>
          <a:stretch/>
        </p:blipFill>
        <p:spPr>
          <a:xfrm>
            <a:off x="4964040" y="826920"/>
            <a:ext cx="2492280" cy="5540400"/>
          </a:xfrm>
          <a:prstGeom prst="rect">
            <a:avLst/>
          </a:prstGeom>
          <a:ln w="0">
            <a:noFill/>
          </a:ln>
        </p:spPr>
      </p:pic>
      <p:sp>
        <p:nvSpPr>
          <p:cNvPr id="1947" name=""/>
          <p:cNvSpPr/>
          <p:nvPr/>
        </p:nvSpPr>
        <p:spPr>
          <a:xfrm>
            <a:off x="6310440" y="792720"/>
            <a:ext cx="121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F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492120" y="3402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Señales de Localización, Centrales del La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X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1" name="" descr=""/>
          <p:cNvPicPr/>
          <p:nvPr/>
        </p:nvPicPr>
        <p:blipFill>
          <a:blip r:embed="rId1"/>
          <a:stretch/>
        </p:blipFill>
        <p:spPr>
          <a:xfrm>
            <a:off x="5016600" y="784080"/>
            <a:ext cx="2462040" cy="5556240"/>
          </a:xfrm>
          <a:prstGeom prst="rect">
            <a:avLst/>
          </a:prstGeom>
          <a:ln w="0">
            <a:noFill/>
          </a:ln>
        </p:spPr>
      </p:pic>
      <p:pic>
        <p:nvPicPr>
          <p:cNvPr id="1952" name="" descr=""/>
          <p:cNvPicPr/>
          <p:nvPr/>
        </p:nvPicPr>
        <p:blipFill>
          <a:blip r:embed="rId2"/>
          <a:stretch/>
        </p:blipFill>
        <p:spPr>
          <a:xfrm>
            <a:off x="7553160" y="776160"/>
            <a:ext cx="2295720" cy="5578560"/>
          </a:xfrm>
          <a:prstGeom prst="rect">
            <a:avLst/>
          </a:prstGeom>
          <a:ln w="0">
            <a:noFill/>
          </a:ln>
        </p:spPr>
      </p:pic>
      <p:pic>
        <p:nvPicPr>
          <p:cNvPr id="1953" name="" descr=""/>
          <p:cNvPicPr/>
          <p:nvPr/>
        </p:nvPicPr>
        <p:blipFill>
          <a:blip r:embed="rId3"/>
          <a:stretch/>
        </p:blipFill>
        <p:spPr>
          <a:xfrm>
            <a:off x="42840" y="770040"/>
            <a:ext cx="2468520" cy="5607000"/>
          </a:xfrm>
          <a:prstGeom prst="rect">
            <a:avLst/>
          </a:prstGeom>
          <a:ln w="0">
            <a:noFill/>
          </a:ln>
        </p:spPr>
      </p:pic>
      <p:sp>
        <p:nvSpPr>
          <p:cNvPr id="1954" name=""/>
          <p:cNvSpPr/>
          <p:nvPr/>
        </p:nvSpPr>
        <p:spPr>
          <a:xfrm>
            <a:off x="1368360" y="753120"/>
            <a:ext cx="143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144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5" name="" descr=""/>
          <p:cNvPicPr/>
          <p:nvPr/>
        </p:nvPicPr>
        <p:blipFill>
          <a:blip r:embed="rId4"/>
          <a:stretch/>
        </p:blipFill>
        <p:spPr>
          <a:xfrm>
            <a:off x="2577960" y="784080"/>
            <a:ext cx="2363760" cy="5585040"/>
          </a:xfrm>
          <a:prstGeom prst="rect">
            <a:avLst/>
          </a:prstGeom>
          <a:ln w="0">
            <a:noFill/>
          </a:ln>
        </p:spPr>
      </p:pic>
      <p:sp>
        <p:nvSpPr>
          <p:cNvPr id="1956" name=""/>
          <p:cNvSpPr/>
          <p:nvPr/>
        </p:nvSpPr>
        <p:spPr>
          <a:xfrm>
            <a:off x="3857760" y="740160"/>
            <a:ext cx="106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ialek-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7" name=""/>
          <p:cNvGrpSpPr/>
          <p:nvPr/>
        </p:nvGrpSpPr>
        <p:grpSpPr>
          <a:xfrm>
            <a:off x="2727360" y="6448320"/>
            <a:ext cx="4957560" cy="371880"/>
            <a:chOff x="2727360" y="6448320"/>
            <a:chExt cx="4957560" cy="371880"/>
          </a:xfrm>
        </p:grpSpPr>
        <p:pic>
          <p:nvPicPr>
            <p:cNvPr id="1958" name="" descr=""/>
            <p:cNvPicPr/>
            <p:nvPr/>
          </p:nvPicPr>
          <p:blipFill>
            <a:blip r:embed="rId5"/>
            <a:stretch/>
          </p:blipFill>
          <p:spPr>
            <a:xfrm>
              <a:off x="2727360" y="6448320"/>
              <a:ext cx="4957560" cy="1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9" name=""/>
            <p:cNvSpPr/>
            <p:nvPr/>
          </p:nvSpPr>
          <p:spPr>
            <a:xfrm>
              <a:off x="2735280" y="6573960"/>
              <a:ext cx="4949640" cy="2462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No      1-10    10-20   20-30  30-40  40-50   50-60  60-70   70-80 80-90  90-100  &gt;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0" name=""/>
          <p:cNvSpPr/>
          <p:nvPr/>
        </p:nvSpPr>
        <p:spPr>
          <a:xfrm>
            <a:off x="6338880" y="754560"/>
            <a:ext cx="121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GDF-F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8720280" y="759240"/>
            <a:ext cx="121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Kirschen-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2" name="" descr=""/>
          <p:cNvPicPr/>
          <p:nvPr/>
        </p:nvPicPr>
        <p:blipFill>
          <a:blip r:embed="rId6"/>
          <a:stretch/>
        </p:blipFill>
        <p:spPr>
          <a:xfrm>
            <a:off x="5059440" y="5694480"/>
            <a:ext cx="930240" cy="579240"/>
          </a:xfrm>
          <a:prstGeom prst="rect">
            <a:avLst/>
          </a:prstGeom>
          <a:ln w="0">
            <a:noFill/>
          </a:ln>
        </p:spPr>
      </p:pic>
      <p:sp>
        <p:nvSpPr>
          <p:cNvPr id="1963" name=""/>
          <p:cNvSpPr/>
          <p:nvPr/>
        </p:nvSpPr>
        <p:spPr>
          <a:xfrm>
            <a:off x="492120" y="3448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Señales de Localización, Zona S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X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6" name="" descr=""/>
          <p:cNvPicPr/>
          <p:nvPr/>
        </p:nvPicPr>
        <p:blipFill>
          <a:blip r:embed="rId1"/>
          <a:stretch/>
        </p:blipFill>
        <p:spPr>
          <a:xfrm>
            <a:off x="5033880" y="785880"/>
            <a:ext cx="3278160" cy="5568840"/>
          </a:xfrm>
          <a:prstGeom prst="rect">
            <a:avLst/>
          </a:prstGeom>
          <a:ln w="0">
            <a:noFill/>
          </a:ln>
        </p:spPr>
      </p:pic>
      <p:pic>
        <p:nvPicPr>
          <p:cNvPr id="1967" name="" descr=""/>
          <p:cNvPicPr/>
          <p:nvPr/>
        </p:nvPicPr>
        <p:blipFill>
          <a:blip r:embed="rId2"/>
          <a:stretch/>
        </p:blipFill>
        <p:spPr>
          <a:xfrm>
            <a:off x="1562040" y="773280"/>
            <a:ext cx="3421080" cy="5573520"/>
          </a:xfrm>
          <a:prstGeom prst="rect">
            <a:avLst/>
          </a:prstGeom>
          <a:ln w="0">
            <a:noFill/>
          </a:ln>
        </p:spPr>
      </p:pic>
      <p:sp>
        <p:nvSpPr>
          <p:cNvPr id="1968" name=""/>
          <p:cNvSpPr/>
          <p:nvPr/>
        </p:nvSpPr>
        <p:spPr>
          <a:xfrm>
            <a:off x="568440" y="3067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Pago de Consumos en Zona Nor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3873600" y="815040"/>
            <a:ext cx="12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LDF-144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7248600" y="816480"/>
            <a:ext cx="106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ialek-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1" name=""/>
          <p:cNvGrpSpPr/>
          <p:nvPr/>
        </p:nvGrpSpPr>
        <p:grpSpPr>
          <a:xfrm>
            <a:off x="2727360" y="6448320"/>
            <a:ext cx="4957560" cy="371880"/>
            <a:chOff x="2727360" y="6448320"/>
            <a:chExt cx="4957560" cy="371880"/>
          </a:xfrm>
        </p:grpSpPr>
        <p:pic>
          <p:nvPicPr>
            <p:cNvPr id="1972" name="" descr=""/>
            <p:cNvPicPr/>
            <p:nvPr/>
          </p:nvPicPr>
          <p:blipFill>
            <a:blip r:embed="rId3"/>
            <a:stretch/>
          </p:blipFill>
          <p:spPr>
            <a:xfrm>
              <a:off x="2727360" y="6448320"/>
              <a:ext cx="4957560" cy="1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3" name=""/>
            <p:cNvSpPr/>
            <p:nvPr/>
          </p:nvSpPr>
          <p:spPr>
            <a:xfrm>
              <a:off x="2735280" y="6573960"/>
              <a:ext cx="4949640" cy="2462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No      1-10    10-20   20-30  30-40  40-50   50-60  60-70   70-80 80-90  90-100  &gt;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4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XI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454960" y="3357720"/>
            <a:ext cx="19080" cy="50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32800" y="2625840"/>
            <a:ext cx="1550880" cy="85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04000" y="2587680"/>
            <a:ext cx="1541520" cy="865080"/>
          </a:xfrm>
          <a:prstGeom prst="rect">
            <a:avLst/>
          </a:prstGeom>
          <a:solidFill>
            <a:srgbClr val="ffa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04000" y="2587680"/>
            <a:ext cx="1532160" cy="855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732800" y="3727440"/>
            <a:ext cx="1550880" cy="865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704000" y="3689280"/>
            <a:ext cx="1541520" cy="865080"/>
          </a:xfrm>
          <a:prstGeom prst="rect">
            <a:avLst/>
          </a:prstGeom>
          <a:solidFill>
            <a:srgbClr val="ffa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704000" y="3689280"/>
            <a:ext cx="1532160" cy="855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89160" y="2416320"/>
            <a:ext cx="1908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78240" y="3100320"/>
            <a:ext cx="19080" cy="1739880"/>
          </a:xfrm>
          <a:custGeom>
            <a:avLst/>
            <a:gdLst/>
            <a:ahLst/>
            <a:rect l="l" t="t" r="r" b="b"/>
            <a:pathLst>
              <a:path w="12" h="1096">
                <a:moveTo>
                  <a:pt x="12" y="0"/>
                </a:moveTo>
                <a:lnTo>
                  <a:pt x="12" y="934"/>
                </a:lnTo>
                <a:lnTo>
                  <a:pt x="12" y="1096"/>
                </a:lnTo>
                <a:lnTo>
                  <a:pt x="0" y="1096"/>
                </a:lnTo>
                <a:lnTo>
                  <a:pt x="0" y="934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78360" y="2416320"/>
            <a:ext cx="19080" cy="42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4520" y="5315040"/>
            <a:ext cx="180720" cy="684000"/>
          </a:xfrm>
          <a:custGeom>
            <a:avLst/>
            <a:gdLst/>
            <a:ahLst/>
            <a:rect l="l" t="t" r="r" b="b"/>
            <a:pathLst>
              <a:path w="114" h="431">
                <a:moveTo>
                  <a:pt x="12" y="0"/>
                </a:moveTo>
                <a:lnTo>
                  <a:pt x="12" y="419"/>
                </a:lnTo>
                <a:lnTo>
                  <a:pt x="114" y="419"/>
                </a:lnTo>
                <a:lnTo>
                  <a:pt x="114" y="431"/>
                </a:lnTo>
                <a:lnTo>
                  <a:pt x="6" y="431"/>
                </a:lnTo>
                <a:lnTo>
                  <a:pt x="0" y="425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4520" y="3100320"/>
            <a:ext cx="180720" cy="1711440"/>
          </a:xfrm>
          <a:custGeom>
            <a:avLst/>
            <a:gdLst/>
            <a:ahLst/>
            <a:rect l="l" t="t" r="r" b="b"/>
            <a:pathLst>
              <a:path w="114" h="1078">
                <a:moveTo>
                  <a:pt x="12" y="0"/>
                </a:moveTo>
                <a:lnTo>
                  <a:pt x="12" y="1066"/>
                </a:lnTo>
                <a:lnTo>
                  <a:pt x="114" y="1066"/>
                </a:lnTo>
                <a:lnTo>
                  <a:pt x="114" y="1078"/>
                </a:lnTo>
                <a:lnTo>
                  <a:pt x="6" y="1078"/>
                </a:lnTo>
                <a:lnTo>
                  <a:pt x="0" y="1072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0600" y="2073240"/>
            <a:ext cx="4033800" cy="684360"/>
          </a:xfrm>
          <a:custGeom>
            <a:avLst/>
            <a:gdLst/>
            <a:ahLst/>
            <a:rect l="l" t="t" r="r" b="b"/>
            <a:pathLst>
              <a:path w="2541" h="431">
                <a:moveTo>
                  <a:pt x="2541" y="0"/>
                </a:moveTo>
                <a:lnTo>
                  <a:pt x="2541" y="216"/>
                </a:lnTo>
                <a:lnTo>
                  <a:pt x="2535" y="222"/>
                </a:lnTo>
                <a:lnTo>
                  <a:pt x="12" y="222"/>
                </a:lnTo>
                <a:lnTo>
                  <a:pt x="12" y="431"/>
                </a:lnTo>
                <a:lnTo>
                  <a:pt x="0" y="431"/>
                </a:lnTo>
                <a:lnTo>
                  <a:pt x="0" y="216"/>
                </a:lnTo>
                <a:lnTo>
                  <a:pt x="6" y="210"/>
                </a:lnTo>
                <a:lnTo>
                  <a:pt x="2529" y="210"/>
                </a:lnTo>
                <a:lnTo>
                  <a:pt x="2529" y="0"/>
                </a:lnTo>
                <a:lnTo>
                  <a:pt x="25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6360" y="2625840"/>
            <a:ext cx="1541520" cy="85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8200" y="2587680"/>
            <a:ext cx="1541520" cy="865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8200" y="2587680"/>
            <a:ext cx="1531800" cy="855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16720" y="2662200"/>
            <a:ext cx="50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Load/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83440" y="2852640"/>
            <a:ext cx="96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28160" y="3052800"/>
            <a:ext cx="677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54400" y="2625840"/>
            <a:ext cx="1541520" cy="85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6240" y="2587680"/>
            <a:ext cx="1541520" cy="865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16240" y="2587680"/>
            <a:ext cx="1532160" cy="855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18000" y="2757600"/>
            <a:ext cx="753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042400" y="2957400"/>
            <a:ext cx="90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69240" y="3794040"/>
            <a:ext cx="128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Measurement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947360" y="3994200"/>
            <a:ext cx="110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Accounting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824960" y="4192560"/>
            <a:ext cx="1346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40080" y="1598760"/>
            <a:ext cx="2141640" cy="52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02280" y="1560600"/>
            <a:ext cx="2141280" cy="522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02280" y="1560600"/>
            <a:ext cx="2131920" cy="512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71920" y="1684440"/>
            <a:ext cx="1649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Ancillary Servi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16480" y="2406600"/>
            <a:ext cx="17985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43680" y="2406600"/>
            <a:ext cx="3246120" cy="181080"/>
          </a:xfrm>
          <a:custGeom>
            <a:avLst/>
            <a:gdLst/>
            <a:ahLst/>
            <a:rect l="l" t="t" r="r" b="b"/>
            <a:pathLst>
              <a:path w="2045" h="114">
                <a:moveTo>
                  <a:pt x="0" y="0"/>
                </a:moveTo>
                <a:lnTo>
                  <a:pt x="2039" y="0"/>
                </a:lnTo>
                <a:lnTo>
                  <a:pt x="2045" y="6"/>
                </a:lnTo>
                <a:lnTo>
                  <a:pt x="2045" y="114"/>
                </a:lnTo>
                <a:lnTo>
                  <a:pt x="2033" y="114"/>
                </a:lnTo>
                <a:lnTo>
                  <a:pt x="2033" y="12"/>
                </a:lnTo>
                <a:lnTo>
                  <a:pt x="0" y="1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4520" y="4802040"/>
            <a:ext cx="180720" cy="608040"/>
          </a:xfrm>
          <a:custGeom>
            <a:avLst/>
            <a:gdLst/>
            <a:ahLst/>
            <a:rect l="l" t="t" r="r" b="b"/>
            <a:pathLst>
              <a:path w="114" h="383">
                <a:moveTo>
                  <a:pt x="12" y="0"/>
                </a:moveTo>
                <a:lnTo>
                  <a:pt x="12" y="371"/>
                </a:lnTo>
                <a:lnTo>
                  <a:pt x="114" y="371"/>
                </a:lnTo>
                <a:lnTo>
                  <a:pt x="114" y="383"/>
                </a:lnTo>
                <a:lnTo>
                  <a:pt x="6" y="383"/>
                </a:lnTo>
                <a:lnTo>
                  <a:pt x="0" y="377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8360" y="4583160"/>
            <a:ext cx="1465200" cy="52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9560" y="4545000"/>
            <a:ext cx="1455840" cy="52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9560" y="4545000"/>
            <a:ext cx="1446120" cy="514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11800" y="5181480"/>
            <a:ext cx="1455480" cy="514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73640" y="5143680"/>
            <a:ext cx="1455840" cy="523800"/>
          </a:xfrm>
          <a:prstGeom prst="rect">
            <a:avLst/>
          </a:prstGeom>
          <a:solidFill>
            <a:srgbClr val="ffa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73640" y="5143680"/>
            <a:ext cx="1446120" cy="5140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97480" y="5181480"/>
            <a:ext cx="123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Compens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85120" y="5372280"/>
            <a:ext cx="6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78240" y="4840200"/>
            <a:ext cx="95400" cy="541440"/>
          </a:xfrm>
          <a:custGeom>
            <a:avLst/>
            <a:gdLst/>
            <a:ahLst/>
            <a:rect l="l" t="t" r="r" b="b"/>
            <a:pathLst>
              <a:path w="60" h="341">
                <a:moveTo>
                  <a:pt x="12" y="0"/>
                </a:moveTo>
                <a:lnTo>
                  <a:pt x="12" y="329"/>
                </a:lnTo>
                <a:lnTo>
                  <a:pt x="60" y="329"/>
                </a:lnTo>
                <a:lnTo>
                  <a:pt x="60" y="341"/>
                </a:lnTo>
                <a:lnTo>
                  <a:pt x="6" y="341"/>
                </a:lnTo>
                <a:lnTo>
                  <a:pt x="0" y="335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040" y="3708360"/>
            <a:ext cx="942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Voltag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92720" y="3889440"/>
            <a:ext cx="1207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between defin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12880" y="4070520"/>
            <a:ext cx="540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boun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88280" y="4583160"/>
            <a:ext cx="745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Spin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24280" y="4782960"/>
            <a:ext cx="71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8360" y="5181480"/>
            <a:ext cx="1465200" cy="514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9560" y="5143680"/>
            <a:ext cx="1455840" cy="52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9560" y="5143680"/>
            <a:ext cx="1446120" cy="5140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8360" y="5772240"/>
            <a:ext cx="1465200" cy="52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9560" y="5743440"/>
            <a:ext cx="1455840" cy="51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9560" y="5743440"/>
            <a:ext cx="1446120" cy="5032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33640" y="5191200"/>
            <a:ext cx="70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Standb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1480" y="5391000"/>
            <a:ext cx="88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quick-sta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4560" y="5780160"/>
            <a:ext cx="70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Standb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9200" y="5979960"/>
            <a:ext cx="820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slow-sta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11800" y="4583160"/>
            <a:ext cx="1455480" cy="52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73640" y="4545000"/>
            <a:ext cx="1455840" cy="52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73640" y="4545000"/>
            <a:ext cx="1446120" cy="514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23840" y="4573440"/>
            <a:ext cx="1012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Provided b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59840" y="4773600"/>
            <a:ext cx="95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Generato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78240" y="4241880"/>
            <a:ext cx="95400" cy="541080"/>
          </a:xfrm>
          <a:custGeom>
            <a:avLst/>
            <a:gdLst/>
            <a:ahLst/>
            <a:rect l="l" t="t" r="r" b="b"/>
            <a:pathLst>
              <a:path w="60" h="341">
                <a:moveTo>
                  <a:pt x="12" y="0"/>
                </a:moveTo>
                <a:lnTo>
                  <a:pt x="12" y="329"/>
                </a:lnTo>
                <a:lnTo>
                  <a:pt x="60" y="329"/>
                </a:lnTo>
                <a:lnTo>
                  <a:pt x="60" y="341"/>
                </a:lnTo>
                <a:lnTo>
                  <a:pt x="6" y="341"/>
                </a:lnTo>
                <a:lnTo>
                  <a:pt x="0" y="335"/>
                </a:lnTo>
                <a:lnTo>
                  <a:pt x="0" y="0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65200" y="2625840"/>
            <a:ext cx="1541520" cy="85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27400" y="2587680"/>
            <a:ext cx="1541160" cy="865080"/>
          </a:xfrm>
          <a:prstGeom prst="rect">
            <a:avLst/>
          </a:prstGeom>
          <a:solidFill>
            <a:srgbClr val="ffa3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27400" y="2587680"/>
            <a:ext cx="1531800" cy="855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5960" y="2690640"/>
            <a:ext cx="68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7760" y="2890800"/>
            <a:ext cx="677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64920" y="2652840"/>
            <a:ext cx="132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Compens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50640" y="2843280"/>
            <a:ext cx="18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07280" y="3043080"/>
            <a:ext cx="659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Los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9720" y="3699000"/>
            <a:ext cx="1052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Provision fr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8920" y="3879720"/>
            <a:ext cx="1418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reserve power fr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4400" y="4060800"/>
            <a:ext cx="78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Arial"/>
              </a:rPr>
              <a:t>generato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65760" y="2416320"/>
            <a:ext cx="190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43600" y="2625840"/>
            <a:ext cx="1541520" cy="855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05440" y="2587680"/>
            <a:ext cx="1550880" cy="865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905440" y="2587680"/>
            <a:ext cx="1541520" cy="855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77040" y="2719440"/>
            <a:ext cx="628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Black-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77840" y="291924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33760" y="3119400"/>
            <a:ext cx="913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Arial"/>
              </a:rPr>
              <a:t>Capabil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20080" y="1139760"/>
            <a:ext cx="52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0"/>
                </a:solidFill>
                <a:latin typeface="Comic Sans MS"/>
              </a:rPr>
              <a:t>Desafío en Creación de Merc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6200" y="829080"/>
            <a:ext cx="79185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cc0000"/>
                </a:solidFill>
                <a:latin typeface="Comic Sans MS"/>
              </a:rPr>
              <a:t>Servicios Complementarios y Transmisió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1120" y="1688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Introducción 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6" name=""/>
          <p:cNvGrpSpPr/>
          <p:nvPr/>
        </p:nvGrpSpPr>
        <p:grpSpPr>
          <a:xfrm>
            <a:off x="2727360" y="6448320"/>
            <a:ext cx="4957560" cy="371880"/>
            <a:chOff x="2727360" y="6448320"/>
            <a:chExt cx="4957560" cy="371880"/>
          </a:xfrm>
        </p:grpSpPr>
        <p:pic>
          <p:nvPicPr>
            <p:cNvPr id="1977" name="" descr=""/>
            <p:cNvPicPr/>
            <p:nvPr/>
          </p:nvPicPr>
          <p:blipFill>
            <a:blip r:embed="rId1"/>
            <a:stretch/>
          </p:blipFill>
          <p:spPr>
            <a:xfrm>
              <a:off x="2727360" y="6448320"/>
              <a:ext cx="4957560" cy="1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8" name=""/>
            <p:cNvSpPr/>
            <p:nvPr/>
          </p:nvSpPr>
          <p:spPr>
            <a:xfrm>
              <a:off x="2735280" y="6573960"/>
              <a:ext cx="4949640" cy="2462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No      1-10    10-20   20-30  30-40  40-50   50-60  60-70   70-80 80-90  90-100  &gt;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9" name="" descr=""/>
          <p:cNvPicPr/>
          <p:nvPr/>
        </p:nvPicPr>
        <p:blipFill>
          <a:blip r:embed="rId2"/>
          <a:stretch/>
        </p:blipFill>
        <p:spPr>
          <a:xfrm>
            <a:off x="4992840" y="782640"/>
            <a:ext cx="3438360" cy="5581800"/>
          </a:xfrm>
          <a:prstGeom prst="rect">
            <a:avLst/>
          </a:prstGeom>
          <a:ln w="0">
            <a:noFill/>
          </a:ln>
        </p:spPr>
      </p:pic>
      <p:pic>
        <p:nvPicPr>
          <p:cNvPr id="1980" name="" descr=""/>
          <p:cNvPicPr/>
          <p:nvPr/>
        </p:nvPicPr>
        <p:blipFill>
          <a:blip r:embed="rId3"/>
          <a:stretch/>
        </p:blipFill>
        <p:spPr>
          <a:xfrm>
            <a:off x="1330200" y="773280"/>
            <a:ext cx="3471840" cy="5592600"/>
          </a:xfrm>
          <a:prstGeom prst="rect">
            <a:avLst/>
          </a:prstGeom>
          <a:ln w="0">
            <a:noFill/>
          </a:ln>
        </p:spPr>
      </p:pic>
      <p:sp>
        <p:nvSpPr>
          <p:cNvPr id="1981" name=""/>
          <p:cNvSpPr/>
          <p:nvPr/>
        </p:nvSpPr>
        <p:spPr>
          <a:xfrm>
            <a:off x="7426440" y="765720"/>
            <a:ext cx="106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ialek-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3632040" y="789480"/>
            <a:ext cx="123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GLDF-144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530280" y="3067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Pago de Consumos en Zona S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X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"/>
          <p:cNvSpPr/>
          <p:nvPr/>
        </p:nvSpPr>
        <p:spPr>
          <a:xfrm>
            <a:off x="303120" y="2146320"/>
            <a:ext cx="9037800" cy="41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85760" indent="-185760" algn="just">
              <a:lnSpc>
                <a:spcPct val="130000"/>
              </a:lnSpc>
              <a:buClr>
                <a:srgbClr val="000099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Existe un conjunto de al menos 10 metodologías (generadores), 8 metodologías (consumos) que pueden </a:t>
            </a:r>
            <a:r>
              <a:rPr b="1" lang="es-ES_tradnl" sz="2000" spc="-1" strike="noStrike">
                <a:solidFill>
                  <a:srgbClr val="00ae00"/>
                </a:solidFill>
                <a:latin typeface="Comic Sans MS"/>
              </a:rPr>
              <a:t>sistematizarse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 para sistemas reales (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&gt;1000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 nodos) en un comput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30000"/>
              </a:lnSpc>
              <a:buClr>
                <a:srgbClr val="cc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Comic Sans MS"/>
              </a:rPr>
              <a:t>Existen metodologías con un alto grado de complejidad en su aplicación (ej: GGDF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30000"/>
              </a:lnSpc>
              <a:buClr>
                <a:srgbClr val="000099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Todas estas metodologías pueden ser defendidas desde un punto de vista conceptual dada ambigüedad esencial del fenómeno </a:t>
            </a:r>
            <a:r>
              <a:rPr b="1" lang="es-ES_tradnl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Post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Comic Sans MS"/>
              </a:rPr>
              <a:t>gi</a:t>
            </a: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=E(B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Comic Sans MS"/>
              </a:rPr>
              <a:t>mi</a:t>
            </a:r>
            <a:r>
              <a:rPr b="1" lang="es-ES_tradnl" sz="2400" spc="-1" strike="noStrike">
                <a:solidFill>
                  <a:srgbClr val="000099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 algn="just">
              <a:lnSpc>
                <a:spcPct val="130000"/>
              </a:lnSpc>
              <a:buClr>
                <a:srgbClr val="cc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cc0000"/>
                </a:solidFill>
                <a:latin typeface="Comic Sans MS"/>
              </a:rPr>
              <a:t>Ningún método estudiado se ajusta 100% a los requerimientos de un sistema de tarificaci</a:t>
            </a:r>
            <a:r>
              <a:rPr b="1" lang="es-ES" sz="2000" spc="-1" strike="noStrike">
                <a:solidFill>
                  <a:srgbClr val="cc0000"/>
                </a:solidFill>
                <a:latin typeface="Comic Sans MS"/>
              </a:rPr>
              <a:t>ó</a:t>
            </a:r>
            <a:r>
              <a:rPr b="1" lang="es-ES_tradnl" sz="2000" spc="-1" strike="noStrike">
                <a:solidFill>
                  <a:srgbClr val="cc0000"/>
                </a:solidFill>
                <a:latin typeface="Comic Sans MS"/>
              </a:rPr>
              <a:t>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492120" y="30204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Análisis de Estudio de Caso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339840" y="855720"/>
            <a:ext cx="73310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Tópicos no tra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0000"/>
                </a:solidFill>
                <a:latin typeface="Comic Sans MS"/>
              </a:rPr>
              <a:t>Tratamiento de Agentes Extern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0000"/>
                </a:solidFill>
                <a:latin typeface="Comic Sans MS"/>
              </a:rPr>
              <a:t>Fallas participan en los prorrat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XV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"/>
          <p:cNvSpPr/>
          <p:nvPr/>
        </p:nvSpPr>
        <p:spPr>
          <a:xfrm>
            <a:off x="544680" y="3276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Desafío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425520" y="2189160"/>
            <a:ext cx="903744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20000"/>
              </a:lnSpc>
              <a:buClr>
                <a:srgbClr val="cc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cc0000"/>
                </a:solidFill>
                <a:latin typeface="Comic Sans MS"/>
              </a:rPr>
              <a:t>Orden lógico de posible propuesta: </a:t>
            </a: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Arquitectura de Mercado </a:t>
            </a:r>
            <a:r>
              <a:rPr b="1" lang="es-ES_tradnl" sz="2000" spc="-1" strike="noStrike">
                <a:solidFill>
                  <a:srgbClr val="000090"/>
                </a:solidFill>
                <a:latin typeface="Wingdings"/>
                <a:ea typeface="Wingdings"/>
              </a:rPr>
              <a:t></a:t>
            </a: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 Concepto de Acceso </a:t>
            </a:r>
            <a:r>
              <a:rPr b="1" lang="es-ES_tradnl" sz="2000" spc="-1" strike="noStrike">
                <a:solidFill>
                  <a:srgbClr val="000090"/>
                </a:solidFill>
                <a:latin typeface="Wingdings"/>
                <a:ea typeface="Wingdings"/>
              </a:rPr>
              <a:t></a:t>
            </a: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 Componentes de Costo </a:t>
            </a:r>
            <a:r>
              <a:rPr b="1" lang="es-ES_tradnl" sz="2000" spc="-1" strike="noStrike">
                <a:solidFill>
                  <a:srgbClr val="000090"/>
                </a:solidFill>
                <a:latin typeface="Wingdings"/>
                <a:ea typeface="Wingdings"/>
              </a:rPr>
              <a:t></a:t>
            </a: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 componentes de Tarifa </a:t>
            </a:r>
            <a:r>
              <a:rPr b="1" lang="es-ES_tradnl" sz="2000" spc="-1" strike="noStrike">
                <a:solidFill>
                  <a:srgbClr val="000090"/>
                </a:solidFill>
                <a:latin typeface="Wingdings"/>
                <a:ea typeface="Wingdings"/>
              </a:rPr>
              <a:t></a:t>
            </a: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 Principio de Uso </a:t>
            </a:r>
            <a:r>
              <a:rPr b="1" lang="es-ES_tradnl" sz="2000" spc="-1" strike="noStrike">
                <a:solidFill>
                  <a:srgbClr val="000090"/>
                </a:solidFill>
                <a:latin typeface="Wingdings"/>
                <a:ea typeface="Wingdings"/>
              </a:rPr>
              <a:t></a:t>
            </a:r>
            <a:r>
              <a:rPr b="1" lang="es-ES_tradnl" sz="2000" spc="-1" strike="noStrike">
                <a:solidFill>
                  <a:srgbClr val="000090"/>
                </a:solidFill>
                <a:latin typeface="Comic Sans MS"/>
              </a:rPr>
              <a:t> F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469800" y="923760"/>
            <a:ext cx="90378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20000"/>
              </a:lnSpc>
              <a:buClr>
                <a:srgbClr val="cc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cc0000"/>
                </a:solidFill>
                <a:latin typeface="Comic Sans MS"/>
              </a:rPr>
              <a:t>Necesidad de buscar aceptación del sector en Diseño o Arquitectura de Mercado que se desea para un paí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498600" y="3732120"/>
            <a:ext cx="940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99"/>
                </a:solidFill>
                <a:latin typeface="Comic Sans MS"/>
              </a:rPr>
              <a:t>Un mismo principio de uso puede dar señales muy distintas, de lo que se desprende la necesidad de establecer criterios superiores para evaluar bon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XXV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447840" y="5241960"/>
            <a:ext cx="8451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¿Qué otros factores influyen en el cálculo de </a:t>
            </a:r>
            <a:r>
              <a:rPr b="1" lang="de-DE" sz="2000" spc="-1" strike="noStrike">
                <a:solidFill>
                  <a:srgbClr val="a50021"/>
                </a:solidFill>
                <a:latin typeface="Symbol"/>
                <a:ea typeface="Symbol"/>
              </a:rPr>
              <a:t></a:t>
            </a: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58680" y="849240"/>
            <a:ext cx="86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2400" spc="-1" strike="noStrike">
                <a:solidFill>
                  <a:srgbClr val="000090"/>
                </a:solidFill>
                <a:latin typeface="Comic Sans MS"/>
              </a:rPr>
              <a:t>Análisis detallado en Capítul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58920" y="2019240"/>
            <a:ext cx="845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a50021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Precios Lib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a50021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Combinación Precios Libres/Regul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1120" y="1688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2 Mercados Mayoristas/Minosristas 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2600" y="1390680"/>
            <a:ext cx="8451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Modelos Básicos de Competenc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5360" y="3419640"/>
            <a:ext cx="8452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Mod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84120" y="3921120"/>
            <a:ext cx="8452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a50021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Precio Unico de Mercado vs. Precios Localizados /Z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a50021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Precios Discriminato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a50021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de-DE" sz="2000" spc="-1" strike="noStrike">
                <a:solidFill>
                  <a:srgbClr val="a50021"/>
                </a:solidFill>
                <a:latin typeface="Comic Sans MS"/>
              </a:rPr>
              <a:t>Sistemas O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86440" y="1676160"/>
            <a:ext cx="637884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1. Módulo A1: Conceptos Bás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</a:rPr>
              <a:t>1.3 Modelos de Formación de Precios (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c0128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c0128"/>
                </a:solidFill>
                <a:latin typeface="Comic Sans MS"/>
              </a:rPr>
              <a:t>1.3.1 Int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fc0128"/>
                </a:solidFill>
                <a:latin typeface="Comic Sans MS"/>
              </a:rPr>
              <a:t>     </a:t>
            </a:r>
            <a:r>
              <a:rPr b="0" lang="es-ES_tradnl" sz="2000" spc="-1" strike="noStrike">
                <a:solidFill>
                  <a:srgbClr val="fc0128"/>
                </a:solidFill>
                <a:latin typeface="Comic Sans MS"/>
              </a:rPr>
              <a:t>1.3.2 Mercados Mayoristas/Minor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fc0128"/>
                </a:solidFill>
                <a:latin typeface="Comic Sans MS"/>
              </a:rPr>
              <a:t>     </a:t>
            </a:r>
            <a:r>
              <a:rPr b="0" lang="es-ES_tradnl" sz="2000" spc="-1" strike="noStrike">
                <a:solidFill>
                  <a:srgbClr val="fc0128"/>
                </a:solidFill>
                <a:latin typeface="Comic Sans MS"/>
              </a:rPr>
              <a:t>1.3.3 </a:t>
            </a:r>
            <a:r>
              <a:rPr b="0" lang="es-ES" sz="2000" spc="-1" strike="noStrike">
                <a:solidFill>
                  <a:srgbClr val="fc0128"/>
                </a:solidFill>
                <a:latin typeface="Comic Sans MS"/>
              </a:rPr>
              <a:t>Tarificación de Sistemas de Transm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3.4 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Aspectos de Discu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1120" y="18936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Contenido Sección 1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68200" y="3532320"/>
            <a:ext cx="763128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2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.- Definición de costos con derecho a recuper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2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(Inversión y O&amp;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2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2.- Concepto de Anualidades y Valores Nuevos de  Reempla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20000"/>
              </a:lnSpc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3.- Aplicación de Metodología Especí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30360" y="1287360"/>
          <a:ext cx="3938400" cy="18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87360"/>
                    <a:ext cx="3938400" cy="18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5219640" y="2046240"/>
            <a:ext cx="681120" cy="449280"/>
          </a:xfrm>
          <a:prstGeom prst="rightArrow">
            <a:avLst>
              <a:gd name="adj1" fmla="val 49824"/>
              <a:gd name="adj2" fmla="val 55131"/>
            </a:avLst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  <a:effectLst>
            <a:outerShdw dist="63504" dir="3183908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3660840" y="2387160"/>
            <a:ext cx="1596960" cy="738360"/>
          </a:xfrm>
          <a:prstGeom prst="line">
            <a:avLst/>
          </a:prstGeom>
          <a:ln w="9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839960" y="2342880"/>
            <a:ext cx="3386160" cy="755640"/>
          </a:xfrm>
          <a:prstGeom prst="line">
            <a:avLst/>
          </a:prstGeom>
          <a:ln w="9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890800" y="2271240"/>
            <a:ext cx="2335320" cy="343080"/>
          </a:xfrm>
          <a:prstGeom prst="line">
            <a:avLst/>
          </a:prstGeom>
          <a:ln w="9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59120" y="1984320"/>
            <a:ext cx="3249360" cy="268200"/>
          </a:xfrm>
          <a:prstGeom prst="line">
            <a:avLst/>
          </a:prstGeom>
          <a:ln w="9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28880" y="2019240"/>
            <a:ext cx="1497240" cy="179280"/>
          </a:xfrm>
          <a:prstGeom prst="line">
            <a:avLst/>
          </a:prstGeom>
          <a:ln w="9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08760" y="1668600"/>
            <a:ext cx="3494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1800" spc="-1" strike="noStrike">
                <a:solidFill>
                  <a:srgbClr val="000090"/>
                </a:solidFill>
                <a:latin typeface="Comic Sans MS"/>
              </a:rPr>
              <a:t>Estudio a Prio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1800" spc="-1" strike="noStrike">
                <a:solidFill>
                  <a:srgbClr val="000090"/>
                </a:solidFill>
                <a:latin typeface="Comic Sans MS"/>
              </a:rPr>
              <a:t>de Infraestruc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1800" spc="-1" strike="noStrike">
                <a:solidFill>
                  <a:srgbClr val="000090"/>
                </a:solidFill>
                <a:latin typeface="Comic Sans MS"/>
              </a:rPr>
              <a:t>Requer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mic Sans MS"/>
              </a:rPr>
              <a:t>(Separación por tipo de merc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768800">
            <a:off x="8062560" y="3258720"/>
            <a:ext cx="878040" cy="933480"/>
          </a:xfrm>
          <a:custGeom>
            <a:avLst/>
            <a:gdLst>
              <a:gd name="textAreaLeft" fmla="*/ 0 w 878040"/>
              <a:gd name="textAreaRight" fmla="*/ 878400 w 87804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451" stAng="10800000" swAng="5400000"/>
                <a:lnTo>
                  <a:pt x="14675" y="3709"/>
                </a:lnTo>
                <a:lnTo>
                  <a:pt x="14675" y="0"/>
                </a:lnTo>
                <a:lnTo>
                  <a:pt x="21600" y="6079"/>
                </a:lnTo>
                <a:lnTo>
                  <a:pt x="14675" y="12158"/>
                </a:lnTo>
                <a:lnTo>
                  <a:pt x="14675" y="8449"/>
                </a:lnTo>
                <a:lnTo>
                  <a:pt x="12427" y="8449"/>
                </a:lnTo>
                <a:arcTo wR="7687" hR="3711" stAng="16200000" swAng="-5400000"/>
                <a:lnTo>
                  <a:pt x="4740" y="21600"/>
                </a:lnTo>
                <a:close/>
              </a:path>
            </a:pathLst>
          </a:custGeom>
          <a:solidFill>
            <a:srgbClr val="618ffd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916440" y="2262240"/>
            <a:ext cx="1263600" cy="54000"/>
          </a:xfrm>
          <a:prstGeom prst="line">
            <a:avLst/>
          </a:prstGeom>
          <a:ln w="93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6960" y="5040"/>
            <a:ext cx="838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I)</a:t>
            </a:r>
            <a:br>
              <a:rPr sz="2400"/>
            </a:b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        Principios de 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58720" y="32760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Teoría Marginalista en Trans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642840" y="750960"/>
            <a:ext cx="27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c"/>
                </a:solidFill>
                <a:latin typeface="Comic Sans MS"/>
              </a:rPr>
              <a:t>Ingreso Tarif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94040" y="5629320"/>
            <a:ext cx="1779480" cy="531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84320" y="5619600"/>
            <a:ext cx="1789200" cy="541440"/>
          </a:xfrm>
          <a:custGeom>
            <a:avLst/>
            <a:gdLst/>
            <a:ahLst/>
            <a:rect l="l" t="t" r="r" b="b"/>
            <a:pathLst>
              <a:path w="1127" h="341">
                <a:moveTo>
                  <a:pt x="6" y="330"/>
                </a:moveTo>
                <a:lnTo>
                  <a:pt x="1116" y="330"/>
                </a:lnTo>
                <a:lnTo>
                  <a:pt x="1116" y="11"/>
                </a:lnTo>
                <a:lnTo>
                  <a:pt x="6" y="11"/>
                </a:lnTo>
                <a:lnTo>
                  <a:pt x="6" y="0"/>
                </a:lnTo>
                <a:lnTo>
                  <a:pt x="1122" y="0"/>
                </a:lnTo>
                <a:lnTo>
                  <a:pt x="1127" y="6"/>
                </a:lnTo>
                <a:lnTo>
                  <a:pt x="1127" y="335"/>
                </a:lnTo>
                <a:lnTo>
                  <a:pt x="1122" y="341"/>
                </a:lnTo>
                <a:lnTo>
                  <a:pt x="6" y="341"/>
                </a:lnTo>
                <a:lnTo>
                  <a:pt x="0" y="335"/>
                </a:lnTo>
                <a:lnTo>
                  <a:pt x="6" y="3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84320" y="5619600"/>
            <a:ext cx="17640" cy="532080"/>
          </a:xfrm>
          <a:custGeom>
            <a:avLst/>
            <a:gdLst/>
            <a:ahLst/>
            <a:rect l="l" t="t" r="r" b="b"/>
            <a:pathLst>
              <a:path w="11" h="335">
                <a:moveTo>
                  <a:pt x="11" y="6"/>
                </a:moveTo>
                <a:lnTo>
                  <a:pt x="11" y="335"/>
                </a:lnTo>
                <a:lnTo>
                  <a:pt x="0" y="335"/>
                </a:lnTo>
                <a:lnTo>
                  <a:pt x="0" y="6"/>
                </a:lnTo>
                <a:lnTo>
                  <a:pt x="6" y="0"/>
                </a:lnTo>
                <a:lnTo>
                  <a:pt x="11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4480" y="5629320"/>
            <a:ext cx="1780920" cy="531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6200" y="5619600"/>
            <a:ext cx="1789200" cy="541440"/>
          </a:xfrm>
          <a:custGeom>
            <a:avLst/>
            <a:gdLst/>
            <a:ahLst/>
            <a:rect l="l" t="t" r="r" b="b"/>
            <a:pathLst>
              <a:path w="1127" h="341">
                <a:moveTo>
                  <a:pt x="5" y="330"/>
                </a:moveTo>
                <a:lnTo>
                  <a:pt x="1116" y="330"/>
                </a:lnTo>
                <a:lnTo>
                  <a:pt x="1116" y="11"/>
                </a:lnTo>
                <a:lnTo>
                  <a:pt x="5" y="11"/>
                </a:lnTo>
                <a:lnTo>
                  <a:pt x="5" y="0"/>
                </a:lnTo>
                <a:lnTo>
                  <a:pt x="1121" y="0"/>
                </a:lnTo>
                <a:lnTo>
                  <a:pt x="1127" y="6"/>
                </a:lnTo>
                <a:lnTo>
                  <a:pt x="1127" y="335"/>
                </a:lnTo>
                <a:lnTo>
                  <a:pt x="1121" y="341"/>
                </a:lnTo>
                <a:lnTo>
                  <a:pt x="5" y="341"/>
                </a:lnTo>
                <a:lnTo>
                  <a:pt x="0" y="335"/>
                </a:lnTo>
                <a:lnTo>
                  <a:pt x="5" y="3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6200" y="5619600"/>
            <a:ext cx="17640" cy="532080"/>
          </a:xfrm>
          <a:custGeom>
            <a:avLst/>
            <a:gdLst/>
            <a:ahLst/>
            <a:rect l="l" t="t" r="r" b="b"/>
            <a:pathLst>
              <a:path w="11" h="335">
                <a:moveTo>
                  <a:pt x="11" y="6"/>
                </a:moveTo>
                <a:lnTo>
                  <a:pt x="11" y="335"/>
                </a:lnTo>
                <a:lnTo>
                  <a:pt x="0" y="335"/>
                </a:lnTo>
                <a:lnTo>
                  <a:pt x="0" y="6"/>
                </a:lnTo>
                <a:lnTo>
                  <a:pt x="5" y="0"/>
                </a:lnTo>
                <a:lnTo>
                  <a:pt x="11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02160" y="1494000"/>
            <a:ext cx="3735360" cy="187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84880" y="1476360"/>
            <a:ext cx="3735360" cy="1874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75160" y="1468440"/>
            <a:ext cx="3745080" cy="1882800"/>
          </a:xfrm>
          <a:custGeom>
            <a:avLst/>
            <a:gdLst/>
            <a:ahLst/>
            <a:rect l="l" t="t" r="r" b="b"/>
            <a:pathLst>
              <a:path w="2359" h="1186">
                <a:moveTo>
                  <a:pt x="6" y="1175"/>
                </a:moveTo>
                <a:lnTo>
                  <a:pt x="2348" y="1175"/>
                </a:lnTo>
                <a:lnTo>
                  <a:pt x="2348" y="11"/>
                </a:lnTo>
                <a:lnTo>
                  <a:pt x="6" y="11"/>
                </a:lnTo>
                <a:lnTo>
                  <a:pt x="6" y="0"/>
                </a:lnTo>
                <a:lnTo>
                  <a:pt x="2353" y="0"/>
                </a:lnTo>
                <a:lnTo>
                  <a:pt x="2359" y="5"/>
                </a:lnTo>
                <a:lnTo>
                  <a:pt x="2359" y="1180"/>
                </a:lnTo>
                <a:lnTo>
                  <a:pt x="2353" y="1186"/>
                </a:lnTo>
                <a:lnTo>
                  <a:pt x="6" y="1186"/>
                </a:lnTo>
                <a:lnTo>
                  <a:pt x="0" y="1180"/>
                </a:lnTo>
                <a:lnTo>
                  <a:pt x="6" y="11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75160" y="1468440"/>
            <a:ext cx="17640" cy="1873080"/>
          </a:xfrm>
          <a:custGeom>
            <a:avLst/>
            <a:gdLst/>
            <a:ahLst/>
            <a:rect l="l" t="t" r="r" b="b"/>
            <a:pathLst>
              <a:path w="11" h="1180">
                <a:moveTo>
                  <a:pt x="11" y="5"/>
                </a:moveTo>
                <a:lnTo>
                  <a:pt x="11" y="1180"/>
                </a:lnTo>
                <a:lnTo>
                  <a:pt x="0" y="1180"/>
                </a:lnTo>
                <a:lnTo>
                  <a:pt x="0" y="5"/>
                </a:lnTo>
                <a:lnTo>
                  <a:pt x="6" y="0"/>
                </a:lnTo>
                <a:lnTo>
                  <a:pt x="11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32120" y="1623960"/>
            <a:ext cx="2676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Marginal Income (MI), Ingreso Tarif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60480" y="1241280"/>
            <a:ext cx="252360" cy="252720"/>
          </a:xfrm>
          <a:custGeom>
            <a:avLst/>
            <a:gdLst/>
            <a:ahLst/>
            <a:rect l="l" t="t" r="r" b="b"/>
            <a:pathLst>
              <a:path w="159" h="159">
                <a:moveTo>
                  <a:pt x="5" y="49"/>
                </a:moveTo>
                <a:lnTo>
                  <a:pt x="5" y="44"/>
                </a:lnTo>
                <a:lnTo>
                  <a:pt x="22" y="22"/>
                </a:lnTo>
                <a:lnTo>
                  <a:pt x="22" y="22"/>
                </a:lnTo>
                <a:lnTo>
                  <a:pt x="49" y="5"/>
                </a:lnTo>
                <a:lnTo>
                  <a:pt x="55" y="5"/>
                </a:lnTo>
                <a:lnTo>
                  <a:pt x="82" y="0"/>
                </a:lnTo>
                <a:lnTo>
                  <a:pt x="82" y="0"/>
                </a:lnTo>
                <a:lnTo>
                  <a:pt x="110" y="5"/>
                </a:lnTo>
                <a:lnTo>
                  <a:pt x="115" y="5"/>
                </a:lnTo>
                <a:lnTo>
                  <a:pt x="137" y="22"/>
                </a:lnTo>
                <a:lnTo>
                  <a:pt x="137" y="22"/>
                </a:lnTo>
                <a:lnTo>
                  <a:pt x="154" y="44"/>
                </a:lnTo>
                <a:lnTo>
                  <a:pt x="154" y="49"/>
                </a:lnTo>
                <a:lnTo>
                  <a:pt x="159" y="77"/>
                </a:lnTo>
                <a:lnTo>
                  <a:pt x="159" y="77"/>
                </a:lnTo>
                <a:lnTo>
                  <a:pt x="154" y="104"/>
                </a:lnTo>
                <a:lnTo>
                  <a:pt x="154" y="110"/>
                </a:lnTo>
                <a:lnTo>
                  <a:pt x="137" y="137"/>
                </a:lnTo>
                <a:lnTo>
                  <a:pt x="137" y="137"/>
                </a:lnTo>
                <a:lnTo>
                  <a:pt x="115" y="154"/>
                </a:lnTo>
                <a:lnTo>
                  <a:pt x="110" y="154"/>
                </a:lnTo>
                <a:lnTo>
                  <a:pt x="82" y="159"/>
                </a:lnTo>
                <a:lnTo>
                  <a:pt x="82" y="159"/>
                </a:lnTo>
                <a:lnTo>
                  <a:pt x="55" y="154"/>
                </a:lnTo>
                <a:lnTo>
                  <a:pt x="49" y="154"/>
                </a:lnTo>
                <a:lnTo>
                  <a:pt x="22" y="137"/>
                </a:lnTo>
                <a:lnTo>
                  <a:pt x="22" y="137"/>
                </a:lnTo>
                <a:lnTo>
                  <a:pt x="5" y="110"/>
                </a:lnTo>
                <a:lnTo>
                  <a:pt x="5" y="104"/>
                </a:lnTo>
                <a:lnTo>
                  <a:pt x="0" y="77"/>
                </a:lnTo>
                <a:lnTo>
                  <a:pt x="16" y="77"/>
                </a:lnTo>
                <a:lnTo>
                  <a:pt x="22" y="99"/>
                </a:lnTo>
                <a:lnTo>
                  <a:pt x="38" y="121"/>
                </a:lnTo>
                <a:lnTo>
                  <a:pt x="66" y="137"/>
                </a:lnTo>
                <a:lnTo>
                  <a:pt x="82" y="143"/>
                </a:lnTo>
                <a:lnTo>
                  <a:pt x="110" y="137"/>
                </a:lnTo>
                <a:lnTo>
                  <a:pt x="115" y="132"/>
                </a:lnTo>
                <a:lnTo>
                  <a:pt x="137" y="93"/>
                </a:lnTo>
                <a:lnTo>
                  <a:pt x="143" y="77"/>
                </a:lnTo>
                <a:lnTo>
                  <a:pt x="137" y="49"/>
                </a:lnTo>
                <a:lnTo>
                  <a:pt x="126" y="33"/>
                </a:lnTo>
                <a:lnTo>
                  <a:pt x="110" y="22"/>
                </a:lnTo>
                <a:lnTo>
                  <a:pt x="82" y="16"/>
                </a:lnTo>
                <a:lnTo>
                  <a:pt x="66" y="22"/>
                </a:lnTo>
                <a:lnTo>
                  <a:pt x="27" y="44"/>
                </a:lnTo>
                <a:lnTo>
                  <a:pt x="16" y="55"/>
                </a:lnTo>
                <a:lnTo>
                  <a:pt x="5" y="4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60480" y="1319040"/>
            <a:ext cx="34920" cy="4464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5" y="0"/>
                </a:lnTo>
                <a:lnTo>
                  <a:pt x="22" y="0"/>
                </a:lnTo>
                <a:lnTo>
                  <a:pt x="16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30320" y="1328760"/>
            <a:ext cx="112680" cy="6048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2"/>
                </a:moveTo>
                <a:lnTo>
                  <a:pt x="11" y="5"/>
                </a:lnTo>
                <a:lnTo>
                  <a:pt x="22" y="0"/>
                </a:lnTo>
                <a:lnTo>
                  <a:pt x="27" y="5"/>
                </a:lnTo>
                <a:lnTo>
                  <a:pt x="38" y="22"/>
                </a:lnTo>
                <a:lnTo>
                  <a:pt x="44" y="33"/>
                </a:lnTo>
                <a:lnTo>
                  <a:pt x="49" y="38"/>
                </a:lnTo>
                <a:lnTo>
                  <a:pt x="60" y="38"/>
                </a:lnTo>
                <a:lnTo>
                  <a:pt x="71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73160" y="1476360"/>
            <a:ext cx="2700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38240" y="1616040"/>
            <a:ext cx="10476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8720" y="1781280"/>
            <a:ext cx="49860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63640" y="3098880"/>
            <a:ext cx="49860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40160" y="3098880"/>
            <a:ext cx="89028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4880" y="1241280"/>
            <a:ext cx="254160" cy="252720"/>
          </a:xfrm>
          <a:custGeom>
            <a:avLst/>
            <a:gdLst/>
            <a:ahLst/>
            <a:rect l="l" t="t" r="r" b="b"/>
            <a:pathLst>
              <a:path w="160" h="159">
                <a:moveTo>
                  <a:pt x="6" y="49"/>
                </a:moveTo>
                <a:lnTo>
                  <a:pt x="6" y="44"/>
                </a:lnTo>
                <a:lnTo>
                  <a:pt x="22" y="22"/>
                </a:lnTo>
                <a:lnTo>
                  <a:pt x="22" y="22"/>
                </a:lnTo>
                <a:lnTo>
                  <a:pt x="44" y="5"/>
                </a:lnTo>
                <a:lnTo>
                  <a:pt x="50" y="5"/>
                </a:lnTo>
                <a:lnTo>
                  <a:pt x="83" y="0"/>
                </a:lnTo>
                <a:lnTo>
                  <a:pt x="83" y="0"/>
                </a:lnTo>
                <a:lnTo>
                  <a:pt x="110" y="5"/>
                </a:lnTo>
                <a:lnTo>
                  <a:pt x="116" y="5"/>
                </a:lnTo>
                <a:lnTo>
                  <a:pt x="138" y="22"/>
                </a:lnTo>
                <a:lnTo>
                  <a:pt x="138" y="22"/>
                </a:lnTo>
                <a:lnTo>
                  <a:pt x="154" y="44"/>
                </a:lnTo>
                <a:lnTo>
                  <a:pt x="154" y="49"/>
                </a:lnTo>
                <a:lnTo>
                  <a:pt x="160" y="77"/>
                </a:lnTo>
                <a:lnTo>
                  <a:pt x="160" y="77"/>
                </a:lnTo>
                <a:lnTo>
                  <a:pt x="154" y="104"/>
                </a:lnTo>
                <a:lnTo>
                  <a:pt x="154" y="110"/>
                </a:lnTo>
                <a:lnTo>
                  <a:pt x="138" y="137"/>
                </a:lnTo>
                <a:lnTo>
                  <a:pt x="138" y="137"/>
                </a:lnTo>
                <a:lnTo>
                  <a:pt x="116" y="154"/>
                </a:lnTo>
                <a:lnTo>
                  <a:pt x="110" y="154"/>
                </a:lnTo>
                <a:lnTo>
                  <a:pt x="83" y="159"/>
                </a:lnTo>
                <a:lnTo>
                  <a:pt x="83" y="159"/>
                </a:lnTo>
                <a:lnTo>
                  <a:pt x="50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6" y="110"/>
                </a:lnTo>
                <a:lnTo>
                  <a:pt x="6" y="104"/>
                </a:lnTo>
                <a:lnTo>
                  <a:pt x="0" y="77"/>
                </a:lnTo>
                <a:lnTo>
                  <a:pt x="17" y="77"/>
                </a:lnTo>
                <a:lnTo>
                  <a:pt x="22" y="99"/>
                </a:lnTo>
                <a:lnTo>
                  <a:pt x="44" y="132"/>
                </a:lnTo>
                <a:lnTo>
                  <a:pt x="50" y="137"/>
                </a:lnTo>
                <a:lnTo>
                  <a:pt x="83" y="143"/>
                </a:lnTo>
                <a:lnTo>
                  <a:pt x="110" y="137"/>
                </a:lnTo>
                <a:lnTo>
                  <a:pt x="116" y="132"/>
                </a:lnTo>
                <a:lnTo>
                  <a:pt x="138" y="93"/>
                </a:lnTo>
                <a:lnTo>
                  <a:pt x="143" y="77"/>
                </a:lnTo>
                <a:lnTo>
                  <a:pt x="138" y="49"/>
                </a:lnTo>
                <a:lnTo>
                  <a:pt x="127" y="33"/>
                </a:lnTo>
                <a:lnTo>
                  <a:pt x="110" y="22"/>
                </a:lnTo>
                <a:lnTo>
                  <a:pt x="83" y="16"/>
                </a:lnTo>
                <a:lnTo>
                  <a:pt x="50" y="22"/>
                </a:lnTo>
                <a:lnTo>
                  <a:pt x="33" y="33"/>
                </a:lnTo>
                <a:lnTo>
                  <a:pt x="17" y="55"/>
                </a:lnTo>
                <a:lnTo>
                  <a:pt x="6" y="4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74880" y="1319040"/>
            <a:ext cx="34920" cy="44640"/>
          </a:xfrm>
          <a:custGeom>
            <a:avLst/>
            <a:gdLst/>
            <a:ahLst/>
            <a:rect l="l" t="t" r="r" b="b"/>
            <a:pathLst>
              <a:path w="22" h="28">
                <a:moveTo>
                  <a:pt x="0" y="28"/>
                </a:moveTo>
                <a:lnTo>
                  <a:pt x="0" y="28"/>
                </a:lnTo>
                <a:lnTo>
                  <a:pt x="6" y="0"/>
                </a:lnTo>
                <a:lnTo>
                  <a:pt x="22" y="0"/>
                </a:lnTo>
                <a:lnTo>
                  <a:pt x="17" y="28"/>
                </a:lnTo>
                <a:lnTo>
                  <a:pt x="0" y="2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844720" y="1328760"/>
            <a:ext cx="114480" cy="6048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5"/>
                </a:lnTo>
                <a:lnTo>
                  <a:pt x="17" y="0"/>
                </a:lnTo>
                <a:lnTo>
                  <a:pt x="33" y="22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79640" y="1476360"/>
            <a:ext cx="27000" cy="18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44720" y="1616040"/>
            <a:ext cx="104760" cy="15732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3160" y="1781280"/>
            <a:ext cx="820440" cy="9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389480" y="2557440"/>
            <a:ext cx="253800" cy="252360"/>
          </a:xfrm>
          <a:custGeom>
            <a:avLst/>
            <a:gdLst/>
            <a:ahLst/>
            <a:rect l="l" t="t" r="r" b="b"/>
            <a:pathLst>
              <a:path w="160" h="159">
                <a:moveTo>
                  <a:pt x="6" y="50"/>
                </a:moveTo>
                <a:lnTo>
                  <a:pt x="6" y="44"/>
                </a:lnTo>
                <a:lnTo>
                  <a:pt x="22" y="22"/>
                </a:lnTo>
                <a:lnTo>
                  <a:pt x="22" y="22"/>
                </a:lnTo>
                <a:lnTo>
                  <a:pt x="44" y="6"/>
                </a:lnTo>
                <a:lnTo>
                  <a:pt x="50" y="6"/>
                </a:lnTo>
                <a:lnTo>
                  <a:pt x="83" y="0"/>
                </a:lnTo>
                <a:lnTo>
                  <a:pt x="83" y="0"/>
                </a:lnTo>
                <a:lnTo>
                  <a:pt x="110" y="6"/>
                </a:lnTo>
                <a:lnTo>
                  <a:pt x="116" y="6"/>
                </a:lnTo>
                <a:lnTo>
                  <a:pt x="138" y="22"/>
                </a:lnTo>
                <a:lnTo>
                  <a:pt x="138" y="22"/>
                </a:lnTo>
                <a:lnTo>
                  <a:pt x="154" y="44"/>
                </a:lnTo>
                <a:lnTo>
                  <a:pt x="154" y="50"/>
                </a:lnTo>
                <a:lnTo>
                  <a:pt x="160" y="77"/>
                </a:lnTo>
                <a:lnTo>
                  <a:pt x="160" y="77"/>
                </a:lnTo>
                <a:lnTo>
                  <a:pt x="154" y="104"/>
                </a:lnTo>
                <a:lnTo>
                  <a:pt x="154" y="110"/>
                </a:lnTo>
                <a:lnTo>
                  <a:pt x="138" y="137"/>
                </a:lnTo>
                <a:lnTo>
                  <a:pt x="138" y="137"/>
                </a:lnTo>
                <a:lnTo>
                  <a:pt x="116" y="154"/>
                </a:lnTo>
                <a:lnTo>
                  <a:pt x="110" y="154"/>
                </a:lnTo>
                <a:lnTo>
                  <a:pt x="83" y="159"/>
                </a:lnTo>
                <a:lnTo>
                  <a:pt x="83" y="159"/>
                </a:lnTo>
                <a:lnTo>
                  <a:pt x="50" y="154"/>
                </a:lnTo>
                <a:lnTo>
                  <a:pt x="44" y="154"/>
                </a:lnTo>
                <a:lnTo>
                  <a:pt x="22" y="137"/>
                </a:lnTo>
                <a:lnTo>
                  <a:pt x="22" y="137"/>
                </a:lnTo>
                <a:lnTo>
                  <a:pt x="6" y="110"/>
                </a:lnTo>
                <a:lnTo>
                  <a:pt x="6" y="104"/>
                </a:lnTo>
                <a:lnTo>
                  <a:pt x="0" y="77"/>
                </a:lnTo>
                <a:lnTo>
                  <a:pt x="17" y="77"/>
                </a:lnTo>
                <a:lnTo>
                  <a:pt x="22" y="99"/>
                </a:lnTo>
                <a:lnTo>
                  <a:pt x="44" y="132"/>
                </a:lnTo>
                <a:lnTo>
                  <a:pt x="50" y="137"/>
                </a:lnTo>
                <a:lnTo>
                  <a:pt x="83" y="143"/>
                </a:lnTo>
                <a:lnTo>
                  <a:pt x="110" y="137"/>
                </a:lnTo>
                <a:lnTo>
                  <a:pt x="116" y="132"/>
                </a:lnTo>
                <a:lnTo>
                  <a:pt x="138" y="93"/>
                </a:lnTo>
                <a:lnTo>
                  <a:pt x="143" y="77"/>
                </a:lnTo>
                <a:lnTo>
                  <a:pt x="138" y="50"/>
                </a:lnTo>
                <a:lnTo>
                  <a:pt x="127" y="33"/>
                </a:lnTo>
                <a:lnTo>
                  <a:pt x="110" y="22"/>
                </a:lnTo>
                <a:lnTo>
                  <a:pt x="83" y="17"/>
                </a:lnTo>
                <a:lnTo>
                  <a:pt x="50" y="22"/>
                </a:lnTo>
                <a:lnTo>
                  <a:pt x="33" y="33"/>
                </a:lnTo>
                <a:lnTo>
                  <a:pt x="17" y="55"/>
                </a:lnTo>
                <a:lnTo>
                  <a:pt x="6" y="5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389480" y="2637000"/>
            <a:ext cx="3492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0" y="27"/>
                </a:moveTo>
                <a:lnTo>
                  <a:pt x="0" y="27"/>
                </a:lnTo>
                <a:lnTo>
                  <a:pt x="6" y="0"/>
                </a:lnTo>
                <a:lnTo>
                  <a:pt x="22" y="0"/>
                </a:lnTo>
                <a:lnTo>
                  <a:pt x="17" y="27"/>
                </a:lnTo>
                <a:lnTo>
                  <a:pt x="0" y="2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59320" y="2644920"/>
            <a:ext cx="114120" cy="60120"/>
          </a:xfrm>
          <a:custGeom>
            <a:avLst/>
            <a:gdLst/>
            <a:ahLst/>
            <a:rect l="l" t="t" r="r" b="b"/>
            <a:pathLst>
              <a:path w="72" h="38">
                <a:moveTo>
                  <a:pt x="0" y="22"/>
                </a:moveTo>
                <a:lnTo>
                  <a:pt x="11" y="6"/>
                </a:lnTo>
                <a:lnTo>
                  <a:pt x="22" y="0"/>
                </a:lnTo>
                <a:lnTo>
                  <a:pt x="28" y="6"/>
                </a:lnTo>
                <a:lnTo>
                  <a:pt x="33" y="17"/>
                </a:lnTo>
                <a:lnTo>
                  <a:pt x="50" y="38"/>
                </a:lnTo>
                <a:lnTo>
                  <a:pt x="61" y="38"/>
                </a:lnTo>
                <a:lnTo>
                  <a:pt x="72" y="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03600" y="2792520"/>
            <a:ext cx="25560" cy="183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68680" y="2932200"/>
            <a:ext cx="104760" cy="156960"/>
          </a:xfrm>
          <a:custGeom>
            <a:avLst/>
            <a:gdLst/>
            <a:ahLst/>
            <a:rect l="l" t="t" r="r" b="b"/>
            <a:pathLst>
              <a:path w="66" h="99">
                <a:moveTo>
                  <a:pt x="33" y="99"/>
                </a:moveTo>
                <a:lnTo>
                  <a:pt x="0" y="0"/>
                </a:lnTo>
                <a:lnTo>
                  <a:pt x="33" y="22"/>
                </a:lnTo>
                <a:lnTo>
                  <a:pt x="66" y="0"/>
                </a:lnTo>
                <a:lnTo>
                  <a:pt x="33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59160" y="3098880"/>
            <a:ext cx="497160" cy="9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79640" y="1851120"/>
            <a:ext cx="17640" cy="1247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47600" y="1851120"/>
            <a:ext cx="1657440" cy="209520"/>
          </a:xfrm>
          <a:custGeom>
            <a:avLst/>
            <a:gdLst/>
            <a:ahLst/>
            <a:rect l="l" t="t" r="r" b="b"/>
            <a:pathLst>
              <a:path w="1044" h="132">
                <a:moveTo>
                  <a:pt x="11" y="0"/>
                </a:moveTo>
                <a:lnTo>
                  <a:pt x="11" y="121"/>
                </a:lnTo>
                <a:lnTo>
                  <a:pt x="1033" y="121"/>
                </a:lnTo>
                <a:lnTo>
                  <a:pt x="1033" y="0"/>
                </a:lnTo>
                <a:lnTo>
                  <a:pt x="1044" y="0"/>
                </a:lnTo>
                <a:lnTo>
                  <a:pt x="1044" y="127"/>
                </a:lnTo>
                <a:lnTo>
                  <a:pt x="1039" y="132"/>
                </a:lnTo>
                <a:lnTo>
                  <a:pt x="5" y="132"/>
                </a:lnTo>
                <a:lnTo>
                  <a:pt x="0" y="127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45040" y="1790640"/>
            <a:ext cx="690480" cy="9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141720" y="1851120"/>
            <a:ext cx="1135080" cy="209520"/>
          </a:xfrm>
          <a:custGeom>
            <a:avLst/>
            <a:gdLst/>
            <a:ahLst/>
            <a:rect l="l" t="t" r="r" b="b"/>
            <a:pathLst>
              <a:path w="715" h="132">
                <a:moveTo>
                  <a:pt x="11" y="0"/>
                </a:moveTo>
                <a:lnTo>
                  <a:pt x="11" y="121"/>
                </a:lnTo>
                <a:lnTo>
                  <a:pt x="704" y="121"/>
                </a:lnTo>
                <a:lnTo>
                  <a:pt x="704" y="0"/>
                </a:lnTo>
                <a:lnTo>
                  <a:pt x="715" y="0"/>
                </a:lnTo>
                <a:lnTo>
                  <a:pt x="715" y="127"/>
                </a:lnTo>
                <a:lnTo>
                  <a:pt x="709" y="132"/>
                </a:lnTo>
                <a:lnTo>
                  <a:pt x="6" y="132"/>
                </a:lnTo>
                <a:lnTo>
                  <a:pt x="0" y="127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141720" y="3159000"/>
            <a:ext cx="1396800" cy="209520"/>
          </a:xfrm>
          <a:custGeom>
            <a:avLst/>
            <a:gdLst/>
            <a:ahLst/>
            <a:rect l="l" t="t" r="r" b="b"/>
            <a:pathLst>
              <a:path w="880" h="132">
                <a:moveTo>
                  <a:pt x="11" y="0"/>
                </a:moveTo>
                <a:lnTo>
                  <a:pt x="11" y="121"/>
                </a:lnTo>
                <a:lnTo>
                  <a:pt x="869" y="121"/>
                </a:lnTo>
                <a:lnTo>
                  <a:pt x="869" y="0"/>
                </a:lnTo>
                <a:lnTo>
                  <a:pt x="880" y="0"/>
                </a:lnTo>
                <a:lnTo>
                  <a:pt x="880" y="126"/>
                </a:lnTo>
                <a:lnTo>
                  <a:pt x="874" y="132"/>
                </a:lnTo>
                <a:lnTo>
                  <a:pt x="6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41720" y="1851120"/>
            <a:ext cx="1527120" cy="1247760"/>
          </a:xfrm>
          <a:custGeom>
            <a:avLst/>
            <a:gdLst/>
            <a:ahLst/>
            <a:rect l="l" t="t" r="r" b="b"/>
            <a:pathLst>
              <a:path w="962" h="786">
                <a:moveTo>
                  <a:pt x="0" y="786"/>
                </a:moveTo>
                <a:lnTo>
                  <a:pt x="0" y="659"/>
                </a:lnTo>
                <a:lnTo>
                  <a:pt x="6" y="654"/>
                </a:lnTo>
                <a:lnTo>
                  <a:pt x="951" y="127"/>
                </a:lnTo>
                <a:lnTo>
                  <a:pt x="951" y="0"/>
                </a:lnTo>
                <a:lnTo>
                  <a:pt x="962" y="0"/>
                </a:lnTo>
                <a:lnTo>
                  <a:pt x="962" y="127"/>
                </a:lnTo>
                <a:lnTo>
                  <a:pt x="957" y="132"/>
                </a:lnTo>
                <a:lnTo>
                  <a:pt x="11" y="659"/>
                </a:lnTo>
                <a:lnTo>
                  <a:pt x="11" y="786"/>
                </a:lnTo>
                <a:lnTo>
                  <a:pt x="0" y="7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47600" y="3159000"/>
            <a:ext cx="1657440" cy="209520"/>
          </a:xfrm>
          <a:custGeom>
            <a:avLst/>
            <a:gdLst/>
            <a:ahLst/>
            <a:rect l="l" t="t" r="r" b="b"/>
            <a:pathLst>
              <a:path w="1044" h="132">
                <a:moveTo>
                  <a:pt x="11" y="0"/>
                </a:moveTo>
                <a:lnTo>
                  <a:pt x="11" y="121"/>
                </a:lnTo>
                <a:lnTo>
                  <a:pt x="1033" y="121"/>
                </a:lnTo>
                <a:lnTo>
                  <a:pt x="1033" y="0"/>
                </a:lnTo>
                <a:lnTo>
                  <a:pt x="1044" y="0"/>
                </a:lnTo>
                <a:lnTo>
                  <a:pt x="1044" y="126"/>
                </a:lnTo>
                <a:lnTo>
                  <a:pt x="1039" y="132"/>
                </a:lnTo>
                <a:lnTo>
                  <a:pt x="5" y="132"/>
                </a:lnTo>
                <a:lnTo>
                  <a:pt x="0" y="126"/>
                </a:lnTo>
                <a:lnTo>
                  <a:pt x="0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8160" y="150336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50520" y="14954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039560" y="149544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58160" y="2811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50520" y="2811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61600" y="2811600"/>
            <a:ext cx="90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44240" y="12412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69160" y="13287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77720" y="12412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303000" y="13287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65320" y="24796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890240" y="257508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754960" y="2052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73480" y="21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23240" y="2052720"/>
            <a:ext cx="23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66240" y="205272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432840" y="2052720"/>
            <a:ext cx="45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0000"/>
                </a:solidFill>
                <a:latin typeface="Arial"/>
              </a:rPr>
              <a:t>Sp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79960" y="2157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64200" y="20527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*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104960" y="20527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229160" y="21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ff"/>
                </a:solidFill>
                <a:latin typeface="Arial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385400" y="2052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12120" y="2052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75840" y="2052720"/>
            <a:ext cx="45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ff0000"/>
                </a:solidFill>
                <a:latin typeface="Arial"/>
              </a:rPr>
              <a:t>Sp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024400" y="2157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105400" y="205272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*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372160" y="21574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526600" y="205272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65400" y="2444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5120" y="2540160"/>
            <a:ext cx="5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950080" y="2444760"/>
            <a:ext cx="133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09000" y="2452680"/>
            <a:ext cx="1474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:  FP en línea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740360" y="244476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779600" y="24447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819200" y="2540160"/>
            <a:ext cx="5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68280" y="2644920"/>
            <a:ext cx="329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Sp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92280" y="2739960"/>
            <a:ext cx="5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301440" y="2652840"/>
            <a:ext cx="148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:  Spotprice en no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731000" y="26528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730280" y="2644920"/>
            <a:ext cx="179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775120" y="2846520"/>
            <a:ext cx="22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87160" y="2941560"/>
            <a:ext cx="5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327000" y="2846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378480" y="28544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441480" y="2854440"/>
            <a:ext cx="1788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I. Tarifario en línea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202600" y="28544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241480" y="2846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281440" y="2941560"/>
            <a:ext cx="5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Times New Roman"/>
              </a:rPr>
              <a:t>i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413160" y="2347920"/>
            <a:ext cx="504720" cy="297000"/>
          </a:xfrm>
          <a:custGeom>
            <a:avLst/>
            <a:gdLst/>
            <a:ahLst/>
            <a:rect l="l" t="t" r="r" b="b"/>
            <a:pathLst>
              <a:path w="318" h="187">
                <a:moveTo>
                  <a:pt x="0" y="176"/>
                </a:moveTo>
                <a:lnTo>
                  <a:pt x="318" y="0"/>
                </a:lnTo>
                <a:lnTo>
                  <a:pt x="318" y="11"/>
                </a:lnTo>
                <a:lnTo>
                  <a:pt x="0" y="187"/>
                </a:lnTo>
                <a:lnTo>
                  <a:pt x="0" y="17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65680" y="2313000"/>
            <a:ext cx="139680" cy="104760"/>
          </a:xfrm>
          <a:custGeom>
            <a:avLst/>
            <a:gdLst/>
            <a:ahLst/>
            <a:rect l="l" t="t" r="r" b="b"/>
            <a:pathLst>
              <a:path w="88" h="66">
                <a:moveTo>
                  <a:pt x="88" y="0"/>
                </a:moveTo>
                <a:lnTo>
                  <a:pt x="22" y="66"/>
                </a:lnTo>
                <a:lnTo>
                  <a:pt x="28" y="33"/>
                </a:lnTo>
                <a:lnTo>
                  <a:pt x="0" y="17"/>
                </a:lnTo>
                <a:lnTo>
                  <a:pt x="88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336120" y="27939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460320" y="28987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ff"/>
                </a:solidFill>
                <a:latin typeface="Arial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14040" y="21304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38240" y="2244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ff"/>
                </a:solidFill>
                <a:latin typeface="Arial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734920" y="3316320"/>
            <a:ext cx="41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Sp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152160" y="34560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235040" y="1486080"/>
            <a:ext cx="41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Sp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54080" y="162576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73360" y="397980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c"/>
                </a:solidFill>
                <a:latin typeface="Comic Sans MS"/>
              </a:rPr>
              <a:t>Cálculo de Precios Sp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60720" y="4417920"/>
            <a:ext cx="242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- Problema de Optimización no lin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74760" y="4592520"/>
            <a:ext cx="196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- Problema de gran dimen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887480" y="4997520"/>
            <a:ext cx="790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Spotprice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88840" y="49975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756880" y="4997520"/>
            <a:ext cx="1588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(Lagrange-Multiplica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15720" y="5707080"/>
            <a:ext cx="1353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Optimal Power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01000" y="5881680"/>
            <a:ext cx="40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(OP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635560" y="5707080"/>
            <a:ext cx="643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Econ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678400" y="5881680"/>
            <a:ext cx="552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disp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030640" y="3906720"/>
            <a:ext cx="33260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mic Sans MS"/>
              </a:rPr>
              <a:t>Só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mic Sans MS"/>
              </a:rPr>
              <a:t>entre 10% y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Comic Sans MS"/>
              </a:rPr>
              <a:t>de anualidad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518680" y="4057560"/>
            <a:ext cx="495000" cy="2006640"/>
          </a:xfrm>
          <a:prstGeom prst="rect">
            <a:avLst/>
          </a:prstGeom>
          <a:solidFill>
            <a:srgbClr val="ff99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542440" y="5591160"/>
            <a:ext cx="447480" cy="465120"/>
          </a:xfrm>
          <a:prstGeom prst="rect">
            <a:avLst/>
          </a:prstGeom>
          <a:solidFill>
            <a:srgbClr val="99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143640" y="5656320"/>
            <a:ext cx="4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c"/>
                </a:solidFill>
                <a:latin typeface="Comic Sans MS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105040" y="369108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c"/>
                </a:solidFill>
                <a:latin typeface="Comic Sans MS"/>
              </a:rPr>
              <a:t>Anu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75040" y="5637240"/>
            <a:ext cx="1779480" cy="531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65680" y="5627520"/>
            <a:ext cx="1788840" cy="541440"/>
          </a:xfrm>
          <a:custGeom>
            <a:avLst/>
            <a:gdLst/>
            <a:ahLst/>
            <a:rect l="l" t="t" r="r" b="b"/>
            <a:pathLst>
              <a:path w="1127" h="341">
                <a:moveTo>
                  <a:pt x="6" y="330"/>
                </a:moveTo>
                <a:lnTo>
                  <a:pt x="1116" y="330"/>
                </a:lnTo>
                <a:lnTo>
                  <a:pt x="1116" y="11"/>
                </a:lnTo>
                <a:lnTo>
                  <a:pt x="6" y="11"/>
                </a:lnTo>
                <a:lnTo>
                  <a:pt x="6" y="0"/>
                </a:lnTo>
                <a:lnTo>
                  <a:pt x="1122" y="0"/>
                </a:lnTo>
                <a:lnTo>
                  <a:pt x="1127" y="6"/>
                </a:lnTo>
                <a:lnTo>
                  <a:pt x="1127" y="335"/>
                </a:lnTo>
                <a:lnTo>
                  <a:pt x="1122" y="341"/>
                </a:lnTo>
                <a:lnTo>
                  <a:pt x="6" y="341"/>
                </a:lnTo>
                <a:lnTo>
                  <a:pt x="0" y="335"/>
                </a:lnTo>
                <a:lnTo>
                  <a:pt x="6" y="3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65680" y="5627520"/>
            <a:ext cx="17280" cy="532080"/>
          </a:xfrm>
          <a:custGeom>
            <a:avLst/>
            <a:gdLst/>
            <a:ahLst/>
            <a:rect l="l" t="t" r="r" b="b"/>
            <a:pathLst>
              <a:path w="11" h="335">
                <a:moveTo>
                  <a:pt x="11" y="6"/>
                </a:moveTo>
                <a:lnTo>
                  <a:pt x="11" y="335"/>
                </a:lnTo>
                <a:lnTo>
                  <a:pt x="0" y="335"/>
                </a:lnTo>
                <a:lnTo>
                  <a:pt x="0" y="6"/>
                </a:lnTo>
                <a:lnTo>
                  <a:pt x="6" y="0"/>
                </a:lnTo>
                <a:lnTo>
                  <a:pt x="11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177080" y="5715000"/>
            <a:ext cx="113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Modelo Uninod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928680" y="5889600"/>
            <a:ext cx="160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</a:rPr>
              <a:t>Factores de Penal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1149480" y="5276880"/>
            <a:ext cx="1162080" cy="2620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00240" y="5284800"/>
            <a:ext cx="0" cy="2239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635280" y="5281560"/>
            <a:ext cx="1176480" cy="27468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961920" y="907920"/>
            <a:ext cx="7905960" cy="5220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482760" y="311760"/>
            <a:ext cx="91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Principios Utilizados en un Modelo de Tarificación de la 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5708520"/>
            <a:ext cx="2819160" cy="317520"/>
          </a:xfrm>
          <a:prstGeom prst="rect">
            <a:avLst/>
          </a:prstGeom>
          <a:solidFill>
            <a:srgbClr val="ffffff">
              <a:alpha val="50000"/>
            </a:srgbClr>
          </a:solidFill>
          <a:ln w="3240">
            <a:solidFill>
              <a:srgbClr val="919191"/>
            </a:solidFill>
            <a:miter/>
          </a:ln>
          <a:effectLst>
            <a:outerShdw dist="53966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505320" y="5645880"/>
            <a:ext cx="283680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3399"/>
                </a:solidFill>
                <a:latin typeface="Arial"/>
              </a:rPr>
              <a:t>Formación de 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1989000" y="4778280"/>
            <a:ext cx="6801120" cy="934560"/>
            <a:chOff x="1989000" y="4778280"/>
            <a:chExt cx="6801120" cy="934560"/>
          </a:xfrm>
        </p:grpSpPr>
        <p:sp>
          <p:nvSpPr>
            <p:cNvPr id="314" name="">
              <a:hlinkClick r:id="rId2" action="ppaction://hlinksldjump"/>
            </p:cNvPr>
            <p:cNvSpPr/>
            <p:nvPr/>
          </p:nvSpPr>
          <p:spPr>
            <a:xfrm>
              <a:off x="4102200" y="4778280"/>
              <a:ext cx="1879560" cy="533160"/>
            </a:xfrm>
            <a:custGeom>
              <a:avLst/>
              <a:gdLst>
                <a:gd name="textAreaLeft" fmla="*/ 34560 w 1879560"/>
                <a:gd name="textAreaRight" fmla="*/ 1845000 w 1879560"/>
                <a:gd name="textAreaTop" fmla="*/ 34560 h 533160"/>
                <a:gd name="textAreaBottom" fmla="*/ 498600 h 533160"/>
              </a:gdLst>
              <a:ahLst/>
              <a:rect l="textAreaLeft" t="textAreaTop" r="textAreaRight" b="textAreaBottom"/>
              <a:pathLst>
                <a:path w="76110" h="21600">
                  <a:moveTo>
                    <a:pt x="0" y="0"/>
                  </a:moveTo>
                  <a:lnTo>
                    <a:pt x="76110" y="0"/>
                  </a:lnTo>
                  <a:lnTo>
                    <a:pt x="76110" y="21600"/>
                  </a:lnTo>
                  <a:lnTo>
                    <a:pt x="0" y="21600"/>
                  </a:lnTo>
                  <a:close/>
                </a:path>
                <a:path fill="lightenLess" w="76110" h="21600">
                  <a:moveTo>
                    <a:pt x="0" y="0"/>
                  </a:moveTo>
                  <a:lnTo>
                    <a:pt x="76110" y="0"/>
                  </a:lnTo>
                  <a:lnTo>
                    <a:pt x="74710" y="1400"/>
                  </a:lnTo>
                  <a:lnTo>
                    <a:pt x="1400" y="1400"/>
                  </a:lnTo>
                  <a:close/>
                </a:path>
                <a:path fill="darken" w="76110" h="21600">
                  <a:moveTo>
                    <a:pt x="76110" y="0"/>
                  </a:moveTo>
                  <a:lnTo>
                    <a:pt x="76110" y="21600"/>
                  </a:lnTo>
                  <a:lnTo>
                    <a:pt x="74710" y="20200"/>
                  </a:lnTo>
                  <a:lnTo>
                    <a:pt x="74710" y="1400"/>
                  </a:lnTo>
                  <a:close/>
                </a:path>
                <a:path fill="darkenLess" w="76110" h="21600">
                  <a:moveTo>
                    <a:pt x="7611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4710" y="20200"/>
                  </a:lnTo>
                  <a:close/>
                </a:path>
                <a:path fill="lighten" w="7611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02200" y="4819320"/>
              <a:ext cx="186192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240">
              <a:solidFill>
                <a:srgbClr val="919191"/>
              </a:solidFill>
              <a:miter/>
            </a:ln>
            <a:effectLst>
              <a:outerShdw dist="53966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417920" y="4802760"/>
              <a:ext cx="1317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99"/>
                  </a:solidFill>
                  <a:latin typeface="Arial"/>
                </a:rPr>
                <a:t>Actividad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99"/>
                  </a:solidFill>
                  <a:latin typeface="Arial"/>
                </a:rPr>
                <a:t>de R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26160" y="5356080"/>
              <a:ext cx="203040" cy="342720"/>
            </a:xfrm>
            <a:prstGeom prst="upArrow">
              <a:avLst>
                <a:gd name="adj1" fmla="val 40000"/>
                <a:gd name="adj2" fmla="val 73566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40186" dir="4303641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501200">
              <a:off x="5969160" y="5342760"/>
              <a:ext cx="203040" cy="343080"/>
            </a:xfrm>
            <a:prstGeom prst="upArrow">
              <a:avLst>
                <a:gd name="adj1" fmla="val 40000"/>
                <a:gd name="adj2" fmla="val 73643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rot="20098800">
              <a:off x="3669120" y="5330160"/>
              <a:ext cx="203400" cy="343080"/>
            </a:xfrm>
            <a:prstGeom prst="upArrow">
              <a:avLst>
                <a:gd name="adj1" fmla="val 40000"/>
                <a:gd name="adj2" fmla="val 73513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989000" y="4868640"/>
              <a:ext cx="19083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99"/>
                  </a:solidFill>
                  <a:latin typeface="Arial"/>
                </a:rPr>
                <a:t>Mercado Mayoris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52960" y="4873320"/>
              <a:ext cx="28371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99"/>
                  </a:solidFill>
                  <a:latin typeface="Arial"/>
                </a:rPr>
                <a:t>Servic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99"/>
                  </a:solidFill>
                  <a:latin typeface="Arial"/>
                </a:rPr>
                <a:t>Complementari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1501200">
              <a:off x="6264360" y="5338080"/>
              <a:ext cx="203040" cy="343080"/>
            </a:xfrm>
            <a:prstGeom prst="upArrow">
              <a:avLst>
                <a:gd name="adj1" fmla="val 40000"/>
                <a:gd name="adj2" fmla="val 73643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rot="20098800">
              <a:off x="3408120" y="5325480"/>
              <a:ext cx="203040" cy="342720"/>
            </a:xfrm>
            <a:prstGeom prst="upArrow">
              <a:avLst>
                <a:gd name="adj1" fmla="val 40000"/>
                <a:gd name="adj2" fmla="val 73566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286080" y="4935960"/>
              <a:ext cx="887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.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81600" y="4962960"/>
              <a:ext cx="887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.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731520" y="974880"/>
            <a:ext cx="8040960" cy="2854800"/>
            <a:chOff x="731520" y="974880"/>
            <a:chExt cx="8040960" cy="2854800"/>
          </a:xfrm>
        </p:grpSpPr>
        <p:sp>
          <p:nvSpPr>
            <p:cNvPr id="327" name=""/>
            <p:cNvSpPr/>
            <p:nvPr/>
          </p:nvSpPr>
          <p:spPr>
            <a:xfrm>
              <a:off x="2359080" y="1670040"/>
              <a:ext cx="153828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240">
              <a:solidFill>
                <a:srgbClr val="919191"/>
              </a:solidFill>
              <a:miter/>
            </a:ln>
            <a:effectLst>
              <a:outerShdw dist="53966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453400" y="1719360"/>
              <a:ext cx="13845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ae00"/>
                  </a:solidFill>
                  <a:latin typeface="Arial"/>
                </a:rPr>
                <a:t>Transmis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ae00"/>
                  </a:solidFill>
                  <a:latin typeface="Arial"/>
                </a:rPr>
                <a:t>Tronc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20633400">
              <a:off x="3308040" y="2176200"/>
              <a:ext cx="214200" cy="1208160"/>
            </a:xfrm>
            <a:prstGeom prst="upArrow">
              <a:avLst>
                <a:gd name="adj1" fmla="val 31000"/>
                <a:gd name="adj2" fmla="val 83587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7841000">
              <a:off x="2728800" y="2701800"/>
              <a:ext cx="184320" cy="933480"/>
            </a:xfrm>
            <a:prstGeom prst="upArrow">
              <a:avLst>
                <a:gd name="adj1" fmla="val 37046"/>
                <a:gd name="adj2" fmla="val 104454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745200">
              <a:off x="3828960" y="2128680"/>
              <a:ext cx="214560" cy="1208160"/>
            </a:xfrm>
            <a:prstGeom prst="upArrow">
              <a:avLst>
                <a:gd name="adj1" fmla="val 31000"/>
                <a:gd name="adj2" fmla="val 83446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93600">
              <a:off x="5256360" y="1513080"/>
              <a:ext cx="214200" cy="1208160"/>
            </a:xfrm>
            <a:prstGeom prst="upArrow">
              <a:avLst>
                <a:gd name="adj1" fmla="val 31000"/>
                <a:gd name="adj2" fmla="val 83587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20500800">
              <a:off x="4614840" y="1779480"/>
              <a:ext cx="184320" cy="933480"/>
            </a:xfrm>
            <a:prstGeom prst="upArrow">
              <a:avLst>
                <a:gd name="adj1" fmla="val 37046"/>
                <a:gd name="adj2" fmla="val 104454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603680" y="974880"/>
              <a:ext cx="153828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240">
              <a:solidFill>
                <a:srgbClr val="919191"/>
              </a:solidFill>
              <a:miter/>
            </a:ln>
            <a:effectLst>
              <a:outerShdw dist="53966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555800" y="1038240"/>
              <a:ext cx="16102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ae00"/>
                  </a:solidFill>
                  <a:latin typeface="Arial"/>
                </a:rPr>
                <a:t>Infraestructu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ae00"/>
                  </a:solidFill>
                  <a:latin typeface="Arial"/>
                </a:rPr>
                <a:t>Mínim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745200">
              <a:off x="6554880" y="2161800"/>
              <a:ext cx="214200" cy="1208160"/>
            </a:xfrm>
            <a:prstGeom prst="upArrow">
              <a:avLst>
                <a:gd name="adj1" fmla="val 31000"/>
                <a:gd name="adj2" fmla="val 83587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3265200">
              <a:off x="7297560" y="2403360"/>
              <a:ext cx="214200" cy="1208160"/>
            </a:xfrm>
            <a:prstGeom prst="upArrow">
              <a:avLst>
                <a:gd name="adj1" fmla="val 31000"/>
                <a:gd name="adj2" fmla="val 83587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234200" y="2041560"/>
              <a:ext cx="153828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240">
              <a:solidFill>
                <a:srgbClr val="919191"/>
              </a:solidFill>
              <a:miter/>
            </a:ln>
            <a:effectLst>
              <a:outerShdw dist="53966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273440" y="2201760"/>
              <a:ext cx="14410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ae00"/>
                  </a:solidFill>
                  <a:latin typeface="Arial"/>
                </a:rPr>
                <a:t>Estampilla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9104000">
              <a:off x="1604880" y="2952720"/>
              <a:ext cx="184320" cy="933480"/>
            </a:xfrm>
            <a:prstGeom prst="upArrow">
              <a:avLst>
                <a:gd name="adj1" fmla="val 37046"/>
                <a:gd name="adj2" fmla="val 104454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745200">
              <a:off x="2119320" y="3171960"/>
              <a:ext cx="316080" cy="620640"/>
            </a:xfrm>
            <a:prstGeom prst="upArrow">
              <a:avLst>
                <a:gd name="adj1" fmla="val 31000"/>
                <a:gd name="adj2" fmla="val 29099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43040" y="2524320"/>
              <a:ext cx="108900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240">
              <a:solidFill>
                <a:srgbClr val="919191"/>
              </a:solidFill>
              <a:miter/>
            </a:ln>
            <a:effectLst>
              <a:outerShdw dist="53966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1520" y="2573280"/>
              <a:ext cx="111492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ae00"/>
                  </a:solidFill>
                  <a:latin typeface="Arial"/>
                </a:rPr>
                <a:t>Pu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ae00"/>
                  </a:solidFill>
                  <a:latin typeface="Arial"/>
                </a:rPr>
                <a:t>Inyec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1527120" y="2762280"/>
            <a:ext cx="5651640" cy="2390400"/>
            <a:chOff x="1527120" y="2762280"/>
            <a:chExt cx="5651640" cy="2390400"/>
          </a:xfrm>
        </p:grpSpPr>
        <p:sp>
          <p:nvSpPr>
            <p:cNvPr id="345" name=""/>
            <p:cNvSpPr/>
            <p:nvPr/>
          </p:nvSpPr>
          <p:spPr>
            <a:xfrm>
              <a:off x="3187800" y="3407040"/>
              <a:ext cx="143352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240">
              <a:solidFill>
                <a:srgbClr val="919191"/>
              </a:solidFill>
              <a:miter/>
            </a:ln>
            <a:effectLst>
              <a:outerShdw dist="53966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071880" y="3418560"/>
              <a:ext cx="1681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c0128"/>
                  </a:solidFill>
                  <a:latin typeface="Arial"/>
                </a:rPr>
                <a:t>Componentes de Cos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20377800">
              <a:off x="3973680" y="3883320"/>
              <a:ext cx="183960" cy="933120"/>
            </a:xfrm>
            <a:prstGeom prst="upArrow">
              <a:avLst>
                <a:gd name="adj1" fmla="val 37046"/>
                <a:gd name="adj2" fmla="val 104618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06960" y="2762280"/>
              <a:ext cx="175716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240">
              <a:solidFill>
                <a:srgbClr val="919191"/>
              </a:solidFill>
              <a:miter/>
            </a:ln>
            <a:effectLst>
              <a:outerShdw dist="53966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340160" y="2763000"/>
              <a:ext cx="157968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c0128"/>
                  </a:solidFill>
                  <a:latin typeface="Arial"/>
                </a:rPr>
                <a:t>Componentes de Tarif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572400">
              <a:off x="5030640" y="3270240"/>
              <a:ext cx="206640" cy="1533600"/>
            </a:xfrm>
            <a:prstGeom prst="upArrow">
              <a:avLst>
                <a:gd name="adj1" fmla="val 35963"/>
                <a:gd name="adj2" fmla="val 81878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638680" y="3381480"/>
              <a:ext cx="154008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240">
              <a:solidFill>
                <a:srgbClr val="919191"/>
              </a:solidFill>
              <a:miter/>
            </a:ln>
            <a:effectLst>
              <a:outerShdw dist="53966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826240" y="3377520"/>
              <a:ext cx="121716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c0128"/>
                  </a:solidFill>
                  <a:latin typeface="Arial"/>
                </a:rPr>
                <a:t>Principio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c0128"/>
                  </a:solidFill>
                  <a:latin typeface="Arial"/>
                </a:rPr>
                <a:t>de U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1744800">
              <a:off x="6024240" y="3844800"/>
              <a:ext cx="185760" cy="1015920"/>
            </a:xfrm>
            <a:prstGeom prst="upArrow">
              <a:avLst>
                <a:gd name="adj1" fmla="val 37046"/>
                <a:gd name="adj2" fmla="val 112798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27120" y="3808440"/>
              <a:ext cx="1540080" cy="507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3240">
              <a:solidFill>
                <a:srgbClr val="919191"/>
              </a:solidFill>
              <a:miter/>
            </a:ln>
            <a:effectLst>
              <a:outerShdw dist="53966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726200" y="3804480"/>
              <a:ext cx="11941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c0128"/>
                  </a:solidFill>
                  <a:latin typeface="Arial"/>
                </a:rPr>
                <a:t>Concep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c0128"/>
                  </a:solidFill>
                  <a:latin typeface="Arial"/>
                </a:rPr>
                <a:t>de Acces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18182400">
              <a:off x="3298680" y="4129200"/>
              <a:ext cx="214560" cy="1208160"/>
            </a:xfrm>
            <a:prstGeom prst="upArrow">
              <a:avLst>
                <a:gd name="adj1" fmla="val 31000"/>
                <a:gd name="adj2" fmla="val 83446"/>
              </a:avLst>
            </a:prstGeom>
            <a:solidFill>
              <a:srgbClr val="cecece"/>
            </a:solidFill>
            <a:ln w="3240">
              <a:solidFill>
                <a:srgbClr val="919191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"/>
          <p:cNvGrpSpPr/>
          <p:nvPr/>
        </p:nvGrpSpPr>
        <p:grpSpPr>
          <a:xfrm>
            <a:off x="4140360" y="4258800"/>
            <a:ext cx="228600" cy="643320"/>
            <a:chOff x="4140360" y="4258800"/>
            <a:chExt cx="228600" cy="643320"/>
          </a:xfrm>
        </p:grpSpPr>
        <p:grpSp>
          <p:nvGrpSpPr>
            <p:cNvPr id="360" name=""/>
            <p:cNvGrpSpPr/>
            <p:nvPr/>
          </p:nvGrpSpPr>
          <p:grpSpPr>
            <a:xfrm>
              <a:off x="4140360" y="4416120"/>
              <a:ext cx="228600" cy="333360"/>
              <a:chOff x="4140360" y="4416120"/>
              <a:chExt cx="228600" cy="333360"/>
            </a:xfrm>
          </p:grpSpPr>
          <p:sp>
            <p:nvSpPr>
              <p:cNvPr id="361" name=""/>
              <p:cNvSpPr/>
              <p:nvPr/>
            </p:nvSpPr>
            <p:spPr>
              <a:xfrm>
                <a:off x="4140360" y="441612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140360" y="452088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 flipV="1">
              <a:off x="4254480" y="425880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4254480" y="47494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092240" y="4258800"/>
            <a:ext cx="228600" cy="643320"/>
            <a:chOff x="1092240" y="4258800"/>
            <a:chExt cx="228600" cy="643320"/>
          </a:xfrm>
        </p:grpSpPr>
        <p:grpSp>
          <p:nvGrpSpPr>
            <p:cNvPr id="366" name=""/>
            <p:cNvGrpSpPr/>
            <p:nvPr/>
          </p:nvGrpSpPr>
          <p:grpSpPr>
            <a:xfrm>
              <a:off x="1092240" y="4416120"/>
              <a:ext cx="228600" cy="333360"/>
              <a:chOff x="1092240" y="4416120"/>
              <a:chExt cx="228600" cy="333360"/>
            </a:xfrm>
          </p:grpSpPr>
          <p:sp>
            <p:nvSpPr>
              <p:cNvPr id="367" name=""/>
              <p:cNvSpPr/>
              <p:nvPr/>
            </p:nvSpPr>
            <p:spPr>
              <a:xfrm>
                <a:off x="1092240" y="441612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092240" y="452088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 flipV="1">
              <a:off x="1206360" y="425880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1206360" y="47494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4140360" y="2506320"/>
            <a:ext cx="228600" cy="643320"/>
            <a:chOff x="4140360" y="2506320"/>
            <a:chExt cx="228600" cy="643320"/>
          </a:xfrm>
        </p:grpSpPr>
        <p:grpSp>
          <p:nvGrpSpPr>
            <p:cNvPr id="372" name=""/>
            <p:cNvGrpSpPr/>
            <p:nvPr/>
          </p:nvGrpSpPr>
          <p:grpSpPr>
            <a:xfrm>
              <a:off x="4140360" y="2663640"/>
              <a:ext cx="228600" cy="333360"/>
              <a:chOff x="4140360" y="2663640"/>
              <a:chExt cx="228600" cy="333360"/>
            </a:xfrm>
          </p:grpSpPr>
          <p:sp>
            <p:nvSpPr>
              <p:cNvPr id="373" name=""/>
              <p:cNvSpPr/>
              <p:nvPr/>
            </p:nvSpPr>
            <p:spPr>
              <a:xfrm>
                <a:off x="4140360" y="266364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140360" y="276840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 flipV="1">
              <a:off x="4254480" y="25063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4254480" y="299700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092240" y="2506320"/>
            <a:ext cx="228600" cy="643320"/>
            <a:chOff x="1092240" y="2506320"/>
            <a:chExt cx="228600" cy="643320"/>
          </a:xfrm>
        </p:grpSpPr>
        <p:grpSp>
          <p:nvGrpSpPr>
            <p:cNvPr id="378" name=""/>
            <p:cNvGrpSpPr/>
            <p:nvPr/>
          </p:nvGrpSpPr>
          <p:grpSpPr>
            <a:xfrm>
              <a:off x="1092240" y="2663640"/>
              <a:ext cx="228600" cy="333360"/>
              <a:chOff x="1092240" y="2663640"/>
              <a:chExt cx="228600" cy="333360"/>
            </a:xfrm>
          </p:grpSpPr>
          <p:sp>
            <p:nvSpPr>
              <p:cNvPr id="379" name=""/>
              <p:cNvSpPr/>
              <p:nvPr/>
            </p:nvSpPr>
            <p:spPr>
              <a:xfrm>
                <a:off x="1092240" y="266364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092240" y="276840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 flipV="1">
              <a:off x="1206360" y="25063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206360" y="299700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787320" y="3116160"/>
            <a:ext cx="2743200" cy="11430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87320" y="4902120"/>
            <a:ext cx="2743200" cy="11430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44520" y="364968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625760" y="36496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35440" y="3116160"/>
            <a:ext cx="2743200" cy="11430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835440" y="4902120"/>
            <a:ext cx="2743200" cy="11430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92640" y="3268800"/>
            <a:ext cx="685800" cy="610200"/>
            <a:chOff x="4292640" y="3268800"/>
            <a:chExt cx="685800" cy="610200"/>
          </a:xfrm>
        </p:grpSpPr>
        <p:sp>
          <p:nvSpPr>
            <p:cNvPr id="390" name=""/>
            <p:cNvSpPr/>
            <p:nvPr/>
          </p:nvSpPr>
          <p:spPr>
            <a:xfrm>
              <a:off x="4292640" y="3865320"/>
              <a:ext cx="68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05240" y="3268800"/>
              <a:ext cx="279360" cy="279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59320" y="357336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520160" y="3573360"/>
              <a:ext cx="422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4334040" y="3331800"/>
              <a:ext cx="228960" cy="151560"/>
              <a:chOff x="4334040" y="3331800"/>
              <a:chExt cx="228960" cy="151560"/>
            </a:xfrm>
          </p:grpSpPr>
          <p:grpSp>
            <p:nvGrpSpPr>
              <p:cNvPr id="395" name=""/>
              <p:cNvGrpSpPr/>
              <p:nvPr/>
            </p:nvGrpSpPr>
            <p:grpSpPr>
              <a:xfrm>
                <a:off x="4334040" y="3332520"/>
                <a:ext cx="115200" cy="150840"/>
                <a:chOff x="4334040" y="3332520"/>
                <a:chExt cx="115200" cy="150840"/>
              </a:xfrm>
            </p:grpSpPr>
            <p:sp>
              <p:nvSpPr>
                <p:cNvPr id="396" name=""/>
                <p:cNvSpPr/>
                <p:nvPr/>
              </p:nvSpPr>
              <p:spPr>
                <a:xfrm rot="10800000">
                  <a:off x="4334040" y="3332520"/>
                  <a:ext cx="113400" cy="150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rot="10800000">
                  <a:off x="4335120" y="3332520"/>
                  <a:ext cx="114120" cy="150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4447800" y="3331800"/>
                <a:ext cx="115200" cy="151560"/>
                <a:chOff x="4447800" y="3331800"/>
                <a:chExt cx="115200" cy="15156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4449600" y="3331800"/>
                  <a:ext cx="113400" cy="151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4447800" y="3331800"/>
                  <a:ext cx="114120" cy="151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1" name=""/>
          <p:cNvSpPr/>
          <p:nvPr/>
        </p:nvSpPr>
        <p:spPr>
          <a:xfrm>
            <a:off x="787320" y="1397160"/>
            <a:ext cx="2743200" cy="1109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835440" y="1397160"/>
            <a:ext cx="2743200" cy="1109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625760" y="2201760"/>
            <a:ext cx="0" cy="137160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1793520" y="2158920"/>
            <a:ext cx="1050840" cy="140976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916520" y="170172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297400" y="17017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4764240" y="1802880"/>
            <a:ext cx="396720" cy="177012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015200" y="72396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0"/>
                </a:solidFill>
                <a:latin typeface="Comic Sans MS"/>
              </a:rPr>
              <a:t>Punto Reti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5080" y="69228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0"/>
                </a:solidFill>
                <a:latin typeface="Comic Sans MS"/>
              </a:rPr>
              <a:t>Punto Iny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5640" y="35679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55160" y="524448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02600" y="1530720"/>
            <a:ext cx="599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446120" y="1512720"/>
            <a:ext cx="685800" cy="597600"/>
            <a:chOff x="1446120" y="1512720"/>
            <a:chExt cx="685800" cy="597600"/>
          </a:xfrm>
        </p:grpSpPr>
        <p:sp>
          <p:nvSpPr>
            <p:cNvPr id="414" name=""/>
            <p:cNvSpPr/>
            <p:nvPr/>
          </p:nvSpPr>
          <p:spPr>
            <a:xfrm>
              <a:off x="1446120" y="2109600"/>
              <a:ext cx="68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458720" y="1512720"/>
              <a:ext cx="279360" cy="279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03440" y="180468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1487880" y="1576080"/>
              <a:ext cx="115200" cy="151560"/>
              <a:chOff x="1487880" y="1576080"/>
              <a:chExt cx="115200" cy="151560"/>
            </a:xfrm>
          </p:grpSpPr>
          <p:sp>
            <p:nvSpPr>
              <p:cNvPr id="418" name=""/>
              <p:cNvSpPr/>
              <p:nvPr/>
            </p:nvSpPr>
            <p:spPr>
              <a:xfrm rot="10800000">
                <a:off x="1487880" y="1576080"/>
                <a:ext cx="1134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0800000">
                <a:off x="1488960" y="1576080"/>
                <a:ext cx="11412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1601640" y="1576440"/>
              <a:ext cx="115200" cy="151560"/>
              <a:chOff x="1601640" y="1576440"/>
              <a:chExt cx="115200" cy="151560"/>
            </a:xfrm>
          </p:grpSpPr>
          <p:sp>
            <p:nvSpPr>
              <p:cNvPr id="421" name=""/>
              <p:cNvSpPr/>
              <p:nvPr/>
            </p:nvSpPr>
            <p:spPr>
              <a:xfrm>
                <a:off x="1603440" y="1576440"/>
                <a:ext cx="1134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601640" y="1576440"/>
                <a:ext cx="11412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1674000" y="1804680"/>
              <a:ext cx="422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2679840" y="1498680"/>
            <a:ext cx="685800" cy="597600"/>
            <a:chOff x="2679840" y="1498680"/>
            <a:chExt cx="685800" cy="597600"/>
          </a:xfrm>
        </p:grpSpPr>
        <p:sp>
          <p:nvSpPr>
            <p:cNvPr id="425" name=""/>
            <p:cNvSpPr/>
            <p:nvPr/>
          </p:nvSpPr>
          <p:spPr>
            <a:xfrm>
              <a:off x="2679840" y="2095560"/>
              <a:ext cx="68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692440" y="1498680"/>
              <a:ext cx="279360" cy="279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837160" y="179064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2721600" y="1562040"/>
              <a:ext cx="115200" cy="151560"/>
              <a:chOff x="2721600" y="1562040"/>
              <a:chExt cx="115200" cy="151560"/>
            </a:xfrm>
          </p:grpSpPr>
          <p:sp>
            <p:nvSpPr>
              <p:cNvPr id="429" name=""/>
              <p:cNvSpPr/>
              <p:nvPr/>
            </p:nvSpPr>
            <p:spPr>
              <a:xfrm rot="10800000">
                <a:off x="2721600" y="1562040"/>
                <a:ext cx="1134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10800000">
                <a:off x="2722680" y="1562040"/>
                <a:ext cx="11412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2835360" y="1562400"/>
              <a:ext cx="115200" cy="151560"/>
              <a:chOff x="2835360" y="1562400"/>
              <a:chExt cx="115200" cy="151560"/>
            </a:xfrm>
          </p:grpSpPr>
          <p:sp>
            <p:nvSpPr>
              <p:cNvPr id="432" name=""/>
              <p:cNvSpPr/>
              <p:nvPr/>
            </p:nvSpPr>
            <p:spPr>
              <a:xfrm>
                <a:off x="2837160" y="1562400"/>
                <a:ext cx="1134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835360" y="1562400"/>
                <a:ext cx="11412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2907720" y="1790640"/>
              <a:ext cx="422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587680" y="3246480"/>
            <a:ext cx="685800" cy="597600"/>
            <a:chOff x="2587680" y="3246480"/>
            <a:chExt cx="685800" cy="597600"/>
          </a:xfrm>
        </p:grpSpPr>
        <p:sp>
          <p:nvSpPr>
            <p:cNvPr id="436" name=""/>
            <p:cNvSpPr/>
            <p:nvPr/>
          </p:nvSpPr>
          <p:spPr>
            <a:xfrm>
              <a:off x="2587680" y="3843360"/>
              <a:ext cx="68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600280" y="3246480"/>
              <a:ext cx="279360" cy="279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745000" y="3538440"/>
              <a:ext cx="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2629440" y="3309840"/>
              <a:ext cx="115200" cy="151560"/>
              <a:chOff x="2629440" y="3309840"/>
              <a:chExt cx="115200" cy="151560"/>
            </a:xfrm>
          </p:grpSpPr>
          <p:sp>
            <p:nvSpPr>
              <p:cNvPr id="440" name=""/>
              <p:cNvSpPr/>
              <p:nvPr/>
            </p:nvSpPr>
            <p:spPr>
              <a:xfrm rot="10800000">
                <a:off x="2629440" y="3309840"/>
                <a:ext cx="1134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10800000">
                <a:off x="2630520" y="3309840"/>
                <a:ext cx="11412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743200" y="3310200"/>
              <a:ext cx="115200" cy="151560"/>
              <a:chOff x="2743200" y="3310200"/>
              <a:chExt cx="115200" cy="151560"/>
            </a:xfrm>
          </p:grpSpPr>
          <p:sp>
            <p:nvSpPr>
              <p:cNvPr id="443" name=""/>
              <p:cNvSpPr/>
              <p:nvPr/>
            </p:nvSpPr>
            <p:spPr>
              <a:xfrm>
                <a:off x="2745000" y="3310200"/>
                <a:ext cx="1134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743200" y="3310200"/>
                <a:ext cx="11412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2815560" y="3538440"/>
              <a:ext cx="42264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 flipH="1" flipV="1">
            <a:off x="1907640" y="3633480"/>
            <a:ext cx="793800" cy="11916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173480" y="533088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554360" y="53308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718240" y="351468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099120" y="35146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4916520" y="3589200"/>
            <a:ext cx="584280" cy="792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567320" y="3905280"/>
            <a:ext cx="231840" cy="131904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82760" y="286200"/>
            <a:ext cx="91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Concepto de Acceso de Ag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2349360" y="5067360"/>
            <a:ext cx="685800" cy="596880"/>
            <a:chOff x="2349360" y="5067360"/>
            <a:chExt cx="685800" cy="596880"/>
          </a:xfrm>
        </p:grpSpPr>
        <p:sp>
          <p:nvSpPr>
            <p:cNvPr id="455" name=""/>
            <p:cNvSpPr/>
            <p:nvPr/>
          </p:nvSpPr>
          <p:spPr>
            <a:xfrm>
              <a:off x="2349360" y="5664240"/>
              <a:ext cx="68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361960" y="5067360"/>
              <a:ext cx="279360" cy="279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501640" y="535968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2391120" y="5130360"/>
            <a:ext cx="228960" cy="152280"/>
            <a:chOff x="2391120" y="5130360"/>
            <a:chExt cx="228960" cy="152280"/>
          </a:xfrm>
        </p:grpSpPr>
        <p:grpSp>
          <p:nvGrpSpPr>
            <p:cNvPr id="459" name=""/>
            <p:cNvGrpSpPr/>
            <p:nvPr/>
          </p:nvGrpSpPr>
          <p:grpSpPr>
            <a:xfrm>
              <a:off x="2391120" y="5130720"/>
              <a:ext cx="115200" cy="151560"/>
              <a:chOff x="2391120" y="5130720"/>
              <a:chExt cx="115200" cy="151560"/>
            </a:xfrm>
          </p:grpSpPr>
          <p:sp>
            <p:nvSpPr>
              <p:cNvPr id="460" name=""/>
              <p:cNvSpPr/>
              <p:nvPr/>
            </p:nvSpPr>
            <p:spPr>
              <a:xfrm rot="10800000">
                <a:off x="2391120" y="5130720"/>
                <a:ext cx="1134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10800000">
                <a:off x="2392200" y="5130720"/>
                <a:ext cx="11412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2504880" y="5130360"/>
              <a:ext cx="115200" cy="152280"/>
              <a:chOff x="2504880" y="5130360"/>
              <a:chExt cx="115200" cy="152280"/>
            </a:xfrm>
          </p:grpSpPr>
          <p:sp>
            <p:nvSpPr>
              <p:cNvPr id="463" name=""/>
              <p:cNvSpPr/>
              <p:nvPr/>
            </p:nvSpPr>
            <p:spPr>
              <a:xfrm>
                <a:off x="2506680" y="5130360"/>
                <a:ext cx="1134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504880" y="5130360"/>
                <a:ext cx="11412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5" name=""/>
          <p:cNvSpPr/>
          <p:nvPr/>
        </p:nvSpPr>
        <p:spPr>
          <a:xfrm>
            <a:off x="2577600" y="5359320"/>
            <a:ext cx="45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1794960" y="3746520"/>
            <a:ext cx="582840" cy="172080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7175520" y="2506320"/>
            <a:ext cx="228600" cy="643320"/>
            <a:chOff x="7175520" y="2506320"/>
            <a:chExt cx="228600" cy="643320"/>
          </a:xfrm>
        </p:grpSpPr>
        <p:grpSp>
          <p:nvGrpSpPr>
            <p:cNvPr id="468" name=""/>
            <p:cNvGrpSpPr/>
            <p:nvPr/>
          </p:nvGrpSpPr>
          <p:grpSpPr>
            <a:xfrm>
              <a:off x="7175520" y="2663640"/>
              <a:ext cx="228600" cy="333360"/>
              <a:chOff x="7175520" y="2663640"/>
              <a:chExt cx="228600" cy="333360"/>
            </a:xfrm>
          </p:grpSpPr>
          <p:sp>
            <p:nvSpPr>
              <p:cNvPr id="469" name=""/>
              <p:cNvSpPr/>
              <p:nvPr/>
            </p:nvSpPr>
            <p:spPr>
              <a:xfrm>
                <a:off x="7175520" y="266364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175520" y="276840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 flipV="1">
              <a:off x="7289640" y="25063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289640" y="299700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7175520" y="4258800"/>
            <a:ext cx="228600" cy="643320"/>
            <a:chOff x="7175520" y="4258800"/>
            <a:chExt cx="228600" cy="643320"/>
          </a:xfrm>
        </p:grpSpPr>
        <p:grpSp>
          <p:nvGrpSpPr>
            <p:cNvPr id="474" name=""/>
            <p:cNvGrpSpPr/>
            <p:nvPr/>
          </p:nvGrpSpPr>
          <p:grpSpPr>
            <a:xfrm>
              <a:off x="7175520" y="4416120"/>
              <a:ext cx="228600" cy="333360"/>
              <a:chOff x="7175520" y="4416120"/>
              <a:chExt cx="228600" cy="333360"/>
            </a:xfrm>
          </p:grpSpPr>
          <p:sp>
            <p:nvSpPr>
              <p:cNvPr id="475" name=""/>
              <p:cNvSpPr/>
              <p:nvPr/>
            </p:nvSpPr>
            <p:spPr>
              <a:xfrm>
                <a:off x="7175520" y="441612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175520" y="4520880"/>
                <a:ext cx="228600" cy="228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 flipV="1">
              <a:off x="7289640" y="425880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7289640" y="47494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6870600" y="3116160"/>
            <a:ext cx="2743200" cy="11430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70600" y="4902120"/>
            <a:ext cx="2743200" cy="114300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775720" y="371952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9156600" y="3719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775720" y="550548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9156600" y="55054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7705800" y="3785760"/>
            <a:ext cx="1077840" cy="172404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7099200" y="3268800"/>
            <a:ext cx="685800" cy="596880"/>
            <a:chOff x="7099200" y="3268800"/>
            <a:chExt cx="685800" cy="596880"/>
          </a:xfrm>
        </p:grpSpPr>
        <p:sp>
          <p:nvSpPr>
            <p:cNvPr id="487" name=""/>
            <p:cNvSpPr/>
            <p:nvPr/>
          </p:nvSpPr>
          <p:spPr>
            <a:xfrm>
              <a:off x="7099200" y="3865680"/>
              <a:ext cx="68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1800" y="3268800"/>
              <a:ext cx="279360" cy="279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251480" y="356112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7327080" y="3573360"/>
            <a:ext cx="422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7099200" y="5067360"/>
            <a:ext cx="685800" cy="596880"/>
            <a:chOff x="7099200" y="5067360"/>
            <a:chExt cx="685800" cy="596880"/>
          </a:xfrm>
        </p:grpSpPr>
        <p:sp>
          <p:nvSpPr>
            <p:cNvPr id="492" name=""/>
            <p:cNvSpPr/>
            <p:nvPr/>
          </p:nvSpPr>
          <p:spPr>
            <a:xfrm>
              <a:off x="7099200" y="5664240"/>
              <a:ext cx="685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111800" y="5067360"/>
              <a:ext cx="279360" cy="2793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251480" y="5359680"/>
              <a:ext cx="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7834320" y="3865680"/>
            <a:ext cx="998640" cy="1557360"/>
          </a:xfrm>
          <a:prstGeom prst="line">
            <a:avLst/>
          </a:prstGeom>
          <a:ln w="2844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7140960" y="5130360"/>
            <a:ext cx="228960" cy="152280"/>
            <a:chOff x="7140960" y="5130360"/>
            <a:chExt cx="228960" cy="152280"/>
          </a:xfrm>
        </p:grpSpPr>
        <p:grpSp>
          <p:nvGrpSpPr>
            <p:cNvPr id="497" name=""/>
            <p:cNvGrpSpPr/>
            <p:nvPr/>
          </p:nvGrpSpPr>
          <p:grpSpPr>
            <a:xfrm>
              <a:off x="7140960" y="5130720"/>
              <a:ext cx="115200" cy="151560"/>
              <a:chOff x="7140960" y="5130720"/>
              <a:chExt cx="115200" cy="151560"/>
            </a:xfrm>
          </p:grpSpPr>
          <p:sp>
            <p:nvSpPr>
              <p:cNvPr id="498" name=""/>
              <p:cNvSpPr/>
              <p:nvPr/>
            </p:nvSpPr>
            <p:spPr>
              <a:xfrm rot="10800000">
                <a:off x="7140960" y="5130720"/>
                <a:ext cx="1134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rot="10800000">
                <a:off x="7142040" y="5130720"/>
                <a:ext cx="11412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7254720" y="5130360"/>
              <a:ext cx="115200" cy="152280"/>
              <a:chOff x="7254720" y="5130360"/>
              <a:chExt cx="115200" cy="152280"/>
            </a:xfrm>
          </p:grpSpPr>
          <p:sp>
            <p:nvSpPr>
              <p:cNvPr id="501" name=""/>
              <p:cNvSpPr/>
              <p:nvPr/>
            </p:nvSpPr>
            <p:spPr>
              <a:xfrm>
                <a:off x="7256520" y="5130360"/>
                <a:ext cx="1134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254720" y="5130360"/>
                <a:ext cx="11412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3" name=""/>
          <p:cNvGrpSpPr/>
          <p:nvPr/>
        </p:nvGrpSpPr>
        <p:grpSpPr>
          <a:xfrm>
            <a:off x="7140960" y="3331800"/>
            <a:ext cx="228960" cy="152280"/>
            <a:chOff x="7140960" y="3331800"/>
            <a:chExt cx="228960" cy="152280"/>
          </a:xfrm>
        </p:grpSpPr>
        <p:grpSp>
          <p:nvGrpSpPr>
            <p:cNvPr id="504" name=""/>
            <p:cNvGrpSpPr/>
            <p:nvPr/>
          </p:nvGrpSpPr>
          <p:grpSpPr>
            <a:xfrm>
              <a:off x="7140960" y="3332160"/>
              <a:ext cx="115200" cy="151560"/>
              <a:chOff x="7140960" y="3332160"/>
              <a:chExt cx="115200" cy="151560"/>
            </a:xfrm>
          </p:grpSpPr>
          <p:sp>
            <p:nvSpPr>
              <p:cNvPr id="505" name=""/>
              <p:cNvSpPr/>
              <p:nvPr/>
            </p:nvSpPr>
            <p:spPr>
              <a:xfrm rot="10800000">
                <a:off x="7140960" y="3332160"/>
                <a:ext cx="11340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rot="10800000">
                <a:off x="7142040" y="3332160"/>
                <a:ext cx="114120" cy="15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7254720" y="3331800"/>
              <a:ext cx="115200" cy="152280"/>
              <a:chOff x="7254720" y="3331800"/>
              <a:chExt cx="115200" cy="152280"/>
            </a:xfrm>
          </p:grpSpPr>
          <p:sp>
            <p:nvSpPr>
              <p:cNvPr id="508" name=""/>
              <p:cNvSpPr/>
              <p:nvPr/>
            </p:nvSpPr>
            <p:spPr>
              <a:xfrm>
                <a:off x="7256520" y="3331800"/>
                <a:ext cx="11340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254720" y="3331800"/>
                <a:ext cx="114120" cy="15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0" name=""/>
          <p:cNvSpPr/>
          <p:nvPr/>
        </p:nvSpPr>
        <p:spPr>
          <a:xfrm>
            <a:off x="7327440" y="5359320"/>
            <a:ext cx="451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870600" y="1397160"/>
            <a:ext cx="2743200" cy="11095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30640" y="706320"/>
            <a:ext cx="2709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0"/>
                </a:solidFill>
                <a:latin typeface="Comic Sans MS"/>
              </a:rPr>
              <a:t>Punto a P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0"/>
                </a:solidFill>
                <a:latin typeface="Comic Sans MS"/>
              </a:rPr>
              <a:t>Inyección/Reti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-117360" y="6008760"/>
            <a:ext cx="79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0"/>
                </a:solidFill>
                <a:latin typeface="Comic Sans MS"/>
              </a:rPr>
              <a:t>Situación: </a:t>
            </a:r>
            <a:r>
              <a:rPr b="1" lang="de-DE" sz="2400" spc="-1" strike="noStrike">
                <a:solidFill>
                  <a:srgbClr val="fc0128"/>
                </a:solidFill>
                <a:latin typeface="Comic Sans MS"/>
              </a:rPr>
              <a:t>Punto Inyección / Punto a P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63360" y="774720"/>
            <a:ext cx="836640" cy="5382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52560" y="64108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omic Sans MS"/>
              </a:rPr>
              <a:t>1.3 Modelos de Formación de Prec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71680" y="-10440"/>
            <a:ext cx="8381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1.3.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arificación de Sis. de Transmisión </a:t>
            </a:r>
            <a:r>
              <a:rPr b="1" lang="de-DE" sz="2400" spc="-1" strike="noStrike">
                <a:solidFill>
                  <a:srgbClr val="ffffff"/>
                </a:solidFill>
                <a:latin typeface="Comic Sans MS"/>
              </a:rPr>
              <a:t>(I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30T15:09:26Z</dcterms:created>
  <dc:creator>LS elektr. Energieversorgung</dc:creator>
  <dc:description/>
  <cp:keywords/>
  <dc:language>en-US</dc:language>
  <cp:lastModifiedBy>Rodrigo Palma</cp:lastModifiedBy>
  <cp:lastPrinted>2001-08-07T19:36:21Z</cp:lastPrinted>
  <dcterms:modified xsi:type="dcterms:W3CDTF">2006-08-28T14:09:11Z</dcterms:modified>
  <cp:revision>715</cp:revision>
  <dc:subject/>
  <dc:title>Titel der Folie</dc:title>
</cp:coreProperties>
</file>