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5.wmf" ContentType="image/x-wmf"/>
  <Override PartName="/ppt/media/image25.png" ContentType="image/png"/>
  <Override PartName="/ppt/media/image10.wmf" ContentType="image/x-wmf"/>
  <Override PartName="/ppt/media/image6.wmf" ContentType="image/x-wmf"/>
  <Override PartName="/ppt/media/image26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7.wmf" ContentType="image/x-wmf"/>
  <Override PartName="/ppt/media/image36.png" ContentType="image/png"/>
  <Override PartName="/ppt/media/image48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32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50.png" ContentType="image/png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9291638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1600" cy="700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238400" y="3327120"/>
            <a:ext cx="6813360" cy="32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2754360" y="529920"/>
            <a:ext cx="3781440" cy="26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11840" y="6697800"/>
            <a:ext cx="1267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C2DD21F-422E-4008-B48D-86A4D58218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2754360" y="530280"/>
            <a:ext cx="3781440" cy="261756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1238400" y="3327120"/>
            <a:ext cx="6813360" cy="32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assifizierung der Durchleitungen im Netz der SW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 unterschiedliche Durchleitungsty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feile kennzeichnen vertragliche Beziehungen zwischen Lieferant und Durchleitungsempfä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sten = Kund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0 Kunden im MS-N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Kunde im HS-Netz (Mannesmann Demag Prüfstr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Verbundnetz-zu-Punkt-DL erfolgt physikalische Einspeisung über Kuppelquerschnitt zum RWE-Netz (Bezu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Punkt-zu-Verbundnetz-DL erfolgt physikalische Ausspeisung über Kuppelquerschnitt zum RWE-Netz (Lieferu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1875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73800"/>
            <a:ext cx="990612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762120"/>
            <a:ext cx="9906120" cy="5611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1920" y="-3348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340760" y="6359400"/>
            <a:ext cx="261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EM735 Mercados Internacionales de la Energí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Dr.-Ing. Rodrigo Palma Behn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Depto. de Ingeniería Eléctr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Universidad de Chile  /  Primavera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8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8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8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28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6440" y="1919160"/>
            <a:ext cx="637884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. Módulo A1: Concep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1.3 Modelos de Formación de Precios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1 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2 Mercados Mayoristas/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3 Tarificación de Sistemas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tenido Secció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3344760" y="1990800"/>
            <a:ext cx="2101680" cy="372960"/>
            <a:chOff x="3344760" y="1990800"/>
            <a:chExt cx="2101680" cy="372960"/>
          </a:xfrm>
        </p:grpSpPr>
        <p:sp>
          <p:nvSpPr>
            <p:cNvPr id="518" name=""/>
            <p:cNvSpPr/>
            <p:nvPr/>
          </p:nvSpPr>
          <p:spPr>
            <a:xfrm flipH="1">
              <a:off x="3353040" y="1991520"/>
              <a:ext cx="24768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540600" y="1990800"/>
              <a:ext cx="2685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47800" y="205992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97040" y="213768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4120" y="220896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1640" y="228276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754080" y="199260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980880" y="2000520"/>
              <a:ext cx="24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4196880" y="199836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383720" y="200052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588200" y="1999440"/>
              <a:ext cx="24984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803840" y="199764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991760" y="200052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5174280" y="1992600"/>
              <a:ext cx="264600" cy="36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91000" y="199476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44760" y="235764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97120" y="1918800"/>
            <a:ext cx="331920" cy="406440"/>
            <a:chOff x="2697120" y="1918800"/>
            <a:chExt cx="331920" cy="406440"/>
          </a:xfrm>
        </p:grpSpPr>
        <p:sp>
          <p:nvSpPr>
            <p:cNvPr id="535" name=""/>
            <p:cNvSpPr/>
            <p:nvPr/>
          </p:nvSpPr>
          <p:spPr>
            <a:xfrm flipV="1">
              <a:off x="3029040" y="191880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886480" y="2122200"/>
              <a:ext cx="14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6200000">
              <a:off x="2690280" y="202716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6200000">
              <a:off x="2740680" y="207468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497480" y="2689200"/>
            <a:ext cx="2101320" cy="372960"/>
            <a:chOff x="4497480" y="2689200"/>
            <a:chExt cx="2101320" cy="372960"/>
          </a:xfrm>
        </p:grpSpPr>
        <p:sp>
          <p:nvSpPr>
            <p:cNvPr id="540" name=""/>
            <p:cNvSpPr/>
            <p:nvPr/>
          </p:nvSpPr>
          <p:spPr>
            <a:xfrm flipH="1">
              <a:off x="4505760" y="2689920"/>
              <a:ext cx="24768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693320" y="2689200"/>
              <a:ext cx="2685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00520" y="2758320"/>
              <a:ext cx="183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49760" y="2836080"/>
              <a:ext cx="182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96840" y="2907360"/>
              <a:ext cx="18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54360" y="2981160"/>
              <a:ext cx="182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906800" y="269100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5133240" y="2698920"/>
              <a:ext cx="24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349240" y="269676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5536080" y="269892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740920" y="2697840"/>
              <a:ext cx="24984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5956560" y="269604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144120" y="269892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326640" y="2691000"/>
              <a:ext cx="264600" cy="36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43720" y="2693160"/>
              <a:ext cx="185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97480" y="305604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370480" y="2427120"/>
            <a:ext cx="406440" cy="331920"/>
            <a:chOff x="5370480" y="2427120"/>
            <a:chExt cx="406440" cy="331920"/>
          </a:xfrm>
        </p:grpSpPr>
        <p:sp>
          <p:nvSpPr>
            <p:cNvPr id="557" name=""/>
            <p:cNvSpPr/>
            <p:nvPr/>
          </p:nvSpPr>
          <p:spPr>
            <a:xfrm>
              <a:off x="5370480" y="275904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5573520" y="261648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72000" y="24271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22760" y="247428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6048360" y="2343240"/>
            <a:ext cx="203040" cy="189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048360" y="243684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6148440" y="2155320"/>
            <a:ext cx="144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149880" y="262728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57920" y="252576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5057280" y="2281320"/>
            <a:ext cx="180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059440" y="271620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087720" y="3592440"/>
            <a:ext cx="2101320" cy="372960"/>
            <a:chOff x="3087720" y="3592440"/>
            <a:chExt cx="2101320" cy="372960"/>
          </a:xfrm>
        </p:grpSpPr>
        <p:sp>
          <p:nvSpPr>
            <p:cNvPr id="569" name=""/>
            <p:cNvSpPr/>
            <p:nvPr/>
          </p:nvSpPr>
          <p:spPr>
            <a:xfrm flipH="1">
              <a:off x="3096000" y="3593160"/>
              <a:ext cx="24768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283560" y="3592440"/>
              <a:ext cx="2685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90760" y="3661560"/>
              <a:ext cx="183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40000" y="3739320"/>
              <a:ext cx="182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87080" y="3810600"/>
              <a:ext cx="18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44600" y="3884400"/>
              <a:ext cx="182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497040" y="359424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723480" y="3602160"/>
              <a:ext cx="24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939480" y="360000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4126320" y="360216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4331160" y="3601080"/>
              <a:ext cx="24984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4546800" y="359928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4734360" y="360216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4916880" y="3594240"/>
              <a:ext cx="264600" cy="36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33960" y="3596400"/>
              <a:ext cx="185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87720" y="395928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548160" y="3146400"/>
            <a:ext cx="203040" cy="283680"/>
            <a:chOff x="3548160" y="3146400"/>
            <a:chExt cx="203040" cy="283680"/>
          </a:xfrm>
        </p:grpSpPr>
        <p:sp>
          <p:nvSpPr>
            <p:cNvPr id="586" name=""/>
            <p:cNvSpPr/>
            <p:nvPr/>
          </p:nvSpPr>
          <p:spPr>
            <a:xfrm>
              <a:off x="3548160" y="3146400"/>
              <a:ext cx="203040" cy="18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48160" y="3241080"/>
              <a:ext cx="203040" cy="189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V="1">
            <a:off x="3659040" y="220500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3641760" y="3431880"/>
            <a:ext cx="792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135240" y="3567240"/>
            <a:ext cx="406440" cy="331560"/>
            <a:chOff x="3135240" y="3567240"/>
            <a:chExt cx="406440" cy="331560"/>
          </a:xfrm>
        </p:grpSpPr>
        <p:sp>
          <p:nvSpPr>
            <p:cNvPr id="591" name=""/>
            <p:cNvSpPr/>
            <p:nvPr/>
          </p:nvSpPr>
          <p:spPr>
            <a:xfrm>
              <a:off x="3135240" y="38988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3338280" y="3756600"/>
              <a:ext cx="0" cy="14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36760" y="35672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287520" y="3614400"/>
              <a:ext cx="101520" cy="943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846680" y="3146400"/>
            <a:ext cx="203040" cy="189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46680" y="324000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948200" y="296820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948200" y="342108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57920" y="243036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5805360" y="2000160"/>
            <a:ext cx="2101680" cy="372960"/>
            <a:chOff x="5805360" y="2000160"/>
            <a:chExt cx="2101680" cy="372960"/>
          </a:xfrm>
        </p:grpSpPr>
        <p:sp>
          <p:nvSpPr>
            <p:cNvPr id="601" name=""/>
            <p:cNvSpPr/>
            <p:nvPr/>
          </p:nvSpPr>
          <p:spPr>
            <a:xfrm flipH="1">
              <a:off x="5813640" y="2000880"/>
              <a:ext cx="24768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001200" y="2000160"/>
              <a:ext cx="2685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08400" y="206928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57640" y="214704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04720" y="221832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62240" y="229248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214680" y="200196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441480" y="2009880"/>
              <a:ext cx="24984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657480" y="200772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844320" y="200988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7048800" y="2008800"/>
              <a:ext cx="24984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264440" y="200700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7452360" y="200988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634880" y="2001960"/>
              <a:ext cx="26460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51600" y="200412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05360" y="236736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759280" y="3610080"/>
            <a:ext cx="2101680" cy="374040"/>
            <a:chOff x="5759280" y="3610080"/>
            <a:chExt cx="2101680" cy="374040"/>
          </a:xfrm>
        </p:grpSpPr>
        <p:sp>
          <p:nvSpPr>
            <p:cNvPr id="618" name=""/>
            <p:cNvSpPr/>
            <p:nvPr/>
          </p:nvSpPr>
          <p:spPr>
            <a:xfrm flipH="1">
              <a:off x="5767560" y="3610800"/>
              <a:ext cx="247680" cy="35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5955120" y="3610080"/>
              <a:ext cx="26856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62320" y="367920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11560" y="375768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58640" y="382896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16160" y="390312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168600" y="3611880"/>
              <a:ext cx="26136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6395400" y="3619800"/>
              <a:ext cx="24984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611400" y="3617640"/>
              <a:ext cx="26136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798240" y="3619800"/>
              <a:ext cx="26028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7002720" y="3618720"/>
              <a:ext cx="249840" cy="3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7218360" y="3616920"/>
              <a:ext cx="26028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406280" y="3619800"/>
              <a:ext cx="26136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7588800" y="3611880"/>
              <a:ext cx="264600" cy="36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05520" y="361404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759280" y="397836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335720" y="3119400"/>
            <a:ext cx="203400" cy="285840"/>
            <a:chOff x="7335720" y="3119400"/>
            <a:chExt cx="203400" cy="285840"/>
          </a:xfrm>
        </p:grpSpPr>
        <p:sp>
          <p:nvSpPr>
            <p:cNvPr id="635" name=""/>
            <p:cNvSpPr/>
            <p:nvPr/>
          </p:nvSpPr>
          <p:spPr>
            <a:xfrm>
              <a:off x="7335720" y="3119400"/>
              <a:ext cx="203400" cy="190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35720" y="3214800"/>
              <a:ext cx="203400" cy="190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 flipV="1">
            <a:off x="7426440" y="2114280"/>
            <a:ext cx="1440" cy="9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7437600" y="34052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5824440" y="3568680"/>
            <a:ext cx="406440" cy="331920"/>
            <a:chOff x="5824440" y="3568680"/>
            <a:chExt cx="406440" cy="331920"/>
          </a:xfrm>
        </p:grpSpPr>
        <p:sp>
          <p:nvSpPr>
            <p:cNvPr id="640" name=""/>
            <p:cNvSpPr/>
            <p:nvPr/>
          </p:nvSpPr>
          <p:spPr>
            <a:xfrm>
              <a:off x="5824440" y="39006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027480" y="375804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25960" y="35686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76720" y="361584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6075360" y="314640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075360" y="3241800"/>
            <a:ext cx="203040" cy="188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184440" y="2970000"/>
            <a:ext cx="180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176880" y="343044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54400" y="415440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255920" y="3809520"/>
            <a:ext cx="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265640" y="434448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154400" y="4059360"/>
            <a:ext cx="20340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627360" y="4451400"/>
            <a:ext cx="2101680" cy="374400"/>
            <a:chOff x="3627360" y="4451400"/>
            <a:chExt cx="2101680" cy="374400"/>
          </a:xfrm>
        </p:grpSpPr>
        <p:sp>
          <p:nvSpPr>
            <p:cNvPr id="653" name=""/>
            <p:cNvSpPr/>
            <p:nvPr/>
          </p:nvSpPr>
          <p:spPr>
            <a:xfrm flipH="1">
              <a:off x="3635640" y="4452120"/>
              <a:ext cx="2476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823200" y="4451400"/>
              <a:ext cx="26856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30400" y="452088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779640" y="459900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26720" y="467064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84240" y="474480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036680" y="4453200"/>
              <a:ext cx="26136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4263480" y="4461120"/>
              <a:ext cx="2498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4479480" y="4458960"/>
              <a:ext cx="261360" cy="3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4666320" y="4461120"/>
              <a:ext cx="26028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4870800" y="4460040"/>
              <a:ext cx="24984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086440" y="4458240"/>
              <a:ext cx="26028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274360" y="4461120"/>
              <a:ext cx="261360" cy="3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5456880" y="4453200"/>
              <a:ext cx="26460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73600" y="445536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27360" y="482004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4224240" y="501336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325760" y="474156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4325760" y="520344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24240" y="4917960"/>
            <a:ext cx="20340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487680" y="5329080"/>
            <a:ext cx="2101680" cy="372960"/>
            <a:chOff x="3487680" y="5329080"/>
            <a:chExt cx="2101680" cy="372960"/>
          </a:xfrm>
        </p:grpSpPr>
        <p:sp>
          <p:nvSpPr>
            <p:cNvPr id="674" name=""/>
            <p:cNvSpPr/>
            <p:nvPr/>
          </p:nvSpPr>
          <p:spPr>
            <a:xfrm flipH="1">
              <a:off x="3495960" y="5329800"/>
              <a:ext cx="24768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683520" y="5329080"/>
              <a:ext cx="2685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90720" y="539820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39960" y="547596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7040" y="554724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44560" y="562140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3897000" y="533088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123800" y="5338800"/>
              <a:ext cx="24984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339800" y="533664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526640" y="533880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731120" y="5337720"/>
              <a:ext cx="24984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4946760" y="533592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134680" y="533880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317200" y="5330880"/>
              <a:ext cx="26460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33920" y="533304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87680" y="569628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5288400" y="2079720"/>
            <a:ext cx="67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169600" y="3714840"/>
            <a:ext cx="67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631200" y="2835360"/>
            <a:ext cx="80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602320" y="4552920"/>
            <a:ext cx="80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621400" y="5470560"/>
            <a:ext cx="80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18400" y="418608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6918480" y="3832200"/>
            <a:ext cx="14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919920" y="437508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18400" y="409104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79560" y="3287880"/>
            <a:ext cx="609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66960" y="5064120"/>
            <a:ext cx="5632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79560" y="5796000"/>
            <a:ext cx="55818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6732720" y="2233440"/>
            <a:ext cx="203040" cy="238320"/>
            <a:chOff x="6732720" y="2233440"/>
            <a:chExt cx="203040" cy="238320"/>
          </a:xfrm>
        </p:grpSpPr>
        <p:sp>
          <p:nvSpPr>
            <p:cNvPr id="703" name=""/>
            <p:cNvSpPr/>
            <p:nvPr/>
          </p:nvSpPr>
          <p:spPr>
            <a:xfrm>
              <a:off x="6833880" y="2233440"/>
              <a:ext cx="0" cy="23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32720" y="22334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141800" y="2297160"/>
            <a:ext cx="203040" cy="236520"/>
            <a:chOff x="4141800" y="2297160"/>
            <a:chExt cx="203040" cy="236520"/>
          </a:xfrm>
        </p:grpSpPr>
        <p:sp>
          <p:nvSpPr>
            <p:cNvPr id="706" name=""/>
            <p:cNvSpPr/>
            <p:nvPr/>
          </p:nvSpPr>
          <p:spPr>
            <a:xfrm>
              <a:off x="4242960" y="229716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41800" y="229716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726080" y="2755800"/>
            <a:ext cx="203040" cy="236520"/>
            <a:chOff x="4726080" y="2755800"/>
            <a:chExt cx="203040" cy="236520"/>
          </a:xfrm>
        </p:grpSpPr>
        <p:sp>
          <p:nvSpPr>
            <p:cNvPr id="709" name=""/>
            <p:cNvSpPr/>
            <p:nvPr/>
          </p:nvSpPr>
          <p:spPr>
            <a:xfrm>
              <a:off x="4827240" y="275580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26080" y="27558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6504120" y="3681360"/>
            <a:ext cx="203040" cy="238320"/>
            <a:chOff x="6504120" y="3681360"/>
            <a:chExt cx="203040" cy="238320"/>
          </a:xfrm>
        </p:grpSpPr>
        <p:sp>
          <p:nvSpPr>
            <p:cNvPr id="712" name=""/>
            <p:cNvSpPr/>
            <p:nvPr/>
          </p:nvSpPr>
          <p:spPr>
            <a:xfrm>
              <a:off x="6605280" y="3681360"/>
              <a:ext cx="0" cy="23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04120" y="368136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843360" y="3672000"/>
            <a:ext cx="203040" cy="237960"/>
            <a:chOff x="3843360" y="3672000"/>
            <a:chExt cx="203040" cy="237960"/>
          </a:xfrm>
        </p:grpSpPr>
        <p:sp>
          <p:nvSpPr>
            <p:cNvPr id="715" name=""/>
            <p:cNvSpPr/>
            <p:nvPr/>
          </p:nvSpPr>
          <p:spPr>
            <a:xfrm>
              <a:off x="3944520" y="3672000"/>
              <a:ext cx="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43360" y="36720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4103640" y="4606920"/>
            <a:ext cx="203400" cy="237960"/>
            <a:chOff x="4103640" y="4606920"/>
            <a:chExt cx="203400" cy="237960"/>
          </a:xfrm>
        </p:grpSpPr>
        <p:sp>
          <p:nvSpPr>
            <p:cNvPr id="718" name=""/>
            <p:cNvSpPr/>
            <p:nvPr/>
          </p:nvSpPr>
          <p:spPr>
            <a:xfrm>
              <a:off x="4205160" y="4606920"/>
              <a:ext cx="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103640" y="4606920"/>
              <a:ext cx="20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010040" y="5407200"/>
            <a:ext cx="203040" cy="237960"/>
            <a:chOff x="4010040" y="5407200"/>
            <a:chExt cx="203040" cy="237960"/>
          </a:xfrm>
        </p:grpSpPr>
        <p:sp>
          <p:nvSpPr>
            <p:cNvPr id="721" name=""/>
            <p:cNvSpPr/>
            <p:nvPr/>
          </p:nvSpPr>
          <p:spPr>
            <a:xfrm>
              <a:off x="4111200" y="5407200"/>
              <a:ext cx="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10040" y="54072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851120" y="5143680"/>
            <a:ext cx="9982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Baja Tensió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mic Sans MS"/>
              </a:rPr>
              <a:t>B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316400" y="2035080"/>
            <a:ext cx="111600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500 o &gt;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342040" y="2827440"/>
            <a:ext cx="98748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&gt; 23kV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81480" y="369576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23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958080" y="371628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23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313160" y="4451400"/>
            <a:ext cx="947880" cy="2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&gt;0.4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446720" y="5400720"/>
            <a:ext cx="96192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=&lt; 0.4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06560" y="1363680"/>
            <a:ext cx="609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37560" y="1389240"/>
            <a:ext cx="231120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Sistemas de Trans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Troncal A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Troncal 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Subtrans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860480" y="3492360"/>
            <a:ext cx="14461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MediaTensión, Alta Tensión en Distribució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mic Sans MS"/>
              </a:rPr>
              <a:t>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47880" y="1430280"/>
            <a:ext cx="1446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AltaTensió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030480" y="212400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119400" y="2025720"/>
            <a:ext cx="283680" cy="203040"/>
            <a:chOff x="3119400" y="2025720"/>
            <a:chExt cx="283680" cy="203040"/>
          </a:xfrm>
        </p:grpSpPr>
        <p:sp>
          <p:nvSpPr>
            <p:cNvPr id="736" name=""/>
            <p:cNvSpPr/>
            <p:nvPr/>
          </p:nvSpPr>
          <p:spPr>
            <a:xfrm rot="16200000">
              <a:off x="3112560" y="2032560"/>
              <a:ext cx="203040" cy="18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3206880" y="2032560"/>
              <a:ext cx="203040" cy="189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 flipH="1" flipV="1">
            <a:off x="3398400" y="2136240"/>
            <a:ext cx="252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487840" y="1595160"/>
            <a:ext cx="331920" cy="406440"/>
            <a:chOff x="5487840" y="1595160"/>
            <a:chExt cx="331920" cy="406440"/>
          </a:xfrm>
        </p:grpSpPr>
        <p:sp>
          <p:nvSpPr>
            <p:cNvPr id="740" name=""/>
            <p:cNvSpPr/>
            <p:nvPr/>
          </p:nvSpPr>
          <p:spPr>
            <a:xfrm flipV="1">
              <a:off x="5819760" y="15951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5677200" y="1798560"/>
              <a:ext cx="14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5481000" y="17035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5531400" y="175104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 flipH="1">
            <a:off x="5821200" y="180036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910120" y="1701360"/>
            <a:ext cx="284040" cy="203400"/>
            <a:chOff x="5910120" y="1701360"/>
            <a:chExt cx="284040" cy="203400"/>
          </a:xfrm>
        </p:grpSpPr>
        <p:sp>
          <p:nvSpPr>
            <p:cNvPr id="746" name=""/>
            <p:cNvSpPr/>
            <p:nvPr/>
          </p:nvSpPr>
          <p:spPr>
            <a:xfrm rot="16200000">
              <a:off x="5903280" y="1708200"/>
              <a:ext cx="203400" cy="189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6200000">
              <a:off x="5997600" y="1708200"/>
              <a:ext cx="203400" cy="18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 flipH="1" flipV="1">
            <a:off x="6189480" y="1812960"/>
            <a:ext cx="252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40400" y="1811160"/>
            <a:ext cx="4680" cy="1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264520" y="3676680"/>
            <a:ext cx="164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Sistema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853320" y="2022480"/>
            <a:ext cx="96840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500 o &gt;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3570120" y="5276880"/>
            <a:ext cx="406440" cy="331920"/>
            <a:chOff x="3570120" y="5276880"/>
            <a:chExt cx="406440" cy="331920"/>
          </a:xfrm>
        </p:grpSpPr>
        <p:sp>
          <p:nvSpPr>
            <p:cNvPr id="753" name=""/>
            <p:cNvSpPr/>
            <p:nvPr/>
          </p:nvSpPr>
          <p:spPr>
            <a:xfrm>
              <a:off x="3570120" y="56088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3773160" y="546624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71640" y="52768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722400" y="532404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5048280" y="4270320"/>
            <a:ext cx="406440" cy="331920"/>
            <a:chOff x="5048280" y="4270320"/>
            <a:chExt cx="406440" cy="331920"/>
          </a:xfrm>
        </p:grpSpPr>
        <p:sp>
          <p:nvSpPr>
            <p:cNvPr id="758" name=""/>
            <p:cNvSpPr/>
            <p:nvPr/>
          </p:nvSpPr>
          <p:spPr>
            <a:xfrm>
              <a:off x="5048280" y="460224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251320" y="445968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49800" y="42703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0560" y="431748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457200" y="32112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mponentes de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12920" y="800280"/>
            <a:ext cx="836280" cy="5378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724840" y="74304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ara un Sistema Interconec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-254160" y="1339920"/>
            <a:ext cx="231156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Clas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Nivel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Tensión o C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de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600" y="2838600"/>
            <a:ext cx="16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Areas Eléctricas</a:t>
            </a: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7000" y="3708360"/>
            <a:ext cx="16416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Crite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Conectividad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Estructura de Prop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7805880" y="3819600"/>
            <a:ext cx="384120" cy="171360"/>
          </a:xfrm>
          <a:prstGeom prst="line">
            <a:avLst/>
          </a:prstGeom>
          <a:ln w="3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785000" y="4074840"/>
            <a:ext cx="397080" cy="1314360"/>
          </a:xfrm>
          <a:prstGeom prst="line">
            <a:avLst/>
          </a:prstGeom>
          <a:ln w="3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678800" y="2500200"/>
            <a:ext cx="385560" cy="12960"/>
          </a:xfrm>
          <a:prstGeom prst="line">
            <a:avLst/>
          </a:prstGeom>
          <a:ln w="3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41480" y="5902200"/>
            <a:ext cx="79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Comentario: </a:t>
            </a:r>
            <a:r>
              <a:rPr b="1" lang="de-DE" sz="2400" spc="-1" strike="noStrike">
                <a:solidFill>
                  <a:srgbClr val="fc0128"/>
                </a:solidFill>
                <a:latin typeface="Comic Sans MS"/>
              </a:rPr>
              <a:t>Definición estática en el tiem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25600" y="825480"/>
            <a:ext cx="897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Corresponde a la metodología básic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la </a:t>
            </a:r>
            <a:r>
              <a:rPr b="1" lang="de-DE" sz="2000" spc="-1" strike="noStrike">
                <a:solidFill>
                  <a:srgbClr val="fc0128"/>
                </a:solidFill>
                <a:latin typeface="Comic Sans MS"/>
              </a:rPr>
              <a:t>identificación del uso</a:t>
            </a: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 que realiza un agente, de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ae00"/>
                </a:solidFill>
                <a:latin typeface="Comic Sans MS"/>
              </a:rPr>
              <a:t>componente de costo</a:t>
            </a: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 del sistema para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ae00"/>
                </a:solidFill>
                <a:latin typeface="Comic Sans MS"/>
              </a:rPr>
              <a:t>componente de tarifa</a:t>
            </a: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 determi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9760" y="351360"/>
            <a:ext cx="91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rincipio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63360" y="876240"/>
            <a:ext cx="836640" cy="5382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66600" y="2417760"/>
            <a:ext cx="52610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Tarificación margi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Basado en identificación de flujos: Propiedades eléc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Basado en identificación de flujos: Análisis topológico y/o teoría de 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Estampil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Estableciendo el beneficio de cada agente al hacer uso del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614920" y="2144880"/>
            <a:ext cx="4046760" cy="40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Var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Unidad base de medida: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tilización de una medida de energía (MWh, potencia firme), potencia y/o suponer la existencia de perfiles de consu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Análisis Temporal :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squemas en que se anticipa un comportamiento del sistema (análisis a priori) vs. un análisis a posteriori, intervalos de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619440" y="95076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Cubrir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232680" y="243540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cc"/>
                </a:solidFill>
                <a:latin typeface="Comic Sans MS"/>
              </a:rPr>
              <a:t>Generar señales económicas eficientes en la operación e inversión de agentes involucr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4040" y="34066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Comic Sans MS"/>
              </a:rPr>
              <a:t>Repartición </a:t>
            </a:r>
            <a:r>
              <a:rPr b="1" lang="de-DE" sz="2400" spc="-1" strike="noStrike">
                <a:solidFill>
                  <a:srgbClr val="ff6600"/>
                </a:solidFill>
                <a:latin typeface="Comic Sans MS"/>
              </a:rPr>
              <a:t>Justa</a:t>
            </a:r>
            <a:r>
              <a:rPr b="0" lang="de-DE" sz="2400" spc="-1" strike="noStrike">
                <a:solidFill>
                  <a:srgbClr val="ff6600"/>
                </a:solidFill>
                <a:latin typeface="Comic Sans MS"/>
              </a:rPr>
              <a:t> de Costos según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278160" y="2867040"/>
            <a:ext cx="289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Comic Sans MS"/>
              </a:rPr>
              <a:t>Transparencia (Metodología y Procedimi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5880" y="1292400"/>
            <a:ext cx="247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ae00"/>
                </a:solidFill>
                <a:latin typeface="Comic Sans MS"/>
              </a:rPr>
              <a:t>Factibilidad y facilidad de 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246800" y="4989600"/>
            <a:ext cx="20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stabilidad de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583080" y="5002200"/>
            <a:ext cx="243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ff"/>
                </a:solidFill>
                <a:latin typeface="Comic Sans MS"/>
              </a:rPr>
              <a:t>Políticamente implem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240600" y="839880"/>
            <a:ext cx="258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Comic Sans MS"/>
              </a:rPr>
              <a:t>Trato no Discrimin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6800" y="32436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ualidades Esperadas de una Metodología 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22360" y="29880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Universo de Metodologías Estud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17680" y="739800"/>
            <a:ext cx="164124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Principio de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Margi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Id. Flujos: base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Id. Flujos: grafos, top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Estampil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27360" y="760320"/>
            <a:ext cx="271476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Concepto de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Com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Retir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a-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a-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627520" y="771480"/>
            <a:ext cx="444348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Metodolog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Espec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P, LP, 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GGDF, GGDFC, GSDF, Mét. Cor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W-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GLDF, GLDFC, GSDF, Mét. Cor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ialek G, Kirsch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ialek L, Kirsche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stratificado Bruto/Neto, V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Teoría de Jue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Ram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73160" y="1492200"/>
            <a:ext cx="955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5760" y="146700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73160" y="1936800"/>
            <a:ext cx="955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85760" y="301608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98360" y="429912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10960" y="537840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440080" y="789120"/>
            <a:ext cx="4680" cy="558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5546880" y="759960"/>
            <a:ext cx="4680" cy="5619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2490840" y="4184640"/>
          <a:ext cx="23241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4184640"/>
                    <a:ext cx="232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"/>
          <p:cNvGraphicFramePr/>
          <p:nvPr/>
        </p:nvGraphicFramePr>
        <p:xfrm>
          <a:off x="692280" y="4165560"/>
          <a:ext cx="2247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4165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489600" y="32544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ores de Distribución GS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8320" y="976320"/>
            <a:ext cx="27324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832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74640" y="107316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20720" y="122076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2560" y="136044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5760" y="152568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3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306520" y="284004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560680" y="976320"/>
            <a:ext cx="27288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6068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637000" y="1073160"/>
            <a:ext cx="12384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674800" y="122076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37000" y="136044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68360" y="152568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308480" y="229248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308480" y="2379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383000" y="238752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21160" y="253512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383000" y="267480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165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674800" y="159552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9552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043520" y="153504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57400" y="159552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57400" y="290196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57400" y="159552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2560" y="290196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3280" y="124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1646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8728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3264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6468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01580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96624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11744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94768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09888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665240" y="222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816440" y="2317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17760" y="4226040"/>
            <a:ext cx="2635200" cy="1576440"/>
          </a:xfrm>
          <a:custGeom>
            <a:avLst/>
            <a:gdLst/>
            <a:ahLst/>
            <a:rect l="l" t="t" r="r" b="b"/>
            <a:pathLst>
              <a:path w="1532" h="993">
                <a:moveTo>
                  <a:pt x="1433" y="0"/>
                </a:moveTo>
                <a:lnTo>
                  <a:pt x="0" y="828"/>
                </a:lnTo>
                <a:lnTo>
                  <a:pt x="94" y="993"/>
                </a:lnTo>
                <a:lnTo>
                  <a:pt x="1532" y="165"/>
                </a:lnTo>
                <a:lnTo>
                  <a:pt x="1433" y="0"/>
                </a:lnTo>
                <a:close/>
              </a:path>
            </a:pathLst>
          </a:custGeom>
          <a:solidFill>
            <a:srgbClr val="ff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492280" y="4365720"/>
            <a:ext cx="565200" cy="1306440"/>
          </a:xfrm>
          <a:custGeom>
            <a:avLst/>
            <a:gdLst/>
            <a:ahLst/>
            <a:rect l="l" t="t" r="r" b="b"/>
            <a:pathLst>
              <a:path w="329" h="823">
                <a:moveTo>
                  <a:pt x="0" y="0"/>
                </a:moveTo>
                <a:lnTo>
                  <a:pt x="0" y="823"/>
                </a:lnTo>
                <a:lnTo>
                  <a:pt x="329" y="823"/>
                </a:lnTo>
                <a:lnTo>
                  <a:pt x="329" y="0"/>
                </a:lnTo>
                <a:lnTo>
                  <a:pt x="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492280" y="4365720"/>
            <a:ext cx="584280" cy="132372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89040" y="3686040"/>
            <a:ext cx="2746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89040" y="3765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65000" y="377352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811080" y="3921120"/>
            <a:ext cx="288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74720" y="406080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47560" y="422604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8428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97240" y="554040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652840" y="3686040"/>
            <a:ext cx="2728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652840" y="376560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727360" y="377352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765520" y="3921120"/>
            <a:ext cx="28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727360" y="406080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359080" y="422604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398840" y="500076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398840" y="507996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475160" y="508788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13320" y="5237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75160" y="537516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25592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765520" y="429588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74720" y="429588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133880" y="423540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49560" y="429588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049560" y="561024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049560" y="429588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74720" y="561024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13640" y="39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25540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96324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248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2554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10616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05696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0960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3804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19104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757400" y="4923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908600" y="5018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937880" y="333864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106880" y="342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920" y="1424160"/>
            <a:ext cx="1116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194472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142416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2747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6211800" y="2486160"/>
          <a:ext cx="2627280" cy="22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2486160"/>
                    <a:ext cx="262728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5756400" y="1387440"/>
          <a:ext cx="339408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56400" y="1387440"/>
                    <a:ext cx="33940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"/>
          <p:cNvSpPr/>
          <p:nvPr/>
        </p:nvSpPr>
        <p:spPr>
          <a:xfrm>
            <a:off x="5249880" y="4900680"/>
            <a:ext cx="48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Dependen de barra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No dependen de cond. de op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Relación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7" name=""/>
          <p:cNvGraphicFramePr/>
          <p:nvPr/>
        </p:nvGraphicFramePr>
        <p:xfrm>
          <a:off x="2490840" y="4184640"/>
          <a:ext cx="23241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4184640"/>
                    <a:ext cx="232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"/>
          <p:cNvGraphicFramePr/>
          <p:nvPr/>
        </p:nvGraphicFramePr>
        <p:xfrm>
          <a:off x="692280" y="4165560"/>
          <a:ext cx="2247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4165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1" name=""/>
          <p:cNvSpPr/>
          <p:nvPr/>
        </p:nvSpPr>
        <p:spPr>
          <a:xfrm>
            <a:off x="555120" y="330120"/>
            <a:ext cx="47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ores de Distribución GG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98320" y="976320"/>
            <a:ext cx="27324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9832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74640" y="107316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20720" y="122076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82560" y="136044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55760" y="152568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93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306520" y="284004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560680" y="976320"/>
            <a:ext cx="27288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56068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637000" y="1073160"/>
            <a:ext cx="12384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674800" y="122076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637000" y="136044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68360" y="152568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308480" y="229248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308480" y="2379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383000" y="238752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421160" y="253512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383000" y="267480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65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674800" y="159552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82560" y="159552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043520" y="153504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957400" y="159552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957400" y="290196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957400" y="159552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82560" y="290196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23280" y="124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1646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8728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264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6468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01580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6624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11744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94768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09888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665240" y="222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816440" y="2317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17760" y="4226040"/>
            <a:ext cx="2635200" cy="1576440"/>
          </a:xfrm>
          <a:custGeom>
            <a:avLst/>
            <a:gdLst/>
            <a:ahLst/>
            <a:rect l="l" t="t" r="r" b="b"/>
            <a:pathLst>
              <a:path w="1532" h="993">
                <a:moveTo>
                  <a:pt x="1433" y="0"/>
                </a:moveTo>
                <a:lnTo>
                  <a:pt x="0" y="828"/>
                </a:lnTo>
                <a:lnTo>
                  <a:pt x="94" y="993"/>
                </a:lnTo>
                <a:lnTo>
                  <a:pt x="1532" y="165"/>
                </a:lnTo>
                <a:lnTo>
                  <a:pt x="1433" y="0"/>
                </a:lnTo>
                <a:close/>
              </a:path>
            </a:pathLst>
          </a:custGeom>
          <a:solidFill>
            <a:srgbClr val="ff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492280" y="4365720"/>
            <a:ext cx="565200" cy="1306440"/>
          </a:xfrm>
          <a:custGeom>
            <a:avLst/>
            <a:gdLst/>
            <a:ahLst/>
            <a:rect l="l" t="t" r="r" b="b"/>
            <a:pathLst>
              <a:path w="329" h="823">
                <a:moveTo>
                  <a:pt x="0" y="0"/>
                </a:moveTo>
                <a:lnTo>
                  <a:pt x="0" y="823"/>
                </a:lnTo>
                <a:lnTo>
                  <a:pt x="329" y="823"/>
                </a:lnTo>
                <a:lnTo>
                  <a:pt x="329" y="0"/>
                </a:lnTo>
                <a:lnTo>
                  <a:pt x="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492280" y="4365720"/>
            <a:ext cx="584280" cy="132372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89040" y="3686040"/>
            <a:ext cx="2746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89040" y="3765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65000" y="377352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811080" y="3921120"/>
            <a:ext cx="288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74720" y="406080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47560" y="422604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428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397240" y="554040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652840" y="3686040"/>
            <a:ext cx="2728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652840" y="376560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727360" y="377352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765520" y="3921120"/>
            <a:ext cx="28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727360" y="406080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359080" y="422604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398840" y="500076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398840" y="507996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475160" y="508788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513320" y="5237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475160" y="537516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25592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765520" y="429588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74720" y="429588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33880" y="423540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049560" y="429588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049560" y="561024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049560" y="429588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74720" y="561024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13640" y="39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25540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6324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48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2554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10616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05696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20960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03804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19104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757400" y="4923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908600" y="5018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937880" y="333864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106880" y="342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920" y="1424160"/>
            <a:ext cx="1116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194472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0" y="142416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2747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189400" y="4869000"/>
            <a:ext cx="499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No dependen de barra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Dependen de con.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5456160" y="1062000"/>
          <a:ext cx="374508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56160" y="1062000"/>
                    <a:ext cx="3745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4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5" name=""/>
          <p:cNvGraphicFramePr/>
          <p:nvPr/>
        </p:nvGraphicFramePr>
        <p:xfrm>
          <a:off x="5986440" y="2368440"/>
          <a:ext cx="3017880" cy="5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6440" y="2368440"/>
                    <a:ext cx="30178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7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5986440" y="3247920"/>
          <a:ext cx="3152880" cy="80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86440" y="3247920"/>
                    <a:ext cx="3152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2" name=""/>
          <p:cNvGraphicFramePr/>
          <p:nvPr/>
        </p:nvGraphicFramePr>
        <p:xfrm>
          <a:off x="2490840" y="4184640"/>
          <a:ext cx="23241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4184640"/>
                    <a:ext cx="232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4" name=""/>
          <p:cNvGraphicFramePr/>
          <p:nvPr/>
        </p:nvGraphicFramePr>
        <p:xfrm>
          <a:off x="692280" y="4165560"/>
          <a:ext cx="2247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4165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6" name=""/>
          <p:cNvSpPr/>
          <p:nvPr/>
        </p:nvSpPr>
        <p:spPr>
          <a:xfrm>
            <a:off x="705600" y="34308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ores de Distribución GL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98320" y="976320"/>
            <a:ext cx="27324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9832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74640" y="107316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720720" y="122076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82560" y="136044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55760" y="152568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93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306520" y="284004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60680" y="976320"/>
            <a:ext cx="27288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56068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637000" y="1073160"/>
            <a:ext cx="12384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674800" y="122076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637000" y="136044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268360" y="152568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308480" y="229248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308480" y="2379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383000" y="238752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421160" y="253512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383000" y="267480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65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674800" y="159552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82560" y="159552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043520" y="153504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957400" y="159552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957400" y="290196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57400" y="159552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82560" y="290196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3280" y="124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1646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8728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3264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16468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01580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96624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11744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94768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09888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665240" y="222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816440" y="2317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417760" y="4226040"/>
            <a:ext cx="2635200" cy="1576440"/>
          </a:xfrm>
          <a:custGeom>
            <a:avLst/>
            <a:gdLst/>
            <a:ahLst/>
            <a:rect l="l" t="t" r="r" b="b"/>
            <a:pathLst>
              <a:path w="1532" h="993">
                <a:moveTo>
                  <a:pt x="1433" y="0"/>
                </a:moveTo>
                <a:lnTo>
                  <a:pt x="0" y="828"/>
                </a:lnTo>
                <a:lnTo>
                  <a:pt x="94" y="993"/>
                </a:lnTo>
                <a:lnTo>
                  <a:pt x="1532" y="165"/>
                </a:lnTo>
                <a:lnTo>
                  <a:pt x="1433" y="0"/>
                </a:lnTo>
                <a:close/>
              </a:path>
            </a:pathLst>
          </a:custGeom>
          <a:solidFill>
            <a:srgbClr val="ff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492280" y="4365720"/>
            <a:ext cx="565200" cy="1306440"/>
          </a:xfrm>
          <a:custGeom>
            <a:avLst/>
            <a:gdLst/>
            <a:ahLst/>
            <a:rect l="l" t="t" r="r" b="b"/>
            <a:pathLst>
              <a:path w="329" h="823">
                <a:moveTo>
                  <a:pt x="0" y="0"/>
                </a:moveTo>
                <a:lnTo>
                  <a:pt x="0" y="823"/>
                </a:lnTo>
                <a:lnTo>
                  <a:pt x="329" y="823"/>
                </a:lnTo>
                <a:lnTo>
                  <a:pt x="329" y="0"/>
                </a:lnTo>
                <a:lnTo>
                  <a:pt x="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492280" y="4365720"/>
            <a:ext cx="584280" cy="132372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89040" y="3686040"/>
            <a:ext cx="2746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89040" y="3765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65000" y="377352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11080" y="3921120"/>
            <a:ext cx="288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74720" y="406080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47560" y="422604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8428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97240" y="554040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652840" y="3686040"/>
            <a:ext cx="2728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652840" y="376560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727360" y="377352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765520" y="3921120"/>
            <a:ext cx="28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727360" y="406080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359080" y="422604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398840" y="500076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398840" y="507996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475160" y="508788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513320" y="5237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75160" y="537516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25592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2765520" y="429588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74720" y="429588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33880" y="423540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049560" y="429588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049560" y="561024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049560" y="429588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74720" y="561024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13640" y="39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225540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96324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4248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2554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10616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05696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20960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3804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19104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757400" y="4923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908600" y="5018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937880" y="333864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106880" y="342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920" y="1424160"/>
            <a:ext cx="1116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0" y="194472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0" y="142416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2747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189400" y="4869000"/>
            <a:ext cx="499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No dependen de barra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Dependen de con.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Tienden a estampi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5742000" y="900000"/>
          <a:ext cx="3301920" cy="72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2000" y="900000"/>
                    <a:ext cx="330192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3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4" name=""/>
          <p:cNvGraphicFramePr/>
          <p:nvPr/>
        </p:nvGraphicFramePr>
        <p:xfrm>
          <a:off x="5727600" y="2065320"/>
          <a:ext cx="344808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7600" y="2065320"/>
                    <a:ext cx="34480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6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7" name=""/>
          <p:cNvGraphicFramePr/>
          <p:nvPr/>
        </p:nvGraphicFramePr>
        <p:xfrm>
          <a:off x="5967360" y="3216240"/>
          <a:ext cx="2965680" cy="77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67360" y="3216240"/>
                    <a:ext cx="29656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/>
          <p:nvPr/>
        </p:nvSpPr>
        <p:spPr>
          <a:xfrm>
            <a:off x="431640" y="31752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d Line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98320" y="1293840"/>
            <a:ext cx="27324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9832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74640" y="139068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720720" y="1538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82560" y="167796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55760" y="184320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93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306520" y="315756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560680" y="1293840"/>
            <a:ext cx="27288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56068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637000" y="139068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674800" y="153828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637000" y="167796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268360" y="184320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308480" y="261000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308480" y="2697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83000" y="270504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421160" y="285264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383000" y="299232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165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674800" y="191304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82560" y="191304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043520" y="185256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957400" y="191304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957400" y="321948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957400" y="191304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2560" y="321948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23280" y="156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1646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8728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3264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16468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01580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6624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11744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94768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09888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65240" y="25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816440" y="2635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89040" y="4003560"/>
            <a:ext cx="2746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89040" y="4083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65000" y="409104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811080" y="4238640"/>
            <a:ext cx="2880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74720" y="437832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47560" y="454356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8428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397240" y="585792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52840" y="400356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652840" y="408312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727360" y="409104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765520" y="4238640"/>
            <a:ext cx="2844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727360" y="437832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359080" y="454356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398840" y="531828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398840" y="539748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475160" y="540540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513320" y="555480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475160" y="569268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25592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74720" y="461340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133880" y="455292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049560" y="461340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049560" y="592776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049560" y="461340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74720" y="592776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13640" y="4265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25540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96324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248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2554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10616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05696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20960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03804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19104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757400" y="52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908600" y="5335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937880" y="365616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106880" y="3743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920" y="1741320"/>
            <a:ext cx="1116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26224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174132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754360" y="4562640"/>
            <a:ext cx="0" cy="1384200"/>
          </a:xfrm>
          <a:prstGeom prst="line">
            <a:avLst/>
          </a:prstGeom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3036960" y="5122440"/>
            <a:ext cx="1093680" cy="55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977760" y="595944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778120" y="5945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386240" y="5918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885960" y="32288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685960" y="3214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294080" y="3187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822240" y="1595520"/>
            <a:ext cx="3552840" cy="140328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595840" y="1717560"/>
            <a:ext cx="383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- Búsqueda de Camino razonable de flujo de la trans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- Costos a prorrata de usuarios que hacen uso de las insta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482760" y="216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64480" y="3254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W-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98320" y="1293840"/>
            <a:ext cx="27324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9832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74640" y="139068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20720" y="1538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82560" y="167796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55760" y="184320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93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306520" y="315756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560680" y="1293840"/>
            <a:ext cx="27288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56068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637000" y="139068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674800" y="153828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637000" y="167796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268360" y="184320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4308480" y="261000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4308480" y="2697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4383000" y="270504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421160" y="285264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4383000" y="299232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4165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674800" y="191304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82560" y="191304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043520" y="185256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957400" y="191304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957400" y="321948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2957400" y="191304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82560" y="321948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23280" y="156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1646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8728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33264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16468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01580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96624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11744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94768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09888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665240" y="25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816440" y="2635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689040" y="4003560"/>
            <a:ext cx="2746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689040" y="4083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765000" y="409104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811080" y="4238640"/>
            <a:ext cx="2880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774720" y="437832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47560" y="454356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8428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397240" y="585792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652840" y="400356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652840" y="408312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727360" y="409104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765520" y="4238640"/>
            <a:ext cx="2844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727360" y="437832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359080" y="454356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398840" y="531828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398840" y="539748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4475160" y="540540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513320" y="555480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475160" y="569268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25592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74720" y="461340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133880" y="455292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049560" y="461340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049560" y="592776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3049560" y="461340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74720" y="592776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413640" y="4265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225540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396324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248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554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10616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05696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20960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03804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19104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757400" y="52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908600" y="5335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937880" y="365616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106880" y="3743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7920" y="1741320"/>
            <a:ext cx="1116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0" y="226224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0" y="174132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754360" y="4562640"/>
            <a:ext cx="0" cy="1384200"/>
          </a:xfrm>
          <a:prstGeom prst="line">
            <a:avLst/>
          </a:prstGeom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036960" y="5122440"/>
            <a:ext cx="1093680" cy="55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977760" y="595944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778120" y="5945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386240" y="5918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885960" y="32288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685960" y="3214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4294080" y="3187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5673600" y="1460520"/>
            <a:ext cx="38340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Simulación de flujos con y sin trans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Flujos resultantes se multiplican por largo de línea y por factor que refleja el costo por unidad de capacidad de la lí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Prorrateo en función de participación de transacciones respecto del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1376280" y="4273560"/>
                <a:ext cx="5256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2765520" y="4992840"/>
                <a:ext cx="552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639960" y="5697360"/>
                <a:ext cx="552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155520" y="33012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go Estampilla (Modelo Austria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055520" y="1741320"/>
            <a:ext cx="1116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047600" y="174132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467000" y="2367000"/>
            <a:ext cx="3817800" cy="1278000"/>
          </a:xfrm>
          <a:custGeom>
            <a:avLst/>
            <a:gdLst/>
            <a:ahLst/>
            <a:rect l="l" t="t" r="r" b="b"/>
            <a:pathLst>
              <a:path w="4811" h="1611">
                <a:moveTo>
                  <a:pt x="268" y="0"/>
                </a:moveTo>
                <a:lnTo>
                  <a:pt x="241" y="2"/>
                </a:lnTo>
                <a:lnTo>
                  <a:pt x="214" y="5"/>
                </a:lnTo>
                <a:lnTo>
                  <a:pt x="189" y="12"/>
                </a:lnTo>
                <a:lnTo>
                  <a:pt x="164" y="22"/>
                </a:lnTo>
                <a:lnTo>
                  <a:pt x="140" y="32"/>
                </a:lnTo>
                <a:lnTo>
                  <a:pt x="118" y="46"/>
                </a:lnTo>
                <a:lnTo>
                  <a:pt x="98" y="61"/>
                </a:lnTo>
                <a:lnTo>
                  <a:pt x="80" y="80"/>
                </a:lnTo>
                <a:lnTo>
                  <a:pt x="61" y="98"/>
                </a:lnTo>
                <a:lnTo>
                  <a:pt x="46" y="118"/>
                </a:lnTo>
                <a:lnTo>
                  <a:pt x="32" y="140"/>
                </a:lnTo>
                <a:lnTo>
                  <a:pt x="22" y="164"/>
                </a:lnTo>
                <a:lnTo>
                  <a:pt x="12" y="189"/>
                </a:lnTo>
                <a:lnTo>
                  <a:pt x="5" y="214"/>
                </a:lnTo>
                <a:lnTo>
                  <a:pt x="2" y="241"/>
                </a:lnTo>
                <a:lnTo>
                  <a:pt x="0" y="268"/>
                </a:lnTo>
                <a:lnTo>
                  <a:pt x="0" y="1343"/>
                </a:lnTo>
                <a:lnTo>
                  <a:pt x="2" y="1370"/>
                </a:lnTo>
                <a:lnTo>
                  <a:pt x="5" y="1397"/>
                </a:lnTo>
                <a:lnTo>
                  <a:pt x="12" y="1422"/>
                </a:lnTo>
                <a:lnTo>
                  <a:pt x="22" y="1447"/>
                </a:lnTo>
                <a:lnTo>
                  <a:pt x="32" y="1471"/>
                </a:lnTo>
                <a:lnTo>
                  <a:pt x="46" y="1493"/>
                </a:lnTo>
                <a:lnTo>
                  <a:pt x="61" y="1513"/>
                </a:lnTo>
                <a:lnTo>
                  <a:pt x="80" y="1533"/>
                </a:lnTo>
                <a:lnTo>
                  <a:pt x="98" y="1550"/>
                </a:lnTo>
                <a:lnTo>
                  <a:pt x="118" y="1565"/>
                </a:lnTo>
                <a:lnTo>
                  <a:pt x="140" y="1579"/>
                </a:lnTo>
                <a:lnTo>
                  <a:pt x="164" y="1591"/>
                </a:lnTo>
                <a:lnTo>
                  <a:pt x="189" y="1599"/>
                </a:lnTo>
                <a:lnTo>
                  <a:pt x="214" y="1606"/>
                </a:lnTo>
                <a:lnTo>
                  <a:pt x="241" y="1609"/>
                </a:lnTo>
                <a:lnTo>
                  <a:pt x="268" y="1611"/>
                </a:lnTo>
                <a:lnTo>
                  <a:pt x="4543" y="1611"/>
                </a:lnTo>
                <a:lnTo>
                  <a:pt x="4570" y="1609"/>
                </a:lnTo>
                <a:lnTo>
                  <a:pt x="4597" y="1606"/>
                </a:lnTo>
                <a:lnTo>
                  <a:pt x="4622" y="1599"/>
                </a:lnTo>
                <a:lnTo>
                  <a:pt x="4648" y="1591"/>
                </a:lnTo>
                <a:lnTo>
                  <a:pt x="4671" y="1579"/>
                </a:lnTo>
                <a:lnTo>
                  <a:pt x="4693" y="1565"/>
                </a:lnTo>
                <a:lnTo>
                  <a:pt x="4713" y="1550"/>
                </a:lnTo>
                <a:lnTo>
                  <a:pt x="4733" y="1533"/>
                </a:lnTo>
                <a:lnTo>
                  <a:pt x="4750" y="1513"/>
                </a:lnTo>
                <a:lnTo>
                  <a:pt x="4765" y="1493"/>
                </a:lnTo>
                <a:lnTo>
                  <a:pt x="4779" y="1471"/>
                </a:lnTo>
                <a:lnTo>
                  <a:pt x="4791" y="1447"/>
                </a:lnTo>
                <a:lnTo>
                  <a:pt x="4799" y="1422"/>
                </a:lnTo>
                <a:lnTo>
                  <a:pt x="4806" y="1397"/>
                </a:lnTo>
                <a:lnTo>
                  <a:pt x="4809" y="1370"/>
                </a:lnTo>
                <a:lnTo>
                  <a:pt x="4811" y="1343"/>
                </a:lnTo>
                <a:lnTo>
                  <a:pt x="4811" y="268"/>
                </a:lnTo>
                <a:lnTo>
                  <a:pt x="4809" y="241"/>
                </a:lnTo>
                <a:lnTo>
                  <a:pt x="4806" y="214"/>
                </a:lnTo>
                <a:lnTo>
                  <a:pt x="4799" y="189"/>
                </a:lnTo>
                <a:lnTo>
                  <a:pt x="4791" y="164"/>
                </a:lnTo>
                <a:lnTo>
                  <a:pt x="4779" y="140"/>
                </a:lnTo>
                <a:lnTo>
                  <a:pt x="4765" y="118"/>
                </a:lnTo>
                <a:lnTo>
                  <a:pt x="4750" y="98"/>
                </a:lnTo>
                <a:lnTo>
                  <a:pt x="4733" y="80"/>
                </a:lnTo>
                <a:lnTo>
                  <a:pt x="4713" y="61"/>
                </a:lnTo>
                <a:lnTo>
                  <a:pt x="4693" y="46"/>
                </a:lnTo>
                <a:lnTo>
                  <a:pt x="4671" y="32"/>
                </a:lnTo>
                <a:lnTo>
                  <a:pt x="4648" y="22"/>
                </a:lnTo>
                <a:lnTo>
                  <a:pt x="4622" y="12"/>
                </a:lnTo>
                <a:lnTo>
                  <a:pt x="4597" y="5"/>
                </a:lnTo>
                <a:lnTo>
                  <a:pt x="4570" y="2"/>
                </a:lnTo>
                <a:lnTo>
                  <a:pt x="4543" y="0"/>
                </a:lnTo>
                <a:lnTo>
                  <a:pt x="268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498680" y="852480"/>
            <a:ext cx="6226200" cy="1128600"/>
          </a:xfrm>
          <a:custGeom>
            <a:avLst/>
            <a:gdLst/>
            <a:ahLst/>
            <a:rect l="l" t="t" r="r" b="b"/>
            <a:pathLst>
              <a:path w="7842" h="1422">
                <a:moveTo>
                  <a:pt x="237" y="0"/>
                </a:moveTo>
                <a:lnTo>
                  <a:pt x="214" y="2"/>
                </a:lnTo>
                <a:lnTo>
                  <a:pt x="190" y="5"/>
                </a:lnTo>
                <a:lnTo>
                  <a:pt x="167" y="11"/>
                </a:lnTo>
                <a:lnTo>
                  <a:pt x="145" y="19"/>
                </a:lnTo>
                <a:lnTo>
                  <a:pt x="124" y="29"/>
                </a:lnTo>
                <a:lnTo>
                  <a:pt x="104" y="41"/>
                </a:lnTo>
                <a:lnTo>
                  <a:pt x="86" y="54"/>
                </a:lnTo>
                <a:lnTo>
                  <a:pt x="69" y="69"/>
                </a:lnTo>
                <a:lnTo>
                  <a:pt x="54" y="86"/>
                </a:lnTo>
                <a:lnTo>
                  <a:pt x="40" y="105"/>
                </a:lnTo>
                <a:lnTo>
                  <a:pt x="28" y="125"/>
                </a:lnTo>
                <a:lnTo>
                  <a:pt x="18" y="145"/>
                </a:lnTo>
                <a:lnTo>
                  <a:pt x="10" y="167"/>
                </a:lnTo>
                <a:lnTo>
                  <a:pt x="5" y="191"/>
                </a:lnTo>
                <a:lnTo>
                  <a:pt x="2" y="214"/>
                </a:lnTo>
                <a:lnTo>
                  <a:pt x="0" y="238"/>
                </a:lnTo>
                <a:lnTo>
                  <a:pt x="0" y="1185"/>
                </a:lnTo>
                <a:lnTo>
                  <a:pt x="2" y="1208"/>
                </a:lnTo>
                <a:lnTo>
                  <a:pt x="5" y="1232"/>
                </a:lnTo>
                <a:lnTo>
                  <a:pt x="10" y="1255"/>
                </a:lnTo>
                <a:lnTo>
                  <a:pt x="18" y="1277"/>
                </a:lnTo>
                <a:lnTo>
                  <a:pt x="28" y="1298"/>
                </a:lnTo>
                <a:lnTo>
                  <a:pt x="40" y="1318"/>
                </a:lnTo>
                <a:lnTo>
                  <a:pt x="54" y="1336"/>
                </a:lnTo>
                <a:lnTo>
                  <a:pt x="69" y="1353"/>
                </a:lnTo>
                <a:lnTo>
                  <a:pt x="86" y="1368"/>
                </a:lnTo>
                <a:lnTo>
                  <a:pt x="104" y="1382"/>
                </a:lnTo>
                <a:lnTo>
                  <a:pt x="124" y="1394"/>
                </a:lnTo>
                <a:lnTo>
                  <a:pt x="145" y="1404"/>
                </a:lnTo>
                <a:lnTo>
                  <a:pt x="167" y="1412"/>
                </a:lnTo>
                <a:lnTo>
                  <a:pt x="190" y="1417"/>
                </a:lnTo>
                <a:lnTo>
                  <a:pt x="214" y="1421"/>
                </a:lnTo>
                <a:lnTo>
                  <a:pt x="237" y="1422"/>
                </a:lnTo>
                <a:lnTo>
                  <a:pt x="7605" y="1422"/>
                </a:lnTo>
                <a:lnTo>
                  <a:pt x="7628" y="1421"/>
                </a:lnTo>
                <a:lnTo>
                  <a:pt x="7652" y="1417"/>
                </a:lnTo>
                <a:lnTo>
                  <a:pt x="7675" y="1412"/>
                </a:lnTo>
                <a:lnTo>
                  <a:pt x="7697" y="1404"/>
                </a:lnTo>
                <a:lnTo>
                  <a:pt x="7718" y="1394"/>
                </a:lnTo>
                <a:lnTo>
                  <a:pt x="7738" y="1382"/>
                </a:lnTo>
                <a:lnTo>
                  <a:pt x="7756" y="1368"/>
                </a:lnTo>
                <a:lnTo>
                  <a:pt x="7773" y="1353"/>
                </a:lnTo>
                <a:lnTo>
                  <a:pt x="7788" y="1336"/>
                </a:lnTo>
                <a:lnTo>
                  <a:pt x="7802" y="1318"/>
                </a:lnTo>
                <a:lnTo>
                  <a:pt x="7814" y="1298"/>
                </a:lnTo>
                <a:lnTo>
                  <a:pt x="7824" y="1277"/>
                </a:lnTo>
                <a:lnTo>
                  <a:pt x="7832" y="1255"/>
                </a:lnTo>
                <a:lnTo>
                  <a:pt x="7837" y="1232"/>
                </a:lnTo>
                <a:lnTo>
                  <a:pt x="7840" y="1208"/>
                </a:lnTo>
                <a:lnTo>
                  <a:pt x="7842" y="1185"/>
                </a:lnTo>
                <a:lnTo>
                  <a:pt x="7842" y="238"/>
                </a:lnTo>
                <a:lnTo>
                  <a:pt x="7840" y="214"/>
                </a:lnTo>
                <a:lnTo>
                  <a:pt x="7837" y="191"/>
                </a:lnTo>
                <a:lnTo>
                  <a:pt x="7832" y="167"/>
                </a:lnTo>
                <a:lnTo>
                  <a:pt x="7824" y="145"/>
                </a:lnTo>
                <a:lnTo>
                  <a:pt x="7814" y="125"/>
                </a:lnTo>
                <a:lnTo>
                  <a:pt x="7802" y="105"/>
                </a:lnTo>
                <a:lnTo>
                  <a:pt x="7788" y="86"/>
                </a:lnTo>
                <a:lnTo>
                  <a:pt x="7773" y="69"/>
                </a:lnTo>
                <a:lnTo>
                  <a:pt x="7756" y="54"/>
                </a:lnTo>
                <a:lnTo>
                  <a:pt x="7738" y="41"/>
                </a:lnTo>
                <a:lnTo>
                  <a:pt x="7718" y="29"/>
                </a:lnTo>
                <a:lnTo>
                  <a:pt x="7697" y="19"/>
                </a:lnTo>
                <a:lnTo>
                  <a:pt x="7675" y="11"/>
                </a:lnTo>
                <a:lnTo>
                  <a:pt x="7652" y="5"/>
                </a:lnTo>
                <a:lnTo>
                  <a:pt x="7628" y="2"/>
                </a:lnTo>
                <a:lnTo>
                  <a:pt x="7605" y="0"/>
                </a:lnTo>
                <a:lnTo>
                  <a:pt x="237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684840" y="907920"/>
            <a:ext cx="927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066440" y="95256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066800" y="12114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Hö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1848960" y="936720"/>
            <a:ext cx="1510200" cy="1073880"/>
            <a:chOff x="1848960" y="936720"/>
            <a:chExt cx="1510200" cy="1073880"/>
          </a:xfrm>
        </p:grpSpPr>
        <p:sp>
          <p:nvSpPr>
            <p:cNvPr id="1694" name=""/>
            <p:cNvSpPr/>
            <p:nvPr/>
          </p:nvSpPr>
          <p:spPr>
            <a:xfrm>
              <a:off x="2157120" y="1730520"/>
              <a:ext cx="338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290320" y="187308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10440" y="936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679120" y="1303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994120" y="104292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080880" y="1171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949040" y="11714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190240" y="17557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274840" y="149400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55440" y="1611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861640" y="1055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302920" y="1055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848960" y="1055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383560" y="1609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923120" y="1727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74160" y="1303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123720" y="117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017160" y="117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956680" y="117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385000" y="117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043360" y="159084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523600" y="103500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170440" y="103500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703600" y="984240"/>
              <a:ext cx="1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717640" y="1290600"/>
              <a:ext cx="9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3676680" y="2373480"/>
            <a:ext cx="15652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782160" y="2597040"/>
            <a:ext cx="119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Umspannung Hö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952160" y="259704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/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1671120" y="2449440"/>
            <a:ext cx="1754640" cy="1091520"/>
            <a:chOff x="1671120" y="2449440"/>
            <a:chExt cx="1754640" cy="1091520"/>
          </a:xfrm>
        </p:grpSpPr>
        <p:sp>
          <p:nvSpPr>
            <p:cNvPr id="1723" name=""/>
            <p:cNvSpPr/>
            <p:nvPr/>
          </p:nvSpPr>
          <p:spPr>
            <a:xfrm>
              <a:off x="1996920" y="3263760"/>
              <a:ext cx="1062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35400" y="327492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08280" y="3013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778840" y="2449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747520" y="2814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060720" y="2554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141000" y="2684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803240" y="2554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302920" y="32893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576160" y="3027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439360" y="3027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054160" y="30272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675800" y="3144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928600" y="2568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352240" y="2568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71120" y="2568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396160" y="3403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670840" y="314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507400" y="314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72240" y="314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755000" y="3259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840760" y="2814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182400" y="2684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76200" y="2684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018600" y="268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445480" y="268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764360" y="268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320200" y="300672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83160" y="312408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593440" y="254808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21200" y="254808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72000" y="2496960"/>
              <a:ext cx="1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784240" y="2803680"/>
              <a:ext cx="9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"/>
          <p:cNvSpPr/>
          <p:nvPr/>
        </p:nvSpPr>
        <p:spPr>
          <a:xfrm>
            <a:off x="1539720" y="4937040"/>
            <a:ext cx="3143520" cy="1368360"/>
          </a:xfrm>
          <a:custGeom>
            <a:avLst/>
            <a:gdLst/>
            <a:ahLst/>
            <a:rect l="l" t="t" r="r" b="b"/>
            <a:pathLst>
              <a:path w="3962" h="1723">
                <a:moveTo>
                  <a:pt x="287" y="0"/>
                </a:moveTo>
                <a:lnTo>
                  <a:pt x="258" y="1"/>
                </a:lnTo>
                <a:lnTo>
                  <a:pt x="229" y="5"/>
                </a:lnTo>
                <a:lnTo>
                  <a:pt x="201" y="13"/>
                </a:lnTo>
                <a:lnTo>
                  <a:pt x="176" y="22"/>
                </a:lnTo>
                <a:lnTo>
                  <a:pt x="150" y="35"/>
                </a:lnTo>
                <a:lnTo>
                  <a:pt x="127" y="49"/>
                </a:lnTo>
                <a:lnTo>
                  <a:pt x="105" y="65"/>
                </a:lnTo>
                <a:lnTo>
                  <a:pt x="85" y="84"/>
                </a:lnTo>
                <a:lnTo>
                  <a:pt x="66" y="104"/>
                </a:lnTo>
                <a:lnTo>
                  <a:pt x="49" y="126"/>
                </a:lnTo>
                <a:lnTo>
                  <a:pt x="36" y="150"/>
                </a:lnTo>
                <a:lnTo>
                  <a:pt x="22" y="175"/>
                </a:lnTo>
                <a:lnTo>
                  <a:pt x="14" y="200"/>
                </a:lnTo>
                <a:lnTo>
                  <a:pt x="5" y="229"/>
                </a:lnTo>
                <a:lnTo>
                  <a:pt x="2" y="258"/>
                </a:lnTo>
                <a:lnTo>
                  <a:pt x="0" y="286"/>
                </a:lnTo>
                <a:lnTo>
                  <a:pt x="0" y="1435"/>
                </a:lnTo>
                <a:lnTo>
                  <a:pt x="2" y="1465"/>
                </a:lnTo>
                <a:lnTo>
                  <a:pt x="5" y="1494"/>
                </a:lnTo>
                <a:lnTo>
                  <a:pt x="14" y="1521"/>
                </a:lnTo>
                <a:lnTo>
                  <a:pt x="22" y="1548"/>
                </a:lnTo>
                <a:lnTo>
                  <a:pt x="36" y="1573"/>
                </a:lnTo>
                <a:lnTo>
                  <a:pt x="49" y="1597"/>
                </a:lnTo>
                <a:lnTo>
                  <a:pt x="66" y="1619"/>
                </a:lnTo>
                <a:lnTo>
                  <a:pt x="85" y="1639"/>
                </a:lnTo>
                <a:lnTo>
                  <a:pt x="105" y="1657"/>
                </a:lnTo>
                <a:lnTo>
                  <a:pt x="127" y="1674"/>
                </a:lnTo>
                <a:lnTo>
                  <a:pt x="150" y="1689"/>
                </a:lnTo>
                <a:lnTo>
                  <a:pt x="176" y="1701"/>
                </a:lnTo>
                <a:lnTo>
                  <a:pt x="201" y="1710"/>
                </a:lnTo>
                <a:lnTo>
                  <a:pt x="229" y="1718"/>
                </a:lnTo>
                <a:lnTo>
                  <a:pt x="258" y="1721"/>
                </a:lnTo>
                <a:lnTo>
                  <a:pt x="287" y="1723"/>
                </a:lnTo>
                <a:lnTo>
                  <a:pt x="3676" y="1723"/>
                </a:lnTo>
                <a:lnTo>
                  <a:pt x="3704" y="1721"/>
                </a:lnTo>
                <a:lnTo>
                  <a:pt x="3733" y="1718"/>
                </a:lnTo>
                <a:lnTo>
                  <a:pt x="3762" y="1710"/>
                </a:lnTo>
                <a:lnTo>
                  <a:pt x="3787" y="1701"/>
                </a:lnTo>
                <a:lnTo>
                  <a:pt x="3812" y="1689"/>
                </a:lnTo>
                <a:lnTo>
                  <a:pt x="3836" y="1674"/>
                </a:lnTo>
                <a:lnTo>
                  <a:pt x="3858" y="1657"/>
                </a:lnTo>
                <a:lnTo>
                  <a:pt x="3878" y="1639"/>
                </a:lnTo>
                <a:lnTo>
                  <a:pt x="3896" y="1619"/>
                </a:lnTo>
                <a:lnTo>
                  <a:pt x="3913" y="1597"/>
                </a:lnTo>
                <a:lnTo>
                  <a:pt x="3928" y="1573"/>
                </a:lnTo>
                <a:lnTo>
                  <a:pt x="3940" y="1548"/>
                </a:lnTo>
                <a:lnTo>
                  <a:pt x="3948" y="1521"/>
                </a:lnTo>
                <a:lnTo>
                  <a:pt x="3957" y="1494"/>
                </a:lnTo>
                <a:lnTo>
                  <a:pt x="3960" y="1465"/>
                </a:lnTo>
                <a:lnTo>
                  <a:pt x="3962" y="1435"/>
                </a:lnTo>
                <a:lnTo>
                  <a:pt x="3962" y="286"/>
                </a:lnTo>
                <a:lnTo>
                  <a:pt x="3960" y="258"/>
                </a:lnTo>
                <a:lnTo>
                  <a:pt x="3957" y="229"/>
                </a:lnTo>
                <a:lnTo>
                  <a:pt x="3948" y="200"/>
                </a:lnTo>
                <a:lnTo>
                  <a:pt x="3940" y="175"/>
                </a:lnTo>
                <a:lnTo>
                  <a:pt x="3928" y="150"/>
                </a:lnTo>
                <a:lnTo>
                  <a:pt x="3913" y="126"/>
                </a:lnTo>
                <a:lnTo>
                  <a:pt x="3896" y="104"/>
                </a:lnTo>
                <a:lnTo>
                  <a:pt x="3878" y="84"/>
                </a:lnTo>
                <a:lnTo>
                  <a:pt x="3858" y="65"/>
                </a:lnTo>
                <a:lnTo>
                  <a:pt x="3836" y="49"/>
                </a:lnTo>
                <a:lnTo>
                  <a:pt x="3812" y="35"/>
                </a:lnTo>
                <a:lnTo>
                  <a:pt x="3787" y="22"/>
                </a:lnTo>
                <a:lnTo>
                  <a:pt x="3762" y="13"/>
                </a:lnTo>
                <a:lnTo>
                  <a:pt x="3733" y="5"/>
                </a:lnTo>
                <a:lnTo>
                  <a:pt x="3704" y="1"/>
                </a:lnTo>
                <a:lnTo>
                  <a:pt x="3676" y="0"/>
                </a:lnTo>
                <a:lnTo>
                  <a:pt x="287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1669680" y="5110200"/>
            <a:ext cx="1829160" cy="1029600"/>
            <a:chOff x="1669680" y="5110200"/>
            <a:chExt cx="1829160" cy="1029600"/>
          </a:xfrm>
        </p:grpSpPr>
        <p:sp>
          <p:nvSpPr>
            <p:cNvPr id="1758" name=""/>
            <p:cNvSpPr/>
            <p:nvPr/>
          </p:nvSpPr>
          <p:spPr>
            <a:xfrm>
              <a:off x="2070000" y="5800680"/>
              <a:ext cx="142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671200" y="581328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1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004560" y="549288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1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32760" y="511812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1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507760" y="5832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839680" y="55119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651040" y="5511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03200" y="5511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676160" y="565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506320" y="5137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669680" y="5137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620440" y="5972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953800" y="5651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745720" y="5651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349000" y="5651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771200" y="5794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620440" y="5275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782360" y="5275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514600" y="54849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928880" y="562932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344680" y="511020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9" name=""/>
          <p:cNvSpPr/>
          <p:nvPr/>
        </p:nvSpPr>
        <p:spPr>
          <a:xfrm>
            <a:off x="5767560" y="2367000"/>
            <a:ext cx="1989000" cy="1279440"/>
          </a:xfrm>
          <a:custGeom>
            <a:avLst/>
            <a:gdLst/>
            <a:ahLst/>
            <a:rect l="l" t="t" r="r" b="b"/>
            <a:pathLst>
              <a:path w="2507" h="1612">
                <a:moveTo>
                  <a:pt x="268" y="0"/>
                </a:moveTo>
                <a:lnTo>
                  <a:pt x="241" y="2"/>
                </a:lnTo>
                <a:lnTo>
                  <a:pt x="214" y="5"/>
                </a:lnTo>
                <a:lnTo>
                  <a:pt x="189" y="12"/>
                </a:lnTo>
                <a:lnTo>
                  <a:pt x="164" y="22"/>
                </a:lnTo>
                <a:lnTo>
                  <a:pt x="140" y="32"/>
                </a:lnTo>
                <a:lnTo>
                  <a:pt x="118" y="46"/>
                </a:lnTo>
                <a:lnTo>
                  <a:pt x="98" y="61"/>
                </a:lnTo>
                <a:lnTo>
                  <a:pt x="79" y="80"/>
                </a:lnTo>
                <a:lnTo>
                  <a:pt x="61" y="98"/>
                </a:lnTo>
                <a:lnTo>
                  <a:pt x="46" y="118"/>
                </a:lnTo>
                <a:lnTo>
                  <a:pt x="32" y="140"/>
                </a:lnTo>
                <a:lnTo>
                  <a:pt x="22" y="164"/>
                </a:lnTo>
                <a:lnTo>
                  <a:pt x="12" y="189"/>
                </a:lnTo>
                <a:lnTo>
                  <a:pt x="5" y="214"/>
                </a:lnTo>
                <a:lnTo>
                  <a:pt x="2" y="241"/>
                </a:lnTo>
                <a:lnTo>
                  <a:pt x="0" y="268"/>
                </a:lnTo>
                <a:lnTo>
                  <a:pt x="0" y="1343"/>
                </a:lnTo>
                <a:lnTo>
                  <a:pt x="2" y="1370"/>
                </a:lnTo>
                <a:lnTo>
                  <a:pt x="5" y="1397"/>
                </a:lnTo>
                <a:lnTo>
                  <a:pt x="12" y="1424"/>
                </a:lnTo>
                <a:lnTo>
                  <a:pt x="22" y="1449"/>
                </a:lnTo>
                <a:lnTo>
                  <a:pt x="32" y="1473"/>
                </a:lnTo>
                <a:lnTo>
                  <a:pt x="46" y="1495"/>
                </a:lnTo>
                <a:lnTo>
                  <a:pt x="61" y="1515"/>
                </a:lnTo>
                <a:lnTo>
                  <a:pt x="79" y="1533"/>
                </a:lnTo>
                <a:lnTo>
                  <a:pt x="98" y="1552"/>
                </a:lnTo>
                <a:lnTo>
                  <a:pt x="118" y="1567"/>
                </a:lnTo>
                <a:lnTo>
                  <a:pt x="140" y="1580"/>
                </a:lnTo>
                <a:lnTo>
                  <a:pt x="164" y="1592"/>
                </a:lnTo>
                <a:lnTo>
                  <a:pt x="189" y="1601"/>
                </a:lnTo>
                <a:lnTo>
                  <a:pt x="214" y="1607"/>
                </a:lnTo>
                <a:lnTo>
                  <a:pt x="241" y="1611"/>
                </a:lnTo>
                <a:lnTo>
                  <a:pt x="268" y="1612"/>
                </a:lnTo>
                <a:lnTo>
                  <a:pt x="2239" y="1612"/>
                </a:lnTo>
                <a:lnTo>
                  <a:pt x="2266" y="1611"/>
                </a:lnTo>
                <a:lnTo>
                  <a:pt x="2293" y="1607"/>
                </a:lnTo>
                <a:lnTo>
                  <a:pt x="2318" y="1601"/>
                </a:lnTo>
                <a:lnTo>
                  <a:pt x="2343" y="1592"/>
                </a:lnTo>
                <a:lnTo>
                  <a:pt x="2367" y="1580"/>
                </a:lnTo>
                <a:lnTo>
                  <a:pt x="2389" y="1567"/>
                </a:lnTo>
                <a:lnTo>
                  <a:pt x="2409" y="1552"/>
                </a:lnTo>
                <a:lnTo>
                  <a:pt x="2429" y="1533"/>
                </a:lnTo>
                <a:lnTo>
                  <a:pt x="2446" y="1515"/>
                </a:lnTo>
                <a:lnTo>
                  <a:pt x="2461" y="1495"/>
                </a:lnTo>
                <a:lnTo>
                  <a:pt x="2475" y="1473"/>
                </a:lnTo>
                <a:lnTo>
                  <a:pt x="2486" y="1449"/>
                </a:lnTo>
                <a:lnTo>
                  <a:pt x="2495" y="1424"/>
                </a:lnTo>
                <a:lnTo>
                  <a:pt x="2502" y="1397"/>
                </a:lnTo>
                <a:lnTo>
                  <a:pt x="2505" y="1370"/>
                </a:lnTo>
                <a:lnTo>
                  <a:pt x="2507" y="1343"/>
                </a:lnTo>
                <a:lnTo>
                  <a:pt x="2507" y="268"/>
                </a:lnTo>
                <a:lnTo>
                  <a:pt x="2505" y="241"/>
                </a:lnTo>
                <a:lnTo>
                  <a:pt x="2502" y="214"/>
                </a:lnTo>
                <a:lnTo>
                  <a:pt x="2495" y="189"/>
                </a:lnTo>
                <a:lnTo>
                  <a:pt x="2486" y="164"/>
                </a:lnTo>
                <a:lnTo>
                  <a:pt x="2475" y="140"/>
                </a:lnTo>
                <a:lnTo>
                  <a:pt x="2461" y="118"/>
                </a:lnTo>
                <a:lnTo>
                  <a:pt x="2446" y="98"/>
                </a:lnTo>
                <a:lnTo>
                  <a:pt x="2429" y="80"/>
                </a:lnTo>
                <a:lnTo>
                  <a:pt x="2409" y="61"/>
                </a:lnTo>
                <a:lnTo>
                  <a:pt x="2389" y="46"/>
                </a:lnTo>
                <a:lnTo>
                  <a:pt x="2367" y="32"/>
                </a:lnTo>
                <a:lnTo>
                  <a:pt x="2343" y="22"/>
                </a:lnTo>
                <a:lnTo>
                  <a:pt x="2318" y="12"/>
                </a:lnTo>
                <a:lnTo>
                  <a:pt x="2293" y="5"/>
                </a:lnTo>
                <a:lnTo>
                  <a:pt x="2266" y="2"/>
                </a:lnTo>
                <a:lnTo>
                  <a:pt x="2239" y="0"/>
                </a:lnTo>
                <a:lnTo>
                  <a:pt x="268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005440" y="4937040"/>
            <a:ext cx="1347840" cy="1379520"/>
          </a:xfrm>
          <a:custGeom>
            <a:avLst/>
            <a:gdLst/>
            <a:ahLst/>
            <a:rect l="l" t="t" r="r" b="b"/>
            <a:pathLst>
              <a:path w="1698" h="1737">
                <a:moveTo>
                  <a:pt x="283" y="0"/>
                </a:moveTo>
                <a:lnTo>
                  <a:pt x="255" y="1"/>
                </a:lnTo>
                <a:lnTo>
                  <a:pt x="226" y="5"/>
                </a:lnTo>
                <a:lnTo>
                  <a:pt x="199" y="13"/>
                </a:lnTo>
                <a:lnTo>
                  <a:pt x="174" y="22"/>
                </a:lnTo>
                <a:lnTo>
                  <a:pt x="148" y="33"/>
                </a:lnTo>
                <a:lnTo>
                  <a:pt x="125" y="49"/>
                </a:lnTo>
                <a:lnTo>
                  <a:pt x="103" y="64"/>
                </a:lnTo>
                <a:lnTo>
                  <a:pt x="83" y="82"/>
                </a:lnTo>
                <a:lnTo>
                  <a:pt x="64" y="103"/>
                </a:lnTo>
                <a:lnTo>
                  <a:pt x="49" y="124"/>
                </a:lnTo>
                <a:lnTo>
                  <a:pt x="34" y="148"/>
                </a:lnTo>
                <a:lnTo>
                  <a:pt x="22" y="173"/>
                </a:lnTo>
                <a:lnTo>
                  <a:pt x="14" y="199"/>
                </a:lnTo>
                <a:lnTo>
                  <a:pt x="5" y="226"/>
                </a:lnTo>
                <a:lnTo>
                  <a:pt x="2" y="254"/>
                </a:lnTo>
                <a:lnTo>
                  <a:pt x="0" y="283"/>
                </a:lnTo>
                <a:lnTo>
                  <a:pt x="0" y="1454"/>
                </a:lnTo>
                <a:lnTo>
                  <a:pt x="2" y="1482"/>
                </a:lnTo>
                <a:lnTo>
                  <a:pt x="5" y="1511"/>
                </a:lnTo>
                <a:lnTo>
                  <a:pt x="14" y="1538"/>
                </a:lnTo>
                <a:lnTo>
                  <a:pt x="22" y="1565"/>
                </a:lnTo>
                <a:lnTo>
                  <a:pt x="34" y="1588"/>
                </a:lnTo>
                <a:lnTo>
                  <a:pt x="49" y="1612"/>
                </a:lnTo>
                <a:lnTo>
                  <a:pt x="64" y="1634"/>
                </a:lnTo>
                <a:lnTo>
                  <a:pt x="83" y="1654"/>
                </a:lnTo>
                <a:lnTo>
                  <a:pt x="103" y="1673"/>
                </a:lnTo>
                <a:lnTo>
                  <a:pt x="125" y="1688"/>
                </a:lnTo>
                <a:lnTo>
                  <a:pt x="148" y="1703"/>
                </a:lnTo>
                <a:lnTo>
                  <a:pt x="174" y="1715"/>
                </a:lnTo>
                <a:lnTo>
                  <a:pt x="199" y="1723"/>
                </a:lnTo>
                <a:lnTo>
                  <a:pt x="226" y="1732"/>
                </a:lnTo>
                <a:lnTo>
                  <a:pt x="255" y="1735"/>
                </a:lnTo>
                <a:lnTo>
                  <a:pt x="283" y="1737"/>
                </a:lnTo>
                <a:lnTo>
                  <a:pt x="1415" y="1737"/>
                </a:lnTo>
                <a:lnTo>
                  <a:pt x="1444" y="1735"/>
                </a:lnTo>
                <a:lnTo>
                  <a:pt x="1472" y="1732"/>
                </a:lnTo>
                <a:lnTo>
                  <a:pt x="1499" y="1723"/>
                </a:lnTo>
                <a:lnTo>
                  <a:pt x="1526" y="1715"/>
                </a:lnTo>
                <a:lnTo>
                  <a:pt x="1550" y="1703"/>
                </a:lnTo>
                <a:lnTo>
                  <a:pt x="1573" y="1688"/>
                </a:lnTo>
                <a:lnTo>
                  <a:pt x="1595" y="1673"/>
                </a:lnTo>
                <a:lnTo>
                  <a:pt x="1615" y="1654"/>
                </a:lnTo>
                <a:lnTo>
                  <a:pt x="1634" y="1634"/>
                </a:lnTo>
                <a:lnTo>
                  <a:pt x="1649" y="1612"/>
                </a:lnTo>
                <a:lnTo>
                  <a:pt x="1664" y="1588"/>
                </a:lnTo>
                <a:lnTo>
                  <a:pt x="1676" y="1565"/>
                </a:lnTo>
                <a:lnTo>
                  <a:pt x="1685" y="1538"/>
                </a:lnTo>
                <a:lnTo>
                  <a:pt x="1693" y="1511"/>
                </a:lnTo>
                <a:lnTo>
                  <a:pt x="1696" y="1482"/>
                </a:lnTo>
                <a:lnTo>
                  <a:pt x="1698" y="1454"/>
                </a:lnTo>
                <a:lnTo>
                  <a:pt x="1698" y="283"/>
                </a:lnTo>
                <a:lnTo>
                  <a:pt x="1696" y="254"/>
                </a:lnTo>
                <a:lnTo>
                  <a:pt x="1693" y="226"/>
                </a:lnTo>
                <a:lnTo>
                  <a:pt x="1685" y="199"/>
                </a:lnTo>
                <a:lnTo>
                  <a:pt x="1676" y="173"/>
                </a:lnTo>
                <a:lnTo>
                  <a:pt x="1664" y="148"/>
                </a:lnTo>
                <a:lnTo>
                  <a:pt x="1649" y="124"/>
                </a:lnTo>
                <a:lnTo>
                  <a:pt x="1634" y="103"/>
                </a:lnTo>
                <a:lnTo>
                  <a:pt x="1615" y="82"/>
                </a:lnTo>
                <a:lnTo>
                  <a:pt x="1595" y="64"/>
                </a:lnTo>
                <a:lnTo>
                  <a:pt x="1573" y="49"/>
                </a:lnTo>
                <a:lnTo>
                  <a:pt x="1550" y="33"/>
                </a:lnTo>
                <a:lnTo>
                  <a:pt x="1526" y="22"/>
                </a:lnTo>
                <a:lnTo>
                  <a:pt x="1499" y="13"/>
                </a:lnTo>
                <a:lnTo>
                  <a:pt x="1472" y="5"/>
                </a:lnTo>
                <a:lnTo>
                  <a:pt x="1444" y="1"/>
                </a:lnTo>
                <a:lnTo>
                  <a:pt x="1415" y="0"/>
                </a:lnTo>
                <a:lnTo>
                  <a:pt x="283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381640" y="2558880"/>
            <a:ext cx="349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5520240" y="26100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4683240" y="5259240"/>
            <a:ext cx="349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821840" y="531036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657600" y="4937040"/>
            <a:ext cx="925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343760" y="51624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345280" y="4925880"/>
            <a:ext cx="9252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031440" y="51498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513240" y="3776760"/>
            <a:ext cx="2300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655800" y="38322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655800" y="419256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655800" y="455292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137280" y="2381400"/>
            <a:ext cx="15638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6242760" y="2604960"/>
            <a:ext cx="119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Umspannung Hö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7412760" y="260496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/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489480" y="1981080"/>
            <a:ext cx="255600" cy="385920"/>
          </a:xfrm>
          <a:custGeom>
            <a:avLst/>
            <a:gdLst/>
            <a:ahLst/>
            <a:rect l="l" t="t" r="r" b="b"/>
            <a:pathLst>
              <a:path w="324" h="485">
                <a:moveTo>
                  <a:pt x="0" y="364"/>
                </a:moveTo>
                <a:lnTo>
                  <a:pt x="81" y="364"/>
                </a:lnTo>
                <a:lnTo>
                  <a:pt x="81" y="0"/>
                </a:lnTo>
                <a:lnTo>
                  <a:pt x="243" y="0"/>
                </a:lnTo>
                <a:lnTo>
                  <a:pt x="243" y="364"/>
                </a:lnTo>
                <a:lnTo>
                  <a:pt x="324" y="364"/>
                </a:lnTo>
                <a:lnTo>
                  <a:pt x="162" y="485"/>
                </a:lnTo>
                <a:lnTo>
                  <a:pt x="0" y="364"/>
                </a:lnTo>
                <a:close/>
              </a:path>
            </a:pathLst>
          </a:cu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632640" y="1981080"/>
            <a:ext cx="257040" cy="385920"/>
          </a:xfrm>
          <a:custGeom>
            <a:avLst/>
            <a:gdLst/>
            <a:ahLst/>
            <a:rect l="l" t="t" r="r" b="b"/>
            <a:pathLst>
              <a:path w="323" h="485">
                <a:moveTo>
                  <a:pt x="0" y="364"/>
                </a:moveTo>
                <a:lnTo>
                  <a:pt x="81" y="364"/>
                </a:lnTo>
                <a:lnTo>
                  <a:pt x="81" y="0"/>
                </a:lnTo>
                <a:lnTo>
                  <a:pt x="242" y="0"/>
                </a:lnTo>
                <a:lnTo>
                  <a:pt x="242" y="364"/>
                </a:lnTo>
                <a:lnTo>
                  <a:pt x="323" y="364"/>
                </a:lnTo>
                <a:lnTo>
                  <a:pt x="161" y="485"/>
                </a:lnTo>
                <a:lnTo>
                  <a:pt x="0" y="364"/>
                </a:lnTo>
                <a:close/>
              </a:path>
            </a:pathLst>
          </a:cu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2473200" y="2046240"/>
            <a:ext cx="1030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2581920" y="2090880"/>
            <a:ext cx="88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ergiebe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616720" y="2046240"/>
            <a:ext cx="1031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726880" y="2090880"/>
            <a:ext cx="88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ergiebe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218120" y="3363840"/>
            <a:ext cx="1035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548600" y="3408480"/>
            <a:ext cx="45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6661080" y="3340080"/>
            <a:ext cx="1042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7102440" y="3384720"/>
            <a:ext cx="4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592440" y="6046920"/>
            <a:ext cx="1035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3923280" y="6091200"/>
            <a:ext cx="45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219640" y="6064200"/>
            <a:ext cx="10429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687280" y="6108840"/>
            <a:ext cx="50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4411800" y="1154160"/>
            <a:ext cx="102960" cy="320760"/>
            <a:chOff x="4411800" y="1154160"/>
            <a:chExt cx="102960" cy="320760"/>
          </a:xfrm>
        </p:grpSpPr>
        <p:sp>
          <p:nvSpPr>
            <p:cNvPr id="1811" name=""/>
            <p:cNvSpPr/>
            <p:nvPr/>
          </p:nvSpPr>
          <p:spPr>
            <a:xfrm>
              <a:off x="4454280" y="1154160"/>
              <a:ext cx="1728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411800" y="1371600"/>
              <a:ext cx="102960" cy="10332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0" y="0"/>
                  </a:moveTo>
                  <a:lnTo>
                    <a:pt x="66" y="130"/>
                  </a:lnTo>
                  <a:lnTo>
                    <a:pt x="1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4335480" y="1154160"/>
            <a:ext cx="255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527720" y="1217520"/>
            <a:ext cx="312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636800" y="12636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733280" y="13572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3511440" y="3036960"/>
            <a:ext cx="103320" cy="320760"/>
            <a:chOff x="3511440" y="3036960"/>
            <a:chExt cx="103320" cy="320760"/>
          </a:xfrm>
        </p:grpSpPr>
        <p:sp>
          <p:nvSpPr>
            <p:cNvPr id="1818" name=""/>
            <p:cNvSpPr/>
            <p:nvPr/>
          </p:nvSpPr>
          <p:spPr>
            <a:xfrm>
              <a:off x="3555720" y="3036960"/>
              <a:ext cx="1584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511440" y="3254400"/>
              <a:ext cx="103320" cy="10332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0" y="0"/>
                  </a:moveTo>
                  <a:lnTo>
                    <a:pt x="65" y="13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3435480" y="3036960"/>
            <a:ext cx="257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627360" y="3100320"/>
            <a:ext cx="3128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736440" y="31449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832920" y="32385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5979960" y="3048120"/>
            <a:ext cx="103320" cy="320400"/>
            <a:chOff x="5979960" y="3048120"/>
            <a:chExt cx="103320" cy="320400"/>
          </a:xfrm>
        </p:grpSpPr>
        <p:sp>
          <p:nvSpPr>
            <p:cNvPr id="1825" name=""/>
            <p:cNvSpPr/>
            <p:nvPr/>
          </p:nvSpPr>
          <p:spPr>
            <a:xfrm>
              <a:off x="6024240" y="3048120"/>
              <a:ext cx="1620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979960" y="3267000"/>
              <a:ext cx="103320" cy="10152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0" y="0"/>
                  </a:moveTo>
                  <a:lnTo>
                    <a:pt x="65" y="13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7" name=""/>
          <p:cNvSpPr/>
          <p:nvPr/>
        </p:nvSpPr>
        <p:spPr>
          <a:xfrm>
            <a:off x="5904000" y="3048120"/>
            <a:ext cx="257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097680" y="3112920"/>
            <a:ext cx="4302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205320" y="3157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303240" y="3251160"/>
            <a:ext cx="17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2(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3767040" y="5530680"/>
            <a:ext cx="102960" cy="322560"/>
            <a:chOff x="3767040" y="5530680"/>
            <a:chExt cx="102960" cy="322560"/>
          </a:xfrm>
        </p:grpSpPr>
        <p:sp>
          <p:nvSpPr>
            <p:cNvPr id="1832" name=""/>
            <p:cNvSpPr/>
            <p:nvPr/>
          </p:nvSpPr>
          <p:spPr>
            <a:xfrm>
              <a:off x="3811320" y="5530680"/>
              <a:ext cx="1584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767040" y="5749920"/>
              <a:ext cx="102960" cy="10332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0" y="0"/>
                  </a:moveTo>
                  <a:lnTo>
                    <a:pt x="66" y="130"/>
                  </a:lnTo>
                  <a:lnTo>
                    <a:pt x="1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3691080" y="5530680"/>
            <a:ext cx="2556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882960" y="5595840"/>
            <a:ext cx="31284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992040" y="5640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088520" y="5734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5299200" y="5541840"/>
            <a:ext cx="102960" cy="320760"/>
            <a:chOff x="5299200" y="5541840"/>
            <a:chExt cx="102960" cy="320760"/>
          </a:xfrm>
        </p:grpSpPr>
        <p:sp>
          <p:nvSpPr>
            <p:cNvPr id="1839" name=""/>
            <p:cNvSpPr/>
            <p:nvPr/>
          </p:nvSpPr>
          <p:spPr>
            <a:xfrm>
              <a:off x="5343480" y="5541840"/>
              <a:ext cx="1548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299200" y="5759280"/>
              <a:ext cx="102960" cy="10332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0" y="0"/>
                  </a:moveTo>
                  <a:lnTo>
                    <a:pt x="65" y="13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1" name=""/>
          <p:cNvSpPr/>
          <p:nvPr/>
        </p:nvSpPr>
        <p:spPr>
          <a:xfrm>
            <a:off x="5222880" y="5541840"/>
            <a:ext cx="257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415120" y="5607000"/>
            <a:ext cx="4302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5524200" y="56516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620680" y="5745240"/>
            <a:ext cx="17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7(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483000" y="3639960"/>
            <a:ext cx="257040" cy="385920"/>
          </a:xfrm>
          <a:custGeom>
            <a:avLst/>
            <a:gdLst/>
            <a:ahLst/>
            <a:rect l="l" t="t" r="r" b="b"/>
            <a:pathLst>
              <a:path w="324" h="485">
                <a:moveTo>
                  <a:pt x="0" y="364"/>
                </a:moveTo>
                <a:lnTo>
                  <a:pt x="81" y="364"/>
                </a:lnTo>
                <a:lnTo>
                  <a:pt x="81" y="0"/>
                </a:lnTo>
                <a:lnTo>
                  <a:pt x="243" y="0"/>
                </a:lnTo>
                <a:lnTo>
                  <a:pt x="243" y="364"/>
                </a:lnTo>
                <a:lnTo>
                  <a:pt x="324" y="364"/>
                </a:lnTo>
                <a:lnTo>
                  <a:pt x="162" y="485"/>
                </a:lnTo>
                <a:lnTo>
                  <a:pt x="0" y="364"/>
                </a:lnTo>
                <a:close/>
              </a:path>
            </a:pathLst>
          </a:cu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67080" y="3705120"/>
            <a:ext cx="1030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577240" y="3749760"/>
            <a:ext cx="88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ergiebe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7160040" y="240336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4674240" y="241920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04360" y="497664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5511960" y="4259160"/>
            <a:ext cx="49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Señal de localización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1 Introducción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25600" y="746280"/>
            <a:ext cx="766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Formación de Precios en Estructuras Bá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6560" y="1843200"/>
            <a:ext cx="1703520" cy="676080"/>
          </a:xfrm>
          <a:prstGeom prst="roundRect">
            <a:avLst>
              <a:gd name="adj" fmla="val 16667"/>
            </a:avLst>
          </a:prstGeom>
          <a:solidFill>
            <a:srgbClr val="afc7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7840" y="2070000"/>
            <a:ext cx="179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Centr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96040" y="1854360"/>
            <a:ext cx="2065320" cy="676080"/>
          </a:xfrm>
          <a:prstGeom prst="roundRect">
            <a:avLst>
              <a:gd name="adj" fmla="val 16667"/>
            </a:avLst>
          </a:prstGeom>
          <a:solidFill>
            <a:srgbClr val="afc7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53920" y="2081160"/>
            <a:ext cx="222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042000">
            <a:off x="6616800" y="1277640"/>
            <a:ext cx="861840" cy="566640"/>
          </a:xfrm>
          <a:custGeom>
            <a:avLst/>
            <a:gdLst>
              <a:gd name="textAreaLeft" fmla="*/ 0 w 861840"/>
              <a:gd name="textAreaRight" fmla="*/ 862200 w 86184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afc7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18558000">
            <a:off x="2675880" y="1260360"/>
            <a:ext cx="862200" cy="566640"/>
          </a:xfrm>
          <a:custGeom>
            <a:avLst/>
            <a:gdLst>
              <a:gd name="textAreaLeft" fmla="*/ -360 w 862200"/>
              <a:gd name="textAreaRight" fmla="*/ 862200 w 86220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afc7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5520" y="2844720"/>
            <a:ext cx="1703160" cy="676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7120" y="3071880"/>
            <a:ext cx="153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o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0320" y="2843280"/>
            <a:ext cx="1703520" cy="676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40400" y="2855880"/>
            <a:ext cx="1703520" cy="676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13280" y="3019320"/>
            <a:ext cx="126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Bi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Fí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9640" y="2841480"/>
            <a:ext cx="1703520" cy="676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7600" y="3005280"/>
            <a:ext cx="152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Bi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Fí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72920" y="2548080"/>
            <a:ext cx="925560" cy="244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5160" y="2560680"/>
            <a:ext cx="901800" cy="2300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214680" y="2584440"/>
            <a:ext cx="925560" cy="244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77280" y="2597040"/>
            <a:ext cx="901440" cy="2304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7840" y="3664080"/>
            <a:ext cx="1819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stos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60560" y="3637080"/>
            <a:ext cx="34610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Pool forma general: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- Costos Marginales CP,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63800" y="4249800"/>
            <a:ext cx="2420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Bolsas de Energía: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recio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recio Ofe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79640" y="5064120"/>
            <a:ext cx="40323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Actividades de R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stos Med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(control de efici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e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Ingreso Tarif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52560" y="3670200"/>
            <a:ext cx="2312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Precio de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02120" y="2847960"/>
            <a:ext cx="1703160" cy="676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30960" y="5054760"/>
            <a:ext cx="31449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Actividades de R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stos Med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(control de efici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eajes (contra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11520" y="3070080"/>
            <a:ext cx="73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495360" y="31644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Breve Caracterización de Metod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17680" y="828720"/>
            <a:ext cx="164124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Metod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GGDF-1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GGDF-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BIALEKG–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BIALEKL–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KIRSCHE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GLDF-1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2870280" y="770040"/>
            <a:ext cx="620532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actores generalizados de distribución, ecuaciones flujo DC, independencia de barra de referencia, dependencia de topología de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actores de distribución topológicos, principio de proporcionalidad en asignación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nálisis Topológico, definición de dominios y áreas comunes y principio de proporcionalidad de apo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actores generalizados de distribución,  ecuaciones flujo DC, independencia de barra de referencia, dependencia de topología de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73160" y="1467000"/>
            <a:ext cx="955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85760" y="144144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85760" y="301608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98360" y="429912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10960" y="537840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2440080" y="671040"/>
            <a:ext cx="4680" cy="5697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571680" y="342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Modelo del SIC Chil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6" name="" descr=""/>
          <p:cNvPicPr/>
          <p:nvPr/>
        </p:nvPicPr>
        <p:blipFill>
          <a:blip r:embed="rId1"/>
          <a:stretch/>
        </p:blipFill>
        <p:spPr>
          <a:xfrm>
            <a:off x="135000" y="773280"/>
            <a:ext cx="2441520" cy="5584680"/>
          </a:xfrm>
          <a:prstGeom prst="rect">
            <a:avLst/>
          </a:prstGeom>
          <a:ln w="0">
            <a:noFill/>
          </a:ln>
        </p:spPr>
      </p:pic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6039000" y="758880"/>
            <a:ext cx="3824280" cy="561168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2706840" y="733680"/>
            <a:ext cx="304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do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ínea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enerado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Cargas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idrologías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loques/mes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rizonte 200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LACK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  Charr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630600" y="3481560"/>
            <a:ext cx="1324080" cy="1077840"/>
          </a:xfrm>
          <a:custGeom>
            <a:avLst/>
            <a:gdLst>
              <a:gd name="textAreaLeft" fmla="*/ 206640 w 1324080"/>
              <a:gd name="textAreaRight" fmla="*/ 1158840 w 1324080"/>
              <a:gd name="textAreaTop" fmla="*/ 269280 h 1077840"/>
              <a:gd name="textAreaBottom" fmla="*/ 808560 h 1077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3240">
            <a:solidFill>
              <a:srgbClr val="000000"/>
            </a:solidFill>
            <a:miter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2817720" y="4756680"/>
            <a:ext cx="30448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s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rincipios de uso: </a:t>
            </a: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GGDF, GLDF, GGDFC, GLDFC, BIALEK, KIRSCHEN, ESTAMPILL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3" name="" descr=""/>
          <p:cNvPicPr/>
          <p:nvPr/>
        </p:nvPicPr>
        <p:blipFill>
          <a:blip r:embed="rId1"/>
          <a:stretch/>
        </p:blipFill>
        <p:spPr>
          <a:xfrm>
            <a:off x="7550280" y="760320"/>
            <a:ext cx="2301840" cy="5586480"/>
          </a:xfrm>
          <a:prstGeom prst="rect">
            <a:avLst/>
          </a:prstGeom>
          <a:ln w="0">
            <a:noFill/>
          </a:ln>
        </p:spPr>
      </p:pic>
      <p:pic>
        <p:nvPicPr>
          <p:cNvPr id="1874" name="" descr=""/>
          <p:cNvPicPr/>
          <p:nvPr/>
        </p:nvPicPr>
        <p:blipFill>
          <a:blip r:embed="rId2"/>
          <a:stretch/>
        </p:blipFill>
        <p:spPr>
          <a:xfrm>
            <a:off x="71280" y="749160"/>
            <a:ext cx="2419560" cy="5615280"/>
          </a:xfrm>
          <a:prstGeom prst="rect">
            <a:avLst/>
          </a:prstGeom>
          <a:ln w="0">
            <a:noFill/>
          </a:ln>
        </p:spPr>
      </p:pic>
      <p:pic>
        <p:nvPicPr>
          <p:cNvPr id="1875" name="" descr=""/>
          <p:cNvPicPr/>
          <p:nvPr/>
        </p:nvPicPr>
        <p:blipFill>
          <a:blip r:embed="rId3"/>
          <a:stretch/>
        </p:blipFill>
        <p:spPr>
          <a:xfrm>
            <a:off x="2565360" y="746280"/>
            <a:ext cx="2346480" cy="561168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1239840" y="78948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754440" y="78804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8798040" y="78012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4"/>
          <a:stretch/>
        </p:blipFill>
        <p:spPr>
          <a:xfrm>
            <a:off x="5021280" y="738360"/>
            <a:ext cx="2424240" cy="563076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6181560" y="81972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33520" y="325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entrales Hundidas -Caso Sauz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4" name="" descr=""/>
          <p:cNvPicPr/>
          <p:nvPr/>
        </p:nvPicPr>
        <p:blipFill>
          <a:blip r:embed="rId5"/>
          <a:stretch/>
        </p:blipFill>
        <p:spPr>
          <a:xfrm>
            <a:off x="5662440" y="399960"/>
            <a:ext cx="42181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5" name="" descr=""/>
          <p:cNvPicPr/>
          <p:nvPr/>
        </p:nvPicPr>
        <p:blipFill>
          <a:blip r:embed="rId1"/>
          <a:stretch/>
        </p:blipFill>
        <p:spPr>
          <a:xfrm>
            <a:off x="4284720" y="749160"/>
            <a:ext cx="3228840" cy="2360880"/>
          </a:xfrm>
          <a:prstGeom prst="rect">
            <a:avLst/>
          </a:prstGeom>
          <a:ln w="0">
            <a:noFill/>
          </a:ln>
        </p:spPr>
      </p:pic>
      <p:pic>
        <p:nvPicPr>
          <p:cNvPr id="1886" name="" descr=""/>
          <p:cNvPicPr/>
          <p:nvPr/>
        </p:nvPicPr>
        <p:blipFill>
          <a:blip r:embed="rId2"/>
          <a:stretch/>
        </p:blipFill>
        <p:spPr>
          <a:xfrm>
            <a:off x="184320" y="782640"/>
            <a:ext cx="3341520" cy="5564160"/>
          </a:xfrm>
          <a:prstGeom prst="rect">
            <a:avLst/>
          </a:prstGeom>
          <a:ln w="0">
            <a:noFill/>
          </a:ln>
        </p:spPr>
      </p:pic>
      <p:pic>
        <p:nvPicPr>
          <p:cNvPr id="1887" name="" descr=""/>
          <p:cNvPicPr/>
          <p:nvPr/>
        </p:nvPicPr>
        <p:blipFill>
          <a:blip r:embed="rId3"/>
          <a:stretch/>
        </p:blipFill>
        <p:spPr>
          <a:xfrm>
            <a:off x="8485200" y="824040"/>
            <a:ext cx="1238400" cy="240984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5950080" y="3093120"/>
            <a:ext cx="24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a50021"/>
                </a:solidFill>
                <a:latin typeface="Comic Sans MS"/>
              </a:rPr>
              <a:t>Flujo Polpaico-Quill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9" name="" descr=""/>
          <p:cNvPicPr/>
          <p:nvPr/>
        </p:nvPicPr>
        <p:blipFill>
          <a:blip r:embed="rId4"/>
          <a:stretch/>
        </p:blipFill>
        <p:spPr>
          <a:xfrm>
            <a:off x="4446720" y="3402000"/>
            <a:ext cx="4728960" cy="2951280"/>
          </a:xfrm>
          <a:prstGeom prst="rect">
            <a:avLst/>
          </a:prstGeom>
          <a:ln w="0">
            <a:noFill/>
          </a:ln>
        </p:spPr>
      </p:pic>
      <p:sp>
        <p:nvSpPr>
          <p:cNvPr id="1890" name=""/>
          <p:cNvSpPr/>
          <p:nvPr/>
        </p:nvSpPr>
        <p:spPr>
          <a:xfrm>
            <a:off x="2225520" y="81000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87440" y="32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Líneas con Inversión de Flujo, Polpaico-Quill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" descr=""/>
          <p:cNvPicPr/>
          <p:nvPr/>
        </p:nvPicPr>
        <p:blipFill>
          <a:blip r:embed="rId1"/>
          <a:stretch/>
        </p:blipFill>
        <p:spPr>
          <a:xfrm>
            <a:off x="7491240" y="750960"/>
            <a:ext cx="2335320" cy="5603760"/>
          </a:xfrm>
          <a:prstGeom prst="rect">
            <a:avLst/>
          </a:prstGeom>
          <a:ln w="0">
            <a:noFill/>
          </a:ln>
        </p:spPr>
      </p:pic>
      <p:pic>
        <p:nvPicPr>
          <p:cNvPr id="1895" name="" descr=""/>
          <p:cNvPicPr/>
          <p:nvPr/>
        </p:nvPicPr>
        <p:blipFill>
          <a:blip r:embed="rId2"/>
          <a:stretch/>
        </p:blipFill>
        <p:spPr>
          <a:xfrm>
            <a:off x="65160" y="770040"/>
            <a:ext cx="2457360" cy="5572080"/>
          </a:xfrm>
          <a:prstGeom prst="rect">
            <a:avLst/>
          </a:prstGeom>
          <a:ln w="0">
            <a:noFill/>
          </a:ln>
        </p:spPr>
      </p:pic>
      <p:pic>
        <p:nvPicPr>
          <p:cNvPr id="1896" name="" descr=""/>
          <p:cNvPicPr/>
          <p:nvPr/>
        </p:nvPicPr>
        <p:blipFill>
          <a:blip r:embed="rId3"/>
          <a:stretch/>
        </p:blipFill>
        <p:spPr>
          <a:xfrm>
            <a:off x="2585880" y="738360"/>
            <a:ext cx="2351160" cy="5605200"/>
          </a:xfrm>
          <a:prstGeom prst="rect">
            <a:avLst/>
          </a:prstGeom>
          <a:ln w="0">
            <a:noFill/>
          </a:ln>
        </p:spPr>
      </p:pic>
      <p:sp>
        <p:nvSpPr>
          <p:cNvPr id="1897" name=""/>
          <p:cNvSpPr/>
          <p:nvPr/>
        </p:nvSpPr>
        <p:spPr>
          <a:xfrm>
            <a:off x="1282680" y="75924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897360" y="7578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00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1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8691480" y="74988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3" name="" descr=""/>
          <p:cNvPicPr/>
          <p:nvPr/>
        </p:nvPicPr>
        <p:blipFill>
          <a:blip r:embed="rId5"/>
          <a:stretch/>
        </p:blipFill>
        <p:spPr>
          <a:xfrm>
            <a:off x="4992840" y="743040"/>
            <a:ext cx="2435040" cy="5611680"/>
          </a:xfrm>
          <a:prstGeom prst="rect">
            <a:avLst/>
          </a:prstGeom>
          <a:ln w="0">
            <a:noFill/>
          </a:ln>
        </p:spPr>
      </p:pic>
      <p:sp>
        <p:nvSpPr>
          <p:cNvPr id="1904" name=""/>
          <p:cNvSpPr/>
          <p:nvPr/>
        </p:nvSpPr>
        <p:spPr>
          <a:xfrm>
            <a:off x="6343560" y="7480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6"/>
          <a:stretch/>
        </p:blipFill>
        <p:spPr>
          <a:xfrm>
            <a:off x="8997840" y="198360"/>
            <a:ext cx="811440" cy="506520"/>
          </a:xfrm>
          <a:prstGeom prst="rect">
            <a:avLst/>
          </a:prstGeom>
          <a:ln w="0">
            <a:noFill/>
          </a:ln>
        </p:spPr>
      </p:pic>
      <p:sp>
        <p:nvSpPr>
          <p:cNvPr id="1906" name=""/>
          <p:cNvSpPr/>
          <p:nvPr/>
        </p:nvSpPr>
        <p:spPr>
          <a:xfrm>
            <a:off x="527040" y="31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Líneas con Inversión de Flujo, Polpaico-Quill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" descr=""/>
          <p:cNvPicPr/>
          <p:nvPr/>
        </p:nvPicPr>
        <p:blipFill>
          <a:blip r:embed="rId1"/>
          <a:stretch/>
        </p:blipFill>
        <p:spPr>
          <a:xfrm>
            <a:off x="4978440" y="730080"/>
            <a:ext cx="2517840" cy="5600880"/>
          </a:xfrm>
          <a:prstGeom prst="rect">
            <a:avLst/>
          </a:prstGeom>
          <a:ln w="0">
            <a:noFill/>
          </a:ln>
        </p:spPr>
      </p:pic>
      <p:pic>
        <p:nvPicPr>
          <p:cNvPr id="1910" name="" descr=""/>
          <p:cNvPicPr/>
          <p:nvPr/>
        </p:nvPicPr>
        <p:blipFill>
          <a:blip r:embed="rId2"/>
          <a:stretch/>
        </p:blipFill>
        <p:spPr>
          <a:xfrm>
            <a:off x="77760" y="750960"/>
            <a:ext cx="2405160" cy="5616360"/>
          </a:xfrm>
          <a:prstGeom prst="rect">
            <a:avLst/>
          </a:prstGeom>
          <a:ln w="0">
            <a:noFill/>
          </a:ln>
        </p:spPr>
      </p:pic>
      <p:sp>
        <p:nvSpPr>
          <p:cNvPr id="1911" name=""/>
          <p:cNvSpPr/>
          <p:nvPr/>
        </p:nvSpPr>
        <p:spPr>
          <a:xfrm>
            <a:off x="1282680" y="77364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" descr=""/>
          <p:cNvPicPr/>
          <p:nvPr/>
        </p:nvPicPr>
        <p:blipFill>
          <a:blip r:embed="rId3"/>
          <a:stretch/>
        </p:blipFill>
        <p:spPr>
          <a:xfrm>
            <a:off x="2546280" y="741240"/>
            <a:ext cx="2378160" cy="5621400"/>
          </a:xfrm>
          <a:prstGeom prst="rect">
            <a:avLst/>
          </a:prstGeom>
          <a:ln w="0">
            <a:noFill/>
          </a:ln>
        </p:spPr>
      </p:pic>
      <p:sp>
        <p:nvSpPr>
          <p:cNvPr id="1913" name=""/>
          <p:cNvSpPr/>
          <p:nvPr/>
        </p:nvSpPr>
        <p:spPr>
          <a:xfrm>
            <a:off x="3871800" y="76104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396120" y="76104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16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7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8" name="" descr=""/>
          <p:cNvPicPr/>
          <p:nvPr/>
        </p:nvPicPr>
        <p:blipFill>
          <a:blip r:embed="rId5"/>
          <a:stretch/>
        </p:blipFill>
        <p:spPr>
          <a:xfrm>
            <a:off x="7559640" y="730080"/>
            <a:ext cx="2289240" cy="5613480"/>
          </a:xfrm>
          <a:prstGeom prst="rect">
            <a:avLst/>
          </a:prstGeom>
          <a:ln w="0">
            <a:noFill/>
          </a:ln>
        </p:spPr>
      </p:pic>
      <p:sp>
        <p:nvSpPr>
          <p:cNvPr id="1919" name=""/>
          <p:cNvSpPr/>
          <p:nvPr/>
        </p:nvSpPr>
        <p:spPr>
          <a:xfrm>
            <a:off x="8720280" y="73548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65120" y="31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Zona N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0796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3" name="" descr=""/>
          <p:cNvPicPr/>
          <p:nvPr/>
        </p:nvPicPr>
        <p:blipFill>
          <a:blip r:embed="rId1"/>
          <a:stretch/>
        </p:blipFill>
        <p:spPr>
          <a:xfrm>
            <a:off x="5126040" y="787320"/>
            <a:ext cx="2468520" cy="5589720"/>
          </a:xfrm>
          <a:prstGeom prst="rect">
            <a:avLst/>
          </a:prstGeom>
          <a:ln w="0">
            <a:noFill/>
          </a:ln>
        </p:spPr>
      </p:pic>
      <p:pic>
        <p:nvPicPr>
          <p:cNvPr id="1924" name="" descr=""/>
          <p:cNvPicPr/>
          <p:nvPr/>
        </p:nvPicPr>
        <p:blipFill>
          <a:blip r:embed="rId2"/>
          <a:stretch/>
        </p:blipFill>
        <p:spPr>
          <a:xfrm>
            <a:off x="54000" y="790560"/>
            <a:ext cx="2500200" cy="5567400"/>
          </a:xfrm>
          <a:prstGeom prst="rect">
            <a:avLst/>
          </a:prstGeom>
          <a:ln w="0">
            <a:noFill/>
          </a:ln>
        </p:spPr>
      </p:pic>
      <p:sp>
        <p:nvSpPr>
          <p:cNvPr id="1925" name=""/>
          <p:cNvSpPr/>
          <p:nvPr/>
        </p:nvSpPr>
        <p:spPr>
          <a:xfrm>
            <a:off x="1368360" y="788040"/>
            <a:ext cx="128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3"/>
          <a:stretch/>
        </p:blipFill>
        <p:spPr>
          <a:xfrm>
            <a:off x="2614680" y="798480"/>
            <a:ext cx="2432160" cy="5575320"/>
          </a:xfrm>
          <a:prstGeom prst="rect">
            <a:avLst/>
          </a:prstGeom>
          <a:ln w="0">
            <a:noFill/>
          </a:ln>
        </p:spPr>
      </p:pic>
      <p:sp>
        <p:nvSpPr>
          <p:cNvPr id="1927" name=""/>
          <p:cNvSpPr/>
          <p:nvPr/>
        </p:nvSpPr>
        <p:spPr>
          <a:xfrm>
            <a:off x="4029120" y="78948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29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0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1" name="" descr=""/>
          <p:cNvPicPr/>
          <p:nvPr/>
        </p:nvPicPr>
        <p:blipFill>
          <a:blip r:embed="rId5"/>
          <a:stretch/>
        </p:blipFill>
        <p:spPr>
          <a:xfrm>
            <a:off x="7659720" y="812880"/>
            <a:ext cx="2181240" cy="5562360"/>
          </a:xfrm>
          <a:prstGeom prst="rect">
            <a:avLst/>
          </a:prstGeom>
          <a:ln w="0">
            <a:noFill/>
          </a:ln>
        </p:spPr>
      </p:pic>
      <p:sp>
        <p:nvSpPr>
          <p:cNvPr id="1932" name=""/>
          <p:cNvSpPr/>
          <p:nvPr/>
        </p:nvSpPr>
        <p:spPr>
          <a:xfrm>
            <a:off x="6496200" y="81792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8691480" y="82584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30280" y="32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Zona Cen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7" name="" descr=""/>
          <p:cNvPicPr/>
          <p:nvPr/>
        </p:nvPicPr>
        <p:blipFill>
          <a:blip r:embed="rId1"/>
          <a:stretch/>
        </p:blipFill>
        <p:spPr>
          <a:xfrm>
            <a:off x="7502400" y="804960"/>
            <a:ext cx="2338560" cy="5556240"/>
          </a:xfrm>
          <a:prstGeom prst="rect">
            <a:avLst/>
          </a:prstGeom>
          <a:ln w="0">
            <a:noFill/>
          </a:ln>
        </p:spPr>
      </p:pic>
      <p:pic>
        <p:nvPicPr>
          <p:cNvPr id="1938" name="" descr=""/>
          <p:cNvPicPr/>
          <p:nvPr/>
        </p:nvPicPr>
        <p:blipFill>
          <a:blip r:embed="rId2"/>
          <a:stretch/>
        </p:blipFill>
        <p:spPr>
          <a:xfrm>
            <a:off x="47520" y="787320"/>
            <a:ext cx="2451240" cy="5562720"/>
          </a:xfrm>
          <a:prstGeom prst="rect">
            <a:avLst/>
          </a:prstGeom>
          <a:ln w="0">
            <a:noFill/>
          </a:ln>
        </p:spPr>
      </p:pic>
      <p:sp>
        <p:nvSpPr>
          <p:cNvPr id="1939" name=""/>
          <p:cNvSpPr/>
          <p:nvPr/>
        </p:nvSpPr>
        <p:spPr>
          <a:xfrm>
            <a:off x="1297080" y="805320"/>
            <a:ext cx="12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0" name="" descr=""/>
          <p:cNvPicPr/>
          <p:nvPr/>
        </p:nvPicPr>
        <p:blipFill>
          <a:blip r:embed="rId3"/>
          <a:stretch/>
        </p:blipFill>
        <p:spPr>
          <a:xfrm>
            <a:off x="2565360" y="808200"/>
            <a:ext cx="2351160" cy="5545080"/>
          </a:xfrm>
          <a:prstGeom prst="rect">
            <a:avLst/>
          </a:prstGeom>
          <a:ln w="0">
            <a:noFill/>
          </a:ln>
        </p:spPr>
      </p:pic>
      <p:sp>
        <p:nvSpPr>
          <p:cNvPr id="1941" name=""/>
          <p:cNvSpPr/>
          <p:nvPr/>
        </p:nvSpPr>
        <p:spPr>
          <a:xfrm>
            <a:off x="3900600" y="77832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43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4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8691480" y="81000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6" name="" descr=""/>
          <p:cNvPicPr/>
          <p:nvPr/>
        </p:nvPicPr>
        <p:blipFill>
          <a:blip r:embed="rId5"/>
          <a:stretch/>
        </p:blipFill>
        <p:spPr>
          <a:xfrm>
            <a:off x="4964040" y="826920"/>
            <a:ext cx="2492280" cy="5540400"/>
          </a:xfrm>
          <a:prstGeom prst="rect">
            <a:avLst/>
          </a:prstGeom>
          <a:ln w="0">
            <a:noFill/>
          </a:ln>
        </p:spPr>
      </p:pic>
      <p:sp>
        <p:nvSpPr>
          <p:cNvPr id="1947" name=""/>
          <p:cNvSpPr/>
          <p:nvPr/>
        </p:nvSpPr>
        <p:spPr>
          <a:xfrm>
            <a:off x="6310440" y="79272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92120" y="34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Centrales del L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1" name="" descr=""/>
          <p:cNvPicPr/>
          <p:nvPr/>
        </p:nvPicPr>
        <p:blipFill>
          <a:blip r:embed="rId1"/>
          <a:stretch/>
        </p:blipFill>
        <p:spPr>
          <a:xfrm>
            <a:off x="5016600" y="784080"/>
            <a:ext cx="2462040" cy="5556240"/>
          </a:xfrm>
          <a:prstGeom prst="rect">
            <a:avLst/>
          </a:prstGeom>
          <a:ln w="0">
            <a:noFill/>
          </a:ln>
        </p:spPr>
      </p:pic>
      <p:pic>
        <p:nvPicPr>
          <p:cNvPr id="1952" name="" descr=""/>
          <p:cNvPicPr/>
          <p:nvPr/>
        </p:nvPicPr>
        <p:blipFill>
          <a:blip r:embed="rId2"/>
          <a:stretch/>
        </p:blipFill>
        <p:spPr>
          <a:xfrm>
            <a:off x="7553160" y="776160"/>
            <a:ext cx="2295720" cy="5578560"/>
          </a:xfrm>
          <a:prstGeom prst="rect">
            <a:avLst/>
          </a:prstGeom>
          <a:ln w="0">
            <a:noFill/>
          </a:ln>
        </p:spPr>
      </p:pic>
      <p:pic>
        <p:nvPicPr>
          <p:cNvPr id="1953" name="" descr=""/>
          <p:cNvPicPr/>
          <p:nvPr/>
        </p:nvPicPr>
        <p:blipFill>
          <a:blip r:embed="rId3"/>
          <a:stretch/>
        </p:blipFill>
        <p:spPr>
          <a:xfrm>
            <a:off x="42840" y="770040"/>
            <a:ext cx="2468520" cy="5607000"/>
          </a:xfrm>
          <a:prstGeom prst="rect">
            <a:avLst/>
          </a:prstGeom>
          <a:ln w="0">
            <a:noFill/>
          </a:ln>
        </p:spPr>
      </p:pic>
      <p:sp>
        <p:nvSpPr>
          <p:cNvPr id="1954" name=""/>
          <p:cNvSpPr/>
          <p:nvPr/>
        </p:nvSpPr>
        <p:spPr>
          <a:xfrm>
            <a:off x="1368360" y="753120"/>
            <a:ext cx="14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5" name="" descr=""/>
          <p:cNvPicPr/>
          <p:nvPr/>
        </p:nvPicPr>
        <p:blipFill>
          <a:blip r:embed="rId4"/>
          <a:stretch/>
        </p:blipFill>
        <p:spPr>
          <a:xfrm>
            <a:off x="2577960" y="784080"/>
            <a:ext cx="2363760" cy="558504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>
            <a:off x="3857760" y="74016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58" name="" descr=""/>
            <p:cNvPicPr/>
            <p:nvPr/>
          </p:nvPicPr>
          <p:blipFill>
            <a:blip r:embed="rId5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9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338880" y="75456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8720280" y="75924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2" name="" descr=""/>
          <p:cNvPicPr/>
          <p:nvPr/>
        </p:nvPicPr>
        <p:blipFill>
          <a:blip r:embed="rId6"/>
          <a:stretch/>
        </p:blipFill>
        <p:spPr>
          <a:xfrm>
            <a:off x="5059440" y="5694480"/>
            <a:ext cx="930240" cy="579240"/>
          </a:xfrm>
          <a:prstGeom prst="rect">
            <a:avLst/>
          </a:prstGeom>
          <a:ln w="0">
            <a:noFill/>
          </a:ln>
        </p:spPr>
      </p:pic>
      <p:sp>
        <p:nvSpPr>
          <p:cNvPr id="1963" name=""/>
          <p:cNvSpPr/>
          <p:nvPr/>
        </p:nvSpPr>
        <p:spPr>
          <a:xfrm>
            <a:off x="492120" y="344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Zona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6" name="" descr=""/>
          <p:cNvPicPr/>
          <p:nvPr/>
        </p:nvPicPr>
        <p:blipFill>
          <a:blip r:embed="rId1"/>
          <a:stretch/>
        </p:blipFill>
        <p:spPr>
          <a:xfrm>
            <a:off x="5033880" y="785880"/>
            <a:ext cx="3278160" cy="5568840"/>
          </a:xfrm>
          <a:prstGeom prst="rect">
            <a:avLst/>
          </a:prstGeom>
          <a:ln w="0">
            <a:noFill/>
          </a:ln>
        </p:spPr>
      </p:pic>
      <p:pic>
        <p:nvPicPr>
          <p:cNvPr id="1967" name="" descr=""/>
          <p:cNvPicPr/>
          <p:nvPr/>
        </p:nvPicPr>
        <p:blipFill>
          <a:blip r:embed="rId2"/>
          <a:stretch/>
        </p:blipFill>
        <p:spPr>
          <a:xfrm>
            <a:off x="1562040" y="773280"/>
            <a:ext cx="3421080" cy="5573520"/>
          </a:xfrm>
          <a:prstGeom prst="rect">
            <a:avLst/>
          </a:prstGeom>
          <a:ln w="0">
            <a:noFill/>
          </a:ln>
        </p:spPr>
      </p:pic>
      <p:sp>
        <p:nvSpPr>
          <p:cNvPr id="1968" name=""/>
          <p:cNvSpPr/>
          <p:nvPr/>
        </p:nvSpPr>
        <p:spPr>
          <a:xfrm>
            <a:off x="568440" y="306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ago de Consumos en Zona N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3873600" y="815040"/>
            <a:ext cx="12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L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7248600" y="81648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1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72" name="" descr=""/>
            <p:cNvPicPr/>
            <p:nvPr/>
          </p:nvPicPr>
          <p:blipFill>
            <a:blip r:embed="rId3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454960" y="3357720"/>
            <a:ext cx="19080" cy="50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32800" y="2625840"/>
            <a:ext cx="155088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04000" y="2587680"/>
            <a:ext cx="1541520" cy="86508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04000" y="2587680"/>
            <a:ext cx="153216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32800" y="3727440"/>
            <a:ext cx="1550880" cy="86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04000" y="3689280"/>
            <a:ext cx="1541520" cy="86508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04000" y="3689280"/>
            <a:ext cx="153216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89160" y="2416320"/>
            <a:ext cx="1908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78240" y="3100320"/>
            <a:ext cx="19080" cy="1739880"/>
          </a:xfrm>
          <a:custGeom>
            <a:avLst/>
            <a:gdLst/>
            <a:ahLst/>
            <a:rect l="l" t="t" r="r" b="b"/>
            <a:pathLst>
              <a:path w="12" h="1096">
                <a:moveTo>
                  <a:pt x="12" y="0"/>
                </a:moveTo>
                <a:lnTo>
                  <a:pt x="12" y="934"/>
                </a:lnTo>
                <a:lnTo>
                  <a:pt x="12" y="1096"/>
                </a:lnTo>
                <a:lnTo>
                  <a:pt x="0" y="1096"/>
                </a:lnTo>
                <a:lnTo>
                  <a:pt x="0" y="934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8360" y="2416320"/>
            <a:ext cx="1908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4520" y="5315040"/>
            <a:ext cx="180720" cy="684000"/>
          </a:xfrm>
          <a:custGeom>
            <a:avLst/>
            <a:gdLst/>
            <a:ahLst/>
            <a:rect l="l" t="t" r="r" b="b"/>
            <a:pathLst>
              <a:path w="114" h="431">
                <a:moveTo>
                  <a:pt x="12" y="0"/>
                </a:moveTo>
                <a:lnTo>
                  <a:pt x="12" y="419"/>
                </a:lnTo>
                <a:lnTo>
                  <a:pt x="114" y="419"/>
                </a:lnTo>
                <a:lnTo>
                  <a:pt x="114" y="431"/>
                </a:lnTo>
                <a:lnTo>
                  <a:pt x="6" y="431"/>
                </a:lnTo>
                <a:lnTo>
                  <a:pt x="0" y="425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4520" y="3100320"/>
            <a:ext cx="180720" cy="1711440"/>
          </a:xfrm>
          <a:custGeom>
            <a:avLst/>
            <a:gdLst/>
            <a:ahLst/>
            <a:rect l="l" t="t" r="r" b="b"/>
            <a:pathLst>
              <a:path w="114" h="1078">
                <a:moveTo>
                  <a:pt x="12" y="0"/>
                </a:moveTo>
                <a:lnTo>
                  <a:pt x="12" y="1066"/>
                </a:lnTo>
                <a:lnTo>
                  <a:pt x="114" y="1066"/>
                </a:lnTo>
                <a:lnTo>
                  <a:pt x="114" y="1078"/>
                </a:lnTo>
                <a:lnTo>
                  <a:pt x="6" y="1078"/>
                </a:lnTo>
                <a:lnTo>
                  <a:pt x="0" y="1072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0600" y="2073240"/>
            <a:ext cx="4033800" cy="684360"/>
          </a:xfrm>
          <a:custGeom>
            <a:avLst/>
            <a:gdLst/>
            <a:ahLst/>
            <a:rect l="l" t="t" r="r" b="b"/>
            <a:pathLst>
              <a:path w="2541" h="431">
                <a:moveTo>
                  <a:pt x="2541" y="0"/>
                </a:moveTo>
                <a:lnTo>
                  <a:pt x="2541" y="216"/>
                </a:lnTo>
                <a:lnTo>
                  <a:pt x="2535" y="222"/>
                </a:lnTo>
                <a:lnTo>
                  <a:pt x="12" y="222"/>
                </a:lnTo>
                <a:lnTo>
                  <a:pt x="12" y="431"/>
                </a:lnTo>
                <a:lnTo>
                  <a:pt x="0" y="431"/>
                </a:lnTo>
                <a:lnTo>
                  <a:pt x="0" y="216"/>
                </a:lnTo>
                <a:lnTo>
                  <a:pt x="6" y="210"/>
                </a:lnTo>
                <a:lnTo>
                  <a:pt x="2529" y="210"/>
                </a:lnTo>
                <a:lnTo>
                  <a:pt x="2529" y="0"/>
                </a:lnTo>
                <a:lnTo>
                  <a:pt x="25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636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8200" y="2587680"/>
            <a:ext cx="1541520" cy="86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8200" y="2587680"/>
            <a:ext cx="153180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720" y="2662200"/>
            <a:ext cx="50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oad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3440" y="2852640"/>
            <a:ext cx="96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160" y="3052800"/>
            <a:ext cx="67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5440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6240" y="2587680"/>
            <a:ext cx="1541520" cy="86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6240" y="2587680"/>
            <a:ext cx="153216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18000" y="2757600"/>
            <a:ext cx="75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42400" y="2957400"/>
            <a:ext cx="90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69240" y="3794040"/>
            <a:ext cx="128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easuremen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47360" y="3994200"/>
            <a:ext cx="110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Accounting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4960" y="4192560"/>
            <a:ext cx="134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40080" y="1598760"/>
            <a:ext cx="2141640" cy="52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02280" y="1560600"/>
            <a:ext cx="2141280" cy="52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02280" y="1560600"/>
            <a:ext cx="2131920" cy="51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71920" y="1684440"/>
            <a:ext cx="164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16480" y="2406600"/>
            <a:ext cx="1798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06600"/>
            <a:ext cx="3246120" cy="181080"/>
          </a:xfrm>
          <a:custGeom>
            <a:avLst/>
            <a:gdLst/>
            <a:ahLst/>
            <a:rect l="l" t="t" r="r" b="b"/>
            <a:pathLst>
              <a:path w="2045" h="114">
                <a:moveTo>
                  <a:pt x="0" y="0"/>
                </a:moveTo>
                <a:lnTo>
                  <a:pt x="2039" y="0"/>
                </a:lnTo>
                <a:lnTo>
                  <a:pt x="2045" y="6"/>
                </a:lnTo>
                <a:lnTo>
                  <a:pt x="2045" y="114"/>
                </a:lnTo>
                <a:lnTo>
                  <a:pt x="2033" y="114"/>
                </a:lnTo>
                <a:lnTo>
                  <a:pt x="2033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4520" y="4802040"/>
            <a:ext cx="180720" cy="608040"/>
          </a:xfrm>
          <a:custGeom>
            <a:avLst/>
            <a:gdLst/>
            <a:ahLst/>
            <a:rect l="l" t="t" r="r" b="b"/>
            <a:pathLst>
              <a:path w="114" h="383">
                <a:moveTo>
                  <a:pt x="12" y="0"/>
                </a:moveTo>
                <a:lnTo>
                  <a:pt x="12" y="371"/>
                </a:lnTo>
                <a:lnTo>
                  <a:pt x="114" y="371"/>
                </a:lnTo>
                <a:lnTo>
                  <a:pt x="114" y="383"/>
                </a:lnTo>
                <a:lnTo>
                  <a:pt x="6" y="383"/>
                </a:lnTo>
                <a:lnTo>
                  <a:pt x="0" y="377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360" y="4583160"/>
            <a:ext cx="146520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560" y="4545000"/>
            <a:ext cx="1455840" cy="52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560" y="4545000"/>
            <a:ext cx="1446120" cy="5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1800" y="5181480"/>
            <a:ext cx="145548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73640" y="5143680"/>
            <a:ext cx="1455840" cy="52380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73640" y="5143680"/>
            <a:ext cx="1446120" cy="514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7480" y="5181480"/>
            <a:ext cx="12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5120" y="5372280"/>
            <a:ext cx="6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78240" y="4840200"/>
            <a:ext cx="95400" cy="541440"/>
          </a:xfrm>
          <a:custGeom>
            <a:avLst/>
            <a:gdLst/>
            <a:ahLst/>
            <a:rect l="l" t="t" r="r" b="b"/>
            <a:pathLst>
              <a:path w="60" h="341">
                <a:moveTo>
                  <a:pt x="12" y="0"/>
                </a:moveTo>
                <a:lnTo>
                  <a:pt x="12" y="329"/>
                </a:lnTo>
                <a:lnTo>
                  <a:pt x="60" y="329"/>
                </a:lnTo>
                <a:lnTo>
                  <a:pt x="60" y="341"/>
                </a:lnTo>
                <a:lnTo>
                  <a:pt x="6" y="341"/>
                </a:lnTo>
                <a:lnTo>
                  <a:pt x="0" y="335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040" y="370836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Voltag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92720" y="3889440"/>
            <a:ext cx="1207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etween def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2880" y="407052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ou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8280" y="4583160"/>
            <a:ext cx="74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pi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24280" y="478296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360" y="5181480"/>
            <a:ext cx="146520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560" y="5143680"/>
            <a:ext cx="1455840" cy="52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560" y="5143680"/>
            <a:ext cx="1446120" cy="514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360" y="5772240"/>
            <a:ext cx="146520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560" y="5743440"/>
            <a:ext cx="1455840" cy="51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560" y="5743440"/>
            <a:ext cx="1446120" cy="503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33640" y="5191200"/>
            <a:ext cx="7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1480" y="5391000"/>
            <a:ext cx="88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quick-st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4560" y="5780160"/>
            <a:ext cx="7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9200" y="5979960"/>
            <a:ext cx="82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low-st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1800" y="4583160"/>
            <a:ext cx="14554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73640" y="4545000"/>
            <a:ext cx="1455840" cy="52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73640" y="4545000"/>
            <a:ext cx="1446120" cy="5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23840" y="4573440"/>
            <a:ext cx="101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rovided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9840" y="4773600"/>
            <a:ext cx="95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78240" y="4241880"/>
            <a:ext cx="95400" cy="541080"/>
          </a:xfrm>
          <a:custGeom>
            <a:avLst/>
            <a:gdLst/>
            <a:ahLst/>
            <a:rect l="l" t="t" r="r" b="b"/>
            <a:pathLst>
              <a:path w="60" h="341">
                <a:moveTo>
                  <a:pt x="12" y="0"/>
                </a:moveTo>
                <a:lnTo>
                  <a:pt x="12" y="329"/>
                </a:lnTo>
                <a:lnTo>
                  <a:pt x="60" y="329"/>
                </a:lnTo>
                <a:lnTo>
                  <a:pt x="60" y="341"/>
                </a:lnTo>
                <a:lnTo>
                  <a:pt x="6" y="341"/>
                </a:lnTo>
                <a:lnTo>
                  <a:pt x="0" y="335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27400" y="2587680"/>
            <a:ext cx="1541160" cy="86508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7400" y="2587680"/>
            <a:ext cx="153180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5960" y="2690640"/>
            <a:ext cx="68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7760" y="2890800"/>
            <a:ext cx="67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64920" y="2652840"/>
            <a:ext cx="132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0640" y="2843280"/>
            <a:ext cx="18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07280" y="3043080"/>
            <a:ext cx="65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9720" y="369900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Provision fr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8920" y="3879720"/>
            <a:ext cx="1418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reserve power fr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400" y="406080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65760" y="2416320"/>
            <a:ext cx="190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05440" y="2587680"/>
            <a:ext cx="1550880" cy="86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05440" y="2587680"/>
            <a:ext cx="154152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7040" y="2719440"/>
            <a:ext cx="62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Black-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840" y="291924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33760" y="3119400"/>
            <a:ext cx="91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0080" y="1139760"/>
            <a:ext cx="52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Desafío en Creación de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200" y="829080"/>
            <a:ext cx="7918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Servicios Complementarios y Transmisió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Introducción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6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77" name="" descr=""/>
            <p:cNvPicPr/>
            <p:nvPr/>
          </p:nvPicPr>
          <p:blipFill>
            <a:blip r:embed="rId1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8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9" name="" descr=""/>
          <p:cNvPicPr/>
          <p:nvPr/>
        </p:nvPicPr>
        <p:blipFill>
          <a:blip r:embed="rId2"/>
          <a:stretch/>
        </p:blipFill>
        <p:spPr>
          <a:xfrm>
            <a:off x="4992840" y="782640"/>
            <a:ext cx="3438360" cy="5581800"/>
          </a:xfrm>
          <a:prstGeom prst="rect">
            <a:avLst/>
          </a:prstGeom>
          <a:ln w="0">
            <a:noFill/>
          </a:ln>
        </p:spPr>
      </p:pic>
      <p:pic>
        <p:nvPicPr>
          <p:cNvPr id="1980" name="" descr=""/>
          <p:cNvPicPr/>
          <p:nvPr/>
        </p:nvPicPr>
        <p:blipFill>
          <a:blip r:embed="rId3"/>
          <a:stretch/>
        </p:blipFill>
        <p:spPr>
          <a:xfrm>
            <a:off x="1330200" y="773280"/>
            <a:ext cx="3471840" cy="5592600"/>
          </a:xfrm>
          <a:prstGeom prst="rect">
            <a:avLst/>
          </a:prstGeom>
          <a:ln w="0">
            <a:noFill/>
          </a:ln>
        </p:spPr>
      </p:pic>
      <p:sp>
        <p:nvSpPr>
          <p:cNvPr id="1981" name=""/>
          <p:cNvSpPr/>
          <p:nvPr/>
        </p:nvSpPr>
        <p:spPr>
          <a:xfrm>
            <a:off x="7426440" y="76572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632040" y="78948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L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30280" y="306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ago de Consumos en Zona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>
            <a:off x="303120" y="2146320"/>
            <a:ext cx="903780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5760" indent="-185760" algn="just">
              <a:lnSpc>
                <a:spcPct val="130000"/>
              </a:lnSpc>
              <a:buClr>
                <a:srgbClr val="000099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Existe un conjunto de al menos 10 metodologías (generadores), 8 metodologías (consumos) que pueden </a:t>
            </a:r>
            <a:r>
              <a:rPr b="1" lang="es-ES_tradnl" sz="2000" spc="-1" strike="noStrike">
                <a:solidFill>
                  <a:srgbClr val="00ae00"/>
                </a:solidFill>
                <a:latin typeface="Comic Sans MS"/>
              </a:rPr>
              <a:t>sistematizarse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para sistemas reales (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&gt;1000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nodos) en un compu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Existen metodologías con un alto grado de complejidad en su aplicación (ej: GGDF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buClr>
                <a:srgbClr val="000099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Todas estas metodologías pueden ser defendidas desde un punto de vista conceptual dada ambigüedad esencial del fenómeno </a:t>
            </a:r>
            <a:r>
              <a:rPr b="1" lang="es-ES_tradnl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Pos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Comic Sans MS"/>
              </a:rPr>
              <a:t>gi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=E(B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Comic Sans MS"/>
              </a:rPr>
              <a:t>mi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Ningún método estudiado se ajusta 100% a los requerimientos de un sistema de tarificaci</a:t>
            </a: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ó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492120" y="3020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nálisis de Estudio de Cas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39840" y="855720"/>
            <a:ext cx="7331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Tópicos no tra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Comic Sans MS"/>
              </a:rPr>
              <a:t>Tratamiento de Agentes Exte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Comic Sans MS"/>
              </a:rPr>
              <a:t>Fallas participan en los prorrat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544680" y="32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Desafí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425520" y="2189160"/>
            <a:ext cx="9037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Orden lógico de posible propuesta: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Arquitectura de Mercad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Concepto de Acces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Componentes de Cost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componentes de Tarifa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Principio de Us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469800" y="923760"/>
            <a:ext cx="903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Necesidad de buscar aceptación del sector en Diseño o Arquitectura de Mercado que se desea para un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98600" y="3732120"/>
            <a:ext cx="940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Un mismo principio de uso puede dar señales muy distintas, de lo que se desprende la necesidad de establecer criterios superiores para evaluar bon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447840" y="5241960"/>
            <a:ext cx="845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¿Qué otros factores influyen en el cálculo de </a:t>
            </a:r>
            <a:r>
              <a:rPr b="1" lang="de-DE" sz="2000" spc="-1" strike="noStrike">
                <a:solidFill>
                  <a:srgbClr val="a50021"/>
                </a:solidFill>
                <a:latin typeface="Symbol"/>
                <a:ea typeface="Symbol"/>
              </a:rPr>
              <a:t>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58680" y="849240"/>
            <a:ext cx="86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Análisis detallado en Capít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2019240"/>
            <a:ext cx="845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Precios L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Combinación Precios Libres/Regu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2 Mercados Mayoristas/Minosristas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2600" y="1390680"/>
            <a:ext cx="845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Modelos Básicos de Compet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5360" y="3419640"/>
            <a:ext cx="84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4120" y="3921120"/>
            <a:ext cx="845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Precio Unico de Mercado vs. Precios Localizados /Z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Precios Discrimin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Sistemas O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86440" y="1676160"/>
            <a:ext cx="63788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. Módulo A1: Concep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1.3 Modelos de Formación de Precios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1.3.1 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1.3.2 Mercados Mayoristas/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1.3.3 </a:t>
            </a:r>
            <a:r>
              <a:rPr b="0" lang="es-ES" sz="2000" spc="-1" strike="noStrike">
                <a:solidFill>
                  <a:srgbClr val="fc0128"/>
                </a:solidFill>
                <a:latin typeface="Comic Sans MS"/>
              </a:rPr>
              <a:t>Tarificación de Sistemas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4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spectos de Disc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112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tenido Secció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8200" y="3532320"/>
            <a:ext cx="7631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- Definición de costos con derecho a recupe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Inversión y O&amp;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- Concepto de Anualidades y Valores Nuevos de  Reem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.- Aplicación de Metodología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30360" y="1287360"/>
          <a:ext cx="39384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87360"/>
                    <a:ext cx="39384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219640" y="2046240"/>
            <a:ext cx="681120" cy="449280"/>
          </a:xfrm>
          <a:prstGeom prst="rightArrow">
            <a:avLst>
              <a:gd name="adj1" fmla="val 49824"/>
              <a:gd name="adj2" fmla="val 5513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660840" y="2387160"/>
            <a:ext cx="1596960" cy="73836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39960" y="2342880"/>
            <a:ext cx="3386160" cy="75564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890800" y="2271240"/>
            <a:ext cx="2335320" cy="34308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59120" y="1984320"/>
            <a:ext cx="3249360" cy="26820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28880" y="2019240"/>
            <a:ext cx="1497240" cy="17928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8760" y="1668600"/>
            <a:ext cx="34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Estudio a Pri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de 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Reque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(Separación por tipo de merc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768800">
            <a:off x="8062560" y="3258720"/>
            <a:ext cx="878040" cy="933480"/>
          </a:xfrm>
          <a:custGeom>
            <a:avLst/>
            <a:gdLst>
              <a:gd name="textAreaLeft" fmla="*/ 0 w 878040"/>
              <a:gd name="textAreaRight" fmla="*/ 878400 w 8780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451" stAng="10800000" swAng="5400000"/>
                <a:lnTo>
                  <a:pt x="14675" y="3709"/>
                </a:lnTo>
                <a:lnTo>
                  <a:pt x="14675" y="0"/>
                </a:lnTo>
                <a:lnTo>
                  <a:pt x="21600" y="6079"/>
                </a:lnTo>
                <a:lnTo>
                  <a:pt x="14675" y="12158"/>
                </a:lnTo>
                <a:lnTo>
                  <a:pt x="14675" y="8449"/>
                </a:lnTo>
                <a:lnTo>
                  <a:pt x="12427" y="8449"/>
                </a:lnTo>
                <a:arcTo wR="7687" hR="3711" stAng="16200000" swAng="-5400000"/>
                <a:lnTo>
                  <a:pt x="4740" y="21600"/>
                </a:lnTo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16440" y="2262240"/>
            <a:ext cx="1263600" cy="5400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" y="5040"/>
            <a:ext cx="838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)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        Principio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58720" y="327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Teoría Marginalista en 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42840" y="75096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Comic Sans MS"/>
              </a:rPr>
              <a:t>Ingreso Tarif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94040" y="5629320"/>
            <a:ext cx="1779480" cy="53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84320" y="5619600"/>
            <a:ext cx="1789200" cy="541440"/>
          </a:xfrm>
          <a:custGeom>
            <a:avLst/>
            <a:gdLst/>
            <a:ahLst/>
            <a:rect l="l" t="t" r="r" b="b"/>
            <a:pathLst>
              <a:path w="1127" h="341">
                <a:moveTo>
                  <a:pt x="6" y="330"/>
                </a:moveTo>
                <a:lnTo>
                  <a:pt x="1116" y="330"/>
                </a:lnTo>
                <a:lnTo>
                  <a:pt x="1116" y="11"/>
                </a:lnTo>
                <a:lnTo>
                  <a:pt x="6" y="11"/>
                </a:lnTo>
                <a:lnTo>
                  <a:pt x="6" y="0"/>
                </a:lnTo>
                <a:lnTo>
                  <a:pt x="1122" y="0"/>
                </a:lnTo>
                <a:lnTo>
                  <a:pt x="1127" y="6"/>
                </a:lnTo>
                <a:lnTo>
                  <a:pt x="1127" y="335"/>
                </a:lnTo>
                <a:lnTo>
                  <a:pt x="1122" y="341"/>
                </a:lnTo>
                <a:lnTo>
                  <a:pt x="6" y="341"/>
                </a:lnTo>
                <a:lnTo>
                  <a:pt x="0" y="335"/>
                </a:lnTo>
                <a:lnTo>
                  <a:pt x="6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4320" y="5619600"/>
            <a:ext cx="17640" cy="532080"/>
          </a:xfrm>
          <a:custGeom>
            <a:avLst/>
            <a:gdLst/>
            <a:ahLst/>
            <a:rect l="l" t="t" r="r" b="b"/>
            <a:pathLst>
              <a:path w="11" h="335">
                <a:moveTo>
                  <a:pt x="11" y="6"/>
                </a:moveTo>
                <a:lnTo>
                  <a:pt x="11" y="335"/>
                </a:lnTo>
                <a:lnTo>
                  <a:pt x="0" y="335"/>
                </a:lnTo>
                <a:lnTo>
                  <a:pt x="0" y="6"/>
                </a:lnTo>
                <a:lnTo>
                  <a:pt x="6" y="0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480" y="5629320"/>
            <a:ext cx="1780920" cy="53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200" y="5619600"/>
            <a:ext cx="1789200" cy="541440"/>
          </a:xfrm>
          <a:custGeom>
            <a:avLst/>
            <a:gdLst/>
            <a:ahLst/>
            <a:rect l="l" t="t" r="r" b="b"/>
            <a:pathLst>
              <a:path w="1127" h="341">
                <a:moveTo>
                  <a:pt x="5" y="330"/>
                </a:moveTo>
                <a:lnTo>
                  <a:pt x="1116" y="330"/>
                </a:lnTo>
                <a:lnTo>
                  <a:pt x="1116" y="11"/>
                </a:lnTo>
                <a:lnTo>
                  <a:pt x="5" y="11"/>
                </a:lnTo>
                <a:lnTo>
                  <a:pt x="5" y="0"/>
                </a:lnTo>
                <a:lnTo>
                  <a:pt x="1121" y="0"/>
                </a:lnTo>
                <a:lnTo>
                  <a:pt x="1127" y="6"/>
                </a:lnTo>
                <a:lnTo>
                  <a:pt x="1127" y="335"/>
                </a:lnTo>
                <a:lnTo>
                  <a:pt x="1121" y="341"/>
                </a:lnTo>
                <a:lnTo>
                  <a:pt x="5" y="341"/>
                </a:lnTo>
                <a:lnTo>
                  <a:pt x="0" y="335"/>
                </a:lnTo>
                <a:lnTo>
                  <a:pt x="5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200" y="5619600"/>
            <a:ext cx="17640" cy="532080"/>
          </a:xfrm>
          <a:custGeom>
            <a:avLst/>
            <a:gdLst/>
            <a:ahLst/>
            <a:rect l="l" t="t" r="r" b="b"/>
            <a:pathLst>
              <a:path w="11" h="335">
                <a:moveTo>
                  <a:pt x="11" y="6"/>
                </a:moveTo>
                <a:lnTo>
                  <a:pt x="11" y="335"/>
                </a:lnTo>
                <a:lnTo>
                  <a:pt x="0" y="335"/>
                </a:lnTo>
                <a:lnTo>
                  <a:pt x="0" y="6"/>
                </a:lnTo>
                <a:lnTo>
                  <a:pt x="5" y="0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02160" y="1494000"/>
            <a:ext cx="3735360" cy="187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84880" y="1476360"/>
            <a:ext cx="3735360" cy="1874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75160" y="1468440"/>
            <a:ext cx="3745080" cy="1882800"/>
          </a:xfrm>
          <a:custGeom>
            <a:avLst/>
            <a:gdLst/>
            <a:ahLst/>
            <a:rect l="l" t="t" r="r" b="b"/>
            <a:pathLst>
              <a:path w="2359" h="1186">
                <a:moveTo>
                  <a:pt x="6" y="1175"/>
                </a:moveTo>
                <a:lnTo>
                  <a:pt x="2348" y="1175"/>
                </a:lnTo>
                <a:lnTo>
                  <a:pt x="2348" y="11"/>
                </a:lnTo>
                <a:lnTo>
                  <a:pt x="6" y="11"/>
                </a:lnTo>
                <a:lnTo>
                  <a:pt x="6" y="0"/>
                </a:lnTo>
                <a:lnTo>
                  <a:pt x="2353" y="0"/>
                </a:lnTo>
                <a:lnTo>
                  <a:pt x="2359" y="5"/>
                </a:lnTo>
                <a:lnTo>
                  <a:pt x="2359" y="1180"/>
                </a:lnTo>
                <a:lnTo>
                  <a:pt x="2353" y="1186"/>
                </a:lnTo>
                <a:lnTo>
                  <a:pt x="6" y="1186"/>
                </a:lnTo>
                <a:lnTo>
                  <a:pt x="0" y="1180"/>
                </a:lnTo>
                <a:lnTo>
                  <a:pt x="6" y="1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75160" y="1468440"/>
            <a:ext cx="17640" cy="1873080"/>
          </a:xfrm>
          <a:custGeom>
            <a:avLst/>
            <a:gdLst/>
            <a:ahLst/>
            <a:rect l="l" t="t" r="r" b="b"/>
            <a:pathLst>
              <a:path w="11" h="1180">
                <a:moveTo>
                  <a:pt x="11" y="5"/>
                </a:moveTo>
                <a:lnTo>
                  <a:pt x="11" y="1180"/>
                </a:lnTo>
                <a:lnTo>
                  <a:pt x="0" y="1180"/>
                </a:lnTo>
                <a:lnTo>
                  <a:pt x="0" y="5"/>
                </a:lnTo>
                <a:lnTo>
                  <a:pt x="6" y="0"/>
                </a:lnTo>
                <a:lnTo>
                  <a:pt x="1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32120" y="1623960"/>
            <a:ext cx="267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arginal Income (MI), Ingreso Tarif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60480" y="1241280"/>
            <a:ext cx="25236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49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9" y="5"/>
                </a:lnTo>
                <a:lnTo>
                  <a:pt x="55" y="5"/>
                </a:lnTo>
                <a:lnTo>
                  <a:pt x="82" y="0"/>
                </a:lnTo>
                <a:lnTo>
                  <a:pt x="82" y="0"/>
                </a:lnTo>
                <a:lnTo>
                  <a:pt x="110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49"/>
                </a:lnTo>
                <a:lnTo>
                  <a:pt x="159" y="77"/>
                </a:lnTo>
                <a:lnTo>
                  <a:pt x="159" y="77"/>
                </a:lnTo>
                <a:lnTo>
                  <a:pt x="154" y="104"/>
                </a:lnTo>
                <a:lnTo>
                  <a:pt x="154" y="110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10" y="154"/>
                </a:lnTo>
                <a:lnTo>
                  <a:pt x="82" y="159"/>
                </a:lnTo>
                <a:lnTo>
                  <a:pt x="82" y="159"/>
                </a:lnTo>
                <a:lnTo>
                  <a:pt x="55" y="154"/>
                </a:lnTo>
                <a:lnTo>
                  <a:pt x="49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0"/>
                </a:lnTo>
                <a:lnTo>
                  <a:pt x="5" y="104"/>
                </a:lnTo>
                <a:lnTo>
                  <a:pt x="0" y="77"/>
                </a:lnTo>
                <a:lnTo>
                  <a:pt x="16" y="77"/>
                </a:lnTo>
                <a:lnTo>
                  <a:pt x="22" y="99"/>
                </a:lnTo>
                <a:lnTo>
                  <a:pt x="38" y="121"/>
                </a:lnTo>
                <a:lnTo>
                  <a:pt x="66" y="137"/>
                </a:lnTo>
                <a:lnTo>
                  <a:pt x="82" y="143"/>
                </a:lnTo>
                <a:lnTo>
                  <a:pt x="110" y="137"/>
                </a:lnTo>
                <a:lnTo>
                  <a:pt x="115" y="132"/>
                </a:lnTo>
                <a:lnTo>
                  <a:pt x="137" y="93"/>
                </a:lnTo>
                <a:lnTo>
                  <a:pt x="143" y="77"/>
                </a:lnTo>
                <a:lnTo>
                  <a:pt x="137" y="49"/>
                </a:lnTo>
                <a:lnTo>
                  <a:pt x="126" y="33"/>
                </a:lnTo>
                <a:lnTo>
                  <a:pt x="110" y="22"/>
                </a:lnTo>
                <a:lnTo>
                  <a:pt x="82" y="16"/>
                </a:lnTo>
                <a:lnTo>
                  <a:pt x="66" y="22"/>
                </a:lnTo>
                <a:lnTo>
                  <a:pt x="27" y="44"/>
                </a:lnTo>
                <a:lnTo>
                  <a:pt x="16" y="55"/>
                </a:lnTo>
                <a:lnTo>
                  <a:pt x="5" y="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60480" y="1319040"/>
            <a:ext cx="3492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30320" y="1328760"/>
            <a:ext cx="11268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8" y="22"/>
                </a:lnTo>
                <a:lnTo>
                  <a:pt x="44" y="33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3160" y="1476360"/>
            <a:ext cx="270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38240" y="1616040"/>
            <a:ext cx="10476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1781280"/>
            <a:ext cx="4986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3640" y="3098880"/>
            <a:ext cx="49860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40160" y="3098880"/>
            <a:ext cx="89028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4880" y="1241280"/>
            <a:ext cx="254160" cy="252720"/>
          </a:xfrm>
          <a:custGeom>
            <a:avLst/>
            <a:gdLst/>
            <a:ahLst/>
            <a:rect l="l" t="t" r="r" b="b"/>
            <a:pathLst>
              <a:path w="160" h="159">
                <a:moveTo>
                  <a:pt x="6" y="49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50" y="5"/>
                </a:lnTo>
                <a:lnTo>
                  <a:pt x="83" y="0"/>
                </a:lnTo>
                <a:lnTo>
                  <a:pt x="83" y="0"/>
                </a:lnTo>
                <a:lnTo>
                  <a:pt x="110" y="5"/>
                </a:lnTo>
                <a:lnTo>
                  <a:pt x="116" y="5"/>
                </a:lnTo>
                <a:lnTo>
                  <a:pt x="138" y="22"/>
                </a:lnTo>
                <a:lnTo>
                  <a:pt x="138" y="22"/>
                </a:lnTo>
                <a:lnTo>
                  <a:pt x="154" y="44"/>
                </a:lnTo>
                <a:lnTo>
                  <a:pt x="154" y="49"/>
                </a:lnTo>
                <a:lnTo>
                  <a:pt x="160" y="77"/>
                </a:lnTo>
                <a:lnTo>
                  <a:pt x="160" y="77"/>
                </a:lnTo>
                <a:lnTo>
                  <a:pt x="154" y="104"/>
                </a:lnTo>
                <a:lnTo>
                  <a:pt x="154" y="110"/>
                </a:lnTo>
                <a:lnTo>
                  <a:pt x="138" y="137"/>
                </a:lnTo>
                <a:lnTo>
                  <a:pt x="138" y="137"/>
                </a:lnTo>
                <a:lnTo>
                  <a:pt x="116" y="154"/>
                </a:lnTo>
                <a:lnTo>
                  <a:pt x="110" y="154"/>
                </a:lnTo>
                <a:lnTo>
                  <a:pt x="83" y="159"/>
                </a:lnTo>
                <a:lnTo>
                  <a:pt x="83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0"/>
                </a:lnTo>
                <a:lnTo>
                  <a:pt x="6" y="104"/>
                </a:lnTo>
                <a:lnTo>
                  <a:pt x="0" y="77"/>
                </a:lnTo>
                <a:lnTo>
                  <a:pt x="17" y="77"/>
                </a:lnTo>
                <a:lnTo>
                  <a:pt x="22" y="99"/>
                </a:lnTo>
                <a:lnTo>
                  <a:pt x="44" y="132"/>
                </a:lnTo>
                <a:lnTo>
                  <a:pt x="50" y="137"/>
                </a:lnTo>
                <a:lnTo>
                  <a:pt x="83" y="143"/>
                </a:lnTo>
                <a:lnTo>
                  <a:pt x="110" y="137"/>
                </a:lnTo>
                <a:lnTo>
                  <a:pt x="116" y="132"/>
                </a:lnTo>
                <a:lnTo>
                  <a:pt x="138" y="93"/>
                </a:lnTo>
                <a:lnTo>
                  <a:pt x="143" y="77"/>
                </a:lnTo>
                <a:lnTo>
                  <a:pt x="138" y="49"/>
                </a:lnTo>
                <a:lnTo>
                  <a:pt x="127" y="33"/>
                </a:lnTo>
                <a:lnTo>
                  <a:pt x="110" y="22"/>
                </a:lnTo>
                <a:lnTo>
                  <a:pt x="83" y="16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4880" y="1319040"/>
            <a:ext cx="3492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4720" y="1328760"/>
            <a:ext cx="11448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640" y="1476360"/>
            <a:ext cx="270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4720" y="1616040"/>
            <a:ext cx="10476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3160" y="1781280"/>
            <a:ext cx="82044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89480" y="2557440"/>
            <a:ext cx="253800" cy="252360"/>
          </a:xfrm>
          <a:custGeom>
            <a:avLst/>
            <a:gdLst/>
            <a:ahLst/>
            <a:rect l="l" t="t" r="r" b="b"/>
            <a:pathLst>
              <a:path w="160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83" y="0"/>
                </a:lnTo>
                <a:lnTo>
                  <a:pt x="83" y="0"/>
                </a:lnTo>
                <a:lnTo>
                  <a:pt x="110" y="6"/>
                </a:lnTo>
                <a:lnTo>
                  <a:pt x="116" y="6"/>
                </a:lnTo>
                <a:lnTo>
                  <a:pt x="138" y="22"/>
                </a:lnTo>
                <a:lnTo>
                  <a:pt x="138" y="22"/>
                </a:lnTo>
                <a:lnTo>
                  <a:pt x="154" y="44"/>
                </a:lnTo>
                <a:lnTo>
                  <a:pt x="154" y="50"/>
                </a:lnTo>
                <a:lnTo>
                  <a:pt x="160" y="77"/>
                </a:lnTo>
                <a:lnTo>
                  <a:pt x="160" y="77"/>
                </a:lnTo>
                <a:lnTo>
                  <a:pt x="154" y="104"/>
                </a:lnTo>
                <a:lnTo>
                  <a:pt x="154" y="110"/>
                </a:lnTo>
                <a:lnTo>
                  <a:pt x="138" y="137"/>
                </a:lnTo>
                <a:lnTo>
                  <a:pt x="138" y="137"/>
                </a:lnTo>
                <a:lnTo>
                  <a:pt x="116" y="154"/>
                </a:lnTo>
                <a:lnTo>
                  <a:pt x="110" y="154"/>
                </a:lnTo>
                <a:lnTo>
                  <a:pt x="83" y="159"/>
                </a:lnTo>
                <a:lnTo>
                  <a:pt x="83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0"/>
                </a:lnTo>
                <a:lnTo>
                  <a:pt x="6" y="104"/>
                </a:lnTo>
                <a:lnTo>
                  <a:pt x="0" y="77"/>
                </a:lnTo>
                <a:lnTo>
                  <a:pt x="17" y="77"/>
                </a:lnTo>
                <a:lnTo>
                  <a:pt x="22" y="99"/>
                </a:lnTo>
                <a:lnTo>
                  <a:pt x="44" y="132"/>
                </a:lnTo>
                <a:lnTo>
                  <a:pt x="50" y="137"/>
                </a:lnTo>
                <a:lnTo>
                  <a:pt x="83" y="143"/>
                </a:lnTo>
                <a:lnTo>
                  <a:pt x="110" y="137"/>
                </a:lnTo>
                <a:lnTo>
                  <a:pt x="116" y="132"/>
                </a:lnTo>
                <a:lnTo>
                  <a:pt x="138" y="93"/>
                </a:lnTo>
                <a:lnTo>
                  <a:pt x="143" y="77"/>
                </a:lnTo>
                <a:lnTo>
                  <a:pt x="138" y="50"/>
                </a:lnTo>
                <a:lnTo>
                  <a:pt x="127" y="33"/>
                </a:lnTo>
                <a:lnTo>
                  <a:pt x="110" y="22"/>
                </a:lnTo>
                <a:lnTo>
                  <a:pt x="83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89480" y="263700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59320" y="2644920"/>
            <a:ext cx="11412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28" y="6"/>
                </a:lnTo>
                <a:lnTo>
                  <a:pt x="33" y="17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03600" y="2792520"/>
            <a:ext cx="2556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68680" y="2932200"/>
            <a:ext cx="104760" cy="15696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59160" y="3098880"/>
            <a:ext cx="49716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79640" y="1851120"/>
            <a:ext cx="17640" cy="124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7600" y="1851120"/>
            <a:ext cx="1657440" cy="209520"/>
          </a:xfrm>
          <a:custGeom>
            <a:avLst/>
            <a:gdLst/>
            <a:ahLst/>
            <a:rect l="l" t="t" r="r" b="b"/>
            <a:pathLst>
              <a:path w="1044" h="132">
                <a:moveTo>
                  <a:pt x="11" y="0"/>
                </a:moveTo>
                <a:lnTo>
                  <a:pt x="11" y="121"/>
                </a:lnTo>
                <a:lnTo>
                  <a:pt x="1033" y="121"/>
                </a:lnTo>
                <a:lnTo>
                  <a:pt x="1033" y="0"/>
                </a:lnTo>
                <a:lnTo>
                  <a:pt x="1044" y="0"/>
                </a:lnTo>
                <a:lnTo>
                  <a:pt x="1044" y="127"/>
                </a:lnTo>
                <a:lnTo>
                  <a:pt x="1039" y="132"/>
                </a:lnTo>
                <a:lnTo>
                  <a:pt x="5" y="132"/>
                </a:lnTo>
                <a:lnTo>
                  <a:pt x="0" y="127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5040" y="1790640"/>
            <a:ext cx="69048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41720" y="1851120"/>
            <a:ext cx="1135080" cy="209520"/>
          </a:xfrm>
          <a:custGeom>
            <a:avLst/>
            <a:gdLst/>
            <a:ahLst/>
            <a:rect l="l" t="t" r="r" b="b"/>
            <a:pathLst>
              <a:path w="715" h="132">
                <a:moveTo>
                  <a:pt x="11" y="0"/>
                </a:moveTo>
                <a:lnTo>
                  <a:pt x="11" y="121"/>
                </a:lnTo>
                <a:lnTo>
                  <a:pt x="704" y="121"/>
                </a:lnTo>
                <a:lnTo>
                  <a:pt x="704" y="0"/>
                </a:lnTo>
                <a:lnTo>
                  <a:pt x="715" y="0"/>
                </a:lnTo>
                <a:lnTo>
                  <a:pt x="715" y="127"/>
                </a:lnTo>
                <a:lnTo>
                  <a:pt x="709" y="132"/>
                </a:lnTo>
                <a:lnTo>
                  <a:pt x="6" y="132"/>
                </a:lnTo>
                <a:lnTo>
                  <a:pt x="0" y="127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41720" y="3159000"/>
            <a:ext cx="1396800" cy="209520"/>
          </a:xfrm>
          <a:custGeom>
            <a:avLst/>
            <a:gdLst/>
            <a:ahLst/>
            <a:rect l="l" t="t" r="r" b="b"/>
            <a:pathLst>
              <a:path w="880" h="132">
                <a:moveTo>
                  <a:pt x="11" y="0"/>
                </a:moveTo>
                <a:lnTo>
                  <a:pt x="11" y="121"/>
                </a:lnTo>
                <a:lnTo>
                  <a:pt x="869" y="121"/>
                </a:lnTo>
                <a:lnTo>
                  <a:pt x="869" y="0"/>
                </a:lnTo>
                <a:lnTo>
                  <a:pt x="880" y="0"/>
                </a:lnTo>
                <a:lnTo>
                  <a:pt x="880" y="126"/>
                </a:lnTo>
                <a:lnTo>
                  <a:pt x="874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41720" y="1851120"/>
            <a:ext cx="1527120" cy="1247760"/>
          </a:xfrm>
          <a:custGeom>
            <a:avLst/>
            <a:gdLst/>
            <a:ahLst/>
            <a:rect l="l" t="t" r="r" b="b"/>
            <a:pathLst>
              <a:path w="962" h="786">
                <a:moveTo>
                  <a:pt x="0" y="786"/>
                </a:moveTo>
                <a:lnTo>
                  <a:pt x="0" y="659"/>
                </a:lnTo>
                <a:lnTo>
                  <a:pt x="6" y="654"/>
                </a:lnTo>
                <a:lnTo>
                  <a:pt x="951" y="127"/>
                </a:lnTo>
                <a:lnTo>
                  <a:pt x="951" y="0"/>
                </a:lnTo>
                <a:lnTo>
                  <a:pt x="962" y="0"/>
                </a:lnTo>
                <a:lnTo>
                  <a:pt x="962" y="127"/>
                </a:lnTo>
                <a:lnTo>
                  <a:pt x="957" y="132"/>
                </a:lnTo>
                <a:lnTo>
                  <a:pt x="11" y="659"/>
                </a:lnTo>
                <a:lnTo>
                  <a:pt x="11" y="786"/>
                </a:lnTo>
                <a:lnTo>
                  <a:pt x="0" y="7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7600" y="3159000"/>
            <a:ext cx="1657440" cy="209520"/>
          </a:xfrm>
          <a:custGeom>
            <a:avLst/>
            <a:gdLst/>
            <a:ahLst/>
            <a:rect l="l" t="t" r="r" b="b"/>
            <a:pathLst>
              <a:path w="1044" h="132">
                <a:moveTo>
                  <a:pt x="11" y="0"/>
                </a:moveTo>
                <a:lnTo>
                  <a:pt x="11" y="121"/>
                </a:lnTo>
                <a:lnTo>
                  <a:pt x="1033" y="121"/>
                </a:lnTo>
                <a:lnTo>
                  <a:pt x="1033" y="0"/>
                </a:lnTo>
                <a:lnTo>
                  <a:pt x="1044" y="0"/>
                </a:lnTo>
                <a:lnTo>
                  <a:pt x="1044" y="126"/>
                </a:lnTo>
                <a:lnTo>
                  <a:pt x="1039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8160" y="1503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50520" y="1495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9560" y="1495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8160" y="281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50520" y="281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61600" y="281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44240" y="12412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9160" y="13287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77720" y="12412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03000" y="13287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320" y="2479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0240" y="2575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54960" y="20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3480" y="21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3240" y="2052720"/>
            <a:ext cx="23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66240" y="20527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32840" y="205272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Arial"/>
              </a:rPr>
              <a:t>S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960" y="2157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64200" y="2052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04960" y="2052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29160" y="21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85400" y="205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12120" y="2052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75840" y="205272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Arial"/>
              </a:rPr>
              <a:t>S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24400" y="2157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05400" y="20527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*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72160" y="21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526600" y="20527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5400" y="2444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5120" y="25401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50080" y="2444760"/>
            <a:ext cx="13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09000" y="2452680"/>
            <a:ext cx="147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 FP en línea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40360" y="24447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79600" y="244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19200" y="25401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68280" y="264492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2280" y="2739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01440" y="2652840"/>
            <a:ext cx="148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 Spotprice en no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731000" y="26528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30280" y="2644920"/>
            <a:ext cx="17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75120" y="2846520"/>
            <a:ext cx="22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87160" y="29415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7000" y="284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78480" y="2854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41480" y="2854440"/>
            <a:ext cx="178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. Tarifario en línea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02600" y="2854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1480" y="284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81440" y="29415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3160" y="2347920"/>
            <a:ext cx="504720" cy="297000"/>
          </a:xfrm>
          <a:custGeom>
            <a:avLst/>
            <a:gdLst/>
            <a:ahLst/>
            <a:rect l="l" t="t" r="r" b="b"/>
            <a:pathLst>
              <a:path w="318" h="187">
                <a:moveTo>
                  <a:pt x="0" y="176"/>
                </a:moveTo>
                <a:lnTo>
                  <a:pt x="318" y="0"/>
                </a:lnTo>
                <a:lnTo>
                  <a:pt x="318" y="11"/>
                </a:lnTo>
                <a:lnTo>
                  <a:pt x="0" y="187"/>
                </a:lnTo>
                <a:lnTo>
                  <a:pt x="0" y="17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65680" y="2313000"/>
            <a:ext cx="139680" cy="104760"/>
          </a:xfrm>
          <a:custGeom>
            <a:avLst/>
            <a:gdLst/>
            <a:ahLst/>
            <a:rect l="l" t="t" r="r" b="b"/>
            <a:pathLst>
              <a:path w="88" h="66">
                <a:moveTo>
                  <a:pt x="88" y="0"/>
                </a:moveTo>
                <a:lnTo>
                  <a:pt x="22" y="66"/>
                </a:lnTo>
                <a:lnTo>
                  <a:pt x="28" y="33"/>
                </a:lnTo>
                <a:lnTo>
                  <a:pt x="0" y="17"/>
                </a:lnTo>
                <a:lnTo>
                  <a:pt x="8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36120" y="27939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60320" y="2898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ff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14040" y="2130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38240" y="2244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34920" y="331632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52160" y="34560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35040" y="148608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54080" y="1625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73360" y="397980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c"/>
                </a:solidFill>
                <a:latin typeface="Comic Sans MS"/>
              </a:rPr>
              <a:t>Cálculo de Precios 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0720" y="4417920"/>
            <a:ext cx="242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- Problema de Optimización no lin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4760" y="4592520"/>
            <a:ext cx="196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- Problema de gran dim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87480" y="4997520"/>
            <a:ext cx="79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potprice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88840" y="4997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56880" y="4997520"/>
            <a:ext cx="158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Lagrange-Multiplic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5720" y="5707080"/>
            <a:ext cx="135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ptimal Pow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01000" y="5881680"/>
            <a:ext cx="40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35560" y="5707080"/>
            <a:ext cx="64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78400" y="588168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30640" y="3906720"/>
            <a:ext cx="3326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Só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entre 10% y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de anualidad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518680" y="4057560"/>
            <a:ext cx="495000" cy="2006640"/>
          </a:xfrm>
          <a:prstGeom prst="rect">
            <a:avLst/>
          </a:prstGeom>
          <a:solidFill>
            <a:srgbClr val="ff99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542440" y="5591160"/>
            <a:ext cx="447480" cy="465120"/>
          </a:xfrm>
          <a:prstGeom prst="rect">
            <a:avLst/>
          </a:prstGeom>
          <a:solidFill>
            <a:srgbClr val="99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3640" y="565632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c"/>
                </a:solidFill>
                <a:latin typeface="Comic Sans MS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05040" y="36910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c"/>
                </a:solidFill>
                <a:latin typeface="Comic Sans MS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75040" y="5637240"/>
            <a:ext cx="1779480" cy="53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5680" y="5627520"/>
            <a:ext cx="1788840" cy="541440"/>
          </a:xfrm>
          <a:custGeom>
            <a:avLst/>
            <a:gdLst/>
            <a:ahLst/>
            <a:rect l="l" t="t" r="r" b="b"/>
            <a:pathLst>
              <a:path w="1127" h="341">
                <a:moveTo>
                  <a:pt x="6" y="330"/>
                </a:moveTo>
                <a:lnTo>
                  <a:pt x="1116" y="330"/>
                </a:lnTo>
                <a:lnTo>
                  <a:pt x="1116" y="11"/>
                </a:lnTo>
                <a:lnTo>
                  <a:pt x="6" y="11"/>
                </a:lnTo>
                <a:lnTo>
                  <a:pt x="6" y="0"/>
                </a:lnTo>
                <a:lnTo>
                  <a:pt x="1122" y="0"/>
                </a:lnTo>
                <a:lnTo>
                  <a:pt x="1127" y="6"/>
                </a:lnTo>
                <a:lnTo>
                  <a:pt x="1127" y="335"/>
                </a:lnTo>
                <a:lnTo>
                  <a:pt x="1122" y="341"/>
                </a:lnTo>
                <a:lnTo>
                  <a:pt x="6" y="341"/>
                </a:lnTo>
                <a:lnTo>
                  <a:pt x="0" y="335"/>
                </a:lnTo>
                <a:lnTo>
                  <a:pt x="6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65680" y="5627520"/>
            <a:ext cx="17280" cy="532080"/>
          </a:xfrm>
          <a:custGeom>
            <a:avLst/>
            <a:gdLst/>
            <a:ahLst/>
            <a:rect l="l" t="t" r="r" b="b"/>
            <a:pathLst>
              <a:path w="11" h="335">
                <a:moveTo>
                  <a:pt x="11" y="6"/>
                </a:moveTo>
                <a:lnTo>
                  <a:pt x="11" y="335"/>
                </a:lnTo>
                <a:lnTo>
                  <a:pt x="0" y="335"/>
                </a:lnTo>
                <a:lnTo>
                  <a:pt x="0" y="6"/>
                </a:lnTo>
                <a:lnTo>
                  <a:pt x="6" y="0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77080" y="5715000"/>
            <a:ext cx="113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odelo Uni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28680" y="5889600"/>
            <a:ext cx="160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Factores de Pen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149480" y="5276880"/>
            <a:ext cx="1162080" cy="262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00240" y="5284800"/>
            <a:ext cx="0" cy="223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35280" y="5281560"/>
            <a:ext cx="1176480" cy="274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961920" y="907920"/>
            <a:ext cx="7905960" cy="5220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82760" y="311760"/>
            <a:ext cx="91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rincipios Utilizados en un Modelo de Tarificación de la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708520"/>
            <a:ext cx="2819160" cy="31752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19191"/>
            </a:solidFill>
            <a:miter/>
          </a:ln>
          <a:effectLst>
            <a:outerShdw dist="53966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5645880"/>
            <a:ext cx="2836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Formación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989000" y="4778280"/>
            <a:ext cx="6801120" cy="934560"/>
            <a:chOff x="1989000" y="4778280"/>
            <a:chExt cx="6801120" cy="934560"/>
          </a:xfrm>
        </p:grpSpPr>
        <p:sp>
          <p:nvSpPr>
            <p:cNvPr id="314" name="">
              <a:hlinkClick r:id="rId2" action="ppaction://hlinksldjump"/>
            </p:cNvPr>
            <p:cNvSpPr/>
            <p:nvPr/>
          </p:nvSpPr>
          <p:spPr>
            <a:xfrm>
              <a:off x="4102200" y="4778280"/>
              <a:ext cx="1879560" cy="533160"/>
            </a:xfrm>
            <a:custGeom>
              <a:avLst/>
              <a:gdLst>
                <a:gd name="textAreaLeft" fmla="*/ 34560 w 1879560"/>
                <a:gd name="textAreaRight" fmla="*/ 1845000 w 187956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76110" h="21600">
                  <a:moveTo>
                    <a:pt x="0" y="0"/>
                  </a:moveTo>
                  <a:lnTo>
                    <a:pt x="76110" y="0"/>
                  </a:lnTo>
                  <a:lnTo>
                    <a:pt x="76110" y="21600"/>
                  </a:lnTo>
                  <a:lnTo>
                    <a:pt x="0" y="21600"/>
                  </a:lnTo>
                  <a:close/>
                </a:path>
                <a:path fill="lightenLess" w="76110" h="21600">
                  <a:moveTo>
                    <a:pt x="0" y="0"/>
                  </a:moveTo>
                  <a:lnTo>
                    <a:pt x="76110" y="0"/>
                  </a:lnTo>
                  <a:lnTo>
                    <a:pt x="74710" y="1400"/>
                  </a:lnTo>
                  <a:lnTo>
                    <a:pt x="1400" y="1400"/>
                  </a:lnTo>
                  <a:close/>
                </a:path>
                <a:path fill="darken" w="76110" h="21600">
                  <a:moveTo>
                    <a:pt x="76110" y="0"/>
                  </a:moveTo>
                  <a:lnTo>
                    <a:pt x="76110" y="21600"/>
                  </a:lnTo>
                  <a:lnTo>
                    <a:pt x="74710" y="20200"/>
                  </a:lnTo>
                  <a:lnTo>
                    <a:pt x="74710" y="1400"/>
                  </a:lnTo>
                  <a:close/>
                </a:path>
                <a:path fill="darkenLess" w="76110" h="21600">
                  <a:moveTo>
                    <a:pt x="7611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4710" y="20200"/>
                  </a:lnTo>
                  <a:close/>
                </a:path>
                <a:path fill="lighten" w="7611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02200" y="4819320"/>
              <a:ext cx="186192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17920" y="4802760"/>
              <a:ext cx="1317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Activid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de 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26160" y="5356080"/>
              <a:ext cx="203040" cy="342720"/>
            </a:xfrm>
            <a:prstGeom prst="upArrow">
              <a:avLst>
                <a:gd name="adj1" fmla="val 40000"/>
                <a:gd name="adj2" fmla="val 7356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40186" dir="430364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501200">
              <a:off x="5969160" y="5342760"/>
              <a:ext cx="203040" cy="343080"/>
            </a:xfrm>
            <a:prstGeom prst="upArrow">
              <a:avLst>
                <a:gd name="adj1" fmla="val 40000"/>
                <a:gd name="adj2" fmla="val 73643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20098800">
              <a:off x="3669120" y="5330160"/>
              <a:ext cx="203400" cy="343080"/>
            </a:xfrm>
            <a:prstGeom prst="upArrow">
              <a:avLst>
                <a:gd name="adj1" fmla="val 40000"/>
                <a:gd name="adj2" fmla="val 73513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9000" y="4868640"/>
              <a:ext cx="19083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Mercado Mayor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52960" y="4873320"/>
              <a:ext cx="28371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Complement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501200">
              <a:off x="6264360" y="5338080"/>
              <a:ext cx="203040" cy="343080"/>
            </a:xfrm>
            <a:prstGeom prst="upArrow">
              <a:avLst>
                <a:gd name="adj1" fmla="val 40000"/>
                <a:gd name="adj2" fmla="val 73643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rot="20098800">
              <a:off x="3408120" y="5325480"/>
              <a:ext cx="203040" cy="342720"/>
            </a:xfrm>
            <a:prstGeom prst="upArrow">
              <a:avLst>
                <a:gd name="adj1" fmla="val 40000"/>
                <a:gd name="adj2" fmla="val 7356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86080" y="4935960"/>
              <a:ext cx="887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.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81600" y="4962960"/>
              <a:ext cx="887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.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31520" y="974880"/>
            <a:ext cx="8040960" cy="2854800"/>
            <a:chOff x="731520" y="974880"/>
            <a:chExt cx="8040960" cy="2854800"/>
          </a:xfrm>
        </p:grpSpPr>
        <p:sp>
          <p:nvSpPr>
            <p:cNvPr id="327" name=""/>
            <p:cNvSpPr/>
            <p:nvPr/>
          </p:nvSpPr>
          <p:spPr>
            <a:xfrm>
              <a:off x="2359080" y="1670040"/>
              <a:ext cx="15382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53400" y="1719360"/>
              <a:ext cx="1384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Transm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Tron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633400">
              <a:off x="3308040" y="217620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7841000">
              <a:off x="2728800" y="2701800"/>
              <a:ext cx="184320" cy="933480"/>
            </a:xfrm>
            <a:prstGeom prst="upArrow">
              <a:avLst>
                <a:gd name="adj1" fmla="val 37046"/>
                <a:gd name="adj2" fmla="val 104454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745200">
              <a:off x="3828960" y="2128680"/>
              <a:ext cx="214560" cy="1208160"/>
            </a:xfrm>
            <a:prstGeom prst="upArrow">
              <a:avLst>
                <a:gd name="adj1" fmla="val 31000"/>
                <a:gd name="adj2" fmla="val 8344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93600">
              <a:off x="5256360" y="151308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500800">
              <a:off x="4614840" y="1779480"/>
              <a:ext cx="184320" cy="933480"/>
            </a:xfrm>
            <a:prstGeom prst="upArrow">
              <a:avLst>
                <a:gd name="adj1" fmla="val 37046"/>
                <a:gd name="adj2" fmla="val 104454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03680" y="974880"/>
              <a:ext cx="15382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55800" y="1038240"/>
              <a:ext cx="16102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Infraestruc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Mín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745200">
              <a:off x="6554880" y="216180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3265200">
              <a:off x="7297560" y="240336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34200" y="2041560"/>
              <a:ext cx="15382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73440" y="2201760"/>
              <a:ext cx="1441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Estampill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9104000">
              <a:off x="1604880" y="2952720"/>
              <a:ext cx="184320" cy="933480"/>
            </a:xfrm>
            <a:prstGeom prst="upArrow">
              <a:avLst>
                <a:gd name="adj1" fmla="val 37046"/>
                <a:gd name="adj2" fmla="val 104454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745200">
              <a:off x="2119320" y="3171960"/>
              <a:ext cx="316080" cy="620640"/>
            </a:xfrm>
            <a:prstGeom prst="upArrow">
              <a:avLst>
                <a:gd name="adj1" fmla="val 31000"/>
                <a:gd name="adj2" fmla="val 29099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3040" y="2524320"/>
              <a:ext cx="10890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1520" y="2573280"/>
              <a:ext cx="11149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Pu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Inye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527120" y="2762280"/>
            <a:ext cx="5651640" cy="2390400"/>
            <a:chOff x="1527120" y="2762280"/>
            <a:chExt cx="5651640" cy="2390400"/>
          </a:xfrm>
        </p:grpSpPr>
        <p:sp>
          <p:nvSpPr>
            <p:cNvPr id="345" name=""/>
            <p:cNvSpPr/>
            <p:nvPr/>
          </p:nvSpPr>
          <p:spPr>
            <a:xfrm>
              <a:off x="3187800" y="3407040"/>
              <a:ext cx="143352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1880" y="3418560"/>
              <a:ext cx="1681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Componentes de Co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0377800">
              <a:off x="3973680" y="3883320"/>
              <a:ext cx="183960" cy="933120"/>
            </a:xfrm>
            <a:prstGeom prst="upArrow">
              <a:avLst>
                <a:gd name="adj1" fmla="val 37046"/>
                <a:gd name="adj2" fmla="val 104618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06960" y="2762280"/>
              <a:ext cx="175716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0160" y="2763000"/>
              <a:ext cx="15796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Componentes de Tarif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72400">
              <a:off x="5030640" y="3270240"/>
              <a:ext cx="206640" cy="1533600"/>
            </a:xfrm>
            <a:prstGeom prst="upArrow">
              <a:avLst>
                <a:gd name="adj1" fmla="val 35963"/>
                <a:gd name="adj2" fmla="val 81878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38680" y="3381480"/>
              <a:ext cx="15400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26240" y="3377520"/>
              <a:ext cx="12171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Principi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de U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744800">
              <a:off x="6024240" y="3844800"/>
              <a:ext cx="185760" cy="1015920"/>
            </a:xfrm>
            <a:prstGeom prst="upArrow">
              <a:avLst>
                <a:gd name="adj1" fmla="val 37046"/>
                <a:gd name="adj2" fmla="val 112798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7120" y="3808440"/>
              <a:ext cx="15400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26200" y="3804480"/>
              <a:ext cx="1194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Concep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de Ac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8182400">
              <a:off x="3298680" y="4129200"/>
              <a:ext cx="214560" cy="1208160"/>
            </a:xfrm>
            <a:prstGeom prst="upArrow">
              <a:avLst>
                <a:gd name="adj1" fmla="val 31000"/>
                <a:gd name="adj2" fmla="val 8344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4140360" y="4258800"/>
            <a:ext cx="228600" cy="643320"/>
            <a:chOff x="4140360" y="4258800"/>
            <a:chExt cx="228600" cy="643320"/>
          </a:xfrm>
        </p:grpSpPr>
        <p:grpSp>
          <p:nvGrpSpPr>
            <p:cNvPr id="360" name=""/>
            <p:cNvGrpSpPr/>
            <p:nvPr/>
          </p:nvGrpSpPr>
          <p:grpSpPr>
            <a:xfrm>
              <a:off x="4140360" y="4416120"/>
              <a:ext cx="228600" cy="333360"/>
              <a:chOff x="4140360" y="4416120"/>
              <a:chExt cx="228600" cy="333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140360" y="44161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140360" y="4520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 flipV="1">
              <a:off x="4254480" y="4258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254480" y="4749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092240" y="4258800"/>
            <a:ext cx="228600" cy="643320"/>
            <a:chOff x="1092240" y="4258800"/>
            <a:chExt cx="228600" cy="643320"/>
          </a:xfrm>
        </p:grpSpPr>
        <p:grpSp>
          <p:nvGrpSpPr>
            <p:cNvPr id="366" name=""/>
            <p:cNvGrpSpPr/>
            <p:nvPr/>
          </p:nvGrpSpPr>
          <p:grpSpPr>
            <a:xfrm>
              <a:off x="1092240" y="4416120"/>
              <a:ext cx="228600" cy="333360"/>
              <a:chOff x="1092240" y="4416120"/>
              <a:chExt cx="228600" cy="333360"/>
            </a:xfrm>
          </p:grpSpPr>
          <p:sp>
            <p:nvSpPr>
              <p:cNvPr id="367" name=""/>
              <p:cNvSpPr/>
              <p:nvPr/>
            </p:nvSpPr>
            <p:spPr>
              <a:xfrm>
                <a:off x="1092240" y="44161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092240" y="4520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flipV="1">
              <a:off x="1206360" y="4258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06360" y="4749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140360" y="2506320"/>
            <a:ext cx="228600" cy="643320"/>
            <a:chOff x="4140360" y="2506320"/>
            <a:chExt cx="228600" cy="643320"/>
          </a:xfrm>
        </p:grpSpPr>
        <p:grpSp>
          <p:nvGrpSpPr>
            <p:cNvPr id="372" name=""/>
            <p:cNvGrpSpPr/>
            <p:nvPr/>
          </p:nvGrpSpPr>
          <p:grpSpPr>
            <a:xfrm>
              <a:off x="4140360" y="2663640"/>
              <a:ext cx="228600" cy="333360"/>
              <a:chOff x="4140360" y="2663640"/>
              <a:chExt cx="228600" cy="333360"/>
            </a:xfrm>
          </p:grpSpPr>
          <p:sp>
            <p:nvSpPr>
              <p:cNvPr id="373" name=""/>
              <p:cNvSpPr/>
              <p:nvPr/>
            </p:nvSpPr>
            <p:spPr>
              <a:xfrm>
                <a:off x="4140360" y="26636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140360" y="276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 flipV="1">
              <a:off x="4254480" y="2506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254480" y="29970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92240" y="2506320"/>
            <a:ext cx="228600" cy="643320"/>
            <a:chOff x="1092240" y="2506320"/>
            <a:chExt cx="228600" cy="643320"/>
          </a:xfrm>
        </p:grpSpPr>
        <p:grpSp>
          <p:nvGrpSpPr>
            <p:cNvPr id="378" name=""/>
            <p:cNvGrpSpPr/>
            <p:nvPr/>
          </p:nvGrpSpPr>
          <p:grpSpPr>
            <a:xfrm>
              <a:off x="1092240" y="2663640"/>
              <a:ext cx="228600" cy="333360"/>
              <a:chOff x="1092240" y="2663640"/>
              <a:chExt cx="228600" cy="333360"/>
            </a:xfrm>
          </p:grpSpPr>
          <p:sp>
            <p:nvSpPr>
              <p:cNvPr id="379" name=""/>
              <p:cNvSpPr/>
              <p:nvPr/>
            </p:nvSpPr>
            <p:spPr>
              <a:xfrm>
                <a:off x="1092240" y="26636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092240" y="276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flipV="1">
              <a:off x="1206360" y="2506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206360" y="29970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787320" y="311616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7320" y="490212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44520" y="36496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25760" y="36496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35440" y="311616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35440" y="490212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92640" y="3268800"/>
            <a:ext cx="685800" cy="610200"/>
            <a:chOff x="4292640" y="3268800"/>
            <a:chExt cx="685800" cy="610200"/>
          </a:xfrm>
        </p:grpSpPr>
        <p:sp>
          <p:nvSpPr>
            <p:cNvPr id="390" name=""/>
            <p:cNvSpPr/>
            <p:nvPr/>
          </p:nvSpPr>
          <p:spPr>
            <a:xfrm>
              <a:off x="4292640" y="386532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05240" y="3268800"/>
              <a:ext cx="279360" cy="279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59320" y="357336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0160" y="357336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4334040" y="3331800"/>
              <a:ext cx="228960" cy="151560"/>
              <a:chOff x="4334040" y="3331800"/>
              <a:chExt cx="228960" cy="15156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4334040" y="3332520"/>
                <a:ext cx="115200" cy="150840"/>
                <a:chOff x="4334040" y="3332520"/>
                <a:chExt cx="115200" cy="150840"/>
              </a:xfrm>
            </p:grpSpPr>
            <p:sp>
              <p:nvSpPr>
                <p:cNvPr id="396" name=""/>
                <p:cNvSpPr/>
                <p:nvPr/>
              </p:nvSpPr>
              <p:spPr>
                <a:xfrm rot="10800000">
                  <a:off x="4334040" y="3332520"/>
                  <a:ext cx="11340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10800000">
                  <a:off x="4335120" y="3332520"/>
                  <a:ext cx="11412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4447800" y="3331800"/>
                <a:ext cx="115200" cy="151560"/>
                <a:chOff x="4447800" y="3331800"/>
                <a:chExt cx="115200" cy="1515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4449600" y="3331800"/>
                  <a:ext cx="11340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47800" y="3331800"/>
                  <a:ext cx="11412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1" name=""/>
          <p:cNvSpPr/>
          <p:nvPr/>
        </p:nvSpPr>
        <p:spPr>
          <a:xfrm>
            <a:off x="787320" y="1397160"/>
            <a:ext cx="2743200" cy="110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35440" y="1397160"/>
            <a:ext cx="2743200" cy="110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25760" y="2201760"/>
            <a:ext cx="0" cy="13716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793520" y="2158920"/>
            <a:ext cx="1050840" cy="14097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16520" y="17017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7400" y="17017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764240" y="1802880"/>
            <a:ext cx="396720" cy="17701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15200" y="72396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unto Ret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5080" y="6922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unto Iny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640" y="35679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5160" y="5244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2600" y="1530720"/>
            <a:ext cx="599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446120" y="1512720"/>
            <a:ext cx="685800" cy="597600"/>
            <a:chOff x="1446120" y="1512720"/>
            <a:chExt cx="685800" cy="597600"/>
          </a:xfrm>
        </p:grpSpPr>
        <p:sp>
          <p:nvSpPr>
            <p:cNvPr id="414" name=""/>
            <p:cNvSpPr/>
            <p:nvPr/>
          </p:nvSpPr>
          <p:spPr>
            <a:xfrm>
              <a:off x="1446120" y="210960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58720" y="151272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3440" y="1804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1487880" y="1576080"/>
              <a:ext cx="115200" cy="151560"/>
              <a:chOff x="1487880" y="1576080"/>
              <a:chExt cx="115200" cy="151560"/>
            </a:xfrm>
          </p:grpSpPr>
          <p:sp>
            <p:nvSpPr>
              <p:cNvPr id="418" name=""/>
              <p:cNvSpPr/>
              <p:nvPr/>
            </p:nvSpPr>
            <p:spPr>
              <a:xfrm rot="10800000">
                <a:off x="1487880" y="157608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0800000">
                <a:off x="1488960" y="157608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1601640" y="1576440"/>
              <a:ext cx="115200" cy="151560"/>
              <a:chOff x="1601640" y="1576440"/>
              <a:chExt cx="115200" cy="151560"/>
            </a:xfrm>
          </p:grpSpPr>
          <p:sp>
            <p:nvSpPr>
              <p:cNvPr id="421" name=""/>
              <p:cNvSpPr/>
              <p:nvPr/>
            </p:nvSpPr>
            <p:spPr>
              <a:xfrm>
                <a:off x="1603440" y="157644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01640" y="157644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74000" y="180468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679840" y="1498680"/>
            <a:ext cx="685800" cy="597600"/>
            <a:chOff x="2679840" y="1498680"/>
            <a:chExt cx="685800" cy="597600"/>
          </a:xfrm>
        </p:grpSpPr>
        <p:sp>
          <p:nvSpPr>
            <p:cNvPr id="425" name=""/>
            <p:cNvSpPr/>
            <p:nvPr/>
          </p:nvSpPr>
          <p:spPr>
            <a:xfrm>
              <a:off x="2679840" y="209556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92440" y="149868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37160" y="17906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2721600" y="1562040"/>
              <a:ext cx="115200" cy="151560"/>
              <a:chOff x="2721600" y="1562040"/>
              <a:chExt cx="115200" cy="151560"/>
            </a:xfrm>
          </p:grpSpPr>
          <p:sp>
            <p:nvSpPr>
              <p:cNvPr id="429" name=""/>
              <p:cNvSpPr/>
              <p:nvPr/>
            </p:nvSpPr>
            <p:spPr>
              <a:xfrm rot="10800000">
                <a:off x="2721600" y="156204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0800000">
                <a:off x="2722680" y="156204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835360" y="1562400"/>
              <a:ext cx="115200" cy="151560"/>
              <a:chOff x="2835360" y="1562400"/>
              <a:chExt cx="115200" cy="151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837160" y="156240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35360" y="156240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2907720" y="179064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587680" y="3246480"/>
            <a:ext cx="685800" cy="597600"/>
            <a:chOff x="2587680" y="3246480"/>
            <a:chExt cx="685800" cy="597600"/>
          </a:xfrm>
        </p:grpSpPr>
        <p:sp>
          <p:nvSpPr>
            <p:cNvPr id="436" name=""/>
            <p:cNvSpPr/>
            <p:nvPr/>
          </p:nvSpPr>
          <p:spPr>
            <a:xfrm>
              <a:off x="2587680" y="384336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00280" y="324648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45000" y="35384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629440" y="3309840"/>
              <a:ext cx="115200" cy="151560"/>
              <a:chOff x="2629440" y="3309840"/>
              <a:chExt cx="115200" cy="151560"/>
            </a:xfrm>
          </p:grpSpPr>
          <p:sp>
            <p:nvSpPr>
              <p:cNvPr id="440" name=""/>
              <p:cNvSpPr/>
              <p:nvPr/>
            </p:nvSpPr>
            <p:spPr>
              <a:xfrm rot="10800000">
                <a:off x="2629440" y="330984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0800000">
                <a:off x="2630520" y="330984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743200" y="3310200"/>
              <a:ext cx="115200" cy="151560"/>
              <a:chOff x="2743200" y="3310200"/>
              <a:chExt cx="115200" cy="151560"/>
            </a:xfrm>
          </p:grpSpPr>
          <p:sp>
            <p:nvSpPr>
              <p:cNvPr id="443" name=""/>
              <p:cNvSpPr/>
              <p:nvPr/>
            </p:nvSpPr>
            <p:spPr>
              <a:xfrm>
                <a:off x="2745000" y="331020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743200" y="331020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15560" y="353844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 flipH="1" flipV="1">
            <a:off x="1907640" y="3633480"/>
            <a:ext cx="793800" cy="1191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73480" y="53308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54360" y="5330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18240" y="35146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99120" y="35146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916520" y="3589200"/>
            <a:ext cx="584280" cy="79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567320" y="3905280"/>
            <a:ext cx="231840" cy="131904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2760" y="286200"/>
            <a:ext cx="91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cepto de Acceso de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349360" y="5067360"/>
            <a:ext cx="685800" cy="596880"/>
            <a:chOff x="2349360" y="5067360"/>
            <a:chExt cx="685800" cy="596880"/>
          </a:xfrm>
        </p:grpSpPr>
        <p:sp>
          <p:nvSpPr>
            <p:cNvPr id="455" name=""/>
            <p:cNvSpPr/>
            <p:nvPr/>
          </p:nvSpPr>
          <p:spPr>
            <a:xfrm>
              <a:off x="2349360" y="566424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61960" y="506736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01640" y="535968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391120" y="5130360"/>
            <a:ext cx="228960" cy="152280"/>
            <a:chOff x="2391120" y="5130360"/>
            <a:chExt cx="228960" cy="152280"/>
          </a:xfrm>
        </p:grpSpPr>
        <p:grpSp>
          <p:nvGrpSpPr>
            <p:cNvPr id="459" name=""/>
            <p:cNvGrpSpPr/>
            <p:nvPr/>
          </p:nvGrpSpPr>
          <p:grpSpPr>
            <a:xfrm>
              <a:off x="2391120" y="5130720"/>
              <a:ext cx="115200" cy="151560"/>
              <a:chOff x="2391120" y="5130720"/>
              <a:chExt cx="115200" cy="151560"/>
            </a:xfrm>
          </p:grpSpPr>
          <p:sp>
            <p:nvSpPr>
              <p:cNvPr id="460" name=""/>
              <p:cNvSpPr/>
              <p:nvPr/>
            </p:nvSpPr>
            <p:spPr>
              <a:xfrm rot="10800000">
                <a:off x="2391120" y="513072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0800000">
                <a:off x="2392200" y="513072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504880" y="5130360"/>
              <a:ext cx="115200" cy="152280"/>
              <a:chOff x="2504880" y="5130360"/>
              <a:chExt cx="115200" cy="152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506680" y="5130360"/>
                <a:ext cx="1134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504880" y="513036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2577600" y="5359320"/>
            <a:ext cx="45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1794960" y="3746520"/>
            <a:ext cx="582840" cy="17208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75520" y="2506320"/>
            <a:ext cx="228600" cy="643320"/>
            <a:chOff x="7175520" y="2506320"/>
            <a:chExt cx="228600" cy="643320"/>
          </a:xfrm>
        </p:grpSpPr>
        <p:grpSp>
          <p:nvGrpSpPr>
            <p:cNvPr id="468" name=""/>
            <p:cNvGrpSpPr/>
            <p:nvPr/>
          </p:nvGrpSpPr>
          <p:grpSpPr>
            <a:xfrm>
              <a:off x="7175520" y="2663640"/>
              <a:ext cx="228600" cy="333360"/>
              <a:chOff x="7175520" y="2663640"/>
              <a:chExt cx="228600" cy="333360"/>
            </a:xfrm>
          </p:grpSpPr>
          <p:sp>
            <p:nvSpPr>
              <p:cNvPr id="469" name=""/>
              <p:cNvSpPr/>
              <p:nvPr/>
            </p:nvSpPr>
            <p:spPr>
              <a:xfrm>
                <a:off x="7175520" y="26636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175520" y="276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V="1">
              <a:off x="7289640" y="2506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89640" y="29970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175520" y="4258800"/>
            <a:ext cx="228600" cy="643320"/>
            <a:chOff x="7175520" y="4258800"/>
            <a:chExt cx="228600" cy="643320"/>
          </a:xfrm>
        </p:grpSpPr>
        <p:grpSp>
          <p:nvGrpSpPr>
            <p:cNvPr id="474" name=""/>
            <p:cNvGrpSpPr/>
            <p:nvPr/>
          </p:nvGrpSpPr>
          <p:grpSpPr>
            <a:xfrm>
              <a:off x="7175520" y="4416120"/>
              <a:ext cx="228600" cy="333360"/>
              <a:chOff x="7175520" y="4416120"/>
              <a:chExt cx="228600" cy="333360"/>
            </a:xfrm>
          </p:grpSpPr>
          <p:sp>
            <p:nvSpPr>
              <p:cNvPr id="475" name=""/>
              <p:cNvSpPr/>
              <p:nvPr/>
            </p:nvSpPr>
            <p:spPr>
              <a:xfrm>
                <a:off x="7175520" y="44161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75520" y="4520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7289640" y="4258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289640" y="4749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6870600" y="311616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70600" y="490212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775720" y="37195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56600" y="3719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775720" y="5505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156600" y="5505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705800" y="3785760"/>
            <a:ext cx="1077840" cy="172404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99200" y="3268800"/>
            <a:ext cx="685800" cy="596880"/>
            <a:chOff x="7099200" y="3268800"/>
            <a:chExt cx="685800" cy="596880"/>
          </a:xfrm>
        </p:grpSpPr>
        <p:sp>
          <p:nvSpPr>
            <p:cNvPr id="487" name=""/>
            <p:cNvSpPr/>
            <p:nvPr/>
          </p:nvSpPr>
          <p:spPr>
            <a:xfrm>
              <a:off x="7099200" y="386568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1800" y="326880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51480" y="35611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327080" y="3573360"/>
            <a:ext cx="42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7099200" y="5067360"/>
            <a:ext cx="685800" cy="596880"/>
            <a:chOff x="7099200" y="5067360"/>
            <a:chExt cx="685800" cy="596880"/>
          </a:xfrm>
        </p:grpSpPr>
        <p:sp>
          <p:nvSpPr>
            <p:cNvPr id="492" name=""/>
            <p:cNvSpPr/>
            <p:nvPr/>
          </p:nvSpPr>
          <p:spPr>
            <a:xfrm>
              <a:off x="7099200" y="566424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11800" y="506736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51480" y="535968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834320" y="3865680"/>
            <a:ext cx="998640" cy="15573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140960" y="5130360"/>
            <a:ext cx="228960" cy="152280"/>
            <a:chOff x="7140960" y="5130360"/>
            <a:chExt cx="228960" cy="152280"/>
          </a:xfrm>
        </p:grpSpPr>
        <p:grpSp>
          <p:nvGrpSpPr>
            <p:cNvPr id="497" name=""/>
            <p:cNvGrpSpPr/>
            <p:nvPr/>
          </p:nvGrpSpPr>
          <p:grpSpPr>
            <a:xfrm>
              <a:off x="7140960" y="5130720"/>
              <a:ext cx="115200" cy="151560"/>
              <a:chOff x="7140960" y="5130720"/>
              <a:chExt cx="115200" cy="151560"/>
            </a:xfrm>
          </p:grpSpPr>
          <p:sp>
            <p:nvSpPr>
              <p:cNvPr id="498" name=""/>
              <p:cNvSpPr/>
              <p:nvPr/>
            </p:nvSpPr>
            <p:spPr>
              <a:xfrm rot="10800000">
                <a:off x="7140960" y="513072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0800000">
                <a:off x="7142040" y="513072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7254720" y="5130360"/>
              <a:ext cx="115200" cy="152280"/>
              <a:chOff x="7254720" y="5130360"/>
              <a:chExt cx="115200" cy="152280"/>
            </a:xfrm>
          </p:grpSpPr>
          <p:sp>
            <p:nvSpPr>
              <p:cNvPr id="501" name=""/>
              <p:cNvSpPr/>
              <p:nvPr/>
            </p:nvSpPr>
            <p:spPr>
              <a:xfrm>
                <a:off x="7256520" y="5130360"/>
                <a:ext cx="1134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54720" y="513036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7140960" y="3331800"/>
            <a:ext cx="228960" cy="152280"/>
            <a:chOff x="7140960" y="3331800"/>
            <a:chExt cx="228960" cy="152280"/>
          </a:xfrm>
        </p:grpSpPr>
        <p:grpSp>
          <p:nvGrpSpPr>
            <p:cNvPr id="504" name=""/>
            <p:cNvGrpSpPr/>
            <p:nvPr/>
          </p:nvGrpSpPr>
          <p:grpSpPr>
            <a:xfrm>
              <a:off x="7140960" y="3332160"/>
              <a:ext cx="115200" cy="151560"/>
              <a:chOff x="7140960" y="3332160"/>
              <a:chExt cx="115200" cy="151560"/>
            </a:xfrm>
          </p:grpSpPr>
          <p:sp>
            <p:nvSpPr>
              <p:cNvPr id="505" name=""/>
              <p:cNvSpPr/>
              <p:nvPr/>
            </p:nvSpPr>
            <p:spPr>
              <a:xfrm rot="10800000">
                <a:off x="7140960" y="333216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0800000">
                <a:off x="7142040" y="333216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7254720" y="3331800"/>
              <a:ext cx="115200" cy="152280"/>
              <a:chOff x="7254720" y="3331800"/>
              <a:chExt cx="115200" cy="152280"/>
            </a:xfrm>
          </p:grpSpPr>
          <p:sp>
            <p:nvSpPr>
              <p:cNvPr id="508" name=""/>
              <p:cNvSpPr/>
              <p:nvPr/>
            </p:nvSpPr>
            <p:spPr>
              <a:xfrm>
                <a:off x="7256520" y="3331800"/>
                <a:ext cx="1134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54720" y="333180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"/>
          <p:cNvSpPr/>
          <p:nvPr/>
        </p:nvSpPr>
        <p:spPr>
          <a:xfrm>
            <a:off x="7327440" y="5359320"/>
            <a:ext cx="45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70600" y="1397160"/>
            <a:ext cx="2743200" cy="110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30640" y="706320"/>
            <a:ext cx="2709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unto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Inyección/Ret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117360" y="6008760"/>
            <a:ext cx="79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Situación: </a:t>
            </a:r>
            <a:r>
              <a:rPr b="1" lang="de-DE" sz="2400" spc="-1" strike="noStrike">
                <a:solidFill>
                  <a:srgbClr val="fc0128"/>
                </a:solidFill>
                <a:latin typeface="Comic Sans MS"/>
              </a:rPr>
              <a:t>Punto Inyección / Punto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63360" y="774720"/>
            <a:ext cx="836640" cy="5382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30T15:09:26Z</dcterms:created>
  <dc:creator>LS elektr. Energieversorgung</dc:creator>
  <dc:description/>
  <cp:keywords/>
  <dc:language>en-US</dc:language>
  <cp:lastModifiedBy>Rodrigo Palma</cp:lastModifiedBy>
  <cp:lastPrinted>2001-08-07T19:36:21Z</cp:lastPrinted>
  <dcterms:modified xsi:type="dcterms:W3CDTF">2006-08-28T14:09:11Z</dcterms:modified>
  <cp:revision>715</cp:revision>
  <dc:subject/>
  <dc:title>Titel der Folie</dc:title>
</cp:coreProperties>
</file>