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BB86-3245-4DB0-9B4F-5EE18D49B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037D-3FE6-42E6-A6A1-91AD0FCD1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B8C7-D43D-4B64-8682-0AC929DE1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040B-5886-45C3-9F59-E97C79119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1646B-253C-48FF-BE8D-706BA181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3DABD-9615-4AC9-AA91-F0545765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459FC-F6FB-4DE7-AC58-296A0B7B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29397-94BC-40A1-BFB3-A3085CFB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13060-BDC0-4EF4-B756-BCDA95C0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F2855-EE48-4845-9CA9-41AB8607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91BAA-D40A-4714-AB9F-AFEABA13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9B45-E66D-41DC-95FA-B8551D032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55435-34BA-4D1E-B3B5-E8921BA7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073EF-BBAE-4C0A-A77E-8370023E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AA1CC-97A3-420C-98D3-5E232C3A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621A6-CCC5-4A18-89D9-A9EA01E4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9DC91-21F0-4393-8CF2-7772D162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3585-9BEB-451D-A652-9CAAD5E0A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1B02-C95F-49E3-A75F-2C856BED7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72B7-0F5E-4620-8896-68776351E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75A0-BED9-4B52-84E8-DE42990C5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231B-A9C6-4064-9762-A3F05AF06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D222-5967-4D16-BCAA-37D09EFBD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C7ED-9138-4455-86B7-5ECE4D3F2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803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6588-82DB-455A-AFC6-75E20866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C24C-0039-49B9-8EDD-B5C56E1E3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Documents and Settings\Alvaro Silva Madrid\Mis documentos\Presentaciones\test2.m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Presentación del Curso Taller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Desarrollo de Habilidades Directiv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 Narrow"/>
              </a:rPr>
              <a:t>Julio - 2006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ísticas esperadas  de los nuevos RRH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Rápida inserción en el sistema productiv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ntegración a los equipos de trabajos existentes o en desarroll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aptabilidad y disponibilidad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ostgrado o cursos de especializac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igencia tecnológic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ominio de conocimientos de su área y manejos de al menos un par de idioma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resencia o potencial de desarrollo de “Factores Blandos”: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mprendimiento, Relacionabilidad, Resilencia, Adaptación al Cambio, Creatividad, Liderazgo, Asertividad, etc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99B7-442D-4ADF-8F85-DFEC6B0397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Algunas preguntas para los futuros Profesionales (antes d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46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Tengo definidas con precisión mis aspiraciones laborale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grados de libertad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ventajas competitivas?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Se como mostrarlas, como mantenerlas y desarrollarla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las ventajas de mi competencia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onozco que beneficios puedo conseguir y como negociarlo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Podré mantener mi entusiasmo sin frustrarme por los “fracasos”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8172360" y="544500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3794" y="10949"/>
                </a:moveTo>
                <a:lnTo>
                  <a:pt x="4707" y="10949"/>
                </a:lnTo>
                <a:lnTo>
                  <a:pt x="5090" y="11315"/>
                </a:lnTo>
                <a:lnTo>
                  <a:pt x="14299" y="11315"/>
                </a:lnTo>
                <a:lnTo>
                  <a:pt x="14856" y="11872"/>
                </a:lnTo>
                <a:lnTo>
                  <a:pt x="14856" y="12420"/>
                </a:lnTo>
                <a:lnTo>
                  <a:pt x="16701" y="12420"/>
                </a:lnTo>
                <a:lnTo>
                  <a:pt x="17067" y="11872"/>
                </a:lnTo>
                <a:lnTo>
                  <a:pt x="17806" y="11872"/>
                </a:lnTo>
                <a:lnTo>
                  <a:pt x="17806" y="17024"/>
                </a:lnTo>
                <a:lnTo>
                  <a:pt x="17067" y="17024"/>
                </a:lnTo>
                <a:lnTo>
                  <a:pt x="16701" y="16476"/>
                </a:lnTo>
                <a:lnTo>
                  <a:pt x="14856" y="16476"/>
                </a:lnTo>
                <a:lnTo>
                  <a:pt x="14856" y="17755"/>
                </a:lnTo>
                <a:lnTo>
                  <a:pt x="5273" y="17755"/>
                </a:lnTo>
                <a:lnTo>
                  <a:pt x="5273" y="13525"/>
                </a:lnTo>
                <a:lnTo>
                  <a:pt x="5090" y="13525"/>
                </a:lnTo>
                <a:lnTo>
                  <a:pt x="4707" y="13891"/>
                </a:lnTo>
                <a:lnTo>
                  <a:pt x="3794" y="1389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40560" y="1413000"/>
            <a:ext cx="193356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5A8B-5B92-4B60-BFCC-8031D4D49C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apa y Territor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4720" y="27000"/>
            <a:ext cx="7559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240" y="101520"/>
            <a:ext cx="9180720" cy="666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646E-8B6D-4891-8C45-70B7B8CCEB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otivar en forma práctica, el desarrollo de habilidades y competencias personales básicas a quienes aspiran a continuar una carrera ejecutiva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A8BF-306B-40B2-A90B-9A0794C39F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Específic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prender los comportamientos básicos que se espera estén consolidados en un ejecutivo medio o superior, identificando los propios y conociendo herramientas para su desarroll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e identificar capacidades en las áreas Relacional, Emprendimiento, Enfrentamiento y Resolución de Problemas, aprendiendo elementos prácticos para el desarrollo de est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los aspectos básicos de la problemática del cambio y los elementos básicos de su gest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dentificar los elementos que identifican a los equipos de alto desempeño y las empresas abiertas al aprendizaj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Obtener elementos que posibiliten una inserción más fluida del nuevo profesional, en el ambiente empresari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A54F-1215-4343-A568-C12530CC95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Caracterización de las empresas y de su entorn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Habilidades esperadas en los ejecutiv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Áreas Cognitivas vs. Relacional, Emprendimiento, Manejo de Conflictos, Enfrentamiento de Contingenci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l Cambio, Creativ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 si mismo, Reluctanci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auto – evaluación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s Organizaciones y su Cultura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Organizacional. Elementos constitutivos y sus relacion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sarrollo, Aprendizaje y Cambio Organiz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diseño de Procesos, Sistemas, Person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ultura Organizacional, Percepciones, Creencias y Paradigm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Intervención Organizacional. Asesoría Experta vs. Coaching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 Comunicación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enguaje como sistema Representacional y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odelo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Proceso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unicación Efectiva y Escucha Empátic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Competencia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EAAD-BC78-46DE-952E-74062668FB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7040" y="1672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Presentaciones Efectivas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nsideraciones clave de una Presentación Eficaz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básica: Apertura, Cuerpo y Cierre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Presentaciones Creativ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anejo Escénic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cursos Audiovisu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iderazgo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iderazgo en el ambiente empresarial de hoy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ponentes esenciales del Conducto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ctitudes básicas del Lide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mocionalidad vs. Racional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Liderazgo de si mism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Equipos de Alto Desempeñ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Objetivos compartid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prendizaje individual y complementar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l Equipo de Alto Desempeño a la Organización de Alto Desempeñ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A287-2A5C-4C65-83BD-6544075DB1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vención Organizac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endiendo el comportamiento organizacio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 organización Visible y la Ocult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s Estructuras de Pod.er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trategia, Procesos, Estructur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Gestión del Cambi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lementos de Control de Gestión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Tipos de Contro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Balance Scorecard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7F5E-7056-4322-803F-19ACDB91FB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ministración del Tiemp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ideraciones Prácticas Relativas al Tiem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de Agend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ensos y Acuerdos de Optimiz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Herramienta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ementos de Negociació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Porqué el Negociar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étodos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Poder en la Mesa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y Resolución de Conficto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05B8-8D5B-4BA9-939D-02485408BB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dentificar requerimientos Empresarial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Auto evaluación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Herramientas prácticas para el desarrollo de competencia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neración de instancias de aprendizaje de factores “Soft”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stión del Cambio Pers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F85B-A3A2-4724-83B7-7698C4A0E5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23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71C8-134C-4078-9DD0-B3F0724703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864280" cy="6062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480" y="4621320"/>
            <a:ext cx="89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 Narrow"/>
              </a:rPr>
              <a:t>PREPARAR EL ATERRIZAJ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878E-5D6F-4C8C-9336-5F33B5CA3D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600" y="44280"/>
            <a:ext cx="8975880" cy="68407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8748720" y="659772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6856-47B5-4CEC-AD76-398E37B75E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58680"/>
            <a:ext cx="7561440" cy="67089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5E72-13F2-4775-83CA-193EBC33BD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52680" y="44280"/>
            <a:ext cx="6404040" cy="66693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67564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FC0C-425E-43BA-AF5B-2D4BF81A0B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Fusiones en Mercado Telecomunicaciones en Ch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3040" y="2543040"/>
            <a:ext cx="807696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61C5-13F8-4F0B-AD3F-222286D38A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695160"/>
            <a:ext cx="8076960" cy="512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B49F-4308-4CCC-98DA-0192EF055B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5800" y="189000"/>
            <a:ext cx="553392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903A-A7EF-4076-934B-8661B0AA1E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 DE LA PRESENTACIÓ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076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Desafíos que enfrentan las empresas y organizacion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ísticas esperadas de los nuevos RRHH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rogantes propias del futuro profes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Tema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onclusiones y pregunta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6F8D-C37F-4DCB-A69A-0B2B1BAF1F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0938800">
            <a:off x="610920" y="1763640"/>
            <a:ext cx="396216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792600">
            <a:off x="3708000" y="1699920"/>
            <a:ext cx="396252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3273480"/>
            <a:ext cx="4752720" cy="255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1108200">
            <a:off x="6011640" y="1989000"/>
            <a:ext cx="2328840" cy="436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195640" y="2133720"/>
            <a:ext cx="496872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6BC8-647B-4074-95F4-39D3FF210F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Radiografía Mercado Laboral Trimestre Marzo Mayo 200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 de desempleo llega a un 8,7 %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4 % (256.120 personas) en la incorporación a fuerza de trabajo, c/r igual periodo 2005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un 3,6 % en la creación de nuevos puestos de trabajo (209.650 puestos adicionales)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s Desocupación Regionales: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uricó 5,8 %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Talca 8,5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Linares 10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hillán 7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44038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7560" y="5003640"/>
            <a:ext cx="216000" cy="276480"/>
          </a:xfrm>
          <a:prstGeom prst="upArrow">
            <a:avLst>
              <a:gd name="adj1" fmla="val 50000"/>
              <a:gd name="adj2" fmla="val 32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92440" y="47206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20880" y="536184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15920"/>
            <a:ext cx="3940200" cy="655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9A79-0297-4672-A629-6AF9D91D2A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ercado Laboral Profesion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28 % de ofertas empleo último periodo corresponden a ingenieros civil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 de cargos: Gerencias, Subgerencias y Jefaturas de Área.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15 % corresponde a ingenieros comercial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: Ejecutivos de Negocio, Product o Business Manager, Analistas, Supervisores de Venta y Ejecutivos de Cuenta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mayor oferta (34%) para técnicos es para ejecutivos de venta.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ectores de mayor demanda de profesionales son Industrial (28%), Servicios (21%), Comercio y Distribución 13 % e Informática 9 %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26080" y="2425680"/>
          <a:ext cx="3962160" cy="23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6080" y="2425680"/>
                    <a:ext cx="39621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0AAB-21E1-4CE2-ACC5-25A8D2E3A7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Desafíos que enfrentan hoy las Empresas y Organizacio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Global Competitiveness Report  2004-2005 (WEF), Chile se ubica en lugar 22 (sube 6) del Indice de Crecimiento Global GCI, entre 104 paises.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de Negocios (BCI), se ubica en el puesto  29 (sube 3)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Global (GCI)  se ubica en el lugar 29 (nuevo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hile se distancia fuertemente de América Latina, respecto del GCI (lo sigue México, 26 puestos más atrás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6615000" y="247644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219640" y="342900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3624120" y="437688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DE97-C55A-4098-B2C0-F046479F7B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Fuerte competencia afecta a márgenes, exigiendo importante control de cost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lientes informados exigen cada vez más por menos. Mínima a nula fidelidad. Necesidad de entregar calidades crecient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iclos de negocio cada vez más cortos, impulsados por competencia y cambios tecnológic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Requerimientos crecientes de profesionales especializados. Fuerte tendencia a la externalización de lo que no esté en el centro del negoci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ebilitamiento del vínculo lealtad RRHH – Empresa =&gt; alta rotación de personal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pacitación permanente del personal y continuos esfuerzos por obtener equipos de alto desempeñ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irección en ambiente incierto, con muchas variables exige ejecutivos con decisión, informados y aceptadores de riesg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337A-21FA-4EA8-897F-A22A3CE9EA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iderazgo, Comunicación, Clima Organizacional, Equipos de Trabajo, temas claves y no siempre bien enfocad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apital Intelectual: Personas, Conocimientos, Experiencia, Información, Actitud, Valores, Aptitud ante el Cambio, Resilencia Organizacional, factores no siempre bien ponderados (85% del valor de la compañía)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elar en forma creciente por equilibrios con factores ambientales, regulatorios, políticos, social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as, expansión, fusiones, internacionalización, etc. Factores de permanente vigencia y que pueden ser amenazas y/u oportunidad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0BB2-A236-4E9F-9307-8095C4ECB2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6-08-07T23:04:35Z</dcterms:modified>
  <cp:revision>50</cp:revision>
  <dc:subject/>
  <dc:title>C     </dc:title>
</cp:coreProperties>
</file>