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F0A8-909D-4121-A5A2-7D73DE671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1DD3-D541-4139-9C79-E75DB33D2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6EBF-BE97-4A54-9FD7-6D69D83C7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4946-D6B3-4E32-BB75-8AF89D7D2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66724-E0FF-4402-9C2F-25DB81BE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9A0B9-C496-407E-92C2-D42934EC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024B8-2A2E-41A8-AF56-020ABBB7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FDDA0-32FC-4962-A1AC-F09D2DA9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E8EF9-2219-4AAE-B1AE-19EE80D3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09625-4481-4A48-943D-180A8113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6A9D9-9D2C-4D4C-9D93-71B6128F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FD94-A63D-467B-B5B3-DA2128B52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B699E-A371-4D4B-A4ED-20016680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81707-A336-46FB-B7F0-1E5E315B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A84C3-A69F-4661-B398-6F25E395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F167E-3DF3-4326-A718-EDE7AFA9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ED4D4-C8BB-4A79-87E3-82C3470D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535D-E8D4-4274-9114-581B034EC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4321-D45E-4963-A14E-C99943F1D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651C-BB83-453E-A3CE-B4C759C9C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689C-23D8-4AA7-80E9-23DA4419E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24E3-7CD6-4003-A341-EBE107569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88E4-F477-4E94-9E15-63227A076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DC86-53F2-4B7A-AEFD-0B69E5C53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16527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1523880"/>
            <a:ext cx="0" cy="4419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943600"/>
            <a:ext cx="815364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80364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08ED-C34B-4FDA-872C-FBCDDACFF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539640" y="6093000"/>
            <a:ext cx="193356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1985-9DD9-4836-98C8-ABCB3A25F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Documents and Settings\Alvaro Silva Madrid\Mis documentos\Presentaciones\test2.m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2000" y="3141360"/>
            <a:ext cx="6400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 Narrow"/>
              </a:rPr>
              <a:t>Presentación del Curso Taller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 Narrow"/>
              </a:rPr>
              <a:t>Desarrollo de Habilidades Directiva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 Narrow"/>
              </a:rPr>
              <a:t>Julio - 2006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aracterísticas esperadas  de los nuevos RRH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Rápida inserción en el sistema productiv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Integración a los equipos de trabajos existentes o en desarroll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daptabilidad y disponibilidad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Postgrado o cursos de especializac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Vigencia tecnológic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ominio de conocimientos de su área y manejos de al menos un par de idioma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Presencia o potencial de desarrollo de “Factores Blandos”: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mprendimiento, Relacionabilidad, Resilencia, Adaptación al Cambio, Creatividad, Liderazgo, Asertividad, etc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58D9-B03A-49FF-B147-D3C9C94415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Algunas preguntas para los futuros Profesionales (antes d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46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Tengo definidas con precisión mis aspiraciones laborale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mis grados de libertad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mis ventajas competitivas?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Se como mostrarlas, como mantenerlas y desarrollarla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las ventajas de mi competencia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onozco que beneficios puedo conseguir y como negociarlo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Podré mantener mi entusiasmo sin frustrarme por los “fracasos”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0" name="">
            <a:hlinkClick r:id="rId1"/>
          </p:cNvPr>
          <p:cNvSpPr/>
          <p:nvPr/>
        </p:nvSpPr>
        <p:spPr>
          <a:xfrm>
            <a:off x="8172360" y="5445000"/>
            <a:ext cx="216000" cy="2890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9080"/>
              <a:gd name="textAreaBottom" fmla="*/ 275400 h 289080"/>
            </a:gdLst>
            <a:ahLst/>
            <a:rect l="textAreaLeft" t="textAreaTop" r="textAreaRight" b="textAreaBottom"/>
            <a:pathLst>
              <a:path w="21600" h="28896">
                <a:moveTo>
                  <a:pt x="0" y="0"/>
                </a:moveTo>
                <a:lnTo>
                  <a:pt x="21600" y="0"/>
                </a:lnTo>
                <a:lnTo>
                  <a:pt x="21600" y="28896"/>
                </a:lnTo>
                <a:lnTo>
                  <a:pt x="0" y="28896"/>
                </a:lnTo>
                <a:close/>
              </a:path>
              <a:path fill="lightenLess" w="21600" h="28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6">
                <a:moveTo>
                  <a:pt x="21600" y="0"/>
                </a:moveTo>
                <a:lnTo>
                  <a:pt x="21600" y="28896"/>
                </a:lnTo>
                <a:lnTo>
                  <a:pt x="20200" y="27496"/>
                </a:lnTo>
                <a:lnTo>
                  <a:pt x="20200" y="1400"/>
                </a:lnTo>
                <a:close/>
              </a:path>
              <a:path fill="darkenLess" w="21600" h="28896">
                <a:moveTo>
                  <a:pt x="21600" y="28896"/>
                </a:moveTo>
                <a:lnTo>
                  <a:pt x="0" y="28896"/>
                </a:lnTo>
                <a:lnTo>
                  <a:pt x="1400" y="27496"/>
                </a:lnTo>
                <a:lnTo>
                  <a:pt x="20200" y="27496"/>
                </a:lnTo>
                <a:close/>
              </a:path>
              <a:path fill="lighten" w="21600" h="28896">
                <a:moveTo>
                  <a:pt x="0" y="28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6"/>
                </a:lnTo>
                <a:close/>
              </a:path>
              <a:path fill="darken" w="21600" h="28896">
                <a:moveTo>
                  <a:pt x="3794" y="10949"/>
                </a:moveTo>
                <a:lnTo>
                  <a:pt x="4707" y="10949"/>
                </a:lnTo>
                <a:lnTo>
                  <a:pt x="5090" y="11315"/>
                </a:lnTo>
                <a:lnTo>
                  <a:pt x="14299" y="11315"/>
                </a:lnTo>
                <a:lnTo>
                  <a:pt x="14856" y="11872"/>
                </a:lnTo>
                <a:lnTo>
                  <a:pt x="14856" y="12420"/>
                </a:lnTo>
                <a:lnTo>
                  <a:pt x="16701" y="12420"/>
                </a:lnTo>
                <a:lnTo>
                  <a:pt x="17067" y="11872"/>
                </a:lnTo>
                <a:lnTo>
                  <a:pt x="17806" y="11872"/>
                </a:lnTo>
                <a:lnTo>
                  <a:pt x="17806" y="17024"/>
                </a:lnTo>
                <a:lnTo>
                  <a:pt x="17067" y="17024"/>
                </a:lnTo>
                <a:lnTo>
                  <a:pt x="16701" y="16476"/>
                </a:lnTo>
                <a:lnTo>
                  <a:pt x="14856" y="16476"/>
                </a:lnTo>
                <a:lnTo>
                  <a:pt x="14856" y="17755"/>
                </a:lnTo>
                <a:lnTo>
                  <a:pt x="5273" y="17755"/>
                </a:lnTo>
                <a:lnTo>
                  <a:pt x="5273" y="13525"/>
                </a:lnTo>
                <a:lnTo>
                  <a:pt x="5090" y="13525"/>
                </a:lnTo>
                <a:lnTo>
                  <a:pt x="4707" y="13891"/>
                </a:lnTo>
                <a:lnTo>
                  <a:pt x="3794" y="1389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40560" y="1413000"/>
            <a:ext cx="193356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0DAF-3FEB-481E-A134-DD163EC96C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apa y Territori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4720" y="27000"/>
            <a:ext cx="755964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3240" y="101520"/>
            <a:ext cx="9180720" cy="666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3C3B-0B73-48D4-A942-10268A33DB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Objetivos d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Motivar en forma práctica, el desarrollo de habilidades y competencias personales básicas a quienes aspiran a continuar una carrera ejecutiva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A53A-875E-4396-988B-88BFBFF2B5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Objetivos Específic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prender los comportamientos básicos que se espera estén consolidados en un ejecutivo medio o superior, identificando los propios y conociendo herramientas para su desarrollo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nocer e identificar capacidades en las áreas Relacional, Emprendimiento, Enfrentamiento y Resolución de Problemas, aprendiendo elementos prácticos para el desarrollo de est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nocer los aspectos básicos de la problemática del cambio y los elementos básicos de su gest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Identificar los elementos que identifican a los equipos de alto desempeño y las empresas abiertas al aprendizaje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Obtener elementos que posibiliten una inserción más fluida del nuevo profesional, en el ambiente empresari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75258-E283-4729-AC5F-22BE56CAC3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Caracterización de las empresas y de su entorno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Habilidades esperadas en los ejecutivo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Áreas Cognitivas vs. Relacional, Emprendimiento, Manejo de Conflictos, Enfrentamiento de Contingenci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Gestión del Cambio, Creativ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Gestión de si mismo, Reluctancia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 de auto – evaluación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as Organizaciones y su Cultura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structura Organizacional. Elementos constitutivos y sus relacion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Desarrollo, Aprendizaje y Cambio Organiz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Rediseño de Procesos, Sistemas, Person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ultura Organizacional, Percepciones, Creencias y Paradigm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Intervención Organizacional. Asesoría Experta vs. Coaching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a Comunicación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lenguaje como sistema Representacional y Comunic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Modelos comunicacion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Proceso Comunic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municación Efectiva y Escucha Empática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 de Competencias Comunicacion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9D5A-03AF-450A-8AA2-D48A3255BC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7040" y="16729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Presentaciones Efectivas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nsideraciones clave de una Presentación Eficaz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structura básica: Apertura, Cuerpo y Cierre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Presentaciones Creativ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Manejo Escénic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Recursos Audiovisu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iderazgo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Liderazgo en el ambiente empresarial de hoy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mponentes esenciales del Conductor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Actitudes básicas del Lider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mocionalidad vs. Racional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Liderazgo de si mism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Equipos de Alto Desempeño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Objetivos compartido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Aprendizaje individual y complementar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Del Equipo de Alto Desempeño a la Organización de Alto Desempeñ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E301-CB22-41AB-B51B-88EEAE14D0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ntervención Organizaci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prendiendo el comportamiento organizacion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 organización Visible y la Ocult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s Estructuras de Pod.er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strategia, Procesos, Estructur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Gestión del Cambi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lementos de Control de Gestión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Tipos de Contro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Balance Scorecard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7453-4D4F-40EE-8DA4-5FA7D8DB5D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dministración del Tiempo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nsideraciones Prácticas Relativas al Tiemp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anejo de Agenda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nsensos y Acuerdos de Optimiz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Herramienta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ementos de Negociación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Porqué el Negociar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étodos de Negoci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l Poder en la Mesa de Negoci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anejo y Resolución de Conficto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ller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7C66-2582-4B22-8F9F-C7793FE34D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dentificar requerimientos Empresarial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Auto evaluación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Herramientas prácticas para el desarrollo de competencias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Generación de instancias de aprendizaje de factores “Soft”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Gestión del Cambio Pers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8302-9C8D-4EE5-BC00-6A8AA49E2E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23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A292-EDFD-40EE-AFAD-506E0715CF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2400" y="115920"/>
            <a:ext cx="8864280" cy="6062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480" y="4621320"/>
            <a:ext cx="89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ff"/>
                </a:solidFill>
                <a:latin typeface="Arial Narrow"/>
              </a:rPr>
              <a:t>PREPARAR EL ATERRIZAJ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D607-6E87-4B0A-9161-9F1BA7465B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6600" y="44280"/>
            <a:ext cx="8975880" cy="684072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8748720" y="659772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8203-9D02-4875-8862-1E98C5875E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58680"/>
            <a:ext cx="7561440" cy="67089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8748720" y="652464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F66A-CD1F-435A-8166-123E15F349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52680" y="44280"/>
            <a:ext cx="6404040" cy="666936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8675640" y="652464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311F-AF76-4CAD-915F-13F7F834BC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Fusiones en Mercado Telecomunicaciones en Chi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43040" y="2543040"/>
            <a:ext cx="8076960" cy="21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DD6B-1D61-45B2-981F-B253F63E25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695160"/>
            <a:ext cx="8076960" cy="512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859A-2406-46AF-B24C-8C0C79445C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25800" y="189000"/>
            <a:ext cx="5533920" cy="56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C940-345B-4E0E-9275-CE64DE4988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TENIDO DE LA PRESENTACIÓ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0769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aracterización del medio laboral actu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Desafíos que enfrentan las empresas y organizacion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aracterísticas esperadas de los nuevos RRHH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nterrogantes propias del futuro profesi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Objetivos del Curso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Temas del Curso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onclusiones y pregunta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7E2E-65D3-4438-A117-85A5132277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aracterización del Medio Laboral Actu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rot="20938800">
            <a:off x="610920" y="1763640"/>
            <a:ext cx="3962160" cy="1432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 rot="792600">
            <a:off x="3708000" y="1699920"/>
            <a:ext cx="396252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3273480"/>
            <a:ext cx="4752720" cy="2558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 rot="1108200">
            <a:off x="6011640" y="1989000"/>
            <a:ext cx="2328840" cy="436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195640" y="2133720"/>
            <a:ext cx="4968720" cy="269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1CF1-C854-47B8-91DD-AABC2D3A4B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Radiografía Mercado Laboral Trimestre Marzo Mayo 2006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sa de desempleo llega a un 8,7 %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recimiento de 4 % (256.120 personas) en la incorporación a fuerza de trabajo, c/r igual periodo 2005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recimiento de un 3,6 % en la creación de nuevos puestos de trabajo (209.650 puestos adicionales)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sas Desocupación Regionales: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Curicó 5,8 %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Talca 8,5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Linares 10,1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Chillán 7,1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440388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87560" y="5003640"/>
            <a:ext cx="216000" cy="276480"/>
          </a:xfrm>
          <a:prstGeom prst="upArrow">
            <a:avLst>
              <a:gd name="adj1" fmla="val 50000"/>
              <a:gd name="adj2" fmla="val 32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692440" y="472068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20880" y="536184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115920"/>
            <a:ext cx="3940200" cy="655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D5FC-550F-4677-9846-53C8DCF5F2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ercado Laboral Profesion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28 % de ofertas empleo último periodo corresponden a ingenieros civile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Ofertas de cargos: Gerencias, Subgerencias y Jefaturas de Área.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15 % corresponde a ingenieros comercial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Ofertas: Ejecutivos de Negocio, Product o Business Manager, Analistas, Supervisores de Venta y Ejecutivos de Cuenta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 mayor oferta (34%) para técnicos es para ejecutivos de venta.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Sectores de mayor demanda de profesionales son Industrial (28%), Servicios (21%), Comercio y Distribución 13 % e Informática 9 %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26080" y="2425680"/>
          <a:ext cx="3962160" cy="23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6080" y="2425680"/>
                    <a:ext cx="396216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EDFB-D967-47AE-9291-8369900A06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Desafíos que enfrentan hoy las Empresas y Organizacion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Global Competitiveness Report  2004-2005 (WEF), Chile se ubica en lugar 22 (sube 6) del Indice de Crecimiento Global GCI, entre 104 paises.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Índice de Competitividad de Negocios (BCI), se ubica en el puesto  29 (sube 3)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Índice de Competitividad Global (GCI)  se ubica en el lugar 29 (nuevo)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hile se distancia fuertemente de América Latina, respecto del GCI (lo sigue México, 26 puestos más atrás)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6615000" y="2476440"/>
            <a:ext cx="144720" cy="144360"/>
          </a:xfrm>
          <a:custGeom>
            <a:avLst/>
            <a:gdLst>
              <a:gd name="textAreaLeft" fmla="*/ 9360 w 144720"/>
              <a:gd name="textAreaRight" fmla="*/ 135360 w 144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5219640" y="342900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3624120" y="4376880"/>
            <a:ext cx="144720" cy="144360"/>
          </a:xfrm>
          <a:custGeom>
            <a:avLst/>
            <a:gdLst>
              <a:gd name="textAreaLeft" fmla="*/ 9360 w 144720"/>
              <a:gd name="textAreaRight" fmla="*/ 135360 w 144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6E00-B5AD-4821-B00C-1D65F73675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esafíos de las Empresas y Organizaciones de H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Fuerte competencia afecta a márgenes, exigiendo importante control de cost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lientes informados exigen cada vez más por menos. Mínima a nula fidelidad. Necesidad de entregar calidades creciente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iclos de negocio cada vez más cortos, impulsados por competencia y cambios tecnológic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Requerimientos crecientes de profesionales especializados. Fuerte tendencia a la externalización de lo que no esté en el centro del negoci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Debilitamiento del vínculo lealtad RRHH – Empresa =&gt; alta rotación de personal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apacitación permanente del personal y continuos esfuerzos por obtener equipos de alto desempeñ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Dirección en ambiente incierto, con muchas variables exige ejecutivos con decisión, informados y aceptadores de riesg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81AF-84A5-4547-9E0E-425FC0F6D9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esafíos de las Empresas y Organizaciones de H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iderazgo, Comunicación, Clima Organizacional, Equipos de Trabajo, temas claves y no siempre bien enfocad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apital Intelectual: Personas, Conocimientos, Experiencia, Información, Actitud, Valores, Aptitud ante el Cambio, Resilencia Organizacional, factores no siempre bien ponderados (85% del valor de la compañía)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Velar en forma creciente por equilibrios con factores ambientales, regulatorios, políticos, social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pras, expansión, fusiones, internacionalización, etc. Factores de permanente vigencia y que pueden ser amenazas y/u oportunidad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61C9-026A-4A5B-B2B1-E3408DBA1F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10:07Z</dcterms:created>
  <dc:creator>mmonsalves</dc:creator>
  <dc:description/>
  <dc:language>en-US</dc:language>
  <cp:lastModifiedBy>Alvaro Silva Madrid</cp:lastModifiedBy>
  <dcterms:modified xsi:type="dcterms:W3CDTF">2006-08-07T23:04:35Z</dcterms:modified>
  <cp:revision>50</cp:revision>
  <dc:subject/>
  <dc:title>C     </dc:title>
</cp:coreProperties>
</file>