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8A6F-8DDE-4BC7-9161-C07B412D4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4339-BF39-4C55-A97E-69C5E783C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5585-FC97-436F-9DF8-5DB919B9F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C636-621B-4306-9EAF-D69B9E7BF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B3FCD-0721-43C0-821E-E3DA5A73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B7F11-F042-4353-80C7-D5C92DC2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BCF8A-2D40-46D5-9AAF-AF0B3C81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293CF-0C18-409C-8840-8DB197D1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9B093-9B12-46EF-B0E3-40AC6180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C8F7E-0B22-492D-8F03-83752B9D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21597-B618-4190-A30E-3ECF71CD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F84D-02B5-498E-B249-51F0B8AE7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06404-344A-476A-9FCF-DBBE334A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BCD67-481C-4B75-BB10-5B2658A0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7C089-4F22-418F-B72E-22ABBE4C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90875-17DC-4A84-B8FC-623276BD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9B205-5881-4C7E-B873-54E06589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98EB-5829-4809-B3E4-111F4D4C2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94E5-E8EB-49F7-BC6C-50ECB72C9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0D9B-7A4B-4254-B387-7D53272B8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6335-F31C-40B5-801E-D57992FF7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4EA8-083A-4F4A-8889-9FA4C0C09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C4A5-A30D-4383-9F38-70C7CF878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2AFD-5342-47F5-8FF0-2E02A8CBF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803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78DF-79CF-4753-9B11-3FBB7849F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F8B3-16C0-4470-9AE2-EFF285AD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Documents and Settings\Alvaro Silva Madrid\Mis documentos\Presentaciones\test2.m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32000" y="3141360"/>
            <a:ext cx="6400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Presentación del Curso Taller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 Narrow"/>
              </a:rPr>
              <a:t>Desarrollo de Habilidades Directivas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3399"/>
                </a:solidFill>
                <a:latin typeface="Arial Narrow"/>
              </a:rPr>
              <a:t>Julio - 2006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ísticas esperadas  de los nuevos RRH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Rápida inserción en el sistema productiv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ntegración a los equipos de trabajos existentes o en desarroll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aptabilidad y disponibilidad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ostgrado o cursos de especializac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igencia tecnológic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Dominio de conocimientos de su área y manejos de al menos un par de idioma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Presencia o potencial de desarrollo de “Factores Blandos”: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mprendimiento, Relacionabilidad, Resilencia, Adaptación al Cambio, Creatividad, Liderazgo, Asertividad, etc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557C-0C42-40E6-B1A6-E099565C7B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Algunas preguntas para los futuros Profesionales (antes d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46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Tengo definidas con precisión mis aspiraciones laborale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grados de libertad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mis ventajas competitivas?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Se como mostrarlas, como mantenerlas y desarrollarla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uáles son las ventajas de mi competencia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Conozco que beneficios puedo conseguir y como negociarlos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¿Podré mantener mi entusiasmo sin frustrarme por los “fracasos”?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205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8172360" y="5445000"/>
            <a:ext cx="216000" cy="28908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89080"/>
              <a:gd name="textAreaBottom" fmla="*/ 275400 h 289080"/>
            </a:gdLst>
            <a:ahLst/>
            <a:rect l="textAreaLeft" t="textAreaTop" r="textAreaRight" b="textAreaBottom"/>
            <a:pathLst>
              <a:path w="21600" h="28896">
                <a:moveTo>
                  <a:pt x="0" y="0"/>
                </a:moveTo>
                <a:lnTo>
                  <a:pt x="21600" y="0"/>
                </a:lnTo>
                <a:lnTo>
                  <a:pt x="21600" y="28896"/>
                </a:lnTo>
                <a:lnTo>
                  <a:pt x="0" y="28896"/>
                </a:lnTo>
                <a:close/>
              </a:path>
              <a:path fill="lightenLess" w="21600" h="288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96">
                <a:moveTo>
                  <a:pt x="21600" y="0"/>
                </a:moveTo>
                <a:lnTo>
                  <a:pt x="21600" y="28896"/>
                </a:lnTo>
                <a:lnTo>
                  <a:pt x="20200" y="27496"/>
                </a:lnTo>
                <a:lnTo>
                  <a:pt x="20200" y="1400"/>
                </a:lnTo>
                <a:close/>
              </a:path>
              <a:path fill="darkenLess" w="21600" h="28896">
                <a:moveTo>
                  <a:pt x="21600" y="28896"/>
                </a:moveTo>
                <a:lnTo>
                  <a:pt x="0" y="28896"/>
                </a:lnTo>
                <a:lnTo>
                  <a:pt x="1400" y="27496"/>
                </a:lnTo>
                <a:lnTo>
                  <a:pt x="20200" y="27496"/>
                </a:lnTo>
                <a:close/>
              </a:path>
              <a:path fill="lighten" w="21600" h="28896">
                <a:moveTo>
                  <a:pt x="0" y="288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96"/>
                </a:lnTo>
                <a:close/>
              </a:path>
              <a:path fill="darken" w="21600" h="28896">
                <a:moveTo>
                  <a:pt x="3794" y="10949"/>
                </a:moveTo>
                <a:lnTo>
                  <a:pt x="4707" y="10949"/>
                </a:lnTo>
                <a:lnTo>
                  <a:pt x="5090" y="11315"/>
                </a:lnTo>
                <a:lnTo>
                  <a:pt x="14299" y="11315"/>
                </a:lnTo>
                <a:lnTo>
                  <a:pt x="14856" y="11872"/>
                </a:lnTo>
                <a:lnTo>
                  <a:pt x="14856" y="12420"/>
                </a:lnTo>
                <a:lnTo>
                  <a:pt x="16701" y="12420"/>
                </a:lnTo>
                <a:lnTo>
                  <a:pt x="17067" y="11872"/>
                </a:lnTo>
                <a:lnTo>
                  <a:pt x="17806" y="11872"/>
                </a:lnTo>
                <a:lnTo>
                  <a:pt x="17806" y="17024"/>
                </a:lnTo>
                <a:lnTo>
                  <a:pt x="17067" y="17024"/>
                </a:lnTo>
                <a:lnTo>
                  <a:pt x="16701" y="16476"/>
                </a:lnTo>
                <a:lnTo>
                  <a:pt x="14856" y="16476"/>
                </a:lnTo>
                <a:lnTo>
                  <a:pt x="14856" y="17755"/>
                </a:lnTo>
                <a:lnTo>
                  <a:pt x="5273" y="17755"/>
                </a:lnTo>
                <a:lnTo>
                  <a:pt x="5273" y="13525"/>
                </a:lnTo>
                <a:lnTo>
                  <a:pt x="5090" y="13525"/>
                </a:lnTo>
                <a:lnTo>
                  <a:pt x="4707" y="13891"/>
                </a:lnTo>
                <a:lnTo>
                  <a:pt x="3794" y="1389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40560" y="1413000"/>
            <a:ext cx="193356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561F-253E-4F1A-838E-D1A6E85C2D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apa y Territor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4720" y="27000"/>
            <a:ext cx="7559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40" y="101520"/>
            <a:ext cx="9180720" cy="666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33FB-18FF-4B53-A486-4A26CB32C4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Motivar en forma práctica, el desarrollo de habilidades y competencias personales básicas a quienes aspiran a continuar una carrera ejecutiva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E48A-3A16-4610-975B-089C954E93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Objetivos Específic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prender los comportamientos básicos que se espera estén consolidados en un ejecutivo medio o superior, identificando los propios y conociendo herramientas para su desarroll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e identificar capacidades en las áreas Relacional, Emprendimiento, Enfrentamiento y Resolución de Problemas, aprendiendo elementos prácticos para el desarrollo de est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nocer los aspectos básicos de la problemática del cambio y los elementos básicos de su gestión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Identificar los elementos que identifican a los equipos de alto desempeño y las empresas abiertas al aprendizaje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Obtener elementos que posibiliten una inserción más fluida del nuevo profesional, en el ambiente empresari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DA60-7F26-46DA-8340-6D7DD57B53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Caracterización de las empresas y de su entorn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Habilidades esperadas en los ejecutiv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Áreas Cognitivas vs. Relacional, Emprendimiento, Manejo de Conflictos, Enfrentamiento de Contingenci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l Cambio, Creativ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Gestión de si mismo, Reluctanci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auto – evaluación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s Organizaciones y su Cultura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Organizacional. Elementos constitutivos y sus relacion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sarrollo, Aprendizaje y Cambio Organiz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diseño de Procesos, Sistemas, Person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ultura Organizacional, Percepciones, Creencias y Paradigm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Intervención Organizacional. Asesoría Experta vs. Coaching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a Comunicación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enguaje como sistema Representacional y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odelo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Proceso Comunicacional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unicación Efectiva y Escucha Empática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 de Competencias Comunicacion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658E-73A2-4BA4-BDD0-2E546B3757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7040" y="16729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nsideraciones clave de una Presentación Eficaz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structura básica: Apertura, Cuerpo y Cierre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Presentaciones Creativa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Manejo Escénic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Recursos Audiovisuale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Liderazgo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l Liderazgo en el ambiente empresarial de hoy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Componentes esenciales del Conducto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ctitudes básicas del Lider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Emocionalidad vs. Racional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Liderazgo de si mism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99"/>
                </a:solidFill>
                <a:latin typeface="Arial Narrow"/>
              </a:rPr>
              <a:t>Equipos de Alto Desempeño.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Objetivos compartidos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Aprendizaje individual y complementaridad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Del Equipo de Alto Desempeño a la Organización de Alto Desempeño.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66BA-5473-4993-946B-88A955D79F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vención Organizac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endiendo el comportamiento organizaciona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 organización Visible y la Ocult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as Estructuras de Pod.er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strategia, Procesos, Estructura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Gestión del Cambio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lementos de Control de Gestión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Tipos de Control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Balance Scorecard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D343-76C1-4534-A2B6-4061E54B99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Temas a tratar en el curs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ideraciones Prácticas Relativas al Tiemp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de Agenda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onsensos y Acuerdos de Optimiz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Herramienta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Elementos de Negociación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¿Porqué el Negociar?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étodos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l Poder en la Mesa de Negociación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Manejo y Resolución de Conficto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ller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1B74-9CD0-4C26-9455-2E218A3767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dentificar requerimientos Empresarial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Auto evaluación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Herramientas prácticas para el desarrollo de competencias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neración de instancias de aprendizaje de factores “Soft”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Gestión del Cambio Pers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087D-D989-484A-8A12-2B99C59CCA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23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2601-B51B-445B-A2C8-FD636578D3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2400" y="115920"/>
            <a:ext cx="8864280" cy="6062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80" y="4621320"/>
            <a:ext cx="89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 Narrow"/>
              </a:rPr>
              <a:t>PREPARAR EL ATERRIZAJ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A39A-1CFB-4831-A1F7-AC42C2F4F7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6600" y="44280"/>
            <a:ext cx="8975880" cy="684072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8748720" y="659772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AB8B-2A18-4361-AB69-052C2E715A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58680"/>
            <a:ext cx="7561440" cy="67089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74872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C27F-A77B-4084-82E1-28152AC2BC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52680" y="44280"/>
            <a:ext cx="6404040" cy="666936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675640" y="6524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3A58-5213-4506-97BF-255795E632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Fusiones en Mercado Telecomunicaciones en Chi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43040" y="2543040"/>
            <a:ext cx="807696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B2F4-7C7E-435A-8213-DCDAC590C7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695160"/>
            <a:ext cx="8076960" cy="512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3B74-7D63-46B2-BDAA-103BA6CCBE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25800" y="189000"/>
            <a:ext cx="5533920" cy="564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A6C3-9CAB-47A4-81D2-61F39E7839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 DE LA PRESENTACIÓ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76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Desafíos que enfrentan las empresas y organizacione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aracterísticas esperadas de los nuevos RRHH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Interrogantes propias del futuro profesiona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Objetivo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Temas del Curso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onclusiones y preguntas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89AB-7180-4CF1-85B1-9428DC6474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aracterización del Medio Laboral Actu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rot="20938800">
            <a:off x="610920" y="1763640"/>
            <a:ext cx="3962160" cy="143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792600">
            <a:off x="3708000" y="1699920"/>
            <a:ext cx="396252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3273480"/>
            <a:ext cx="4752720" cy="2558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 rot="1108200">
            <a:off x="6011640" y="1989000"/>
            <a:ext cx="2328840" cy="4365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195640" y="2133720"/>
            <a:ext cx="4968720" cy="26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E999-2562-4D59-94C2-CE7A2B09E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Radiografía Mercado Laboral Trimestre Marzo Mayo 200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 de desempleo llega a un 8,7 %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4 % (256.120 personas) en la incorporación a fuerza de trabajo, c/r igual periodo 2005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recimiento de un 3,6 % en la creación de nuevos puestos de trabajo (209.650 puestos adicionales)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Tasas Desocupación Regionales: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uricó 5,8 %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Talca 8,5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Linares 10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Chillán 7,1 %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44038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87560" y="5003640"/>
            <a:ext cx="216000" cy="276480"/>
          </a:xfrm>
          <a:prstGeom prst="upArrow">
            <a:avLst>
              <a:gd name="adj1" fmla="val 50000"/>
              <a:gd name="adj2" fmla="val 32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92440" y="472068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20880" y="5361840"/>
            <a:ext cx="216000" cy="276120"/>
          </a:xfrm>
          <a:prstGeom prst="upArrow">
            <a:avLst>
              <a:gd name="adj1" fmla="val 50000"/>
              <a:gd name="adj2" fmla="val 319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15920"/>
            <a:ext cx="3940200" cy="655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7DAF-9B0D-4F79-82BA-9B1241803A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Mercado Laboral Profesiona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28 % de ofertas empleo último periodo corresponden a ingenieros civil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 de cargos: Gerencias, Subgerencias y Jefaturas de Área.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15 % corresponde a ingenieros comercial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Arial Narrow"/>
              </a:rPr>
              <a:t>Ofertas: Ejecutivos de Negocio, Product o Business Manager, Analistas, Supervisores de Venta y Ejecutivos de Cuenta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La mayor oferta (34%) para técnicos es para ejecutivos de venta.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Sectores de mayor demanda de profesionales son Industrial (28%), Servicios (21%), Comercio y Distribución 13 % e Informática 9 %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26080" y="2425680"/>
          <a:ext cx="3962160" cy="23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6080" y="2425680"/>
                    <a:ext cx="39621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E9A2-5F21-4EA7-931A-5CE94FA53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Narrow"/>
              </a:rPr>
              <a:t>Desafíos que enfrentan hoy las Empresas y Organizacio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Global Competitiveness Report  2004-2005 (WEF), Chile se ubica en lugar 22 (sube 6) del Indice de Crecimiento Global GCI, entre 104 paises.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de Negocios (BCI), se ubica en el puesto  29 (sube 3) 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En el Índice de Competitividad Global (GCI)  se ubica en el lugar 29 (nuevo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Arial Narrow"/>
              </a:rPr>
              <a:t>Chile se distancia fuertemente de América Latina, respecto del GCI (lo sigue México, 26 puestos más atrás).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6615000" y="247644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219640" y="342900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3624120" y="4376880"/>
            <a:ext cx="144720" cy="144360"/>
          </a:xfrm>
          <a:custGeom>
            <a:avLst/>
            <a:gdLst>
              <a:gd name="textAreaLeft" fmla="*/ 9360 w 144720"/>
              <a:gd name="textAreaRight" fmla="*/ 135360 w 144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BC30-E110-4C2C-A4F9-D11158EAB2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Fuerte competencia afecta a márgenes, exigiendo importante control de cost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lientes informados exigen cada vez más por menos. Mínima a nula fidelidad. Necesidad de entregar calidades creciente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iclos de negocio cada vez más cortos, impulsados por competencia y cambios tecnológic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Requerimientos crecientes de profesionales especializados. Fuerte tendencia a la externalización de lo que no esté en el centro del negoci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ebilitamiento del vínculo lealtad RRHH – Empresa =&gt; alta rotación de personal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Capacitación permanente del personal y continuos esfuerzos por obtener equipos de alto desempeño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Dirección en ambiente incierto, con muchas variables exige ejecutivos con decisión, informados y aceptadores de riesgo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C5F8-114F-490F-A8DA-F89B18029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Desafíos de las Empresas y Organizaciones de H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Liderazgo, Comunicación, Clima Organizacional, Equipos de Trabajo, temas claves y no siempre bien enfocado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apital Intelectual: Personas, Conocimientos, Experiencia, Información, Actitud, Valores, Aptitud ante el Cambio, Resilencia Organizacional, factores no siempre bien ponderados (85% del valor de la compañía)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Velar en forma creciente por equilibrios con factores ambientales, regulatorios, políticos, social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 Narrow"/>
              </a:rPr>
              <a:t>Compras, expansión, fusiones, internacionalización, etc. Factores de permanente vigencia y que pueden ser amenazas y/u oportunidades.</a:t>
            </a: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51DB-9BB0-4E1F-9C25-FFFD6DEDF3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6-08-07T23:04:35Z</dcterms:modified>
  <cp:revision>50</cp:revision>
  <dc:subject/>
  <dc:title>C     </dc:title>
</cp:coreProperties>
</file>