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3DE4F-7FAA-4DD7-9E37-8D168F8A9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61C57-DB81-4197-A12B-A19956678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FAD1-8D0E-4BB9-8979-58156CBF8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224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356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128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224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356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170E9-9607-4BB5-BF93-E03E2BB74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42E3F-911A-43B5-BCAA-3DE796B6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CF6AF-11EB-4A6F-A1D3-F03A0628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C1951-2BC7-4D31-A4FA-EA22E016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11C88-8E4C-4E07-A157-D50B2A30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5ACCE-D98A-4D55-8295-7764F316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781D5-0405-4C68-9494-96F77011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6C650-41C9-498A-AEB5-B50CD94F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13F40-A0EA-4D97-BA6F-968E3F89A5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7CED0-BFEA-445F-9D2F-5C242540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BECF9-200C-4486-BCF9-F7AD0A2E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F5D8A-ECAD-407D-B07D-3613BE85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21DDB-8416-40CF-9B97-322E43E8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24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356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128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24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356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50517-8F65-4D96-A2A4-62F2CFE7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FB2D8-17F4-44A6-A371-38C80AF8F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A495B-FA8B-4471-89D9-9BFC2FA45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B6A58-8812-443E-BD09-A657EE820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8E3F6-4806-4C17-BFF9-5B1202889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2A85F-502C-42AF-A885-C6D04E0E45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ADA6A-0BE9-4012-B430-EB5D035499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E37CB-BAA5-4CFE-A54B-75ABD7902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165276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1523880"/>
            <a:ext cx="0" cy="4419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943600"/>
            <a:ext cx="815364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80364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8679-D550-4196-9224-4C51032D8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539640" y="6093000"/>
            <a:ext cx="1933560" cy="59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96AB-6432-49EF-92AD-93D796724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:\Documents and Settings\Alvaro Silva Madrid\Mis documentos\Presentaciones\test2.m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32000" y="3141360"/>
            <a:ext cx="6400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 Narrow"/>
              </a:rPr>
              <a:t>Presentación del Curso Taller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 Narrow"/>
              </a:rPr>
              <a:t>Desarrollo de Habilidades Directivas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 Narrow"/>
              </a:rPr>
              <a:t>Julio - 2006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aracterísticas esperadas  de los nuevos RRH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Rápida inserción en el sistema productivo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Integración a los equipos de trabajos existentes o en desarrollo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Adaptabilidad y disponibilidad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Postgrado o cursos de especialización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Vigencia tecnológica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Dominio de conocimientos de su área y manejos de al menos un par de idioma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Presencia o potencial de desarrollo de “Factores Blandos”: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Emprendimiento, Relacionabilidad, Resilencia, Adaptación al Cambio, Creatividad, Liderazgo, Asertividad, etc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A501B-8B55-47D6-9B7E-B89FE936CE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Narrow"/>
              </a:rPr>
              <a:t>Algunas preguntas para los futuros Profesionales (antes de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46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Tengo definidas con precisión mis aspiraciones laborales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Cuáles son mis grados de libertad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Cuáles son mis ventajas competitivas?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Se como mostrarlas, como mantenerlas y desarrollarlas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Cuáles son las ventajas de mi competencia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Conozco que beneficios puedo conseguir y como negociarlos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Podré mantener mi entusiasmo sin frustrarme por los “fracasos”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0" name="">
            <a:hlinkClick r:id="rId1"/>
          </p:cNvPr>
          <p:cNvSpPr/>
          <p:nvPr/>
        </p:nvSpPr>
        <p:spPr>
          <a:xfrm>
            <a:off x="8172360" y="5445000"/>
            <a:ext cx="216000" cy="2890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9080"/>
              <a:gd name="textAreaBottom" fmla="*/ 275400 h 289080"/>
            </a:gdLst>
            <a:ahLst/>
            <a:rect l="textAreaLeft" t="textAreaTop" r="textAreaRight" b="textAreaBottom"/>
            <a:pathLst>
              <a:path w="21600" h="28896">
                <a:moveTo>
                  <a:pt x="0" y="0"/>
                </a:moveTo>
                <a:lnTo>
                  <a:pt x="21600" y="0"/>
                </a:lnTo>
                <a:lnTo>
                  <a:pt x="21600" y="28896"/>
                </a:lnTo>
                <a:lnTo>
                  <a:pt x="0" y="28896"/>
                </a:lnTo>
                <a:close/>
              </a:path>
              <a:path fill="lightenLess" w="21600" h="288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96">
                <a:moveTo>
                  <a:pt x="21600" y="0"/>
                </a:moveTo>
                <a:lnTo>
                  <a:pt x="21600" y="28896"/>
                </a:lnTo>
                <a:lnTo>
                  <a:pt x="20200" y="27496"/>
                </a:lnTo>
                <a:lnTo>
                  <a:pt x="20200" y="1400"/>
                </a:lnTo>
                <a:close/>
              </a:path>
              <a:path fill="darkenLess" w="21600" h="28896">
                <a:moveTo>
                  <a:pt x="21600" y="28896"/>
                </a:moveTo>
                <a:lnTo>
                  <a:pt x="0" y="28896"/>
                </a:lnTo>
                <a:lnTo>
                  <a:pt x="1400" y="27496"/>
                </a:lnTo>
                <a:lnTo>
                  <a:pt x="20200" y="27496"/>
                </a:lnTo>
                <a:close/>
              </a:path>
              <a:path fill="lighten" w="21600" h="28896">
                <a:moveTo>
                  <a:pt x="0" y="288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96"/>
                </a:lnTo>
                <a:close/>
              </a:path>
              <a:path fill="darken" w="21600" h="28896">
                <a:moveTo>
                  <a:pt x="3794" y="10949"/>
                </a:moveTo>
                <a:lnTo>
                  <a:pt x="4707" y="10949"/>
                </a:lnTo>
                <a:lnTo>
                  <a:pt x="5090" y="11315"/>
                </a:lnTo>
                <a:lnTo>
                  <a:pt x="14299" y="11315"/>
                </a:lnTo>
                <a:lnTo>
                  <a:pt x="14856" y="11872"/>
                </a:lnTo>
                <a:lnTo>
                  <a:pt x="14856" y="12420"/>
                </a:lnTo>
                <a:lnTo>
                  <a:pt x="16701" y="12420"/>
                </a:lnTo>
                <a:lnTo>
                  <a:pt x="17067" y="11872"/>
                </a:lnTo>
                <a:lnTo>
                  <a:pt x="17806" y="11872"/>
                </a:lnTo>
                <a:lnTo>
                  <a:pt x="17806" y="17024"/>
                </a:lnTo>
                <a:lnTo>
                  <a:pt x="17067" y="17024"/>
                </a:lnTo>
                <a:lnTo>
                  <a:pt x="16701" y="16476"/>
                </a:lnTo>
                <a:lnTo>
                  <a:pt x="14856" y="16476"/>
                </a:lnTo>
                <a:lnTo>
                  <a:pt x="14856" y="17755"/>
                </a:lnTo>
                <a:lnTo>
                  <a:pt x="5273" y="17755"/>
                </a:lnTo>
                <a:lnTo>
                  <a:pt x="5273" y="13525"/>
                </a:lnTo>
                <a:lnTo>
                  <a:pt x="5090" y="13525"/>
                </a:lnTo>
                <a:lnTo>
                  <a:pt x="4707" y="13891"/>
                </a:lnTo>
                <a:lnTo>
                  <a:pt x="3794" y="1389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740560" y="1413000"/>
            <a:ext cx="193356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62796-9CDC-4E0F-81F1-A62C6975D8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Mapa y Territori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44720" y="27000"/>
            <a:ext cx="755964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-3240" y="101520"/>
            <a:ext cx="9180720" cy="666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4155-40F1-48FE-B8CD-5FD07D7569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Objetivos d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Motivar en forma práctica, el desarrollo de habilidades y competencias personales básicas a quienes aspiran a continuar una carrera ejecutiva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14BBD-0F04-4DFF-BFFE-80F2BCCE53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Objetivos Específic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Aprender los comportamientos básicos que se espera estén consolidados en un ejecutivo medio o superior, identificando los propios y conociendo herramientas para su desarrollo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nocer e identificar capacidades en las áreas Relacional, Emprendimiento, Enfrentamiento y Resolución de Problemas, aprendiendo elementos prácticos para el desarrollo de esto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nocer los aspectos básicos de la problemática del cambio y los elementos básicos de su gestión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Identificar los elementos que identifican a los equipos de alto desempeño y las empresas abiertas al aprendizaje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Obtener elementos que posibiliten una inserción más fluida del nuevo profesional, en el ambiente empresarial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5607-DEC2-4CCA-8A38-E9ECD1CC4C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Temas a tratar en 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Caracterización de las empresas y de su entorno.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Habilidades esperadas en los ejecutivo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Áreas Cognitivas vs. Relacional, Emprendimiento, Manejo de Conflictos, Enfrentamiento de Contingencia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Gestión del Cambio, Creatividad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Gestión de si mismo, Reluctancia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 de auto – evaluación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Las Organizaciones y su Cultura.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structura Organizacional. Elementos constitutivos y sus relacione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Desarrollo, Aprendizaje y Cambio Organizacional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Rediseño de Procesos, Sistemas, Persona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Cultura Organizacional, Percepciones, Creencias y Paradigma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Intervención Organizacional. Asesoría Experta vs. Coaching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La Comunicación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l lenguaje como sistema Representacional y Comunicacional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Modelos comunicacionale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l Proceso Comunicacional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Comunicación Efectiva y Escucha Empática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 de Competencias Comunicacionale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FDF66-99E0-459E-808A-7D97A6C8BF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Temas a tratar en 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87040" y="16729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Presentaciones Efectivas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Consideraciones clave de una Presentación Eficaz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structura básica: Apertura, Cuerpo y Cierre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Presentaciones Creativa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Manejo Escénico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Recursos Audiovisuale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Liderazgo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l Liderazgo en el ambiente empresarial de hoy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Componentes esenciales del Conductor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Actitudes básicas del Lider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mocionalidad vs. Racionalidad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Liderazgo de si mismo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Equipos de Alto Desempeño.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Objetivos compartido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Aprendizaje individual y complementaridad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Del Equipo de Alto Desempeño a la Organización de Alto Desempeño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88D9B-F615-4C3D-940A-D65D7F07F3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Temas a tratar en 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Intervención Organizaciona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mprendiendo el comportamiento organizacional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a organización Visible y la Oculta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as Estructuras de Pod.er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strategia, Procesos, Estructura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Gestión del Cambio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Elementos de Control de Gestión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Tipos de Control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Balance Scorecard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5BDD0-9856-43D5-85F5-83EF2C5161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Temas a tratar en 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Administración del Tiempo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onsideraciones Prácticas Relativas al Tiemp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Manejo de Agenda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onsensos y Acuerdos de Optimización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Herramienta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Taller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lementos de Negociación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¿Porqué el Negociar?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Métodos de Negociación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El Poder en la Mesa de Negociación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Manejo y Resolución de Conficto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Taller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0FC0A-6780-4065-B7EF-987C7D5856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Identificar requerimientos Empresariale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Auto evaluación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Herramientas prácticas para el desarrollo de competencias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Generación de instancias de aprendizaje de factores “Soft”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Gestión del Cambio Persona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209C-A903-4005-8462-4A493449A5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23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E7226-E105-41BE-9909-213123E135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2400" y="115920"/>
            <a:ext cx="8864280" cy="6062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3480" y="4621320"/>
            <a:ext cx="89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ff"/>
                </a:solidFill>
                <a:latin typeface="Arial Narrow"/>
              </a:rPr>
              <a:t>PREPARAR EL ATERRIZAJ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2D221-518C-4A60-AF76-85CD8B5F04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6600" y="44280"/>
            <a:ext cx="8975880" cy="684072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8748720" y="659772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B77A7-6BA2-453C-8950-097C58A727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58680"/>
            <a:ext cx="7561440" cy="670896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8748720" y="652464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C6070-C2F9-4027-BF41-8BFF958DB6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52680" y="44280"/>
            <a:ext cx="6404040" cy="666936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8675640" y="652464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0D38D-E107-47B9-B79D-CBB594562E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Fusiones en Mercado Telecomunicaciones en Chi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43040" y="2543040"/>
            <a:ext cx="8076960" cy="215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A7C7B-95A6-4D8B-A234-A0442C4B94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1280" y="695160"/>
            <a:ext cx="8076960" cy="512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FCABF-7C25-44D3-9B31-B28C5E4C211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125800" y="189000"/>
            <a:ext cx="5533920" cy="564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4AF88-B58E-4949-A86A-25E85EBEB1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ONTENIDO DE LA PRESENTACIÓ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0769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Caracterización del medio laboral actua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Desafíos que enfrentan las empresas y organizacione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Características esperadas de los nuevos RRHH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Interrogantes propias del futuro profesiona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Objetivos del Curso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Temas del Curso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Conclusiones y pregunta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546C-EEDE-4B32-B746-4ED476EFC1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aracterización del Medio Laboral Actua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 rot="20938800">
            <a:off x="610920" y="1763640"/>
            <a:ext cx="3962160" cy="1432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 rot="792600">
            <a:off x="3708000" y="1699920"/>
            <a:ext cx="3962520" cy="971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11280" y="3273480"/>
            <a:ext cx="4752720" cy="2558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 rot="1108200">
            <a:off x="6011640" y="1989000"/>
            <a:ext cx="2328840" cy="4365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2195640" y="2133720"/>
            <a:ext cx="4968720" cy="269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1B928-9F6F-42B7-8C48-7CF9EDF661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Radiografía Mercado Laboral Trimestre Marzo Mayo 2006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Tasa de desempleo llega a un 8,7 %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recimiento de 4 % (256.120 personas) en la incorporación a fuerza de trabajo, c/r igual periodo 2005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recimiento de un 3,6 % en la creación de nuevos puestos de trabajo (209.650 puestos adicionales)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Tasas Desocupación Regionales: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Curicó 5,8 %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Talca 8,5 %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Linares 10,1 %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Chillán 7,1 %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4403880"/>
            <a:ext cx="216000" cy="276120"/>
          </a:xfrm>
          <a:prstGeom prst="upArrow">
            <a:avLst>
              <a:gd name="adj1" fmla="val 50000"/>
              <a:gd name="adj2" fmla="val 319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87560" y="5003640"/>
            <a:ext cx="216000" cy="276480"/>
          </a:xfrm>
          <a:prstGeom prst="upArrow">
            <a:avLst>
              <a:gd name="adj1" fmla="val 50000"/>
              <a:gd name="adj2" fmla="val 32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692440" y="4720680"/>
            <a:ext cx="216000" cy="276120"/>
          </a:xfrm>
          <a:prstGeom prst="upArrow">
            <a:avLst>
              <a:gd name="adj1" fmla="val 50000"/>
              <a:gd name="adj2" fmla="val 319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720880" y="5361840"/>
            <a:ext cx="216000" cy="276120"/>
          </a:xfrm>
          <a:prstGeom prst="upArrow">
            <a:avLst>
              <a:gd name="adj1" fmla="val 50000"/>
              <a:gd name="adj2" fmla="val 319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27280" y="115920"/>
            <a:ext cx="3940200" cy="655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5BB38-906F-471B-97EE-DC6723FBDA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Mercado Laboral Profesiona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28 % de ofertas empleo último periodo corresponden a ingenieros civile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Ofertas de cargos: Gerencias, Subgerencias y Jefaturas de Área.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15 % corresponde a ingenieros comerciale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Ofertas: Ejecutivos de Negocio, Product o Business Manager, Analistas, Supervisores de Venta y Ejecutivos de Cuenta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La mayor oferta (34%) para técnicos es para ejecutivos de venta.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Sectores de mayor demanda de profesionales son Industrial (28%), Servicios (21%), Comercio y Distribución 13 % e Informática 9 %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26080" y="2425680"/>
          <a:ext cx="3962160" cy="239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6080" y="2425680"/>
                    <a:ext cx="3962160" cy="23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52113-7EEA-4CF9-8E72-C8BB686873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Narrow"/>
              </a:rPr>
              <a:t>Desafíos que enfrentan hoy las Empresas y Organizacion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En el Global Competitiveness Report  2004-2005 (WEF), Chile se ubica en lugar 22 (sube 6) del Indice de Crecimiento Global GCI, entre 104 paises. 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En el Índice de Competitividad de Negocios (BCI), se ubica en el puesto  29 (sube 3) 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En el Índice de Competitividad Global (GCI)  se ubica en el lugar 29 (nuevo)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Chile se distancia fuertemente de América Latina, respecto del GCI (lo sigue México, 26 puestos más atrás)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6615000" y="2476440"/>
            <a:ext cx="144720" cy="144360"/>
          </a:xfrm>
          <a:custGeom>
            <a:avLst/>
            <a:gdLst>
              <a:gd name="textAreaLeft" fmla="*/ 9360 w 144720"/>
              <a:gd name="textAreaRight" fmla="*/ 135360 w 14472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5219640" y="342900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3624120" y="4376880"/>
            <a:ext cx="144720" cy="144360"/>
          </a:xfrm>
          <a:custGeom>
            <a:avLst/>
            <a:gdLst>
              <a:gd name="textAreaLeft" fmla="*/ 9360 w 144720"/>
              <a:gd name="textAreaRight" fmla="*/ 135360 w 14472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55FF-B74C-4664-ACD0-35FA52785D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Desafíos de las Empresas y Organizaciones de Ho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Fuerte competencia afecta a márgenes, exigiendo importante control de costo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lientes informados exigen cada vez más por menos. Mínima a nula fidelidad. Necesidad de entregar calidades creciente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iclos de negocio cada vez más cortos, impulsados por competencia y cambios tecnológico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Requerimientos crecientes de profesionales especializados. Fuerte tendencia a la externalización de lo que no esté en el centro del negoci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Debilitamiento del vínculo lealtad RRHH – Empresa =&gt; alta rotación de personal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apacitación permanente del personal y continuos esfuerzos por obtener equipos de alto desempeñ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Dirección en ambiente incierto, con muchas variables exige ejecutivos con decisión, informados y aceptadores de riesgo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0AEE1-D258-480F-8841-6EF61960F0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Desafíos de las Empresas y Organizaciones de Ho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iderazgo, Comunicación, Clima Organizacional, Equipos de Trabajo, temas claves y no siempre bien enfocado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apital Intelectual: Personas, Conocimientos, Experiencia, Información, Actitud, Valores, Aptitud ante el Cambio, Resilencia Organizacional, factores no siempre bien ponderados (85% del valor de la compañía)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Velar en forma creciente por equilibrios con factores ambientales, regulatorios, políticos, sociale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mpras, expansión, fusiones, internacionalización, etc. Factores de permanente vigencia y que pueden ser amenazas y/u oportunidade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5A31-CC79-4AF0-BCB0-C1223B8BC1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3:10:07Z</dcterms:created>
  <dc:creator>mmonsalves</dc:creator>
  <dc:description/>
  <dc:language>en-US</dc:language>
  <cp:lastModifiedBy>Alvaro Silva Madrid</cp:lastModifiedBy>
  <dcterms:modified xsi:type="dcterms:W3CDTF">2006-08-07T23:04:35Z</dcterms:modified>
  <cp:revision>50</cp:revision>
  <dc:subject/>
  <dc:title>C     </dc:title>
</cp:coreProperties>
</file>