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D968C-5567-446C-AB47-946A98F00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058DE309-DB34-49BA-94C2-9160C80D8F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E831BF8B-FE21-4295-8EA6-B0B2C18FE5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A4B147A4-DEE6-45EE-8FA5-A8B573FF5F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44E5FE-B408-4711-9C4A-6115B5E9B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DAF338-78EF-4930-9EA4-3F1D2AB21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C5F524-0F8E-4D20-9935-23D8626BA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A50513-B075-4C3A-B369-ABB28029D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FF1836-9338-4B62-A144-3E7F477A1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FE58C1-5B12-4485-9BF5-D13F0C86D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838ACE-10B4-43F1-9330-30FF73F33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FC3C029-E87F-4C02-A506-87FD066C6E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AF54AC-6BE2-4B8F-8332-DFD3422DE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75AD3E-DC9F-444E-A1B0-DFCE82711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C5B5FC-A4A0-4606-AA53-ED6DF8F7F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98CD75-1B6C-47AE-98E5-09231F25E9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5614F0-A4E8-4EBD-B272-498218FCA4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5F7F0399-1B69-44FE-B396-295710C42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79B9C679-95BD-4502-8D7D-52EE33849B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B3A03C4C-FE50-4E49-A264-6256D2FAD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62D5E237-A53B-44E0-A94C-FC6657CAF6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D1BB6C4C-2B83-4633-8387-DC761068DC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13958ECE-11AE-47D6-AA5E-CEEF4F2A3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BAE1152C-7BD7-4B99-9BE3-341E4B027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DF64-FDD4-4E43-A9CA-09C5DD51C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BA738BFB-C177-4AE9-8B7D-08022C901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331CAD17-BCCD-4450-90F6-78DC5E152E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4BBBECA2-B90E-4643-A19A-10E71DEF8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14C72176-BE86-4923-9352-44EF130A25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D9618985-7A30-470F-9FFD-BA974EFAA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0D45189B-099A-4386-B4D3-ACDC95B61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726451DB-1F08-4E05-90A3-45705572B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BFED83B-CBBF-4FEF-971D-D10A464A08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F17FF10-655A-4FCC-990D-9A57E6CB58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BD36A43-2AF0-412E-9832-E2CE294D2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105E1EB9-689F-4482-849D-598745EB9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6D48000-AC9E-49AC-A0BE-222DA6DBB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F482D12-D5D2-489A-9DEE-FE48C443CE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7EA38999-7468-4F9F-8555-B68228BE0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A7C8857B-DAA4-4BFD-8E8E-888DAA50B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8413EA2-811A-47E4-8170-24CA80C9E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4303CFD-00E6-42B4-BFCA-58A50B2FC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5B39B8B-D795-4895-A6C5-B4A50980F4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D654B43-D1B3-4FF8-9C81-C75912F62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ED7688F0-F32E-46DB-A70C-CD8FE8949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E78AD60-73EE-41C6-BBEB-4796E819C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EFA52A14-BBBC-4A0B-8DCC-8114885654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E53E2826-D398-4D76-8936-AB519D447D7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4FA6C30-4EA1-4568-90F1-2CD2EC6469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8C7DB79-7CD7-4E6C-9649-8E5326052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B64959A-11BC-4D3C-8501-42F106E59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508FE55-53CD-4163-9310-95510A354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1T11:44:44Z</dcterms:modified>
  <cp:revision>84</cp:revision>
  <dc:subject/>
  <dc:title>C     </dc:title>
</cp:coreProperties>
</file>