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C719CE-B0EA-40A5-81BB-D7B3EBE38F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F4A320A-5BDE-4635-AFB3-36D68689D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55649C59-EA3C-4EDA-878F-8AED7248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0A69E66C-FF1A-4310-BC73-8DCF70D408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6A43E4-F632-4A31-9BDC-089A24726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412AA-C754-4723-8F23-46218EEAF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C29A4-9039-42B3-BED9-AD9532A6E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99C1C-13F3-4883-87EC-2C7E36470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94E6B-9945-455E-B1F8-7A8050447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BF70B-47C4-4B95-B9F3-AFEE3DF07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B1CF9-AF8C-496D-AFB8-A8C2A378B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82297B-3F5A-47B6-8988-EAE43E885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A3E5F-2026-4136-A14F-7EB8C37EB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D6EE2-9175-47B3-BABF-0FD08DA5B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5ED01-8A61-4E4E-98FD-630D309D6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4DB446-86C8-4237-B864-36A4981FA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AFA7B3-5F05-4BB8-9315-2E66050A2F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9BB203-83AB-4D09-8154-DA2479B9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C838835-AB09-4ECE-BE07-05E8C888F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B1F0496B-B84E-4566-AECE-E96E6ACF4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4192B0F-FADC-4763-AC3B-4C1968516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12A9BD0-3E78-45A9-A671-4F9DE2AF4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691C43C-6F2E-4A4D-9E0F-1D865E2B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B010747-B015-4B16-801E-7E397B3B0E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4842-D2E4-4291-9F61-C27A8746814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0281-1A9B-4AD1-BD5D-6AD3F150876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A26843-0345-4E4A-A17C-64435643A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70BA7458-6758-4D19-A128-9B100C2AA4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15C560-627C-472A-9FEB-D75D7DFD8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E631DAD-9FA6-4263-BD1C-0CCB3D1B17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039F74E2-7D92-4BEF-9C47-1034A3634A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2DAD3900-DAA4-43F1-9FA8-857C6DCAB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49988C-737C-4038-8C82-EF4E5F6851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434AE68D-534D-474F-9021-2AF585C09732}"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9EF708-3A8F-4FAA-8CAE-B43AC8DF2A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6FF68E-E478-488C-8187-F1E4A097FA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6F9891-30CD-4916-8B20-8FA0470B7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6)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4DC6FA-29F3-49E8-9736-C718859E5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593DDB73-D2BC-446C-AF1B-F781510660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B0A006-D057-46AD-B79B-CCFEC619A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7C327D2E-6FF9-4459-B5A3-24C833428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CDFAF39-DE41-4F8E-B8DB-708AFDE2B1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50Z</dcterms:modified>
  <cp:revision>261</cp:revision>
  <dc:subject/>
  <dc:title>Módulo1_Tema1_Diplomado</dc:title>
</cp:coreProperties>
</file>