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9FA20-352A-4214-947C-531BA5585E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F2B90010-98F4-4451-B4E8-4706BEC2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85090C3-1738-4B84-B724-42AE1ABE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CA776A4-65A8-48C5-9A62-6EE564784E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94437E-39CA-4044-8335-4A392F758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7C82F-CB78-4FD7-8255-8EB441C82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24BD2-110C-47AD-809C-537A04D41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3836D-1A7C-4C3A-8234-7C9391116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75E71-2176-450B-855C-BE04336F2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FAD84A-0355-4CB4-B130-D0B84F24F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460C4-C2D1-4D38-A40A-B3FD45EFD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1D9984-3FA3-4186-B85C-C1FD8078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B31A4-F3BE-431D-8527-2C95A5607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DFA8D-3812-4BAD-9878-76BCA7FA4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705B83-22DC-48C2-9550-D6716D73D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B460E9-E9F6-44EF-9D40-70A7EE715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F19B6-8D6D-40C1-8A2E-A3CD9743E4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35B417-3FF9-492A-88A8-FD46FE45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E21533E-5CDC-44AB-94C5-F1FF09ED9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CCA12832-5EF2-43DB-8B2B-8B1CC7BD1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32FDAAB-7F93-4F8D-A2CA-516F55869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DDF187A-5F04-42DA-A24C-44F0C77B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1666773-FB23-4663-9240-0DAD3CDA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550F03A-8E34-44DF-9280-48BC641335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0D30-6CE8-4DF6-8400-F5129847D5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9DE1-8C61-463E-AF66-9ADBDA6C2EB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DC27BC-24D4-4249-B122-2A55888F9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6E9DA4-4EEE-48E5-840D-140A4FE6E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B64E25-2EA3-4D39-BFEA-B1A9E1DD9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E64F00-C5B6-4499-B518-36F2975A37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9A06AADA-B074-4D2E-99D9-2FDAE9C31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87C938-8FF6-4469-8FE6-EA2142187C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3440C093-2799-4B9B-9AFF-ED04E6A4E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64298-8450-4DCC-B5D7-F498A74B0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2B681A87-810F-45EA-BF3E-C647F57C2E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E72752C4-047D-40FD-9F5E-D2283A11A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463808A-D9A5-4473-B241-77D7519F5E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9684C-8E68-4753-BDA9-F3D2AC577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BFE5C2-EB1C-4C9B-B006-DA584BAAE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D5BDAED4-D438-46DE-B496-5433CBDDA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C52445-2023-4600-99BD-E689639D8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A815787C-7944-4AAE-85C9-E37547F927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83193F97-8D01-400E-A946-DA7C845BE1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8D1B1917-F252-4355-8186-017841E5F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6BCAC677-D181-4357-BA62-C09A16ED7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2FD0F0-B92B-4663-917A-B12DF2190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8130CEE9-1AE7-4C98-AEAB-7E821478D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4BD4854-493E-4C3E-A53D-83D1E5849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00E56E-864C-4FA8-8245-EB0B371C76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0EC35D-1175-414B-8409-2F449B7F5B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F31B5B-61F9-4908-B5EA-B4F8AC3E60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24053A-D6A6-493E-A7F8-BDBE551A4C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7097E-719E-425F-AD24-603C0C59A6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B31E13-8B87-424F-8386-4D3C060359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40F5E2-D48A-4641-B073-F189D000F63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A48882-5B9D-4208-B53F-D99BE5117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AD6A75-E023-4E9F-A316-D131F34C6E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A7E171BE-5225-4E0D-B86C-21ECB6B04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0E3F38BE-6E47-4A11-B4AA-D18162D70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0B4FD2C2-C5E2-43CE-87C0-80D4A65D71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DBA773D7-0B7D-4FB6-B15C-15AA10A30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35Z</dcterms:modified>
  <cp:revision>254</cp:revision>
  <dc:subject/>
  <dc:title>Módulo1_Tema1_Diplomado</dc:title>
</cp:coreProperties>
</file>