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A38C06-7C71-486B-8AAE-A184429247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7972E85-A48A-41E9-9D81-773DF4CC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2F3B95D4-7723-4C8B-A307-353818179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1CF28A44-1CA6-426A-9D4C-99685FEDB7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2F463D-B8B1-40C4-A951-B083886EA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4BF38-E197-45FD-89CA-0DB15B01D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83AD6-195E-4056-9538-3B69E1D96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23F10A-F978-48D2-B72F-7BA869418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984F2-9B59-4022-ADA6-D3739861F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4E12D-8D62-48E1-A5B0-6ED4EBB5E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9ED4C-59B4-4712-BC49-6DD60F5BD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BB8592-8F5D-4BF5-B649-71AAAD48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BA64E-DBF8-4AE4-8233-235163813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12317-4196-4BEC-8DBE-CAA7E153F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6BAFA-959A-4F79-A228-097232896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D5880-35CB-4738-930A-55841D6684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E2DD1-ED53-4A3B-9B1A-EEA0F6F52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565E45-14BC-4101-B217-56543124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4D6AFCD-E56A-4960-89BD-FCF45EDA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06987D79-C41B-4244-B1D0-E609DB9B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10B9DD2-94DC-46DD-BF60-B136BADD2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9E62378-8756-4EA5-ACAC-FE2334C1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48DE686-0412-459A-AF56-E90D1E7D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E953C78-2D41-4BA5-80E9-FE988A7A07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1E0B-53AC-422F-8651-8660855EE91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0C54-74FD-40E3-B04F-EB763A3185F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394C33-E9E5-4FF0-957A-A3C09FC73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0C2041-8559-40FB-B6A7-835AFB9C5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E4DE6-8C87-4CEB-9702-9B68ED893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50BDBE-A0FD-48B1-8AC3-E8FB88325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90C7B14B-8781-43A1-AF03-E18D4EC32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08C183-EA13-4DDC-AF92-BDDCA2C98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0EB379C2-95B7-4085-8979-E4C61358D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9839D-49AB-4A21-B9A4-28BD3FE479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C02FDB9E-971A-4B10-8B92-E582F5038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3FE72A23-77C6-40E3-ADAB-9F37B8670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E995EB7-F29C-44DD-AB9A-CCD535607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26B206-53A8-40CC-B11E-6AD0F1871B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11F223-5F61-4C91-8661-9330A3414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97C08E5E-DBB6-402B-BDC8-9670DE4FAF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B94866-B6CF-452C-A438-41E0248E7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10EF477E-32CF-4D71-BF2E-7726D4C81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89B2BEE5-5727-477B-B078-2FCAC19F1E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B1EB2E41-F83C-461B-9117-08891D6D7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F85D8A59-6848-4020-8C89-013BB84A2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0BFB67D-F76F-43FE-A544-83B36295B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DBCA7313-18DB-4245-B95B-B0601F3A7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6A48E04-885C-46C9-9C41-B293EB610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84576F-7836-4621-8356-6834764DEA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252F9D-B3DA-43A1-A071-9D578A26D5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3538E-8FD9-4D36-9819-37ED60F1DC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5CAD6E-A9EF-4046-A780-68CA870688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7DB20D-DDD9-4E70-BC4C-FD5116555C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3AB076-5BDA-4982-B41B-D553FE4226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E45DA1-2841-4E36-A656-DD0ACB22BFF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4B9843-28C0-42BA-BEF2-A008EB4734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A95989-077D-492A-AE01-80DAC362E6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BD7EEE8-E42D-4ACB-B4A8-F9734BEE9D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CC8E22BD-92D0-4A1B-A1AE-927ACBA0F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76D8EA96-CC22-4A02-9B03-6910249C6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179FC5B1-A849-403C-B368-08A38FECA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35Z</dcterms:modified>
  <cp:revision>254</cp:revision>
  <dc:subject/>
  <dc:title>Módulo1_Tema1_Diplomado</dc:title>
</cp:coreProperties>
</file>