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844009-0599-4F08-ABD1-5AA2872748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02CDB1E-E48A-4812-9910-BC619CAFC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AE194FF0-81C6-4D80-9764-094BEF76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62C0450B-2AFB-4469-A8B3-579EF2097B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876E9-95D5-4D5B-A109-0CDCECB80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4D891-D45E-4E6D-ADA8-55BF81596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9A4BB-7A7E-4A5F-97D6-DE6378E9F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EC147-4462-47DD-992D-6016361C7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AABB7-A352-4E18-9667-2BCE4E779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E286D-2212-43A7-9EBE-65F68C9FB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7F15B-72D8-4FF6-A832-29FA360DE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157B79-E01F-4975-82F3-F7C03FC6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07B6D-28BE-431C-A774-CA0166CFD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18F28-55A8-4D73-AACB-6615DD3F6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204DD-B0AC-4297-8C30-7A56A66D0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52C59D-F349-4CB2-B61B-68EBD0FB38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67AEE3-E8AD-4EDD-95F7-4F0A7BD05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2E4B50-F519-4DA7-9DDB-7E561BD36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2FAAC23-4AEC-43DD-84DA-ED1EDAED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50661750-3551-45B3-9139-BBA191423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3DEEE2E-69AC-468D-90A7-70C5A42EB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ED95BF4-3E6B-46FC-AF66-C17EE62C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A23DFA0-1685-46DD-9C32-E800F141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F4D9020-3C0C-418A-AAF1-CA3684CD1E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1840-0732-4720-B383-EC9BE190FDE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6E8B-A092-436E-A11A-E4023484153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A0D01D-AD91-4EE1-AD1E-9DDB261D74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2CF630-9467-4544-BEB6-28E0A5131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F3F7A7-DB31-49A9-801C-ECFA0E706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FAE376-4C42-40B4-A149-40F6EAEB1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5A4D90EF-A6A5-4F2E-AB3D-0BC6801CC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D79998-3CD1-466D-9DC0-751A698CC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E54D371A-4CF4-4613-A359-A10845242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CCDD0E-7FD9-4A28-9292-109A71D1C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93283C48-1D80-4129-B286-2D8DE9065B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1ECC56ED-EFAF-47DA-A524-84418F0277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F070A433-CE4D-4F1C-AAD0-B650728C7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9C089C-2E3A-4A2C-B283-758437797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C997CC-2337-4A6A-B5A5-16DA77AD7E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8E0CCE73-CBB1-4642-B314-7CC70D4D3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DE7732-DF25-4688-9D99-808E480CC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2F267A38-4B9D-41D7-8208-741DCB40F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537D0BFB-9EF7-4948-9C42-D68FCF14F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F46F7763-FA23-4ED4-905F-E6C932FC7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048D7D61-633C-49B9-8AFC-BB219A926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2142478-A943-4161-B65D-0457E0A13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FDEE2DEC-CD64-4C56-BF99-1452A094F7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00872DC-0510-420C-B1D7-81A039D3CC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E6BE01-03D3-49BE-89A4-9AB9BCAF67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8D1EDD-1F49-4E6D-82C3-4BFB449933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E6F936-7C34-406C-8E5F-97C25D7148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21634B-566E-4ABD-A9A4-DBAA160230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DD905D-AD03-47EF-A258-F81589E44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07A33F-CF9D-4DF3-A333-1C493BE824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0DE010-9D95-4701-9EE2-936596480B5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9578DB-EC47-4230-858B-13A019E6D9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87D0E0-AF28-4A4A-AB5C-219643F4C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ED3759FC-1554-46DE-A32B-2D0BCB0324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08FFDEBC-6216-4580-AF8E-877F843F5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A3E40580-50CC-43B6-B0E8-27D8187BC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1E3B867D-B85A-4DC5-8BC8-A98D0DCE4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35Z</dcterms:modified>
  <cp:revision>254</cp:revision>
  <dc:subject/>
  <dc:title>Módulo1_Tema1_Diplomado</dc:title>
</cp:coreProperties>
</file>