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DF3-9E6A-4292-A74D-D1BC5310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FAD-12FF-435D-801C-A93ED30F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515-9A8A-432B-A45A-00D9907C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BAF-588F-4B22-A0CF-6885CAF9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48B4-D7B9-4036-AB97-854E0752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886-B49A-4BF4-AE09-B986800E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E96-6F85-41F6-937F-A8EAEF00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7B6-0F90-444E-B579-C960CFDC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EB9-4B42-4E13-B731-A2316F20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95F-312C-467E-8F89-CA4820EF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E3C-388D-40E5-9255-6FA12717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8ED-EF55-431F-A3F9-EFCB7139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E7D5-262D-4992-8A1C-B57A7A46A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torrest</cp:lastModifiedBy>
  <dcterms:modified xsi:type="dcterms:W3CDTF">2006-09-12T20:53:54Z</dcterms:modified>
  <cp:revision>14</cp:revision>
  <dc:subject/>
  <dc:title>Gestión de Empresas de Telecomunicaciones EL 65J Apunte 3 Gestión Comercial</dc:title>
</cp:coreProperties>
</file>