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4781-926C-4B98-BE50-3CFD410CB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B624-E420-4539-B019-6AB9F3973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C2C5-6BDC-4F04-BBF1-A4A24C2E3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0E19-8C75-4FB7-AD85-71B7F5DDF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85A5-AF6F-4920-BC8B-6A0130268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2C93-E3A2-4455-9845-C48522295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61CB-6439-4E18-9960-3F6AD5958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7D7E-515C-4F97-860B-E42470CDE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0C5C-E3E0-4209-9623-2CFE6FF31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1897-2193-497F-AD9E-99C76CFC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7B89-C03D-4C2B-83C2-740936F8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C847-7759-4B84-AEA8-0532AD81C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F5B64-31FC-4BD1-A8B1-00CA2D0E04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Gestión de Empresas de Telecomunicaciones</a:t>
            </a:r>
            <a:br>
              <a:rPr sz="4400"/>
            </a:b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L 65J</a:t>
            </a:r>
            <a:br>
              <a:rPr sz="4400"/>
            </a:b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Apunte 2 final</a:t>
            </a:r>
            <a:br>
              <a:rPr sz="3000"/>
            </a:b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Gestión Comerci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0288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José Miguel Torres To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mestre Primavera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Segm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1676520"/>
            <a:ext cx="5029200" cy="3809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62320" y="2133720"/>
            <a:ext cx="160020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371600" y="2438280"/>
            <a:ext cx="160020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7920" y="3048120"/>
            <a:ext cx="160020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66880" y="2895480"/>
            <a:ext cx="160020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96040" y="18288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48360" y="331776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g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14440" y="4010040"/>
            <a:ext cx="160020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30240" y="5715000"/>
            <a:ext cx="76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Existen criterios de segmentación más eficientes que otr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965920" y="3228840"/>
            <a:ext cx="6858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946200" y="3124080"/>
            <a:ext cx="200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ocer mej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l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15240" y="3032280"/>
            <a:ext cx="213336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Variables de Segm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eo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aís, ciudad, reg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mo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dad, GSE, nivel educacional, raza, ciclo de v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sico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stilo de v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ntereses busc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spir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or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ntensidad de u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Ocasión de consu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Tipo de usu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Grado de lealt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38800" y="3216240"/>
            <a:ext cx="417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Cómo determinar los crite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de segmentación más eficien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91320" y="4267080"/>
            <a:ext cx="1600200" cy="838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33880" y="5246640"/>
            <a:ext cx="315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ESTUDIOS DE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Algunas preguntas aplicadas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¿Cómo se segmenta el mercado L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tern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¿Cómo se segmenta el mercado móvi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epago/Postp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ersonas/Em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¿Cómo segmentaría los siguientes mercad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ternet de banda anc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atos corpor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enta de comput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30960" y="2225520"/>
            <a:ext cx="21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33cc"/>
                </a:solidFill>
                <a:latin typeface="Times New Roman"/>
              </a:rPr>
              <a:t>¿Cuál es su opinió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33cc"/>
                </a:solidFill>
                <a:latin typeface="Times New Roman"/>
              </a:rPr>
              <a:t>¿Es la única maner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16120" y="3444840"/>
            <a:ext cx="244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33cc"/>
                </a:solidFill>
                <a:latin typeface="Times New Roman"/>
              </a:rPr>
              <a:t>¿Existen otros criterio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33cc"/>
                </a:solidFill>
                <a:latin typeface="Times New Roman"/>
              </a:rPr>
              <a:t>¿Qué hace ENTEL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33cc"/>
                </a:solidFill>
                <a:latin typeface="Times New Roman"/>
              </a:rPr>
              <a:t>¿Qué hace SMART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Algunas reflexiones sobre segm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segmentación no es más que descomponer el mercado en oportunidades de nego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Tiene una connotación estratégica clave la elección del mercado al cual voy a serv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 conveniente usar varias varias de segmentación a la vez para perfeccionar la predicción del comportamiento de comp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uidado con la complejidad exces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cto de diseñar la imagen y productos de la empresa de modo tal que los consumidores preciban su diferencia en relación a la compet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Una estrategia de posicionamiento consta de los siguientes pa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dentificar posibles venta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leccionar las ventajas adecuadas y alcanz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rear la diferenciación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unicarlo eficazmente al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ótese la importancia de la variable de comun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BD05552_" descr=""/>
          <p:cNvPicPr/>
          <p:nvPr/>
        </p:nvPicPr>
        <p:blipFill>
          <a:blip r:embed="rId1"/>
          <a:stretch/>
        </p:blipFill>
        <p:spPr>
          <a:xfrm>
            <a:off x="6934320" y="4800600"/>
            <a:ext cx="205740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n resumen, el posicionamiento es una IMAGEN MENTAL de mi marca y mi producto en la cabeza del cl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No necesito cualquier imagen mental, necesito aquella que MOTIVA LA COMP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lo anterior, Posicionamiento y Segmentación están relacion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2280" y="5349960"/>
            <a:ext cx="882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Imaginamos a los buses Mercades Benz como de luj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Tiene ENTEL la misma imagen en un Gerente de IT que en un jov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Recordemos que en estrategia hablamos de que la elección estratégica al final determina asignación de recur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eso no siempre voy a ser eficiente en servir todos los mercados de la mejor manera ni en tener la imagen de marca más recordada en todos los segm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o anterior cuesta $$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ducta del Consumid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BD06663_" descr=""/>
          <p:cNvPicPr/>
          <p:nvPr/>
        </p:nvPicPr>
        <p:blipFill>
          <a:blip r:embed="rId1"/>
          <a:stretch/>
        </p:blipFill>
        <p:spPr>
          <a:xfrm>
            <a:off x="3309840" y="3073320"/>
            <a:ext cx="1727280" cy="14986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761760" y="2346480"/>
            <a:ext cx="20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Punto de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95640" y="449568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Fami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90800" y="2286000"/>
            <a:ext cx="331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Marketing/Comun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5200" y="56991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Ami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91800" y="541008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Hist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58320" y="144792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Vende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436920" y="4800600"/>
            <a:ext cx="1523880" cy="6094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3436920" y="2209680"/>
            <a:ext cx="1523880" cy="6098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438280" y="3048120"/>
            <a:ext cx="3353040" cy="160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925600" y="4495680"/>
            <a:ext cx="26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Influencias exter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sumidor: Modelo de Comportami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66680" y="1676520"/>
            <a:ext cx="7162920" cy="3504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95480" y="2209680"/>
            <a:ext cx="3429000" cy="2514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734280" y="1828800"/>
            <a:ext cx="16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72800" y="152388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texto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47920" y="33908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629400" y="3390840"/>
            <a:ext cx="1219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18600" y="2936880"/>
            <a:ext cx="14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ím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77840" y="297180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duc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97880" y="2657520"/>
            <a:ext cx="11973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Percep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Conoci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Memo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Aprendizaj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Emoc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Motiv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4160" y="3084480"/>
            <a:ext cx="90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Proces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Inter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 rot="5400000">
            <a:off x="5354640" y="3249720"/>
            <a:ext cx="952560" cy="218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NTENCIÓN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33908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90720" y="5181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secuencia es: Detectar la necesidad, propiciar el estímulo correcto para generar la conducta deseada (COMPR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43520" y="3433680"/>
            <a:ext cx="119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Influenc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exter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iclo de comp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e acuerdo a lo anterior, entonc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BD06663_" descr=""/>
          <p:cNvPicPr/>
          <p:nvPr/>
        </p:nvPicPr>
        <p:blipFill>
          <a:blip r:embed="rId1"/>
          <a:stretch/>
        </p:blipFill>
        <p:spPr>
          <a:xfrm>
            <a:off x="4010040" y="1905120"/>
            <a:ext cx="1727280" cy="14983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295280" y="1752480"/>
            <a:ext cx="2133720" cy="83844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erson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95280" y="2971800"/>
            <a:ext cx="2133720" cy="8380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flu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ter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00800" y="2133720"/>
            <a:ext cx="2133720" cy="10666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cisione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81280" y="2286000"/>
            <a:ext cx="53352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3581280" y="3200040"/>
            <a:ext cx="53352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15000" y="26668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4267080"/>
            <a:ext cx="8077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Sin embargo, usualmente “no estamos solos” en el proceso de comp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5486400"/>
            <a:ext cx="1752480" cy="838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r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152880" y="5486400"/>
            <a:ext cx="1676160" cy="838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su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81480" y="5486400"/>
            <a:ext cx="1676520" cy="838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ci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162920" y="5486400"/>
            <a:ext cx="1676160" cy="838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fluy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4400" y="5334120"/>
            <a:ext cx="8077320" cy="12189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19520" y="5791320"/>
            <a:ext cx="228600" cy="2286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76920" y="5791320"/>
            <a:ext cx="228600" cy="2286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05520" y="5791320"/>
            <a:ext cx="228600" cy="2286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509520" y="3263760"/>
            <a:ext cx="2333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Elección de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Elección de ma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Elección de lugar de comp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Momento de comp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Monto de comp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¿Qué es la Dirección Comercia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10080" y="1793880"/>
            <a:ext cx="55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PROCESO DE CREACIÓN DE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3200" y="2900160"/>
            <a:ext cx="268632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Escoger el V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eg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elección de 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Diferenci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162240" y="2900160"/>
            <a:ext cx="266724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Proveer el V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Desarrollo de Produ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Desarrollo de Servi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Valoración (Preci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Fabric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Logística/Distrib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172200" y="2900520"/>
            <a:ext cx="266688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Comunicar el V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Fuerza de ve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ubl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romo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RR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ar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ers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93840" y="5257800"/>
            <a:ext cx="672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El esfuerzo de marketing es un esfuerzo GLOB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dentro de una compañ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Influencias Extern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Influencias cultu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amilia, ética, trabajo, igualdad de los sexos, religión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Variables so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rupos de referencia (familia, amigos, colegas, soci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rupos aspiracionales (deportistas de elite, modelos, artistas de cine, grandes empresari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aceptación social y el sentido de pertenencia son claves en el comportamiento de consu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86080" y="5578560"/>
            <a:ext cx="818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Qué pasó con las empresas celulares cuando el mercado nací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Se acuerdan de los celulares de “palo”? ¿por qué pasab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aracterísticas personales del consumid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dad y ciclo de v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Ocupación y profe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tilos de vida (actitudes, intereses u opinion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erce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tención sele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torsión sele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tención sele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actores motiva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cala de Maslow (desde las necesidades básicas a las necesidades de trascendencia y autorealiz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40600" y="3657600"/>
            <a:ext cx="445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Se acuerdan de la segment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La demografía es insuficiente p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caracterizar a los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mpromiso con la decisión de comp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l compromiso de la decisión de compra se encuentra en función de los siguientes fact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iesgo financi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iesgo sic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iesgo de desemp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 de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 mayor riesgo, mayor compromiso y mayor racionalidad en la comp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iense en la diferencia que existe entre comprar un “Super8” frente a decisiones de consumo claves como elegir una carrera universitaria o comprar una c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Investigación de merc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onente de un sistema gerencial de información con el objetivo de reducir y optimizar la asignación de 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principales tipos de estudios de mercado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ocus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studios cualitativos sobre lanzamientos o características de produ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No entregan información numérica pero orientan sobre temas específicos a profundizar con un estudio cuantita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studios cuantit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ermiten obtener información cuantitativa respecto a aspectos específicos relativos a un producto o lanz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uelen estar construidos sobre entrevistas presenciales o telefón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 diversas técnicas estadísticas que permiten analizar los resultados entregando índices de confiabilidad y representat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cepto de Mezcla Comerc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ado el posicionamiento y la segmentación, ¿Qué maneja el Director Comercial para llegar al merca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76520" y="3276720"/>
            <a:ext cx="2057400" cy="6858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76520" y="4114800"/>
            <a:ext cx="2057400" cy="6858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76520" y="4952880"/>
            <a:ext cx="2057400" cy="6858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76520" y="5791320"/>
            <a:ext cx="2057400" cy="6858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un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43000" y="2895480"/>
            <a:ext cx="3124080" cy="3886200"/>
          </a:xfrm>
          <a:prstGeom prst="ellipse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E01846_" descr=""/>
          <p:cNvPicPr/>
          <p:nvPr/>
        </p:nvPicPr>
        <p:blipFill>
          <a:blip r:embed="rId1"/>
          <a:stretch/>
        </p:blipFill>
        <p:spPr>
          <a:xfrm>
            <a:off x="5784840" y="3870360"/>
            <a:ext cx="2292480" cy="10065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5334120" y="502920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Con una idea de mi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405400" y="3276720"/>
            <a:ext cx="275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A un mercado: Seg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495680" y="4191120"/>
            <a:ext cx="990720" cy="685800"/>
          </a:xfrm>
          <a:prstGeom prst="rightArrow">
            <a:avLst>
              <a:gd name="adj1" fmla="val 50000"/>
              <a:gd name="adj2" fmla="val 36115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15364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os productos son esencialmente satisfactores de neces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os productos pueden ser clasificados de la siguiente mane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267080" y="3657600"/>
            <a:ext cx="609840" cy="2057400"/>
          </a:xfrm>
          <a:prstGeom prst="downArrow">
            <a:avLst>
              <a:gd name="adj1" fmla="val 50000"/>
              <a:gd name="adj2" fmla="val 8434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90680" y="5737320"/>
            <a:ext cx="275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umento de complej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umento de rie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28640" y="3733920"/>
            <a:ext cx="33526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no planific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conven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compa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especi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05520" y="3733920"/>
            <a:ext cx="37335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simple inspe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exper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cre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lasificación de Produc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uctos no planifi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on compras impuls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uctos de conven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nsumidor posee poca 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eal a la marca si la encuen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uerte formación de háb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entrado en satisfacción de necesidades bá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uctos de compa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ayor compromiso y rie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uerte rol del distribuidor y del merchand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equiere de información téc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uctos de especi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ealtad de marca inform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Necesidad de información por alto rie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stribución selec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095600" y="1584360"/>
            <a:ext cx="90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uper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521760" y="2909880"/>
            <a:ext cx="20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arjeta de prepa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751080" y="4251240"/>
            <a:ext cx="169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Kit de prepa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355440" y="5546880"/>
            <a:ext cx="256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stema de factur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lectró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334200" y="1438200"/>
            <a:ext cx="2428920" cy="838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338880" y="2714760"/>
            <a:ext cx="242892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357960" y="4071960"/>
            <a:ext cx="242892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248520" y="5424480"/>
            <a:ext cx="266688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roducto ampli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5800" y="2133720"/>
            <a:ext cx="3048120" cy="3047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09640" y="3124080"/>
            <a:ext cx="990720" cy="9907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úcl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5040" y="5330880"/>
            <a:ext cx="33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e del producto (producto en sí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16002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o ampli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523880" y="4114440"/>
            <a:ext cx="457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295280" y="20574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86200" y="1828800"/>
            <a:ext cx="4724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 ampliado: Prestaciones adicionales, tangibles e intangibles, que agregan valor al núcleo bás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 partir de 1 núcleo o producto central pueden diseñarse diversos productos ampli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ervicio de post-venta y garantías son estrategias de producto ampli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a pregunta es: ¿te dan realmente una ventaja o son hoy día un derecho adquirido de los client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053000" y="5851440"/>
            <a:ext cx="77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Es posible realizar estrategias de producto ampliado en telefonía celula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Mix de produc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ombinación de todas las líneas de productos y servicios de la emp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l objetivo es optimizar el ciclo de v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00200"/>
            <a:ext cx="495288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2881440"/>
            <a:ext cx="4952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81400" y="25002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319640" y="25002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57880" y="25002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319800" y="25002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348280" y="250020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ínea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358080" y="250020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ínea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348960" y="250524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ínea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326232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0" y="371952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0" y="417672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0" y="471024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362680" y="289548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m 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305800" y="48006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m M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276240" y="478620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m M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03240" y="289548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m 1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3567240"/>
            <a:ext cx="228600" cy="1066680"/>
          </a:xfrm>
          <a:prstGeom prst="downArrow">
            <a:avLst>
              <a:gd name="adj1" fmla="val 50000"/>
              <a:gd name="adj2" fmla="val 116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1257120" y="2385360"/>
            <a:ext cx="228600" cy="1067040"/>
          </a:xfrm>
          <a:prstGeom prst="downArrow">
            <a:avLst>
              <a:gd name="adj1" fmla="val 50000"/>
              <a:gd name="adj2" fmla="val 11669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92920" y="243828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plit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78360" y="3780000"/>
            <a:ext cx="144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und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03200" y="5316480"/>
            <a:ext cx="5658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onstruya esta matriz para las siguientes líneas de produ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Larga Dista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elefonía 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elefonía Móv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cepto de ciclo de vi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804960" y="205704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04960" y="556272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074600" y="2681280"/>
            <a:ext cx="4988160" cy="2424240"/>
          </a:xfrm>
          <a:custGeom>
            <a:avLst/>
            <a:gdLst/>
            <a:ahLst/>
            <a:rect l="l" t="t" r="r" b="b"/>
            <a:pathLst>
              <a:path w="3142" h="1527">
                <a:moveTo>
                  <a:pt x="0" y="1527"/>
                </a:moveTo>
                <a:cubicBezTo>
                  <a:pt x="34" y="1495"/>
                  <a:pt x="75" y="1508"/>
                  <a:pt x="114" y="1483"/>
                </a:cubicBezTo>
                <a:cubicBezTo>
                  <a:pt x="148" y="1461"/>
                  <a:pt x="130" y="1469"/>
                  <a:pt x="166" y="1457"/>
                </a:cubicBezTo>
                <a:cubicBezTo>
                  <a:pt x="206" y="1417"/>
                  <a:pt x="229" y="1431"/>
                  <a:pt x="271" y="1405"/>
                </a:cubicBezTo>
                <a:cubicBezTo>
                  <a:pt x="301" y="1387"/>
                  <a:pt x="328" y="1363"/>
                  <a:pt x="358" y="1344"/>
                </a:cubicBezTo>
                <a:cubicBezTo>
                  <a:pt x="381" y="1309"/>
                  <a:pt x="412" y="1296"/>
                  <a:pt x="437" y="1265"/>
                </a:cubicBezTo>
                <a:cubicBezTo>
                  <a:pt x="495" y="1192"/>
                  <a:pt x="387" y="1306"/>
                  <a:pt x="498" y="1195"/>
                </a:cubicBezTo>
                <a:cubicBezTo>
                  <a:pt x="520" y="1173"/>
                  <a:pt x="576" y="1143"/>
                  <a:pt x="576" y="1143"/>
                </a:cubicBezTo>
                <a:cubicBezTo>
                  <a:pt x="596" y="1086"/>
                  <a:pt x="630" y="1036"/>
                  <a:pt x="663" y="986"/>
                </a:cubicBezTo>
                <a:cubicBezTo>
                  <a:pt x="681" y="958"/>
                  <a:pt x="694" y="915"/>
                  <a:pt x="716" y="890"/>
                </a:cubicBezTo>
                <a:cubicBezTo>
                  <a:pt x="726" y="879"/>
                  <a:pt x="740" y="873"/>
                  <a:pt x="751" y="864"/>
                </a:cubicBezTo>
                <a:cubicBezTo>
                  <a:pt x="760" y="856"/>
                  <a:pt x="769" y="848"/>
                  <a:pt x="777" y="838"/>
                </a:cubicBezTo>
                <a:cubicBezTo>
                  <a:pt x="793" y="818"/>
                  <a:pt x="821" y="777"/>
                  <a:pt x="821" y="777"/>
                </a:cubicBezTo>
                <a:cubicBezTo>
                  <a:pt x="839" y="717"/>
                  <a:pt x="814" y="785"/>
                  <a:pt x="855" y="724"/>
                </a:cubicBezTo>
                <a:cubicBezTo>
                  <a:pt x="860" y="716"/>
                  <a:pt x="859" y="706"/>
                  <a:pt x="864" y="698"/>
                </a:cubicBezTo>
                <a:cubicBezTo>
                  <a:pt x="868" y="691"/>
                  <a:pt x="877" y="688"/>
                  <a:pt x="882" y="681"/>
                </a:cubicBezTo>
                <a:cubicBezTo>
                  <a:pt x="907" y="648"/>
                  <a:pt x="928" y="611"/>
                  <a:pt x="951" y="576"/>
                </a:cubicBezTo>
                <a:cubicBezTo>
                  <a:pt x="973" y="543"/>
                  <a:pt x="993" y="499"/>
                  <a:pt x="1021" y="471"/>
                </a:cubicBezTo>
                <a:cubicBezTo>
                  <a:pt x="1045" y="447"/>
                  <a:pt x="1070" y="420"/>
                  <a:pt x="1091" y="393"/>
                </a:cubicBezTo>
                <a:cubicBezTo>
                  <a:pt x="1119" y="357"/>
                  <a:pt x="1130" y="323"/>
                  <a:pt x="1152" y="288"/>
                </a:cubicBezTo>
                <a:cubicBezTo>
                  <a:pt x="1177" y="247"/>
                  <a:pt x="1214" y="209"/>
                  <a:pt x="1248" y="174"/>
                </a:cubicBezTo>
                <a:cubicBezTo>
                  <a:pt x="1254" y="168"/>
                  <a:pt x="1266" y="170"/>
                  <a:pt x="1274" y="166"/>
                </a:cubicBezTo>
                <a:cubicBezTo>
                  <a:pt x="1313" y="149"/>
                  <a:pt x="1348" y="127"/>
                  <a:pt x="1388" y="113"/>
                </a:cubicBezTo>
                <a:cubicBezTo>
                  <a:pt x="1452" y="49"/>
                  <a:pt x="1520" y="22"/>
                  <a:pt x="1606" y="0"/>
                </a:cubicBezTo>
                <a:cubicBezTo>
                  <a:pt x="1656" y="6"/>
                  <a:pt x="1697" y="16"/>
                  <a:pt x="1746" y="26"/>
                </a:cubicBezTo>
                <a:cubicBezTo>
                  <a:pt x="1858" y="19"/>
                  <a:pt x="1910" y="24"/>
                  <a:pt x="2016" y="35"/>
                </a:cubicBezTo>
                <a:cubicBezTo>
                  <a:pt x="2045" y="44"/>
                  <a:pt x="2074" y="51"/>
                  <a:pt x="2103" y="61"/>
                </a:cubicBezTo>
                <a:cubicBezTo>
                  <a:pt x="2126" y="94"/>
                  <a:pt x="2148" y="117"/>
                  <a:pt x="2182" y="139"/>
                </a:cubicBezTo>
                <a:cubicBezTo>
                  <a:pt x="2201" y="169"/>
                  <a:pt x="2209" y="180"/>
                  <a:pt x="2243" y="192"/>
                </a:cubicBezTo>
                <a:cubicBezTo>
                  <a:pt x="2260" y="209"/>
                  <a:pt x="2278" y="227"/>
                  <a:pt x="2295" y="244"/>
                </a:cubicBezTo>
                <a:cubicBezTo>
                  <a:pt x="2317" y="266"/>
                  <a:pt x="2351" y="273"/>
                  <a:pt x="2374" y="297"/>
                </a:cubicBezTo>
                <a:cubicBezTo>
                  <a:pt x="2393" y="352"/>
                  <a:pt x="2438" y="388"/>
                  <a:pt x="2479" y="427"/>
                </a:cubicBezTo>
                <a:cubicBezTo>
                  <a:pt x="2493" y="475"/>
                  <a:pt x="2544" y="524"/>
                  <a:pt x="2592" y="541"/>
                </a:cubicBezTo>
                <a:cubicBezTo>
                  <a:pt x="2598" y="550"/>
                  <a:pt x="2603" y="560"/>
                  <a:pt x="2610" y="567"/>
                </a:cubicBezTo>
                <a:cubicBezTo>
                  <a:pt x="2617" y="574"/>
                  <a:pt x="2629" y="577"/>
                  <a:pt x="2636" y="585"/>
                </a:cubicBezTo>
                <a:cubicBezTo>
                  <a:pt x="2644" y="595"/>
                  <a:pt x="2645" y="609"/>
                  <a:pt x="2653" y="619"/>
                </a:cubicBezTo>
                <a:cubicBezTo>
                  <a:pt x="2675" y="645"/>
                  <a:pt x="2715" y="668"/>
                  <a:pt x="2741" y="689"/>
                </a:cubicBezTo>
                <a:cubicBezTo>
                  <a:pt x="2766" y="709"/>
                  <a:pt x="2786" y="733"/>
                  <a:pt x="2819" y="742"/>
                </a:cubicBezTo>
                <a:cubicBezTo>
                  <a:pt x="2839" y="747"/>
                  <a:pt x="2860" y="747"/>
                  <a:pt x="2880" y="750"/>
                </a:cubicBezTo>
                <a:cubicBezTo>
                  <a:pt x="3011" y="794"/>
                  <a:pt x="2869" y="740"/>
                  <a:pt x="2967" y="794"/>
                </a:cubicBezTo>
                <a:cubicBezTo>
                  <a:pt x="2981" y="802"/>
                  <a:pt x="2996" y="806"/>
                  <a:pt x="3011" y="811"/>
                </a:cubicBezTo>
                <a:cubicBezTo>
                  <a:pt x="3020" y="814"/>
                  <a:pt x="3029" y="816"/>
                  <a:pt x="3037" y="820"/>
                </a:cubicBezTo>
                <a:cubicBezTo>
                  <a:pt x="3067" y="836"/>
                  <a:pt x="3058" y="836"/>
                  <a:pt x="3081" y="855"/>
                </a:cubicBezTo>
                <a:cubicBezTo>
                  <a:pt x="3103" y="873"/>
                  <a:pt x="3142" y="891"/>
                  <a:pt x="3142" y="925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43200" y="198108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523200" y="530208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64640" y="5562720"/>
            <a:ext cx="122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028240" y="5562720"/>
            <a:ext cx="118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ci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98760" y="556272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dur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694040" y="5562720"/>
            <a:ext cx="116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lin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1947960" y="44956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166920" y="28951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538520" y="28951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3720" y="2193840"/>
            <a:ext cx="374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iferentes estrategias competi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28200" y="2671920"/>
            <a:ext cx="365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iferentes estrategias comer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105520" y="2133720"/>
            <a:ext cx="3733560" cy="99036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Tendencias del mercado act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nsumi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ás sofisticado y exig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ayor sensibilidad a precio y al good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ortalecimiento del segmento C2C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enor tiempo para el consu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ujer irrumpe en la fuerza labo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ás informado y selecivo en inform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aturado de información mas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7240" y="5521320"/>
            <a:ext cx="89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Cómo enfrentan este tema las empresas de telecomunicacione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Cuánto tiempo dedica el cliente a “pensar” en un producto cuando compra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BD06784_" descr=""/>
          <p:cNvPicPr/>
          <p:nvPr/>
        </p:nvPicPr>
        <p:blipFill>
          <a:blip r:embed="rId1"/>
          <a:stretch/>
        </p:blipFill>
        <p:spPr>
          <a:xfrm>
            <a:off x="7543800" y="3048120"/>
            <a:ext cx="129060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cepto de ciclo de vi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804960" y="205704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04960" y="556272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074600" y="2681280"/>
            <a:ext cx="4988160" cy="2424240"/>
          </a:xfrm>
          <a:custGeom>
            <a:avLst/>
            <a:gdLst/>
            <a:ahLst/>
            <a:rect l="l" t="t" r="r" b="b"/>
            <a:pathLst>
              <a:path w="3142" h="1527">
                <a:moveTo>
                  <a:pt x="0" y="1527"/>
                </a:moveTo>
                <a:cubicBezTo>
                  <a:pt x="34" y="1495"/>
                  <a:pt x="75" y="1508"/>
                  <a:pt x="114" y="1483"/>
                </a:cubicBezTo>
                <a:cubicBezTo>
                  <a:pt x="148" y="1461"/>
                  <a:pt x="130" y="1469"/>
                  <a:pt x="166" y="1457"/>
                </a:cubicBezTo>
                <a:cubicBezTo>
                  <a:pt x="206" y="1417"/>
                  <a:pt x="229" y="1431"/>
                  <a:pt x="271" y="1405"/>
                </a:cubicBezTo>
                <a:cubicBezTo>
                  <a:pt x="301" y="1387"/>
                  <a:pt x="328" y="1363"/>
                  <a:pt x="358" y="1344"/>
                </a:cubicBezTo>
                <a:cubicBezTo>
                  <a:pt x="381" y="1309"/>
                  <a:pt x="412" y="1296"/>
                  <a:pt x="437" y="1265"/>
                </a:cubicBezTo>
                <a:cubicBezTo>
                  <a:pt x="495" y="1192"/>
                  <a:pt x="387" y="1306"/>
                  <a:pt x="498" y="1195"/>
                </a:cubicBezTo>
                <a:cubicBezTo>
                  <a:pt x="520" y="1173"/>
                  <a:pt x="576" y="1143"/>
                  <a:pt x="576" y="1143"/>
                </a:cubicBezTo>
                <a:cubicBezTo>
                  <a:pt x="596" y="1086"/>
                  <a:pt x="630" y="1036"/>
                  <a:pt x="663" y="986"/>
                </a:cubicBezTo>
                <a:cubicBezTo>
                  <a:pt x="681" y="958"/>
                  <a:pt x="694" y="915"/>
                  <a:pt x="716" y="890"/>
                </a:cubicBezTo>
                <a:cubicBezTo>
                  <a:pt x="726" y="879"/>
                  <a:pt x="740" y="873"/>
                  <a:pt x="751" y="864"/>
                </a:cubicBezTo>
                <a:cubicBezTo>
                  <a:pt x="760" y="856"/>
                  <a:pt x="769" y="848"/>
                  <a:pt x="777" y="838"/>
                </a:cubicBezTo>
                <a:cubicBezTo>
                  <a:pt x="793" y="818"/>
                  <a:pt x="821" y="777"/>
                  <a:pt x="821" y="777"/>
                </a:cubicBezTo>
                <a:cubicBezTo>
                  <a:pt x="839" y="717"/>
                  <a:pt x="814" y="785"/>
                  <a:pt x="855" y="724"/>
                </a:cubicBezTo>
                <a:cubicBezTo>
                  <a:pt x="860" y="716"/>
                  <a:pt x="859" y="706"/>
                  <a:pt x="864" y="698"/>
                </a:cubicBezTo>
                <a:cubicBezTo>
                  <a:pt x="868" y="691"/>
                  <a:pt x="877" y="688"/>
                  <a:pt x="882" y="681"/>
                </a:cubicBezTo>
                <a:cubicBezTo>
                  <a:pt x="907" y="648"/>
                  <a:pt x="928" y="611"/>
                  <a:pt x="951" y="576"/>
                </a:cubicBezTo>
                <a:cubicBezTo>
                  <a:pt x="973" y="543"/>
                  <a:pt x="993" y="499"/>
                  <a:pt x="1021" y="471"/>
                </a:cubicBezTo>
                <a:cubicBezTo>
                  <a:pt x="1045" y="447"/>
                  <a:pt x="1070" y="420"/>
                  <a:pt x="1091" y="393"/>
                </a:cubicBezTo>
                <a:cubicBezTo>
                  <a:pt x="1119" y="357"/>
                  <a:pt x="1130" y="323"/>
                  <a:pt x="1152" y="288"/>
                </a:cubicBezTo>
                <a:cubicBezTo>
                  <a:pt x="1177" y="247"/>
                  <a:pt x="1214" y="209"/>
                  <a:pt x="1248" y="174"/>
                </a:cubicBezTo>
                <a:cubicBezTo>
                  <a:pt x="1254" y="168"/>
                  <a:pt x="1266" y="170"/>
                  <a:pt x="1274" y="166"/>
                </a:cubicBezTo>
                <a:cubicBezTo>
                  <a:pt x="1313" y="149"/>
                  <a:pt x="1348" y="127"/>
                  <a:pt x="1388" y="113"/>
                </a:cubicBezTo>
                <a:cubicBezTo>
                  <a:pt x="1452" y="49"/>
                  <a:pt x="1520" y="22"/>
                  <a:pt x="1606" y="0"/>
                </a:cubicBezTo>
                <a:cubicBezTo>
                  <a:pt x="1656" y="6"/>
                  <a:pt x="1697" y="16"/>
                  <a:pt x="1746" y="26"/>
                </a:cubicBezTo>
                <a:cubicBezTo>
                  <a:pt x="1858" y="19"/>
                  <a:pt x="1910" y="24"/>
                  <a:pt x="2016" y="35"/>
                </a:cubicBezTo>
                <a:cubicBezTo>
                  <a:pt x="2045" y="44"/>
                  <a:pt x="2074" y="51"/>
                  <a:pt x="2103" y="61"/>
                </a:cubicBezTo>
                <a:cubicBezTo>
                  <a:pt x="2126" y="94"/>
                  <a:pt x="2148" y="117"/>
                  <a:pt x="2182" y="139"/>
                </a:cubicBezTo>
                <a:cubicBezTo>
                  <a:pt x="2201" y="169"/>
                  <a:pt x="2209" y="180"/>
                  <a:pt x="2243" y="192"/>
                </a:cubicBezTo>
                <a:cubicBezTo>
                  <a:pt x="2260" y="209"/>
                  <a:pt x="2278" y="227"/>
                  <a:pt x="2295" y="244"/>
                </a:cubicBezTo>
                <a:cubicBezTo>
                  <a:pt x="2317" y="266"/>
                  <a:pt x="2351" y="273"/>
                  <a:pt x="2374" y="297"/>
                </a:cubicBezTo>
                <a:cubicBezTo>
                  <a:pt x="2393" y="352"/>
                  <a:pt x="2438" y="388"/>
                  <a:pt x="2479" y="427"/>
                </a:cubicBezTo>
                <a:cubicBezTo>
                  <a:pt x="2493" y="475"/>
                  <a:pt x="2544" y="524"/>
                  <a:pt x="2592" y="541"/>
                </a:cubicBezTo>
                <a:cubicBezTo>
                  <a:pt x="2598" y="550"/>
                  <a:pt x="2603" y="560"/>
                  <a:pt x="2610" y="567"/>
                </a:cubicBezTo>
                <a:cubicBezTo>
                  <a:pt x="2617" y="574"/>
                  <a:pt x="2629" y="577"/>
                  <a:pt x="2636" y="585"/>
                </a:cubicBezTo>
                <a:cubicBezTo>
                  <a:pt x="2644" y="595"/>
                  <a:pt x="2645" y="609"/>
                  <a:pt x="2653" y="619"/>
                </a:cubicBezTo>
                <a:cubicBezTo>
                  <a:pt x="2675" y="645"/>
                  <a:pt x="2715" y="668"/>
                  <a:pt x="2741" y="689"/>
                </a:cubicBezTo>
                <a:cubicBezTo>
                  <a:pt x="2766" y="709"/>
                  <a:pt x="2786" y="733"/>
                  <a:pt x="2819" y="742"/>
                </a:cubicBezTo>
                <a:cubicBezTo>
                  <a:pt x="2839" y="747"/>
                  <a:pt x="2860" y="747"/>
                  <a:pt x="2880" y="750"/>
                </a:cubicBezTo>
                <a:cubicBezTo>
                  <a:pt x="3011" y="794"/>
                  <a:pt x="2869" y="740"/>
                  <a:pt x="2967" y="794"/>
                </a:cubicBezTo>
                <a:cubicBezTo>
                  <a:pt x="2981" y="802"/>
                  <a:pt x="2996" y="806"/>
                  <a:pt x="3011" y="811"/>
                </a:cubicBezTo>
                <a:cubicBezTo>
                  <a:pt x="3020" y="814"/>
                  <a:pt x="3029" y="816"/>
                  <a:pt x="3037" y="820"/>
                </a:cubicBezTo>
                <a:cubicBezTo>
                  <a:pt x="3067" y="836"/>
                  <a:pt x="3058" y="836"/>
                  <a:pt x="3081" y="855"/>
                </a:cubicBezTo>
                <a:cubicBezTo>
                  <a:pt x="3103" y="873"/>
                  <a:pt x="3142" y="891"/>
                  <a:pt x="3142" y="925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943200" y="198108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64640" y="5562720"/>
            <a:ext cx="122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028240" y="5562720"/>
            <a:ext cx="118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ci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398760" y="556272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dur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4040" y="5562720"/>
            <a:ext cx="116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lin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1947960" y="44956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3166920" y="28951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4538520" y="28951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003560" y="1593720"/>
            <a:ext cx="1773360" cy="1094040"/>
          </a:xfrm>
          <a:custGeom>
            <a:avLst/>
            <a:gdLst/>
            <a:ahLst/>
            <a:rect l="l" t="t" r="r" b="b"/>
            <a:pathLst>
              <a:path w="1117" h="689">
                <a:moveTo>
                  <a:pt x="0" y="689"/>
                </a:moveTo>
                <a:cubicBezTo>
                  <a:pt x="18" y="683"/>
                  <a:pt x="37" y="681"/>
                  <a:pt x="53" y="672"/>
                </a:cubicBezTo>
                <a:cubicBezTo>
                  <a:pt x="60" y="668"/>
                  <a:pt x="63" y="658"/>
                  <a:pt x="70" y="654"/>
                </a:cubicBezTo>
                <a:cubicBezTo>
                  <a:pt x="100" y="635"/>
                  <a:pt x="142" y="631"/>
                  <a:pt x="175" y="619"/>
                </a:cubicBezTo>
                <a:cubicBezTo>
                  <a:pt x="185" y="616"/>
                  <a:pt x="192" y="606"/>
                  <a:pt x="201" y="602"/>
                </a:cubicBezTo>
                <a:cubicBezTo>
                  <a:pt x="218" y="594"/>
                  <a:pt x="253" y="584"/>
                  <a:pt x="253" y="584"/>
                </a:cubicBezTo>
                <a:cubicBezTo>
                  <a:pt x="259" y="578"/>
                  <a:pt x="264" y="571"/>
                  <a:pt x="271" y="567"/>
                </a:cubicBezTo>
                <a:cubicBezTo>
                  <a:pt x="279" y="562"/>
                  <a:pt x="290" y="564"/>
                  <a:pt x="297" y="558"/>
                </a:cubicBezTo>
                <a:cubicBezTo>
                  <a:pt x="311" y="546"/>
                  <a:pt x="319" y="528"/>
                  <a:pt x="332" y="515"/>
                </a:cubicBezTo>
                <a:cubicBezTo>
                  <a:pt x="351" y="458"/>
                  <a:pt x="386" y="423"/>
                  <a:pt x="428" y="384"/>
                </a:cubicBezTo>
                <a:cubicBezTo>
                  <a:pt x="451" y="314"/>
                  <a:pt x="417" y="398"/>
                  <a:pt x="463" y="340"/>
                </a:cubicBezTo>
                <a:cubicBezTo>
                  <a:pt x="469" y="333"/>
                  <a:pt x="467" y="322"/>
                  <a:pt x="471" y="314"/>
                </a:cubicBezTo>
                <a:cubicBezTo>
                  <a:pt x="476" y="305"/>
                  <a:pt x="483" y="297"/>
                  <a:pt x="489" y="288"/>
                </a:cubicBezTo>
                <a:cubicBezTo>
                  <a:pt x="505" y="241"/>
                  <a:pt x="537" y="191"/>
                  <a:pt x="585" y="174"/>
                </a:cubicBezTo>
                <a:cubicBezTo>
                  <a:pt x="598" y="154"/>
                  <a:pt x="678" y="82"/>
                  <a:pt x="707" y="78"/>
                </a:cubicBezTo>
                <a:cubicBezTo>
                  <a:pt x="739" y="73"/>
                  <a:pt x="771" y="72"/>
                  <a:pt x="803" y="69"/>
                </a:cubicBezTo>
                <a:cubicBezTo>
                  <a:pt x="870" y="6"/>
                  <a:pt x="960" y="6"/>
                  <a:pt x="1047" y="0"/>
                </a:cubicBezTo>
                <a:cubicBezTo>
                  <a:pt x="1112" y="8"/>
                  <a:pt x="1088" y="8"/>
                  <a:pt x="1117" y="8"/>
                </a:cubicBezTo>
              </a:path>
            </a:pathLst>
          </a:custGeom>
          <a:noFill/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26622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105520" y="1752480"/>
            <a:ext cx="40384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xtensiones de m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mpliaciones de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ermiten “relanzar” un producto, evitando cerrar el ciclo de v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4343040" y="2514600"/>
            <a:ext cx="6094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Matriz de Ansof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895480" y="2320920"/>
            <a:ext cx="457200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181480" y="232092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895480" y="379728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29400" y="2619360"/>
            <a:ext cx="198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etración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427360" y="2625840"/>
            <a:ext cx="183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arroll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284440" y="4316400"/>
            <a:ext cx="206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ers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132000" y="4297320"/>
            <a:ext cx="183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arroll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167360" y="144792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22000" y="3581280"/>
            <a:ext cx="187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414960" y="1928880"/>
            <a:ext cx="1212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ual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792400" y="1927080"/>
            <a:ext cx="1002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ev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829880" y="4255920"/>
            <a:ext cx="1002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ev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725840" y="2832120"/>
            <a:ext cx="1212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ual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786400" y="5638680"/>
            <a:ext cx="4001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ha hecho Carlos Slim en Chil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especula el mercado que hará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strategia de Trading-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ínea de productos con un producto de entrada atractivo para cierto segmento que sirve para generar consumo futuro en productos de mayor margen (superiores en la líne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l cliente es educado para que luego consuma los productos que le interesan a la compañ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os objetivos de esta estrategia de producto 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ptar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ar a conocer l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rear lealtad (“cautivar” al clien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43920" y="5334120"/>
            <a:ext cx="5322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jemp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utomóviles: Peugeot =&gt; 106, 206, 307, 406, 6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Bancos: Cuenta jov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Cómo hacer un trading-up en la industria móvil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4495680" y="3962520"/>
            <a:ext cx="4343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Desarrollo de Product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dentificación de oportun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seño concep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Atribu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egmento obje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seño fís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seño de proceso de venta: distribución y logís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e-testeo (experimen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Testeo (mercado de prueb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ntroducción y lanz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Velo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ober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ooperación de la cade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Fuerza de ve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valuación y administración del ciclo de v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194640" y="1852560"/>
            <a:ext cx="583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ventaja tiene acelerar el lanzamient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desventaja tiene probar exhaustivamente los producto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492080" y="4003560"/>
            <a:ext cx="429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l desarrollo de productos es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mplio que “hacer” 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BS00559_" descr=""/>
          <p:cNvPicPr/>
          <p:nvPr/>
        </p:nvPicPr>
        <p:blipFill>
          <a:blip r:embed="rId1"/>
          <a:stretch/>
        </p:blipFill>
        <p:spPr>
          <a:xfrm>
            <a:off x="6692760" y="5035680"/>
            <a:ext cx="1994040" cy="113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Marc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tributo intangible de los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lave y determinante en la percepción de va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 esencial en apoyar las estrategias de diferenciación y muy importante en productos de cre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Imagine Microsoft llamándose “Software para el hogar” o Coca Cola vendiéndose como “Jarabe refrescant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marca es un activo intangible de gran va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or ejemplo, en la compra de BellSouth Latinoamérica por Telefónica Móviles no se incluyó la adquisición de la mar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Estrategias de mar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cas Corporativ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Marcas asociadas a corporaciones (HP, Telefónica, Quiñenco, Cencosud, D&amp;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ca Paragu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Marca utilizadas transversalmente para diferentes tipos de productos y/o unidades de negocio (Telefóni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cas flanquedor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Marcas secundarias que permiten copar el mercado para proteger la marca principal (Dolca, Fina Selección, Deca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cas genéricas/blanc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Marcas asociadas a grandes canales que se usan en diferentes categorías de productos (Cola Líd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cas privad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Marcas propias creadas por el canal para productos específicos (Jumbo M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876920" y="4114800"/>
            <a:ext cx="2743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114960" y="40384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48640" y="408132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486400" y="406728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335000" y="4022640"/>
            <a:ext cx="15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e copa ca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Extensiones de mar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u objetivo esencial es alcanzar otros segmentos interesantes de explo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14840" y="3962520"/>
            <a:ext cx="1676160" cy="838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327560" y="407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686040" y="2271600"/>
            <a:ext cx="1676520" cy="8384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er-m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686040" y="5710320"/>
            <a:ext cx="1676520" cy="838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-m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477120" y="3962520"/>
            <a:ext cx="1676160" cy="838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990720" y="3962520"/>
            <a:ext cx="1676160" cy="838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tfolio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329000" y="3233880"/>
            <a:ext cx="381240" cy="457200"/>
          </a:xfrm>
          <a:prstGeom prst="upArrow">
            <a:avLst>
              <a:gd name="adj1" fmla="val 50000"/>
              <a:gd name="adj2" fmla="val 29981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4343400" y="5119560"/>
            <a:ext cx="380880" cy="457200"/>
          </a:xfrm>
          <a:prstGeom prst="upArrow">
            <a:avLst>
              <a:gd name="adj1" fmla="val 50000"/>
              <a:gd name="adj2" fmla="val 3000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V="1" rot="16200000">
            <a:off x="5714640" y="4142520"/>
            <a:ext cx="381240" cy="457200"/>
          </a:xfrm>
          <a:prstGeom prst="upArrow">
            <a:avLst>
              <a:gd name="adj1" fmla="val 50000"/>
              <a:gd name="adj2" fmla="val 29981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 rot="5400000">
            <a:off x="3057480" y="4181400"/>
            <a:ext cx="380880" cy="457200"/>
          </a:xfrm>
          <a:prstGeom prst="upArrow">
            <a:avLst>
              <a:gd name="adj1" fmla="val 50000"/>
              <a:gd name="adj2" fmla="val 3000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276720" y="2048040"/>
            <a:ext cx="2514600" cy="4724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849640" y="5448240"/>
            <a:ext cx="323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strategia vert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Upgrade/Downgrade de c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e basan en la marca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n esta no se sustent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-5400" y="5448240"/>
            <a:ext cx="370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strategia horizo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La marca base apoya nueva ma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La marca base se sinergiza con ot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l cambio de calidad no es neces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38080" y="3495600"/>
            <a:ext cx="7620120" cy="1828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Ejemplos de extensiones de marca     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Horizon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trategia de puente: Levi’s y Doc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ortfolio de marcas (cobranding): HP Intel in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Vertic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upermarca: Citigo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ubmarca: Santa Carolina Reserva Famili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740960" y="5241960"/>
            <a:ext cx="5790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estrategia de marca puede usted distingu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n el mercado de telecomunicacion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Cambiaría la marca de una empresa recién fusionad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En base a qué parámetros tomaría la decis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RE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657600" y="3429000"/>
            <a:ext cx="1523880" cy="7621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I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791320" y="2819520"/>
            <a:ext cx="1523880" cy="761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e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410080" y="4648320"/>
            <a:ext cx="1524240" cy="761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y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57400" y="4572000"/>
            <a:ext cx="1523880" cy="7621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38680" y="1657440"/>
            <a:ext cx="1523880" cy="761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752480" y="2666880"/>
            <a:ext cx="1524240" cy="7621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4495680" y="2590920"/>
            <a:ext cx="7632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352680" y="4114800"/>
            <a:ext cx="38124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 flipV="1">
            <a:off x="5105520" y="4191120"/>
            <a:ext cx="4572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5257800" y="3352680"/>
            <a:ext cx="45720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352680"/>
            <a:ext cx="45720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213560" y="5943600"/>
            <a:ext cx="71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iversos factores influyen en la determinación del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BS00508_" descr=""/>
          <p:cNvPicPr/>
          <p:nvPr/>
        </p:nvPicPr>
        <p:blipFill>
          <a:blip r:embed="rId1"/>
          <a:stretch/>
        </p:blipFill>
        <p:spPr>
          <a:xfrm>
            <a:off x="6781680" y="914400"/>
            <a:ext cx="1575000" cy="1662120"/>
          </a:xfrm>
          <a:prstGeom prst="rect">
            <a:avLst/>
          </a:prstGeom>
          <a:ln w="0">
            <a:noFill/>
          </a:ln>
        </p:spPr>
      </p:pic>
      <p:pic>
        <p:nvPicPr>
          <p:cNvPr id="324" name="BS02064_" descr=""/>
          <p:cNvPicPr/>
          <p:nvPr/>
        </p:nvPicPr>
        <p:blipFill>
          <a:blip r:embed="rId2"/>
          <a:stretch/>
        </p:blipFill>
        <p:spPr>
          <a:xfrm>
            <a:off x="228600" y="1066680"/>
            <a:ext cx="172080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strategia versus tác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838080" y="2057400"/>
            <a:ext cx="601992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1600200" y="3657600"/>
            <a:ext cx="601992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523880" y="2743200"/>
            <a:ext cx="5403960" cy="2714760"/>
          </a:xfrm>
          <a:custGeom>
            <a:avLst/>
            <a:gdLst/>
            <a:ahLst/>
            <a:rect l="l" t="t" r="r" b="b"/>
            <a:pathLst>
              <a:path w="3404" h="1710">
                <a:moveTo>
                  <a:pt x="0" y="1710"/>
                </a:moveTo>
                <a:cubicBezTo>
                  <a:pt x="7" y="1660"/>
                  <a:pt x="19" y="1618"/>
                  <a:pt x="35" y="1571"/>
                </a:cubicBezTo>
                <a:cubicBezTo>
                  <a:pt x="43" y="1514"/>
                  <a:pt x="59" y="1461"/>
                  <a:pt x="70" y="1405"/>
                </a:cubicBezTo>
                <a:cubicBezTo>
                  <a:pt x="79" y="1357"/>
                  <a:pt x="77" y="1318"/>
                  <a:pt x="114" y="1283"/>
                </a:cubicBezTo>
                <a:cubicBezTo>
                  <a:pt x="126" y="1259"/>
                  <a:pt x="136" y="1231"/>
                  <a:pt x="157" y="1213"/>
                </a:cubicBezTo>
                <a:cubicBezTo>
                  <a:pt x="173" y="1199"/>
                  <a:pt x="195" y="1193"/>
                  <a:pt x="210" y="1178"/>
                </a:cubicBezTo>
                <a:cubicBezTo>
                  <a:pt x="216" y="1172"/>
                  <a:pt x="219" y="1163"/>
                  <a:pt x="227" y="1160"/>
                </a:cubicBezTo>
                <a:cubicBezTo>
                  <a:pt x="244" y="1154"/>
                  <a:pt x="262" y="1155"/>
                  <a:pt x="280" y="1152"/>
                </a:cubicBezTo>
                <a:cubicBezTo>
                  <a:pt x="374" y="1161"/>
                  <a:pt x="353" y="1149"/>
                  <a:pt x="402" y="1195"/>
                </a:cubicBezTo>
                <a:cubicBezTo>
                  <a:pt x="419" y="1251"/>
                  <a:pt x="475" y="1310"/>
                  <a:pt x="524" y="1344"/>
                </a:cubicBezTo>
                <a:cubicBezTo>
                  <a:pt x="530" y="1338"/>
                  <a:pt x="534" y="1330"/>
                  <a:pt x="541" y="1326"/>
                </a:cubicBezTo>
                <a:cubicBezTo>
                  <a:pt x="549" y="1321"/>
                  <a:pt x="561" y="1325"/>
                  <a:pt x="568" y="1318"/>
                </a:cubicBezTo>
                <a:cubicBezTo>
                  <a:pt x="575" y="1311"/>
                  <a:pt x="570" y="1299"/>
                  <a:pt x="576" y="1291"/>
                </a:cubicBezTo>
                <a:cubicBezTo>
                  <a:pt x="614" y="1240"/>
                  <a:pt x="616" y="1265"/>
                  <a:pt x="637" y="1222"/>
                </a:cubicBezTo>
                <a:cubicBezTo>
                  <a:pt x="678" y="1139"/>
                  <a:pt x="701" y="1050"/>
                  <a:pt x="742" y="968"/>
                </a:cubicBezTo>
                <a:cubicBezTo>
                  <a:pt x="768" y="916"/>
                  <a:pt x="800" y="849"/>
                  <a:pt x="856" y="820"/>
                </a:cubicBezTo>
                <a:cubicBezTo>
                  <a:pt x="883" y="806"/>
                  <a:pt x="922" y="804"/>
                  <a:pt x="952" y="794"/>
                </a:cubicBezTo>
                <a:cubicBezTo>
                  <a:pt x="975" y="721"/>
                  <a:pt x="1111" y="767"/>
                  <a:pt x="1170" y="776"/>
                </a:cubicBezTo>
                <a:cubicBezTo>
                  <a:pt x="1239" y="824"/>
                  <a:pt x="1317" y="848"/>
                  <a:pt x="1397" y="872"/>
                </a:cubicBezTo>
                <a:cubicBezTo>
                  <a:pt x="1436" y="912"/>
                  <a:pt x="1465" y="930"/>
                  <a:pt x="1519" y="942"/>
                </a:cubicBezTo>
                <a:cubicBezTo>
                  <a:pt x="1564" y="936"/>
                  <a:pt x="1598" y="927"/>
                  <a:pt x="1641" y="916"/>
                </a:cubicBezTo>
                <a:cubicBezTo>
                  <a:pt x="1676" y="881"/>
                  <a:pt x="1667" y="859"/>
                  <a:pt x="1693" y="820"/>
                </a:cubicBezTo>
                <a:cubicBezTo>
                  <a:pt x="1700" y="794"/>
                  <a:pt x="1707" y="747"/>
                  <a:pt x="1720" y="724"/>
                </a:cubicBezTo>
                <a:cubicBezTo>
                  <a:pt x="1740" y="690"/>
                  <a:pt x="1767" y="661"/>
                  <a:pt x="1789" y="628"/>
                </a:cubicBezTo>
                <a:cubicBezTo>
                  <a:pt x="1855" y="645"/>
                  <a:pt x="1799" y="621"/>
                  <a:pt x="1842" y="672"/>
                </a:cubicBezTo>
                <a:cubicBezTo>
                  <a:pt x="1849" y="680"/>
                  <a:pt x="1860" y="682"/>
                  <a:pt x="1868" y="689"/>
                </a:cubicBezTo>
                <a:cubicBezTo>
                  <a:pt x="1916" y="728"/>
                  <a:pt x="1947" y="752"/>
                  <a:pt x="2008" y="768"/>
                </a:cubicBezTo>
                <a:cubicBezTo>
                  <a:pt x="2017" y="765"/>
                  <a:pt x="2029" y="767"/>
                  <a:pt x="2034" y="759"/>
                </a:cubicBezTo>
                <a:cubicBezTo>
                  <a:pt x="2042" y="746"/>
                  <a:pt x="2040" y="730"/>
                  <a:pt x="2042" y="715"/>
                </a:cubicBezTo>
                <a:cubicBezTo>
                  <a:pt x="2046" y="674"/>
                  <a:pt x="2048" y="634"/>
                  <a:pt x="2051" y="593"/>
                </a:cubicBezTo>
                <a:cubicBezTo>
                  <a:pt x="2086" y="628"/>
                  <a:pt x="2095" y="669"/>
                  <a:pt x="2112" y="715"/>
                </a:cubicBezTo>
                <a:cubicBezTo>
                  <a:pt x="2118" y="733"/>
                  <a:pt x="2130" y="768"/>
                  <a:pt x="2130" y="768"/>
                </a:cubicBezTo>
                <a:cubicBezTo>
                  <a:pt x="2133" y="788"/>
                  <a:pt x="2133" y="849"/>
                  <a:pt x="2138" y="829"/>
                </a:cubicBezTo>
                <a:cubicBezTo>
                  <a:pt x="2148" y="786"/>
                  <a:pt x="2143" y="742"/>
                  <a:pt x="2147" y="698"/>
                </a:cubicBezTo>
                <a:cubicBezTo>
                  <a:pt x="2153" y="641"/>
                  <a:pt x="2185" y="587"/>
                  <a:pt x="2200" y="532"/>
                </a:cubicBezTo>
                <a:cubicBezTo>
                  <a:pt x="2228" y="432"/>
                  <a:pt x="2251" y="334"/>
                  <a:pt x="2304" y="244"/>
                </a:cubicBezTo>
                <a:cubicBezTo>
                  <a:pt x="2316" y="185"/>
                  <a:pt x="2358" y="130"/>
                  <a:pt x="2409" y="96"/>
                </a:cubicBezTo>
                <a:cubicBezTo>
                  <a:pt x="2482" y="132"/>
                  <a:pt x="2575" y="139"/>
                  <a:pt x="2653" y="166"/>
                </a:cubicBezTo>
                <a:cubicBezTo>
                  <a:pt x="2682" y="176"/>
                  <a:pt x="2724" y="200"/>
                  <a:pt x="2749" y="218"/>
                </a:cubicBezTo>
                <a:cubicBezTo>
                  <a:pt x="2759" y="225"/>
                  <a:pt x="2764" y="240"/>
                  <a:pt x="2776" y="244"/>
                </a:cubicBezTo>
                <a:cubicBezTo>
                  <a:pt x="2815" y="257"/>
                  <a:pt x="2858" y="254"/>
                  <a:pt x="2898" y="262"/>
                </a:cubicBezTo>
                <a:cubicBezTo>
                  <a:pt x="2965" y="295"/>
                  <a:pt x="2965" y="287"/>
                  <a:pt x="3055" y="279"/>
                </a:cubicBezTo>
                <a:cubicBezTo>
                  <a:pt x="3105" y="203"/>
                  <a:pt x="3169" y="136"/>
                  <a:pt x="3221" y="61"/>
                </a:cubicBezTo>
                <a:cubicBezTo>
                  <a:pt x="3237" y="9"/>
                  <a:pt x="3259" y="26"/>
                  <a:pt x="3308" y="35"/>
                </a:cubicBezTo>
                <a:cubicBezTo>
                  <a:pt x="3334" y="32"/>
                  <a:pt x="3361" y="35"/>
                  <a:pt x="3386" y="26"/>
                </a:cubicBezTo>
                <a:cubicBezTo>
                  <a:pt x="3396" y="22"/>
                  <a:pt x="3404" y="0"/>
                  <a:pt x="340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478760" y="5222880"/>
            <a:ext cx="14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ate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 flipV="1">
            <a:off x="3886200" y="518112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666400" y="349092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ác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5138640" y="342864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Tendencias del mercado actua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ompet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reciente (interna y exter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competidores atacan nichos específ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 compite más por procesos que por productos (ejemplo: servicio al clien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umenta el marketing confrontacional (¿se acuerdan de la guerra del multicarrier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urgen alianzas estratégicas y partn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usiones y adquisiciones de em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BD04972_" descr=""/>
          <p:cNvPicPr/>
          <p:nvPr/>
        </p:nvPicPr>
        <p:blipFill>
          <a:blip r:embed="rId1"/>
          <a:stretch/>
        </p:blipFill>
        <p:spPr>
          <a:xfrm>
            <a:off x="7072200" y="1219320"/>
            <a:ext cx="1919520" cy="14382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52600" y="5410080"/>
            <a:ext cx="813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Existe espacio de competencia en el mercado de telecomunicacione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Por qué se regulan algunos mercado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Times New Roman"/>
              </a:rPr>
              <a:t>Métodos de determinación de precio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rientados al 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-pl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unto de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entabilidad 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urva de exper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rientados a la dem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-plus inver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unto de equilibrio modifi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nálisis de valor versus valor en u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conomét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rientados a la compe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egu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ici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teg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5" name="BS00561_" descr=""/>
          <p:cNvPicPr/>
          <p:nvPr/>
        </p:nvPicPr>
        <p:blipFill>
          <a:blip r:embed="rId1"/>
          <a:stretch/>
        </p:blipFill>
        <p:spPr>
          <a:xfrm>
            <a:off x="5403960" y="1600200"/>
            <a:ext cx="290196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Valor económ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001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¿Qué busca el prec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PTURAR EL MÁXIMO VALOR CRE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Valor = Beneficios - 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057400" y="3124080"/>
            <a:ext cx="1600200" cy="2286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057400" y="5410080"/>
            <a:ext cx="16002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038480" y="3124080"/>
            <a:ext cx="16765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052880" y="3443400"/>
            <a:ext cx="16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052880" y="3738600"/>
            <a:ext cx="16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239360" y="311940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- en v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444920" y="338616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esg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87680" y="3691080"/>
            <a:ext cx="10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+ gas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733920" y="312408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733920" y="4114800"/>
            <a:ext cx="152280" cy="2209680"/>
          </a:xfrm>
          <a:custGeom>
            <a:avLst/>
            <a:gdLst>
              <a:gd name="textAreaLeft" fmla="*/ 0 w 152280"/>
              <a:gd name="textAreaRight" fmla="*/ 55080 w 15228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124"/>
                </a:lnTo>
                <a:cubicBezTo>
                  <a:pt x="10800" y="10024"/>
                  <a:pt x="16200" y="10924"/>
                  <a:pt x="21600" y="10924"/>
                </a:cubicBezTo>
                <a:cubicBezTo>
                  <a:pt x="16200" y="10924"/>
                  <a:pt x="10800" y="11824"/>
                  <a:pt x="10800" y="1272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828800" y="3124080"/>
            <a:ext cx="76320" cy="2286000"/>
          </a:xfrm>
          <a:custGeom>
            <a:avLst/>
            <a:gdLst>
              <a:gd name="textAreaLeft" fmla="*/ 48960 w 76320"/>
              <a:gd name="textAreaRight" fmla="*/ 76320 w 7632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828800" y="548640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1520" y="3886200"/>
            <a:ext cx="194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Valor posi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e diferenci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20680" y="5470560"/>
            <a:ext cx="150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Va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e refer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938760" y="4894200"/>
            <a:ext cx="200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Valor econó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821560" y="3260880"/>
            <a:ext cx="194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Valor neg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e diferenci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74200" y="5699160"/>
            <a:ext cx="392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pasa si los costos son may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que el valor de referenci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Valor económ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Valor percib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tributos explíc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tributos percib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ímbolos de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cio como señalador de ca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ponibilidad de otros indic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persión de precios en la catego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ferencias de percepción de calidad en la catego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ocimientos de los Precios por el 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Rol de los cos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ás que los niveles de costos, importa saber cómo ellos cambian ante cambios en ventas por decisiones de pre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costos relevantes son los costos futuros, incrementales y evitables (costos fijos no, costos variables s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costos debieran definir el piso de los precios. El precio final vendrá asociado al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Qué costos consider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os del mejor competidor ac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os del competidor poten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os prop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74680" y="4556160"/>
            <a:ext cx="5149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Cómo puede imponer barreras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ntrada una empresa realizando inversion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Cómo se relaciona esto con el anál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stratégic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Existen incentivos en una industria intensiva 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ostos fijos para generar guerras de precio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pasa en telecomunicacion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BD06982_" descr=""/>
          <p:cNvPicPr/>
          <p:nvPr/>
        </p:nvPicPr>
        <p:blipFill>
          <a:blip r:embed="rId1"/>
          <a:stretch/>
        </p:blipFill>
        <p:spPr>
          <a:xfrm>
            <a:off x="5718240" y="3600360"/>
            <a:ext cx="182088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Times New Roman"/>
              </a:rPr>
              <a:t>Rol de la demanda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clave es tratar de controlar la elasticidad precio de la demanda de manera de insensibilizar a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 10 factores de control de sensibilidad a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unicidad (atributo único relevante para el consumid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fin último (situación uso/consumo, costo relativo a tot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gasto total (términos absolutos, situación relati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precio-c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precio-publi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inventario (corto plazo, expectativas futur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costo compart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conocimiento de alterna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dificultad de compa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inversión pas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029200" y="5181480"/>
            <a:ext cx="13716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543800" y="5181480"/>
            <a:ext cx="13716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ció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281640" y="4681440"/>
            <a:ext cx="13716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ció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291360" y="5505480"/>
            <a:ext cx="14475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248440" y="6248520"/>
            <a:ext cx="35812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ectos de insensibilización a pre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Times New Roman"/>
              </a:rPr>
              <a:t>Rol de la competencia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umento de competencia =&gt; Aumento de sensibilidad a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Quiénes finalmente son mis competidor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os que tienen la CAPACIDAD y VOLUNTAD de respo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i B baja el precio, ¿estará dispuesto a hacerlo 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57200" y="2808360"/>
            <a:ext cx="2743200" cy="1904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139760" y="4325760"/>
            <a:ext cx="1554120" cy="258840"/>
          </a:xfrm>
          <a:custGeom>
            <a:avLst/>
            <a:gdLst/>
            <a:ahLst/>
            <a:rect l="l" t="t" r="r" b="b"/>
            <a:pathLst>
              <a:path w="979" h="163">
                <a:moveTo>
                  <a:pt x="0" y="163"/>
                </a:moveTo>
                <a:cubicBezTo>
                  <a:pt x="32" y="116"/>
                  <a:pt x="22" y="100"/>
                  <a:pt x="71" y="69"/>
                </a:cubicBezTo>
                <a:cubicBezTo>
                  <a:pt x="142" y="79"/>
                  <a:pt x="211" y="92"/>
                  <a:pt x="282" y="104"/>
                </a:cubicBezTo>
                <a:cubicBezTo>
                  <a:pt x="317" y="100"/>
                  <a:pt x="353" y="99"/>
                  <a:pt x="388" y="92"/>
                </a:cubicBezTo>
                <a:cubicBezTo>
                  <a:pt x="412" y="87"/>
                  <a:pt x="435" y="77"/>
                  <a:pt x="458" y="69"/>
                </a:cubicBezTo>
                <a:cubicBezTo>
                  <a:pt x="470" y="65"/>
                  <a:pt x="494" y="57"/>
                  <a:pt x="494" y="57"/>
                </a:cubicBezTo>
                <a:cubicBezTo>
                  <a:pt x="578" y="0"/>
                  <a:pt x="680" y="27"/>
                  <a:pt x="776" y="33"/>
                </a:cubicBezTo>
                <a:cubicBezTo>
                  <a:pt x="864" y="51"/>
                  <a:pt x="809" y="37"/>
                  <a:pt x="905" y="69"/>
                </a:cubicBezTo>
                <a:cubicBezTo>
                  <a:pt x="917" y="73"/>
                  <a:pt x="940" y="80"/>
                  <a:pt x="940" y="80"/>
                </a:cubicBezTo>
                <a:cubicBezTo>
                  <a:pt x="979" y="106"/>
                  <a:pt x="976" y="90"/>
                  <a:pt x="976" y="1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44760" y="3341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9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004120" y="432756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653200" y="3763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043360" y="4384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09480" y="4952880"/>
            <a:ext cx="716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diciones que favorecen la competencia vía pre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914400" y="5410080"/>
            <a:ext cx="4191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Alta sensibilidad a precios entre mar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Bajas barreras de ingreso al 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Altas barreras de salida del 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105520" y="5410080"/>
            <a:ext cx="3962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roducto en etapa de madure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structura de la industria (compañías de tamaño simil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657600" y="2808360"/>
            <a:ext cx="2743200" cy="1904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3809880" y="3341520"/>
            <a:ext cx="2552760" cy="984240"/>
          </a:xfrm>
          <a:custGeom>
            <a:avLst/>
            <a:gdLst/>
            <a:ahLst/>
            <a:rect l="l" t="t" r="r" b="b"/>
            <a:pathLst>
              <a:path w="979" h="163">
                <a:moveTo>
                  <a:pt x="0" y="163"/>
                </a:moveTo>
                <a:cubicBezTo>
                  <a:pt x="32" y="116"/>
                  <a:pt x="22" y="100"/>
                  <a:pt x="71" y="69"/>
                </a:cubicBezTo>
                <a:cubicBezTo>
                  <a:pt x="142" y="79"/>
                  <a:pt x="211" y="92"/>
                  <a:pt x="282" y="104"/>
                </a:cubicBezTo>
                <a:cubicBezTo>
                  <a:pt x="317" y="100"/>
                  <a:pt x="353" y="99"/>
                  <a:pt x="388" y="92"/>
                </a:cubicBezTo>
                <a:cubicBezTo>
                  <a:pt x="412" y="87"/>
                  <a:pt x="435" y="77"/>
                  <a:pt x="458" y="69"/>
                </a:cubicBezTo>
                <a:cubicBezTo>
                  <a:pt x="470" y="65"/>
                  <a:pt x="494" y="57"/>
                  <a:pt x="494" y="57"/>
                </a:cubicBezTo>
                <a:cubicBezTo>
                  <a:pt x="578" y="0"/>
                  <a:pt x="680" y="27"/>
                  <a:pt x="776" y="33"/>
                </a:cubicBezTo>
                <a:cubicBezTo>
                  <a:pt x="864" y="51"/>
                  <a:pt x="809" y="37"/>
                  <a:pt x="905" y="69"/>
                </a:cubicBezTo>
                <a:cubicBezTo>
                  <a:pt x="917" y="73"/>
                  <a:pt x="940" y="80"/>
                  <a:pt x="940" y="80"/>
                </a:cubicBezTo>
                <a:cubicBezTo>
                  <a:pt x="979" y="106"/>
                  <a:pt x="976" y="90"/>
                  <a:pt x="976" y="1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745160" y="3341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6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204160" y="417996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4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853600" y="3341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481640" y="41799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496200" y="2666880"/>
            <a:ext cx="228600" cy="2133720"/>
          </a:xfrm>
          <a:custGeom>
            <a:avLst/>
            <a:gdLst>
              <a:gd name="textAreaLeft" fmla="*/ 0 w 228600"/>
              <a:gd name="textAreaRight" fmla="*/ 82440 w 22860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711120" y="2743200"/>
            <a:ext cx="234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us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696080" y="3657600"/>
            <a:ext cx="457200" cy="533520"/>
          </a:xfrm>
          <a:prstGeom prst="downArrow">
            <a:avLst>
              <a:gd name="adj1" fmla="val 50000"/>
              <a:gd name="adj2" fmla="val 29173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721200" y="4229280"/>
            <a:ext cx="24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Ñ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Times New Roman"/>
              </a:rPr>
              <a:t>Rol de los distribuidor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general aumenta el poder de los distribu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oseen injherencia en el precio final y asumen una posición activa frente al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Cómo crea valor el can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olítica de 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ervicios en el punto de v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ecursos humanos calific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istema logístico: cuándo, dónde, cuá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archand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mbiente/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 sea, los canales permiten llegar a los clientes, ofrecer productos ampliados y ser un medio de comun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precio es eficiente como herramienta de seg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o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ug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dentificación volun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inanci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343400" y="5791320"/>
            <a:ext cx="533520" cy="533160"/>
          </a:xfrm>
          <a:prstGeom prst="rightArrow">
            <a:avLst>
              <a:gd name="adj1" fmla="val 50000"/>
              <a:gd name="adj2" fmla="val 2501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313240" y="5459400"/>
            <a:ext cx="286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scriminación de Pre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Tiempo/Lug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mport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mpr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181480" y="5467320"/>
            <a:ext cx="304812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DISTRIBU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adena de valor agreg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752480" y="2590920"/>
            <a:ext cx="5791320" cy="685800"/>
          </a:xfrm>
          <a:custGeom>
            <a:avLst/>
            <a:gdLst>
              <a:gd name="textAreaLeft" fmla="*/ 723960 w 5791320"/>
              <a:gd name="textAreaRight" fmla="*/ 5067720 w 579132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5640" y="266688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vee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290360" y="246384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276360" y="2327400"/>
            <a:ext cx="167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tribu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590920" y="4038480"/>
            <a:ext cx="304560" cy="38124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8954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4114800"/>
            <a:ext cx="30492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20040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590920" y="3809880"/>
            <a:ext cx="304560" cy="38124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200400" y="4114800"/>
            <a:ext cx="30492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105520" y="4025880"/>
            <a:ext cx="30456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410080" y="4025880"/>
            <a:ext cx="30492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3200400" y="2895480"/>
            <a:ext cx="45720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495680" y="2895480"/>
            <a:ext cx="45720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512440" y="3454560"/>
            <a:ext cx="11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ayori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28800" y="345456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inori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4724280"/>
            <a:ext cx="8077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a cadena del distribuidor incluye a proveedor y consumidor f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lo tanto, las cadenas COMPI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mparación de caden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33520" y="1447920"/>
            <a:ext cx="6553080" cy="83808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33520" y="2666880"/>
            <a:ext cx="6553080" cy="83844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47000" y="1660680"/>
            <a:ext cx="7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is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184920" y="1660680"/>
            <a:ext cx="107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ag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866920" y="1660680"/>
            <a:ext cx="91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47000" y="2819520"/>
            <a:ext cx="7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is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868360" y="2819520"/>
            <a:ext cx="91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184920" y="281952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as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905120" y="175248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800600" y="297180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981080" y="297180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648320" y="175248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iferencias 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ven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ormas de p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ugares de a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b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rvicios Asoci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7" name="BD06663_" descr=""/>
          <p:cNvPicPr/>
          <p:nvPr/>
        </p:nvPicPr>
        <p:blipFill>
          <a:blip r:embed="rId1"/>
          <a:stretch/>
        </p:blipFill>
        <p:spPr>
          <a:xfrm>
            <a:off x="5862600" y="4008600"/>
            <a:ext cx="1928880" cy="167292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5097600" y="5851440"/>
            <a:ext cx="355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La decisión de compra no está 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sólo determinada por el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162920" y="1143000"/>
            <a:ext cx="304560" cy="2590920"/>
          </a:xfrm>
          <a:custGeom>
            <a:avLst/>
            <a:gdLst>
              <a:gd name="textAreaLeft" fmla="*/ 0 w 304560"/>
              <a:gd name="textAreaRight" fmla="*/ 109800 w 30456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529400" y="1812960"/>
            <a:ext cx="124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00"/>
                </a:solidFill>
                <a:uFillTx/>
                <a:latin typeface="Times New Roman"/>
              </a:rPr>
              <a:t>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PE01561_" descr=""/>
          <p:cNvPicPr/>
          <p:nvPr/>
        </p:nvPicPr>
        <p:blipFill>
          <a:blip r:embed="rId2"/>
          <a:stretch/>
        </p:blipFill>
        <p:spPr>
          <a:xfrm>
            <a:off x="7543800" y="2819520"/>
            <a:ext cx="1225440" cy="81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¿Cómo llegar a ello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guntas clav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Cómo comp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Cuándo comp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Dónde comp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s respuestas varían dependiendo de los segmentos de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randes corpor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y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gmento ma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demás se deben determinar los </a:t>
            </a:r>
            <a:r>
              <a:rPr b="0" lang="es-CL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rvicios más valorado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(no siempre para tener ventaja sino que para estar en la categorí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arjeta de crédito para supermer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oporte y garantías en tecnologías de misión crí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PE01562_" descr=""/>
          <p:cNvPicPr/>
          <p:nvPr/>
        </p:nvPicPr>
        <p:blipFill>
          <a:blip r:embed="rId1"/>
          <a:stretch/>
        </p:blipFill>
        <p:spPr>
          <a:xfrm>
            <a:off x="7086600" y="3124080"/>
            <a:ext cx="1357200" cy="1428840"/>
          </a:xfrm>
          <a:prstGeom prst="rect">
            <a:avLst/>
          </a:prstGeom>
          <a:ln w="0">
            <a:noFill/>
          </a:ln>
        </p:spPr>
      </p:pic>
      <p:pic>
        <p:nvPicPr>
          <p:cNvPr id="435" name="PE01476_" descr=""/>
          <p:cNvPicPr/>
          <p:nvPr/>
        </p:nvPicPr>
        <p:blipFill>
          <a:blip r:embed="rId2"/>
          <a:stretch/>
        </p:blipFill>
        <p:spPr>
          <a:xfrm>
            <a:off x="4800600" y="1066680"/>
            <a:ext cx="120636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Tendencias del mercado act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rodu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lealtad de marca se ve erosion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ciente proliferación de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aridad percibida en el producto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oducto ampliado cada vez más import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iclos de vida del producto más cor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ducción en tiempo-espacio-materia en el consu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47960" y="5562720"/>
            <a:ext cx="5356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Cuánto duró Internet Conmutado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Qué pasó con el boom de la larga distancia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Cuál fue la apuesta estratégica de ENTEL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structuración del ca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acuerdo a los servicios más valorados deben definirse TAREAS, sus alcances y los AGENTES que las realizará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area: Dar crédito en el punto de venta ¿administro mi propio medio de pago? ¿acepto medios de pago de terceros? ¿ofrezco las mismas facilidades de pag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s tareas en el canal determinan el costo operativo asociado ($ y tiemp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ótese que puntos de venta masivos pueden ser muy costos de administr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ada tarea debe ser remunerada de acuerdo a su aporte en la cadena de va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canal puede obtener una importante porción del precio al usuario f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lo debe ser consistente con su aporte de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924680" y="528336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8061840" y="5119560"/>
            <a:ext cx="99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P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064000" y="646128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Pfab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077320" y="5486400"/>
            <a:ext cx="75960" cy="1066680"/>
          </a:xfrm>
          <a:custGeom>
            <a:avLst/>
            <a:gdLst>
              <a:gd name="textAreaLeft" fmla="*/ 0 w 75960"/>
              <a:gd name="textAreaRight" fmla="*/ 27360 w 7596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8214840" y="5805360"/>
            <a:ext cx="77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Ca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3" name="PE01616_" descr=""/>
          <p:cNvPicPr/>
          <p:nvPr/>
        </p:nvPicPr>
        <p:blipFill>
          <a:blip r:embed="rId1"/>
          <a:stretch/>
        </p:blipFill>
        <p:spPr>
          <a:xfrm>
            <a:off x="7391520" y="3048120"/>
            <a:ext cx="1011240" cy="9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Administración de canales de distribu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xisten diversas formas de organizar canales de distrib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pietarios (integración ver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tratos específ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ranqui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lab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apacitación, financiamiento, elementos de venta, merchandising, contabilidad, control de gest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o existe un camino ún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uidado con los costos de transacción y los costos de agencia, sobretodo en la organización de fuerzas de ve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5448240" y="2870280"/>
            <a:ext cx="3581640" cy="1828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municación Integra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153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Va más allá de la conocida “publicida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e integra íntimamente al posicionamiento del producto a la identidad de marca y al potenciamiento de las demás variables comer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ases de implemen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agnó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Qué percibe o piensa el 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e acuerdo a eso, qué hace el 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bjetivos (situación espera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Qué quiero  que piensen los clientes POSICION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Qué quiero que hagan los clientes COMPORT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l seguimiento debe ser planteado a través de objetivos numé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mplementación de la estrategia comunic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981400" y="2971800"/>
            <a:ext cx="8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Categor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642280" y="32004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Atributos valor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621400" y="3429000"/>
            <a:ext cx="165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Atributos percibi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713920" y="3657600"/>
            <a:ext cx="148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Marcas percibi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2800" y="388620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Características percibi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479560" y="4114800"/>
            <a:ext cx="20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Posicionamiento percibi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636880" y="4343400"/>
            <a:ext cx="176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Actitud hacias mar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478280" y="304812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Actitud de comp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440480" y="3276720"/>
            <a:ext cx="164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Dificultad de acce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565040" y="3505320"/>
            <a:ext cx="133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Referente so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720920" y="3733920"/>
            <a:ext cx="9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Costu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480440" y="28828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1" name="PE01496_" descr=""/>
          <p:cNvPicPr/>
          <p:nvPr/>
        </p:nvPicPr>
        <p:blipFill>
          <a:blip r:embed="rId1"/>
          <a:stretch/>
        </p:blipFill>
        <p:spPr>
          <a:xfrm>
            <a:off x="6781680" y="2527200"/>
            <a:ext cx="627120" cy="743040"/>
          </a:xfrm>
          <a:prstGeom prst="rect">
            <a:avLst/>
          </a:prstGeom>
          <a:ln w="0">
            <a:noFill/>
          </a:ln>
        </p:spPr>
      </p:pic>
      <p:pic>
        <p:nvPicPr>
          <p:cNvPr id="462" name="PE01549_" descr=""/>
          <p:cNvPicPr/>
          <p:nvPr/>
        </p:nvPicPr>
        <p:blipFill>
          <a:blip r:embed="rId2"/>
          <a:stretch/>
        </p:blipFill>
        <p:spPr>
          <a:xfrm>
            <a:off x="8001000" y="4038480"/>
            <a:ext cx="669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609480" y="1752480"/>
            <a:ext cx="2514600" cy="990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AGNÓ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Implementación de estrateg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2895120" y="3276720"/>
            <a:ext cx="4800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ens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ed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recuencia/Cober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orma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867280" y="1752480"/>
            <a:ext cx="2514600" cy="990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ITU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PE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733920" y="2133720"/>
            <a:ext cx="1523880" cy="38088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683160" y="2533680"/>
            <a:ext cx="189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strategia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9" name="BD05537_" descr=""/>
          <p:cNvPicPr/>
          <p:nvPr/>
        </p:nvPicPr>
        <p:blipFill>
          <a:blip r:embed="rId1"/>
          <a:stretch/>
        </p:blipFill>
        <p:spPr>
          <a:xfrm>
            <a:off x="762120" y="3352680"/>
            <a:ext cx="2023920" cy="2641680"/>
          </a:xfrm>
          <a:prstGeom prst="rect">
            <a:avLst/>
          </a:prstGeom>
          <a:ln w="0">
            <a:noFill/>
          </a:ln>
        </p:spPr>
      </p:pic>
      <p:pic>
        <p:nvPicPr>
          <p:cNvPr id="470" name="BD06517_" descr=""/>
          <p:cNvPicPr/>
          <p:nvPr/>
        </p:nvPicPr>
        <p:blipFill>
          <a:blip r:embed="rId2"/>
          <a:stretch/>
        </p:blipFill>
        <p:spPr>
          <a:xfrm>
            <a:off x="6705720" y="5181480"/>
            <a:ext cx="1803240" cy="1189080"/>
          </a:xfrm>
          <a:prstGeom prst="rect">
            <a:avLst/>
          </a:prstGeom>
          <a:ln w="0">
            <a:noFill/>
          </a:ln>
        </p:spPr>
      </p:pic>
      <p:pic>
        <p:nvPicPr>
          <p:cNvPr id="471" name="BS02064_" descr=""/>
          <p:cNvPicPr/>
          <p:nvPr/>
        </p:nvPicPr>
        <p:blipFill>
          <a:blip r:embed="rId3"/>
          <a:stretch/>
        </p:blipFill>
        <p:spPr>
          <a:xfrm>
            <a:off x="6629400" y="3352680"/>
            <a:ext cx="172080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arácter del mensaj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209680" y="1828800"/>
            <a:ext cx="5791320" cy="30481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649600" y="1181160"/>
            <a:ext cx="211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Inform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(educación, racion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637600" y="1181160"/>
            <a:ext cx="221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Ima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(sensorial, emocion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49880" y="245268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Riesgo Ba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49880" y="3747960"/>
            <a:ext cx="12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Riesgo Al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029200" y="182880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209680" y="3352680"/>
            <a:ext cx="579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972160" y="2362320"/>
            <a:ext cx="127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Aspir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Deterg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743920" y="3625920"/>
            <a:ext cx="18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C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quipos/Siste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887080" y="2362320"/>
            <a:ext cx="124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Beb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Cosmét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785200" y="38242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Autos de lu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066400" y="5029200"/>
            <a:ext cx="586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3333cc"/>
                </a:solidFill>
                <a:latin typeface="Times New Roman"/>
              </a:rPr>
              <a:t>¿Dónde sitúa ustedes a los productos de telecomunicacion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5486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da cuadrante requiere distintos med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ensa es adecuada para mensajes informaci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a TV es adecuada para mensajes de im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Tipos de forma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Emo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Emociones asociadas a la mar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Disociación de eventos y mar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Reacción del consumi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Ani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Movi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Dinamismo, col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Mercado objetivo principal los niñ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mpara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Presentar ventaja frente a la compe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OJO con las trabas legales y práct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spaldo de person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Vocero de peso relacio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Relación al producto y posicion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Present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Vocero v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Relevante para la categorí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Símbo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Elementos de fuerte significado colec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Mucha información en poco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350320" y="1295280"/>
            <a:ext cx="31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 Carabineros de Chile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avisos de accidentes de tráns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351400" y="2452680"/>
            <a:ext cx="24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 Dragon Ball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349960" y="3244680"/>
            <a:ext cx="330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 Pepsi, nueva gen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Líder los precios + bajos siemp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350320" y="4205160"/>
            <a:ext cx="36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 Nicolás Massú y Telefón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349600" y="5043600"/>
            <a:ext cx="340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 Andrea Molina y Telm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477120" y="5791320"/>
            <a:ext cx="838080" cy="761760"/>
          </a:xfrm>
          <a:prstGeom prst="smileyFace">
            <a:avLst>
              <a:gd name="adj" fmla="val 928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7736400" y="5905440"/>
            <a:ext cx="443160" cy="531360"/>
            <a:chOff x="7736400" y="5905440"/>
            <a:chExt cx="443160" cy="531360"/>
          </a:xfrm>
        </p:grpSpPr>
        <p:sp>
          <p:nvSpPr>
            <p:cNvPr id="495" name=""/>
            <p:cNvSpPr/>
            <p:nvPr/>
          </p:nvSpPr>
          <p:spPr>
            <a:xfrm>
              <a:off x="7973640" y="59054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973280" y="6212520"/>
              <a:ext cx="206280" cy="224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7736400" y="6208200"/>
              <a:ext cx="223920" cy="20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5353200" y="5958000"/>
            <a:ext cx="102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503240" y="5448240"/>
            <a:ext cx="457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imes New Roman"/>
              </a:rPr>
              <a:t>OJO con quedar atrapado en el presentador y respal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Cobertura del segmento elegi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Televi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u principal fortaleza es la cobertura (capacidad de cubrir el mercad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u principal debilidad es la capacidad de entrega de mensajes específ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¿Saben cómo se mide el rating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A lo menos es discutible como metodologí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Sin embargo es relevante en cuanto decide el presupuesto de inver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Frecuencia de repetición del mensaje (medida de “ataque” al segment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GRP (Gross rating point) = FRECUENCIA x COBERTURA (costo por contact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En términos de costos y de selección de estrategia existe un trade-off entre frecuencia y cobert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En la práctica las preguntas son: Definir qué mercado y cómo llegar a é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La cobertura y frecuencia deben determinarse de acuerdo a los objetivos de la campaña, al segmento objetivo, los atributos del producto y el formato seleccio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ensa escr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u principal fortaleza es la capacidad de entrega de mensajes racio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s menos eficiente en la entrega de mensajes emocio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u utilización se mide por el concepto de cm-colum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Costo por contacto efectiv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¿Cuánto cuesta llegar efectivamente a quién se quiere llegar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1523880" y="3504960"/>
            <a:ext cx="1219320" cy="533160"/>
            <a:chOff x="1523880" y="3504960"/>
            <a:chExt cx="1219320" cy="533160"/>
          </a:xfrm>
        </p:grpSpPr>
        <p:sp>
          <p:nvSpPr>
            <p:cNvPr id="505" name=""/>
            <p:cNvSpPr/>
            <p:nvPr/>
          </p:nvSpPr>
          <p:spPr>
            <a:xfrm flipV="1">
              <a:off x="1523880" y="35049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523880" y="35053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2743200" y="2971440"/>
            <a:ext cx="1219320" cy="533160"/>
            <a:chOff x="2743200" y="2971440"/>
            <a:chExt cx="1219320" cy="533160"/>
          </a:xfrm>
        </p:grpSpPr>
        <p:sp>
          <p:nvSpPr>
            <p:cNvPr id="508" name=""/>
            <p:cNvSpPr/>
            <p:nvPr/>
          </p:nvSpPr>
          <p:spPr>
            <a:xfrm flipV="1">
              <a:off x="2743200" y="29714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743200" y="29718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3962520" y="2437920"/>
            <a:ext cx="1218960" cy="533160"/>
            <a:chOff x="3962520" y="2437920"/>
            <a:chExt cx="1218960" cy="533160"/>
          </a:xfrm>
        </p:grpSpPr>
        <p:sp>
          <p:nvSpPr>
            <p:cNvPr id="511" name=""/>
            <p:cNvSpPr/>
            <p:nvPr/>
          </p:nvSpPr>
          <p:spPr>
            <a:xfrm flipV="1">
              <a:off x="3962520" y="24379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962520" y="24382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5181480" y="1904760"/>
            <a:ext cx="1219320" cy="533160"/>
            <a:chOff x="5181480" y="1904760"/>
            <a:chExt cx="1219320" cy="533160"/>
          </a:xfrm>
        </p:grpSpPr>
        <p:sp>
          <p:nvSpPr>
            <p:cNvPr id="514" name=""/>
            <p:cNvSpPr/>
            <p:nvPr/>
          </p:nvSpPr>
          <p:spPr>
            <a:xfrm flipV="1">
              <a:off x="5181480" y="19047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181480" y="1905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6400800" y="1371240"/>
            <a:ext cx="1219320" cy="533160"/>
            <a:chOff x="6400800" y="1371240"/>
            <a:chExt cx="1219320" cy="533160"/>
          </a:xfrm>
        </p:grpSpPr>
        <p:sp>
          <p:nvSpPr>
            <p:cNvPr id="517" name=""/>
            <p:cNvSpPr/>
            <p:nvPr/>
          </p:nvSpPr>
          <p:spPr>
            <a:xfrm flipV="1">
              <a:off x="6400800" y="13712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400800" y="13716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1584360" y="361944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ercado To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805120" y="308628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rosp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099680" y="251460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Interes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319720" y="19699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rue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536520" y="142236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Adopción y lealt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400800" y="3429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os To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057400" y="3022560"/>
            <a:ext cx="533520" cy="380880"/>
          </a:xfrm>
          <a:custGeom>
            <a:avLst/>
            <a:gdLst>
              <a:gd name="textAreaLeft" fmla="*/ 0 w 533520"/>
              <a:gd name="textAreaRight" fmla="*/ 533880 w 5335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715000" y="1447920"/>
            <a:ext cx="533520" cy="380880"/>
          </a:xfrm>
          <a:custGeom>
            <a:avLst/>
            <a:gdLst>
              <a:gd name="textAreaLeft" fmla="*/ 0 w 533520"/>
              <a:gd name="textAreaRight" fmla="*/ 533880 w 5335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495680" y="1981080"/>
            <a:ext cx="533520" cy="381240"/>
          </a:xfrm>
          <a:custGeom>
            <a:avLst/>
            <a:gdLst>
              <a:gd name="textAreaLeft" fmla="*/ 0 w 533520"/>
              <a:gd name="textAreaRight" fmla="*/ 533880 w 53352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174840" y="2514600"/>
            <a:ext cx="533520" cy="380880"/>
          </a:xfrm>
          <a:custGeom>
            <a:avLst/>
            <a:gdLst>
              <a:gd name="textAreaLeft" fmla="*/ 0 w 533520"/>
              <a:gd name="textAreaRight" fmla="*/ 533880 w 5335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9" name="BD04972_" descr=""/>
          <p:cNvPicPr/>
          <p:nvPr/>
        </p:nvPicPr>
        <p:blipFill>
          <a:blip r:embed="rId1"/>
          <a:stretch/>
        </p:blipFill>
        <p:spPr>
          <a:xfrm>
            <a:off x="4800600" y="2895480"/>
            <a:ext cx="1447920" cy="108432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685800" y="4419720"/>
            <a:ext cx="7772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Nótese que el cálculo por contacto efectivo es mayor que la inversión en medios masiv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No sólo tengo que generar “awareness” en el cliente sino que generar la prueba del producto, su adopción y mantener la fidel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En caso contrario el esfuerzo es infructu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Presupuesto de comunic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¿Es la comunicación una INVERSIÓN o un GASTO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Visión del Gerente de Mark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Visión del Gerente de Finanz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Visión del Gerente 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Usar un porcentaje de las ventas como presupuesto de publicidad no es un buen método ¿Por qué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iense en el ciclo de vida de los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mecanismos de asignación correctos deben estar orientados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atisfacer objetivos y tareas (relación con estrateg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elación con la compe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námica líder-segui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justarse a presupuestos realis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stimación de esfuerzos para alcanzar objetivos específ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3" name="BD05299_" descr=""/>
          <p:cNvPicPr/>
          <p:nvPr/>
        </p:nvPicPr>
        <p:blipFill>
          <a:blip r:embed="rId1"/>
          <a:stretch/>
        </p:blipFill>
        <p:spPr>
          <a:xfrm>
            <a:off x="7010280" y="1447920"/>
            <a:ext cx="175284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Tendencias del mercado act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anales de Distribu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uevas formas de distrib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ciente poder de los intermedi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Han construido marca, manejan información y localización privilegi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ciente concentración de la propi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ciente segmentación de los forma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Uso intensivo de la tecnolog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157880" y="2482920"/>
            <a:ext cx="146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cc"/>
                </a:solidFill>
                <a:latin typeface="Times New Roman"/>
              </a:rPr>
              <a:t>D&amp;S y s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cc"/>
                </a:solidFill>
                <a:latin typeface="Times New Roman"/>
              </a:rPr>
              <a:t>distribui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44080" y="5638680"/>
            <a:ext cx="695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Cómo se venden los productos de telecomunicaciones hoy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Basta poner un comercial en la TV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Infraestructura n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ejoras en telecomunic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enetración de la computación e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ejoras en sistemas de corr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uevos medios de comun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cursos de mayor ca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OJO que las telecomunicaciones en si son importantes en el proceso de creación de valor de cualquier indust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Tendencias del mercado act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BD05679_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523880" cy="14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cepto clave: VAL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mpromiso beneficios versus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2286000"/>
            <a:ext cx="1981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Tangi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Percib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67280" y="2286000"/>
            <a:ext cx="2590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 en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 en esfuerz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 sicológ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s futu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s de camb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867280" y="2286000"/>
            <a:ext cx="2590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Costo en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Costo en esfuerz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Costo sicológ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Costos futu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Costos de camb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572000"/>
            <a:ext cx="67816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¿Cómo agregar val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mentar los benefi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minuir los 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2440" y="3124080"/>
            <a:ext cx="51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¿qué pasa en una situación de consum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BD05584_" descr=""/>
          <p:cNvPicPr/>
          <p:nvPr/>
        </p:nvPicPr>
        <p:blipFill>
          <a:blip r:embed="rId1"/>
          <a:stretch/>
        </p:blipFill>
        <p:spPr>
          <a:xfrm>
            <a:off x="2514600" y="3581280"/>
            <a:ext cx="74124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Segm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dentificación de grupos de consumidores que tengan en común ciertas características que determinen comportamientos de compra simi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s características anteriores se agrupan en variables de seg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 anterior nos permite diferenciar la OFERTA y entender mejor al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general, comportamiento de compra = f(variables de segment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sualmente se utilizan varias variables de segmentación para caracterizar adecuadamente a un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67360" y="5791320"/>
            <a:ext cx="399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qué significa caracteriz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adecuadamente a un merca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7T17:01:47Z</dcterms:created>
  <dc:creator>JMTORRES</dc:creator>
  <dc:description/>
  <dc:language>en-US</dc:language>
  <cp:lastModifiedBy>jtorrest</cp:lastModifiedBy>
  <dcterms:modified xsi:type="dcterms:W3CDTF">2006-09-12T20:53:54Z</dcterms:modified>
  <cp:revision>14</cp:revision>
  <dc:subject/>
  <dc:title>Gestión de Empresas de Telecomunicaciones EL 65J Apunte 3 Gestión Comercial</dc:title>
</cp:coreProperties>
</file>