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2E58CA-0B33-47CC-817D-EB28355D80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A10B397-721E-43BC-B92C-6B83451CF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14A5BF6-5621-4C9F-B58D-B8224C351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3AFC3B3-BB8F-4384-99EB-8AC815CEE61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9B6FB6E-EC7E-4E2B-B1B6-3F8631A01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3B816B5-09F9-4D58-95DC-E37044BDE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64B0BC4-B9FE-4A18-8BC2-197E81FB3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13E6FB2-BDE7-4287-A609-2FB6FE540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2CD85E9-B9E7-450F-9D3D-519130BF3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B0BA9BB-DD86-4F74-A756-5B693962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15A7160-6FD5-4457-90B3-AFE80EE3C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27D7EF2-086B-4C75-BE15-B8E736C197D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60A5-951A-4348-95A7-A2FE2DC4C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6</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B260059-3C30-4402-B693-0D04CD064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34160" cy="231480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34160" cy="2314800"/>
                  </a:xfrm>
                  <a:prstGeom prst="rect">
                    <a:avLst/>
                  </a:prstGeom>
                  <a:ln w="0">
                    <a:noFill/>
                  </a:ln>
                </p:spPr>
              </p:pic>
            </p:oleObj>
          </a:graphicData>
        </a:graphic>
      </p:graphicFrame>
      <p:sp>
        <p:nvSpPr>
          <p:cNvPr id="78" name="PlaceHolder 2"/>
          <p:cNvSpPr>
            <a:spLocks noGrp="1"/>
          </p:cNvSpPr>
          <p:nvPr>
            <p:ph/>
          </p:nvPr>
        </p:nvSpPr>
        <p:spPr>
          <a:xfrm>
            <a:off x="533160" y="3962520"/>
            <a:ext cx="8458200" cy="2615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2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a través de portales y buscadores ha tenido un “segundo aire” Ejemplo: GOOGL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5298E5-AF5B-4F41-AB55-5819DEBFA8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537B4A-01C1-4D3A-9B1F-CB391DEC3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C4C1916-26BA-4BF9-B5A3-97A033D94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8BC41AC-13D6-40A5-988B-2F36B29FE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5CA9270-7AB6-4BE5-B457-6B596D27B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5699E43-1F8C-47D2-89EA-E515EE0FE0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6175A68-8FB6-4B2E-A857-5D61B310A6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431AAA8-75ED-4476-91AC-80954206B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9C37C29-7B19-4FA1-9136-F67EE3DBB0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D8D5BA7-B6BE-4027-871E-F3DF9143D7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840B7CD-C141-42B9-8E6E-BC5694C15C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9A79D646-C72C-4810-A8F8-2CA837D4C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BC5FAE1-F86C-4DBA-9E3F-0A3A2FB6E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6F238AC8-1F51-485B-A2FD-0FA01994E5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01C4F73-C255-4BEC-BD1A-1B2373F58C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292A34-8BA1-469B-9C14-5A644D87C0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7F69FFB-D7F0-47E3-8214-D7F0E80FE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0E3B407-DD8E-4CD5-BA67-B1E58F845D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F307D0-6290-42DA-B236-281EFD299B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9F2061AD-EFD5-490F-915E-6F46A95CBD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6ABEBD1-8F11-4D18-9AF6-A62AAB53D4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B7F7C3-6AB7-4A8E-90D8-56BA36C38C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0D2F33A5-D59C-4B3E-BA50-0FC285B9A5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PE02097_"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CEB06164-1800-48CA-A444-59062B3C69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7F8B612-E0C0-4AEF-B1FF-33DA664F9D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CBBDEB9-80D9-4970-9089-CAEDCEB36E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245E3AE-7B73-41BF-B85C-44F754F3D2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79536D-1E91-42EC-A8C2-870A9BBCE8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044B6B2-BB76-42AC-889B-35F237BA2E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6038C3-2BDC-4166-950A-C6E6579138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EF33BED-09A2-4D8A-8A19-A59CD194A6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D164C01-2FF4-4654-8F39-BF8CCD2BB5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997DDE1-F78F-4614-BDC3-5741463D0D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5FFD46-6D55-4377-8E76-FBA2E32CB1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4EDAB05F-156D-492B-A093-A099B693E5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A79430F9-0662-4CFD-B381-DE5F2B5913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223EF1D-6465-4C99-BE85-71A5EC128A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9B189A-72B9-491C-9D4D-AD9EA30305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628071-6915-47C4-8E56-713290135A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1FAB78-27E0-448F-91DE-A39E2B445C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1DBD618-BAC4-4E86-859C-518E751679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0EC15B2-6383-491C-83A9-C4A9AF7500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5613B4-608C-403A-B147-E8AFFE43C9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C38B1C-3EED-4846-B896-20BA081803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81486FD-FD35-41A2-AD61-4B1B14A84A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E8DA61C-1A17-4A52-BCF0-2A423AFFB4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DCC1BE-D7B2-4969-9112-76B8E50F25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7730977-CAC5-477D-969D-92AE6130A9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2AA2E91-EB33-448E-A171-183E6313B5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7B440A-2DF9-4831-A942-840119D6E6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B758F4-A9F4-4E25-8F38-A0304985E2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4DAEB9F-D303-4B03-9F4B-94D379CD6A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47B1933-56B8-4DC6-AC29-4A1F5FC1EA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F9D71F-56C9-422A-ACAC-27E0934427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616D209-A361-4A2D-ACBC-A063F174BC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85F1B243-F8FE-47E1-B52D-D1C82D4715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549F5C-8630-4B4D-A805-4B4669A1CD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46F445B-D6F6-4DC5-841B-88D2C3427F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126C78F-9C5A-46EE-8CDE-050449F074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F36593-6B69-43B5-BA15-BEE18C10AA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79D2339-DD9E-46BE-A388-232C5B86B9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4ABB052-7B7A-418A-BF68-CA2D2ADCA8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C7CDB1-06C5-4E22-82D6-CA97A8B3F6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4E67A323-13C9-4648-A1AD-A566571258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8377E92-3672-4FD3-A4C9-18E6E0CEDD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A59245A-ADE4-4A8D-BEBD-AADA77EACB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80D9836-53F5-48EA-B31B-9A44436B09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B922AFAE-E4EA-4E9A-988A-3964C9304445}"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D7047D-7C91-438D-B8C1-A76E21851F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805B42-660B-4460-9367-E285FF822D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6-08-01T15:31:28Z</dcterms:modified>
  <cp:revision>68</cp:revision>
  <dc:subject/>
  <dc:title>Gestión de Empresas de Telecomunicaciones</dc:title>
</cp:coreProperties>
</file>