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6261AA-6B13-4207-A9D4-E8C934A3E8A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40097A4-FDA8-4BEF-9BE0-43473E600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DD8E2BD-18E9-4FD4-BE38-928F51125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32DC872-7F81-4047-9DA2-AEB2D8425CB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1C4AA78-522C-4350-AAD9-6A449B973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2D558A4-2D3E-4A2C-8747-50EE29329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AB50A05-40A1-4FDF-B2C5-C75A81074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638ADBB-393F-4743-9497-23C3BF783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846421F-6C69-42B8-8A4C-0C5E93542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B509684-2D3A-4E82-9DD9-452037E94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42A4EB0-874F-45B4-A8C2-4882354CE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5F98641-EDE2-44A4-9D6A-D0A9C77DDFA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DCFA-763D-4566-AAAE-A78F14B50D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Jose.torres@telefonicamoviles.c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06</a:t>
            </a:r>
            <a:endParaRPr b="0" lang="en-US" sz="2400" spc="-1" strike="noStrike">
              <a:solidFill>
                <a:srgbClr val="000000"/>
              </a:solidFill>
              <a:latin typeface="Times New Roman"/>
            </a:endParaRPr>
          </a:p>
        </p:txBody>
      </p:sp>
      <p:grpSp>
        <p:nvGrpSpPr>
          <p:cNvPr id="42" name=""/>
          <p:cNvGrpSpPr/>
          <p:nvPr/>
        </p:nvGrpSpPr>
        <p:grpSpPr>
          <a:xfrm>
            <a:off x="1714680" y="3254400"/>
            <a:ext cx="5715000" cy="350640"/>
            <a:chOff x="1714680" y="3254400"/>
            <a:chExt cx="5715000" cy="350640"/>
          </a:xfrm>
        </p:grpSpPr>
        <p:sp>
          <p:nvSpPr>
            <p:cNvPr id="43"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1714680" y="3254400"/>
              <a:ext cx="4379760" cy="350640"/>
              <a:chOff x="1714680" y="3254400"/>
              <a:chExt cx="4379760" cy="350640"/>
            </a:xfrm>
          </p:grpSpPr>
          <p:sp>
            <p:nvSpPr>
              <p:cNvPr id="45"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6" name=""/>
              <p:cNvGrpSpPr/>
              <p:nvPr/>
            </p:nvGrpSpPr>
            <p:grpSpPr>
              <a:xfrm>
                <a:off x="1714680" y="3254400"/>
                <a:ext cx="4379760" cy="350640"/>
                <a:chOff x="1714680" y="3254400"/>
                <a:chExt cx="4379760" cy="350640"/>
              </a:xfrm>
            </p:grpSpPr>
            <p:sp>
              <p:nvSpPr>
                <p:cNvPr id="47"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
          <p:cNvGrpSpPr/>
          <p:nvPr/>
        </p:nvGrpSpPr>
        <p:grpSpPr>
          <a:xfrm>
            <a:off x="1714680" y="3254400"/>
            <a:ext cx="5715000" cy="350640"/>
            <a:chOff x="1714680" y="3254400"/>
            <a:chExt cx="5715000" cy="350640"/>
          </a:xfrm>
        </p:grpSpPr>
        <p:sp>
          <p:nvSpPr>
            <p:cNvPr id="50"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1714680" y="3254400"/>
              <a:ext cx="4379760" cy="350640"/>
              <a:chOff x="1714680" y="3254400"/>
              <a:chExt cx="4379760" cy="350640"/>
            </a:xfrm>
          </p:grpSpPr>
          <p:sp>
            <p:nvSpPr>
              <p:cNvPr id="52"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 name=""/>
              <p:cNvGrpSpPr/>
              <p:nvPr/>
            </p:nvGrpSpPr>
            <p:grpSpPr>
              <a:xfrm>
                <a:off x="1714680" y="3254400"/>
                <a:ext cx="4379760" cy="350640"/>
                <a:chOff x="1714680" y="3254400"/>
                <a:chExt cx="4379760" cy="350640"/>
              </a:xfrm>
            </p:grpSpPr>
            <p:sp>
              <p:nvSpPr>
                <p:cNvPr id="54"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219320"/>
            <a:ext cx="8458200" cy="2228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T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74" name=""/>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70FA729-A7C6-429D-8168-950D804763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numérico (Diciembre 2005)</a:t>
            </a:r>
            <a:endParaRPr b="0" lang="en-US" sz="4000" spc="-1" strike="noStrike">
              <a:solidFill>
                <a:srgbClr val="000000"/>
              </a:solidFill>
              <a:latin typeface="Times New Roman"/>
            </a:endParaRPr>
          </a:p>
        </p:txBody>
      </p:sp>
      <p:graphicFrame>
        <p:nvGraphicFramePr>
          <p:cNvPr id="76" name=""/>
          <p:cNvGraphicFramePr/>
          <p:nvPr/>
        </p:nvGraphicFramePr>
        <p:xfrm>
          <a:off x="304920" y="1523880"/>
          <a:ext cx="8534160" cy="2314800"/>
        </p:xfrm>
        <a:graphic>
          <a:graphicData uri="http://schemas.openxmlformats.org/presentationml/2006/ole">
            <p:oleObj progId="Excel.Sheet.12" r:id="rId1" spid="">
              <p:embed/>
              <p:pic>
                <p:nvPicPr>
                  <p:cNvPr id="77" name="" descr=""/>
                  <p:cNvPicPr/>
                  <p:nvPr/>
                </p:nvPicPr>
                <p:blipFill>
                  <a:blip r:embed="rId2"/>
                  <a:stretch/>
                </p:blipFill>
                <p:spPr>
                  <a:xfrm>
                    <a:off x="304920" y="1523880"/>
                    <a:ext cx="8534160" cy="2314800"/>
                  </a:xfrm>
                  <a:prstGeom prst="rect">
                    <a:avLst/>
                  </a:prstGeom>
                  <a:ln w="0">
                    <a:noFill/>
                  </a:ln>
                </p:spPr>
              </p:pic>
            </p:oleObj>
          </a:graphicData>
        </a:graphic>
      </p:graphicFrame>
      <p:sp>
        <p:nvSpPr>
          <p:cNvPr id="78" name="PlaceHolder 2"/>
          <p:cNvSpPr>
            <a:spLocks noGrp="1"/>
          </p:cNvSpPr>
          <p:nvPr>
            <p:ph/>
          </p:nvPr>
        </p:nvSpPr>
        <p:spPr>
          <a:xfrm>
            <a:off x="533160" y="3962520"/>
            <a:ext cx="8458200" cy="26154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tedes deben complementar estas cifras con el Informe Estadístico actual de la Subte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gunos dato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Móvil en Chile tiene la penetración más alta de LATAM (e incluso superior a USA y algunos países de Europa) ¿hay espacio para crecer?</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Fija sigue decreciendo (menos de 3.200.000)</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negocio de Internet a través de portales y buscadores ha tenido un “segundo aire” Ejemplo: GOOGL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5F6F044-48C1-441A-ABE8-027CCB9C6E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82" name="PlaceHolder 2"/>
          <p:cNvSpPr>
            <a:spLocks noGrp="1"/>
          </p:cNvSpPr>
          <p:nvPr>
            <p:ph/>
          </p:nvPr>
        </p:nvSpPr>
        <p:spPr>
          <a:xfrm>
            <a:off x="533160" y="1422360"/>
            <a:ext cx="8458200" cy="1633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83" name=""/>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84" name=""/>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33E2630-B00C-4EAB-9D58-354F1CA152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294920"/>
            <a:ext cx="84582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87" name=""/>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89" name=""/>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90" name=""/>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F66B969-B596-47A3-B5C8-5AE5AADF5E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3" name="PlaceHolder 2"/>
          <p:cNvSpPr>
            <a:spLocks noGrp="1"/>
          </p:cNvSpPr>
          <p:nvPr>
            <p:ph/>
          </p:nvPr>
        </p:nvSpPr>
        <p:spPr>
          <a:xfrm>
            <a:off x="533160" y="1294920"/>
            <a:ext cx="8458200" cy="5335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4F73436-DD78-4750-BE2B-7D747ABD26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5" name="PlaceHolder 2"/>
          <p:cNvSpPr>
            <a:spLocks noGrp="1"/>
          </p:cNvSpPr>
          <p:nvPr>
            <p:ph/>
          </p:nvPr>
        </p:nvSpPr>
        <p:spPr>
          <a:xfrm>
            <a:off x="533160" y="1295280"/>
            <a:ext cx="8458200" cy="5260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5A8BC3D-DC67-473E-9FE4-C2BDFBC8F1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97" name=""/>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98" name=""/>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B89FE50E-54F4-4E4F-A6D7-4B67AED5F8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06" name=""/>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07" name=""/>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838680" y="2208960"/>
            <a:ext cx="198072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flipH="1" flipV="1">
            <a:off x="3990960" y="2513520"/>
            <a:ext cx="1626480" cy="259092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25040" y="2666160"/>
            <a:ext cx="12182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flipH="1" flipV="1">
            <a:off x="6047640" y="327600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344000" y="327528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7722360" y="327492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3610080" y="1751760"/>
            <a:ext cx="152352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210280" y="2243880"/>
            <a:ext cx="1828440" cy="297828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flipV="1">
            <a:off x="7191720" y="2327040"/>
            <a:ext cx="913680" cy="285408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990960" y="5562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24" name=""/>
          <p:cNvSpPr/>
          <p:nvPr/>
        </p:nvSpPr>
        <p:spPr>
          <a:xfrm>
            <a:off x="6200640" y="55627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25" name=""/>
          <p:cNvSpPr/>
          <p:nvPr/>
        </p:nvSpPr>
        <p:spPr>
          <a:xfrm>
            <a:off x="7572240" y="55627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26" name=""/>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7" name=""/>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9" name=""/>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0" name=""/>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1" name=""/>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32" name=""/>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33" name=""/>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4" name=""/>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5" name=""/>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40" name=""/>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1" name=""/>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47" name=""/>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48" name=""/>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50" name=""/>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500961D-2178-4899-988F-20C7485241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56" name=""/>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57" name=""/>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962520" y="2742840"/>
            <a:ext cx="198072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flipH="1" flipV="1">
            <a:off x="4114800" y="304740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6248880" y="3200040"/>
            <a:ext cx="12182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6171480" y="38091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467480" y="3786840"/>
            <a:ext cx="1066680" cy="1218960"/>
          </a:xfrm>
          <a:custGeom>
            <a:avLst/>
            <a:gdLst/>
            <a:ahLst/>
            <a:rect l="l" t="t" r="r" b="b"/>
            <a:pathLst>
              <a:path stroke="0" w="21600" h="21600">
                <a:moveTo>
                  <a:pt x="14886" y="803"/>
                </a:moveTo>
                <a:arcTo wR="10800" hR="10800" stAng="-4066127" swAng="4364781"/>
                <a:lnTo>
                  <a:pt x="10800" y="10800"/>
                </a:lnTo>
                <a:close/>
              </a:path>
              <a:path fill="none" w="21600" h="21600">
                <a:moveTo>
                  <a:pt x="14886" y="803"/>
                </a:moveTo>
                <a:arcTo wR="10800" hR="10800" stAng="-4066127" swAng="43647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flipV="1">
            <a:off x="7848000" y="380988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733920" y="2285280"/>
            <a:ext cx="1523520" cy="3657240"/>
          </a:xfrm>
          <a:custGeom>
            <a:avLst/>
            <a:gdLst/>
            <a:ahLst/>
            <a:rect l="l" t="t" r="r" b="b"/>
            <a:pathLst>
              <a:path stroke="0" w="21600" h="21600">
                <a:moveTo>
                  <a:pt x="10800" y="0"/>
                </a:moveTo>
                <a:arcTo wR="10800" hR="10800" stAng="-5400000" swAng="5201638"/>
                <a:lnTo>
                  <a:pt x="10800" y="10800"/>
                </a:lnTo>
                <a:close/>
              </a:path>
              <a:path fill="none" w="21600" h="21600">
                <a:moveTo>
                  <a:pt x="10800" y="0"/>
                </a:moveTo>
                <a:arcTo wR="10800" hR="10800" stAng="-5400000" swAng="520163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2622600"/>
            <a:ext cx="1676520" cy="3135240"/>
          </a:xfrm>
          <a:custGeom>
            <a:avLst/>
            <a:gdLst/>
            <a:ahLst/>
            <a:rect l="l" t="t" r="r" b="b"/>
            <a:pathLst>
              <a:path stroke="0" w="21600" h="21600">
                <a:moveTo>
                  <a:pt x="13341" y="303"/>
                </a:moveTo>
                <a:arcTo wR="10800" hR="10800" stAng="-4583585" swAng="4475506"/>
                <a:lnTo>
                  <a:pt x="10800" y="10800"/>
                </a:lnTo>
                <a:close/>
              </a:path>
              <a:path fill="none" w="21600" h="21600">
                <a:moveTo>
                  <a:pt x="13341" y="303"/>
                </a:moveTo>
                <a:arcTo wR="10800" hR="10800" stAng="-4583585" swAng="4475506"/>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flipV="1">
            <a:off x="7315560" y="2859840"/>
            <a:ext cx="913680" cy="285480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4" name=""/>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6" name=""/>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7" name=""/>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8" name=""/>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79" name=""/>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80" name=""/>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1" name=""/>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2" name=""/>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95" name=""/>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96" name=""/>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90960" y="6129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98" name=""/>
          <p:cNvSpPr/>
          <p:nvPr/>
        </p:nvSpPr>
        <p:spPr>
          <a:xfrm>
            <a:off x="6329520" y="61293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99" name=""/>
          <p:cNvSpPr/>
          <p:nvPr/>
        </p:nvSpPr>
        <p:spPr>
          <a:xfrm>
            <a:off x="7701120" y="6129360"/>
            <a:ext cx="144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200" name=""/>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02" name=""/>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203" name=""/>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A7D3371-FA1D-4EB9-A8C8-6537D263AE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06" name=""/>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11" name=""/>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12" name=""/>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3886920" y="2361240"/>
            <a:ext cx="19800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H="1" flipV="1">
            <a:off x="4038480" y="266652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6172200" y="3123360"/>
            <a:ext cx="1218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flipH="1" flipV="1">
            <a:off x="6095160" y="31233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7391520" y="317700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flipV="1">
            <a:off x="7619400" y="327636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3658320" y="1904400"/>
            <a:ext cx="152280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029200" y="2319480"/>
            <a:ext cx="1828440" cy="297900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flipV="1">
            <a:off x="7086600" y="2478600"/>
            <a:ext cx="914040" cy="2855520"/>
          </a:xfrm>
          <a:custGeom>
            <a:avLst/>
            <a:gdLst/>
            <a:ahLst/>
            <a:rect l="l" t="t" r="r" b="b"/>
            <a:pathLst>
              <a:path stroke="0" w="21600" h="21600">
                <a:moveTo>
                  <a:pt x="13754" y="412"/>
                </a:moveTo>
                <a:arcTo wR="10800" hR="10800" stAng="-4447593" swAng="4496483"/>
                <a:lnTo>
                  <a:pt x="10800" y="10800"/>
                </a:lnTo>
                <a:close/>
              </a:path>
              <a:path fill="none" w="21600" h="21600">
                <a:moveTo>
                  <a:pt x="13754" y="412"/>
                </a:moveTo>
                <a:arcTo wR="10800" hR="10800" stAng="-4447593" swAng="4496483"/>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29" name=""/>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30" name=""/>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1" name=""/>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3" name=""/>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4" name=""/>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5" name=""/>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36" name=""/>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37" name=""/>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8" name=""/>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9" name=""/>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43" name=""/>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0" name=""/>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52" name=""/>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9C3C8A45-8BE3-455C-A913-B609DD6496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394420</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ccccff"/>
                </a:solidFill>
                <a:uFillTx/>
                <a:latin typeface="Times New Roman"/>
                <a:hlinkClick r:id="rId1"/>
              </a:rPr>
              <a:t>Jose.torres@telefonicamoviles.cl</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ticipación en clas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me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164E2C4-BF92-4327-A8E3-C4C27E97CA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54" name=""/>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61" name=""/>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62" name=""/>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63" name=""/>
          <p:cNvSpPr/>
          <p:nvPr/>
        </p:nvSpPr>
        <p:spPr>
          <a:xfrm flipV="1">
            <a:off x="34560" y="21186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65" name=""/>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6" name=""/>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7" name=""/>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9" name=""/>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1" name=""/>
          <p:cNvSpPr/>
          <p:nvPr/>
        </p:nvSpPr>
        <p:spPr>
          <a:xfrm>
            <a:off x="1692360" y="41767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73"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74" name=""/>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0E72A5C3-9478-4206-B44D-1852C34B32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91960" y="1219320"/>
            <a:ext cx="85471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3 mm de líneas fijas, pero 10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es inferior a sus costos medios (importante papel del CCPP o tasa de descuento de los activos)</a:t>
            </a:r>
            <a:endParaRPr b="0" lang="en-US" sz="2400" spc="-1" strike="noStrike">
              <a:solidFill>
                <a:srgbClr val="000000"/>
              </a:solidFill>
              <a:latin typeface="Times New Roman"/>
            </a:endParaRPr>
          </a:p>
        </p:txBody>
      </p:sp>
      <p:sp>
        <p:nvSpPr>
          <p:cNvPr id="277" name=""/>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84" name=""/>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85" name=""/>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286" name=""/>
          <p:cNvSpPr/>
          <p:nvPr/>
        </p:nvSpPr>
        <p:spPr>
          <a:xfrm flipV="1">
            <a:off x="-69840" y="23202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88" name=""/>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9" name=""/>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90" name=""/>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2" name=""/>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87600" y="43783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297" name=""/>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298" name=""/>
          <p:cNvGraphicFramePr/>
          <p:nvPr/>
        </p:nvGraphicFramePr>
        <p:xfrm>
          <a:off x="4267080" y="3562200"/>
          <a:ext cx="4648320" cy="857520"/>
        </p:xfrm>
        <a:graphic>
          <a:graphicData uri="http://schemas.openxmlformats.org/presentationml/2006/ole">
            <p:oleObj progId="Excel.Sheet.12" r:id="rId1" spid="">
              <p:embed/>
              <p:pic>
                <p:nvPicPr>
                  <p:cNvPr id="299" name="" descr=""/>
                  <p:cNvPicPr/>
                  <p:nvPr/>
                </p:nvPicPr>
                <p:blipFill>
                  <a:blip r:embed="rId2"/>
                  <a:stretch/>
                </p:blipFill>
                <p:spPr>
                  <a:xfrm>
                    <a:off x="4267080" y="3562200"/>
                    <a:ext cx="4648320" cy="857520"/>
                  </a:xfrm>
                  <a:prstGeom prst="rect">
                    <a:avLst/>
                  </a:prstGeom>
                  <a:ln w="0">
                    <a:noFill/>
                  </a:ln>
                </p:spPr>
              </p:pic>
            </p:oleObj>
          </a:graphicData>
        </a:graphic>
      </p:graphicFrame>
      <p:sp>
        <p:nvSpPr>
          <p:cNvPr id="2" name="PlaceHolder 1"/>
          <p:cNvSpPr>
            <a:spLocks noGrp="1"/>
          </p:cNvSpPr>
          <p:nvPr>
            <p:ph type="sldNum" idx="2"/>
          </p:nvPr>
        </p:nvSpPr>
        <p:spPr/>
        <p:txBody>
          <a:bodyPr/>
          <a:p>
            <a:fld id="{32DFC456-D6A2-4B01-95EF-A738181C6C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a:t>
            </a:r>
            <a:endParaRPr b="0" lang="en-US" sz="2400" spc="-1" strike="noStrike">
              <a:solidFill>
                <a:srgbClr val="000000"/>
              </a:solidFill>
              <a:latin typeface="Times New Roman"/>
            </a:endParaRPr>
          </a:p>
        </p:txBody>
      </p:sp>
      <p:sp>
        <p:nvSpPr>
          <p:cNvPr id="301" name=""/>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06" name=""/>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07" name=""/>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08" name=""/>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10" name=""/>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F7CCF49-A3E7-46EB-99F2-A23202BB62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a:t>
            </a:r>
            <a:endParaRPr b="0" lang="en-US" sz="2400" spc="-1" strike="noStrike">
              <a:solidFill>
                <a:srgbClr val="000000"/>
              </a:solidFill>
              <a:latin typeface="Times New Roman"/>
            </a:endParaRPr>
          </a:p>
        </p:txBody>
      </p:sp>
      <p:sp>
        <p:nvSpPr>
          <p:cNvPr id="312" name=""/>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16" name=""/>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8" name=""/>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0" name=""/>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2" name=""/>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4" name=""/>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4039200" y="2576160"/>
            <a:ext cx="21326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flipV="1">
            <a:off x="4267080" y="2728080"/>
            <a:ext cx="167616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31" name=""/>
          <p:cNvSpPr/>
          <p:nvPr/>
        </p:nvSpPr>
        <p:spPr>
          <a:xfrm flipV="1">
            <a:off x="4648320" y="2500560"/>
            <a:ext cx="106632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4495680" y="2500560"/>
            <a:ext cx="137088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34" name=""/>
          <p:cNvSpPr/>
          <p:nvPr/>
        </p:nvSpPr>
        <p:spPr>
          <a:xfrm flipV="1">
            <a:off x="7163280" y="2423160"/>
            <a:ext cx="13708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7238880" y="2423160"/>
            <a:ext cx="121896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37" name=""/>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38" name=""/>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3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341CEF7D-B6D2-41C6-BBE0-4891C0C164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41" name=""/>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46" name=""/>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48" name=""/>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50" name=""/>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51" name=""/>
          <p:cNvSpPr/>
          <p:nvPr/>
        </p:nvSpPr>
        <p:spPr>
          <a:xfrm>
            <a:off x="1143000" y="3429000"/>
            <a:ext cx="2971800" cy="2222640"/>
          </a:xfrm>
          <a:custGeom>
            <a:avLst/>
            <a:gdLst/>
            <a:ahLst/>
            <a:rect l="l" t="t" r="r" b="b"/>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7" name=""/>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58" name=""/>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59" name=""/>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60"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61" name=""/>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62" name=""/>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63" name=""/>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89A52463-3447-4FB5-8454-A095BFC387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65" name="PlaceHolder 2"/>
          <p:cNvSpPr>
            <a:spLocks noGrp="1"/>
          </p:cNvSpPr>
          <p:nvPr>
            <p:ph/>
          </p:nvPr>
        </p:nvSpPr>
        <p:spPr>
          <a:xfrm>
            <a:off x="0" y="11426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Yahoo, Intel, Amazon.com,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Friday´s en restaurantes,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D763089-900C-40C0-B222-8685984B72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95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67" name="PlaceHolder 2"/>
          <p:cNvSpPr>
            <a:spLocks noGrp="1"/>
          </p:cNvSpPr>
          <p:nvPr>
            <p:ph/>
          </p:nvPr>
        </p:nvSpPr>
        <p:spPr>
          <a:xfrm>
            <a:off x="533160" y="1295280"/>
            <a:ext cx="8458200" cy="5606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68" name=""/>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99A398E-B6B9-48AB-85DA-63D12D5A1C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75" name=""/>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385" name=""/>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386" name=""/>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387" name=""/>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388" name=""/>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389" name=""/>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390" name=""/>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391" name=""/>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392" name=""/>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393" name=""/>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396" name=""/>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397" name=""/>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400" name=""/>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91EFBA5-5E78-495B-A29D-37EBAC9056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03" name="PlaceHolder 2"/>
          <p:cNvSpPr>
            <a:spLocks noGrp="1"/>
          </p:cNvSpPr>
          <p:nvPr>
            <p:ph/>
          </p:nvPr>
        </p:nvSpPr>
        <p:spPr>
          <a:xfrm>
            <a:off x="533160" y="1143000"/>
            <a:ext cx="8458200" cy="5532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9F3C8D4-6FF1-4721-8D93-EAE2321D14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160" y="990360"/>
            <a:ext cx="8458200" cy="575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05" name=""/>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PlaceHolder 2"/>
          <p:cNvSpPr>
            <a:spLocks noGrp="1"/>
          </p:cNvSpPr>
          <p:nvPr>
            <p:ph type="title"/>
          </p:nvPr>
        </p:nvSpPr>
        <p:spPr>
          <a:xfrm>
            <a:off x="761760" y="-19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B695C7A6-082F-47A6-8340-59B3F29A4D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7FE3CD8-ECE1-4324-83FC-7089C3366F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219320"/>
            <a:ext cx="7772400" cy="558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12" name=""/>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2FB8FFB-8385-47FC-9718-333B47B163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576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095120"/>
            <a:ext cx="7772400" cy="2568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16" name=""/>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17" name=""/>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18" name=""/>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19" name=""/>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20" name=""/>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21" name=""/>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6C3BE3D6-8C60-425A-BB5D-AF1B053B20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28" name="PE02097_" descr=""/>
          <p:cNvPicPr/>
          <p:nvPr/>
        </p:nvPicPr>
        <p:blipFill>
          <a:blip r:embed="rId1"/>
          <a:stretch/>
        </p:blipFill>
        <p:spPr>
          <a:xfrm>
            <a:off x="3657600" y="4575240"/>
            <a:ext cx="2282760" cy="1825560"/>
          </a:xfrm>
          <a:prstGeom prst="rect">
            <a:avLst/>
          </a:prstGeom>
          <a:ln w="0">
            <a:noFill/>
          </a:ln>
        </p:spPr>
      </p:pic>
      <p:sp>
        <p:nvSpPr>
          <p:cNvPr id="429" name=""/>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1C19F2A7-D281-4662-9015-7845675884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31" name=""/>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552760" y="4286160"/>
            <a:ext cx="4648320" cy="990720"/>
          </a:xfrm>
          <a:custGeom>
            <a:avLst/>
            <a:gdLst>
              <a:gd name="textAreaLeft" fmla="*/ 749520 w 4648320"/>
              <a:gd name="textAreaRight" fmla="*/ 3898800 w 4648320"/>
              <a:gd name="textAreaTop" fmla="*/ 159480 h 990720"/>
              <a:gd name="textAreaBottom" fmla="*/ 831240 h 990720"/>
            </a:gdLst>
            <a:ahLst/>
            <a:rect l="textAreaLeft" t="textAreaTop" r="textAreaRight" b="textAreaBottom"/>
            <a:pathLst>
              <a:path w="21600" h="21600">
                <a:moveTo>
                  <a:pt x="0" y="0"/>
                </a:moveTo>
                <a:lnTo>
                  <a:pt x="21600" y="0"/>
                </a:lnTo>
                <a:lnTo>
                  <a:pt x="18480" y="21600"/>
                </a:lnTo>
                <a:lnTo>
                  <a:pt x="312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34" name=""/>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35" name=""/>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36" name=""/>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7086600" y="3371400"/>
            <a:ext cx="1371600" cy="1219680"/>
            <a:chOff x="7086600" y="3371400"/>
            <a:chExt cx="1371600" cy="1219680"/>
          </a:xfrm>
        </p:grpSpPr>
        <p:sp>
          <p:nvSpPr>
            <p:cNvPr id="442" name=""/>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7124760" y="1847520"/>
            <a:ext cx="1371600" cy="1219680"/>
            <a:chOff x="7124760" y="1847520"/>
            <a:chExt cx="1371600" cy="1219680"/>
          </a:xfrm>
        </p:grpSpPr>
        <p:sp>
          <p:nvSpPr>
            <p:cNvPr id="446" name=""/>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50" name=""/>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51" name=""/>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52" name=""/>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53" name=""/>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F943AEA8-CA8F-449B-B7BB-EBB28DDCB9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62" name=""/>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63" name=""/>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64" name=""/>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65" name=""/>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66" name=""/>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67" name=""/>
          <p:cNvGrpSpPr/>
          <p:nvPr/>
        </p:nvGrpSpPr>
        <p:grpSpPr>
          <a:xfrm>
            <a:off x="2629080" y="2457360"/>
            <a:ext cx="1828800" cy="1600200"/>
            <a:chOff x="2629080" y="2457360"/>
            <a:chExt cx="1828800" cy="1600200"/>
          </a:xfrm>
        </p:grpSpPr>
        <p:sp>
          <p:nvSpPr>
            <p:cNvPr id="468" name=""/>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69" name=""/>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70" name=""/>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71" name=""/>
          <p:cNvGrpSpPr/>
          <p:nvPr/>
        </p:nvGrpSpPr>
        <p:grpSpPr>
          <a:xfrm>
            <a:off x="4952880" y="1104840"/>
            <a:ext cx="1828800" cy="1067040"/>
            <a:chOff x="4952880" y="1104840"/>
            <a:chExt cx="1828800" cy="1067040"/>
          </a:xfrm>
        </p:grpSpPr>
        <p:sp>
          <p:nvSpPr>
            <p:cNvPr id="472" name=""/>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473" name=""/>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474" name=""/>
          <p:cNvGrpSpPr/>
          <p:nvPr/>
        </p:nvGrpSpPr>
        <p:grpSpPr>
          <a:xfrm>
            <a:off x="7010280" y="1104840"/>
            <a:ext cx="1828800" cy="1066680"/>
            <a:chOff x="7010280" y="1104840"/>
            <a:chExt cx="1828800" cy="1066680"/>
          </a:xfrm>
        </p:grpSpPr>
        <p:sp>
          <p:nvSpPr>
            <p:cNvPr id="475" name=""/>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476" name=""/>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477" name=""/>
          <p:cNvGrpSpPr/>
          <p:nvPr/>
        </p:nvGrpSpPr>
        <p:grpSpPr>
          <a:xfrm>
            <a:off x="304920" y="1104840"/>
            <a:ext cx="1828800" cy="1371600"/>
            <a:chOff x="304920" y="1104840"/>
            <a:chExt cx="1828800" cy="1371600"/>
          </a:xfrm>
        </p:grpSpPr>
        <p:sp>
          <p:nvSpPr>
            <p:cNvPr id="478" name=""/>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479" name=""/>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480" name=""/>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486" name=""/>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487" name=""/>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2B59320-2A7B-4DF0-9B54-645E23390F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136160"/>
            <a:ext cx="7772400" cy="53560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B13189D-630A-4F4A-9D68-2A6FF6E4ED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685440" y="759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494" name=""/>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495" name=""/>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96" name=""/>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497" name=""/>
          <p:cNvSpPr/>
          <p:nvPr/>
        </p:nvSpPr>
        <p:spPr>
          <a:xfrm>
            <a:off x="4419720" y="236232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5880" y="350532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6070160-9E49-4CD3-91C7-FD4A8C7872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18920" y="318600"/>
            <a:ext cx="791676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500" name="PlaceHolder 2"/>
          <p:cNvSpPr>
            <a:spLocks noGrp="1"/>
          </p:cNvSpPr>
          <p:nvPr>
            <p:ph/>
          </p:nvPr>
        </p:nvSpPr>
        <p:spPr>
          <a:xfrm>
            <a:off x="718920" y="1258560"/>
            <a:ext cx="819612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B8992EF-28DF-47C7-9B2C-A466D9E1FB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2" name="PlaceHolder 2"/>
          <p:cNvSpPr>
            <a:spLocks noGrp="1"/>
          </p:cNvSpPr>
          <p:nvPr>
            <p:ph/>
          </p:nvPr>
        </p:nvSpPr>
        <p:spPr>
          <a:xfrm>
            <a:off x="533160" y="1143000"/>
            <a:ext cx="8458200" cy="540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5F726B4-357B-4CCF-9B1B-C57AC51D8A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4" name=""/>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11" name=""/>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3581640" y="989280"/>
            <a:ext cx="182808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flipV="1">
            <a:off x="3886200" y="1294920"/>
            <a:ext cx="12196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5943600" y="1371240"/>
            <a:ext cx="1218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flipH="1" flipV="1">
            <a:off x="5943600" y="1980360"/>
            <a:ext cx="12182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7544160" y="1999440"/>
            <a:ext cx="1370880" cy="1218240"/>
          </a:xfrm>
          <a:custGeom>
            <a:avLst/>
            <a:gdLst/>
            <a:ahLst/>
            <a:rect l="l" t="t" r="r" b="b"/>
            <a:pathLst>
              <a:path stroke="0" w="21600" h="21600">
                <a:moveTo>
                  <a:pt x="10800" y="0"/>
                </a:moveTo>
                <a:arcTo wR="10800" hR="10800" stAng="-5400000" swAng="6910313"/>
                <a:lnTo>
                  <a:pt x="10800" y="10800"/>
                </a:lnTo>
                <a:close/>
              </a:path>
              <a:path fill="none" w="21600" h="21600">
                <a:moveTo>
                  <a:pt x="10800" y="0"/>
                </a:moveTo>
                <a:arcTo wR="10800" hR="10800" stAng="-5400000" swAng="69103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flipV="1">
            <a:off x="7620120" y="1999800"/>
            <a:ext cx="1279440" cy="1218600"/>
          </a:xfrm>
          <a:custGeom>
            <a:avLst/>
            <a:gdLst/>
            <a:ahLst/>
            <a:rect l="l" t="t" r="r" b="b"/>
            <a:pathLst>
              <a:path stroke="0" w="21600" h="21600">
                <a:moveTo>
                  <a:pt x="8744" y="198"/>
                </a:moveTo>
                <a:arcTo wR="10800" hR="10800" stAng="-6058455" swAng="6058455"/>
                <a:lnTo>
                  <a:pt x="10800" y="10800"/>
                </a:lnTo>
                <a:close/>
              </a:path>
              <a:path fill="none" w="21600" h="21600">
                <a:moveTo>
                  <a:pt x="8744" y="198"/>
                </a:moveTo>
                <a:arcTo wR="10800" hR="10800" stAng="-6058455" swAng="605845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3201120" y="532440"/>
            <a:ext cx="15228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5791680" y="761400"/>
            <a:ext cx="7610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V="1">
            <a:off x="7010640" y="882720"/>
            <a:ext cx="1370880" cy="315504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28" name=""/>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29" name=""/>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30" name=""/>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1" name=""/>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3" name=""/>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4" name=""/>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5" name=""/>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36" name=""/>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37" name=""/>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8" name=""/>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9" name=""/>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45" name=""/>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46" name=""/>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4A14D7CF-5BA2-46EB-80E0-55C0F3FBBC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33D58BF-32BE-4D0C-A4ED-ED4EDD38EA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48" name=""/>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53" name=""/>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4" name=""/>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5" name=""/>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56" name=""/>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8" name=""/>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3" name=""/>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4" name="PlaceHolder 2"/>
          <p:cNvSpPr>
            <a:spLocks noGrp="1"/>
          </p:cNvSpPr>
          <p:nvPr>
            <p:ph/>
          </p:nvPr>
        </p:nvSpPr>
        <p:spPr>
          <a:xfrm>
            <a:off x="4952520" y="1599840"/>
            <a:ext cx="3886200" cy="2804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65" name=""/>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7" name=""/>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8" name=""/>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7AFE737-09C1-49FF-88DA-8FEFD9B7B3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573" name=""/>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574" name=""/>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575" name=""/>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6" name=""/>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7" name=""/>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8" name=""/>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E09D783-0683-4CFE-B420-FA67865F2F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136520"/>
            <a:ext cx="7772400" cy="5310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369E0973-52C3-458A-8417-99C12A706F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18920" y="76320"/>
            <a:ext cx="7916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585" name=""/>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595" name=""/>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596" name=""/>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597" name=""/>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598" name=""/>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599" name=""/>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600" name=""/>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601" name=""/>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602" name=""/>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603" name=""/>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04" name=""/>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05" name="PlaceHolder 2"/>
          <p:cNvSpPr>
            <a:spLocks noGrp="1"/>
          </p:cNvSpPr>
          <p:nvPr>
            <p:ph/>
          </p:nvPr>
        </p:nvSpPr>
        <p:spPr>
          <a:xfrm>
            <a:off x="685800" y="4343040"/>
            <a:ext cx="7772400" cy="23443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06" name=""/>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BF5C44AF-A14D-4953-A56A-203614378B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08"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A7D67F3-43A0-49C1-88AF-5582A5A00A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omino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el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F8184C7-EDD6-42DB-9A86-EF72C3E10D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2" name="PlaceHolder 2"/>
          <p:cNvSpPr>
            <a:spLocks noGrp="1"/>
          </p:cNvSpPr>
          <p:nvPr>
            <p:ph/>
          </p:nvPr>
        </p:nvSpPr>
        <p:spPr>
          <a:xfrm>
            <a:off x="685800" y="17521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61626FA-0D5A-422B-A28B-65D98BA003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4" name="PlaceHolder 2"/>
          <p:cNvSpPr>
            <a:spLocks noGrp="1"/>
          </p:cNvSpPr>
          <p:nvPr>
            <p:ph/>
          </p:nvPr>
        </p:nvSpPr>
        <p:spPr>
          <a:xfrm>
            <a:off x="685800" y="19807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35F693D-FDE3-48D6-8AA0-560097CCBF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16"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3B65F92-F5EB-42FF-880C-4E793809F2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18" name=""/>
          <p:cNvGraphicFramePr/>
          <p:nvPr/>
        </p:nvGraphicFramePr>
        <p:xfrm>
          <a:off x="914400" y="977760"/>
          <a:ext cx="4162320" cy="5639040"/>
        </p:xfrm>
        <a:graphic>
          <a:graphicData uri="http://schemas.openxmlformats.org/presentationml/2006/ole">
            <p:oleObj progId="Excel.Sheet.12" r:id="rId1" spid="">
              <p:embed/>
              <p:pic>
                <p:nvPicPr>
                  <p:cNvPr id="619" name="" descr=""/>
                  <p:cNvPicPr/>
                  <p:nvPr/>
                </p:nvPicPr>
                <p:blipFill>
                  <a:blip r:embed="rId2"/>
                  <a:stretch/>
                </p:blipFill>
                <p:spPr>
                  <a:xfrm>
                    <a:off x="914400" y="977760"/>
                    <a:ext cx="4162320" cy="5639040"/>
                  </a:xfrm>
                  <a:prstGeom prst="rect">
                    <a:avLst/>
                  </a:prstGeom>
                  <a:ln w="0">
                    <a:noFill/>
                  </a:ln>
                </p:spPr>
              </p:pic>
            </p:oleObj>
          </a:graphicData>
        </a:graphic>
      </p:graphicFrame>
      <p:sp>
        <p:nvSpPr>
          <p:cNvPr id="620" name=""/>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F4698866-FBAF-49FA-BEEF-627F84C0D7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990360"/>
            <a:ext cx="84582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15 años se han producido transformaciones notabl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fuertemente los niveles de inversión en el rubro (con algún grado de estancamiento en los últimos año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tecnológica es un referente importante (voz sobre IP, convergencia celular/PDA, etc)</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07D90C3-B3CE-4E5A-A31A-3C74CFCC24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22" name=""/>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24" name=""/>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6" name=""/>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8" name=""/>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30" name=""/>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2" name=""/>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PlaceHolder 2"/>
          <p:cNvSpPr>
            <a:spLocks noGrp="1"/>
          </p:cNvSpPr>
          <p:nvPr>
            <p:ph/>
          </p:nvPr>
        </p:nvSpPr>
        <p:spPr>
          <a:xfrm>
            <a:off x="838080" y="487656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74DEFF9-87E4-4CD9-9D0F-D586993E39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38" name=""/>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0" name=""/>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2" name=""/>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44" name=""/>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6" name=""/>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47" name=""/>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49" name=""/>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PlaceHolder 2"/>
          <p:cNvSpPr>
            <a:spLocks noGrp="1"/>
          </p:cNvSpPr>
          <p:nvPr>
            <p:ph/>
          </p:nvPr>
        </p:nvSpPr>
        <p:spPr>
          <a:xfrm>
            <a:off x="838080" y="3809880"/>
            <a:ext cx="7772400" cy="289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0D01855-BE8E-4A05-95D9-C32799C75D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58" name="PlaceHolder 2"/>
          <p:cNvSpPr>
            <a:spLocks noGrp="1"/>
          </p:cNvSpPr>
          <p:nvPr>
            <p:ph/>
          </p:nvPr>
        </p:nvSpPr>
        <p:spPr>
          <a:xfrm>
            <a:off x="83808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96CEE08-EE00-40EF-9BF1-18C9AD5856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660" name=""/>
          <p:cNvGrpSpPr/>
          <p:nvPr/>
        </p:nvGrpSpPr>
        <p:grpSpPr>
          <a:xfrm>
            <a:off x="914400" y="1447920"/>
            <a:ext cx="3429000" cy="2743200"/>
            <a:chOff x="914400" y="1447920"/>
            <a:chExt cx="3429000" cy="2743200"/>
          </a:xfrm>
        </p:grpSpPr>
        <p:sp>
          <p:nvSpPr>
            <p:cNvPr id="661" name=""/>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5181480" y="1447920"/>
            <a:ext cx="3429000" cy="2743200"/>
            <a:chOff x="5181480" y="1447920"/>
            <a:chExt cx="3429000" cy="2743200"/>
          </a:xfrm>
        </p:grpSpPr>
        <p:sp>
          <p:nvSpPr>
            <p:cNvPr id="665" name=""/>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rot="8683200">
            <a:off x="5034600" y="-81360"/>
            <a:ext cx="426672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669" name=""/>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0" name=""/>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1" name=""/>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6" name=""/>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7" name=""/>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78" name=""/>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79" name=""/>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0" name=""/>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1" name=""/>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86" name=""/>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7" name=""/>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88" name=""/>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9" name=""/>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94" name=""/>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95" name=""/>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96" name=""/>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97" name="PlaceHolder 2"/>
          <p:cNvSpPr>
            <a:spLocks noGrp="1"/>
          </p:cNvSpPr>
          <p:nvPr>
            <p:ph/>
          </p:nvPr>
        </p:nvSpPr>
        <p:spPr>
          <a:xfrm>
            <a:off x="838080" y="50292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4A444EA-3F39-4773-926C-20DE8795D8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04A4B9E-0FB4-4BD2-B15F-AD30F187C8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PlaceHolder 1"/>
          <p:cNvSpPr>
            <a:spLocks noGrp="1"/>
          </p:cNvSpPr>
          <p:nvPr>
            <p:ph type="title"/>
          </p:nvPr>
        </p:nvSpPr>
        <p:spPr>
          <a:xfrm>
            <a:off x="6094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05" name=""/>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06" name=""/>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07" name=""/>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08" name=""/>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09" name=""/>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16" name=""/>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17" name=""/>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18" name=""/>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19" name=""/>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PlaceHolder 2"/>
          <p:cNvSpPr>
            <a:spLocks noGrp="1"/>
          </p:cNvSpPr>
          <p:nvPr>
            <p:ph/>
          </p:nvPr>
        </p:nvSpPr>
        <p:spPr>
          <a:xfrm>
            <a:off x="838080" y="4800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TC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D20DA91-9CB1-4ED2-8E00-1C3ECA83FC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23" name=""/>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27" name=""/>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8" name=""/>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9" name=""/>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30" name="PlaceHolder 2"/>
          <p:cNvSpPr>
            <a:spLocks noGrp="1"/>
          </p:cNvSpPr>
          <p:nvPr>
            <p:ph/>
          </p:nvPr>
        </p:nvSpPr>
        <p:spPr>
          <a:xfrm>
            <a:off x="838080" y="4952520"/>
            <a:ext cx="7772400" cy="1752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394B658-CB32-4372-9C9F-7070CC947D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590A86D-C78D-4973-98D8-2E99EF7EE3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34"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8B7F7C8-E416-440F-AFDF-59B2B124B9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36" name="PlaceHolder 2"/>
          <p:cNvSpPr>
            <a:spLocks noGrp="1"/>
          </p:cNvSpPr>
          <p:nvPr>
            <p:ph/>
          </p:nvPr>
        </p:nvSpPr>
        <p:spPr>
          <a:xfrm>
            <a:off x="685800" y="1218960"/>
            <a:ext cx="8229600" cy="2057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37" name=""/>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44" name=""/>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45" name=""/>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46" name=""/>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747" name=""/>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748" name=""/>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9" name=""/>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1FCE27B-5132-4F7E-AED6-377F317992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65" name="PlaceHolder 2"/>
          <p:cNvSpPr>
            <a:spLocks noGrp="1"/>
          </p:cNvSpPr>
          <p:nvPr>
            <p:ph/>
          </p:nvPr>
        </p:nvSpPr>
        <p:spPr>
          <a:xfrm>
            <a:off x="609120" y="1196640"/>
            <a:ext cx="8458200" cy="523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D5C1CD1-BD1A-4319-AF48-BF5A5F8B1D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751" name="PlaceHolder 2"/>
          <p:cNvSpPr>
            <a:spLocks noGrp="1"/>
          </p:cNvSpPr>
          <p:nvPr>
            <p:ph/>
          </p:nvPr>
        </p:nvSpPr>
        <p:spPr>
          <a:xfrm>
            <a:off x="838080" y="1828440"/>
            <a:ext cx="77724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752" name=""/>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989000" y="3367080"/>
            <a:ext cx="4988160" cy="2424240"/>
          </a:xfrm>
          <a:custGeom>
            <a:avLst/>
            <a:gdLst/>
            <a:ahLst/>
            <a:rect l="l" t="t" r="r" b="b"/>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756" name=""/>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757" name=""/>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758" name=""/>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759" name=""/>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760" name=""/>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761" name=""/>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E00DEE8-46B6-461C-BBFD-AED468841A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765"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E0B65DA1-CEDD-47C6-BFD6-CB782B31BE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767" name="PlaceHolder 2"/>
          <p:cNvSpPr>
            <a:spLocks noGrp="1"/>
          </p:cNvSpPr>
          <p:nvPr>
            <p:ph/>
          </p:nvPr>
        </p:nvSpPr>
        <p:spPr>
          <a:xfrm>
            <a:off x="685800" y="1142640"/>
            <a:ext cx="815328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9E34525-B8EC-45EA-B145-D908A0B641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769"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770" name=""/>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A470490-7430-4C01-9E5E-3A17BDBF20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772" name=""/>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778" name=""/>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779" name=""/>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780" name=""/>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781" name=""/>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782" name=""/>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A513E83-7E97-46E7-8C23-BC27FAC910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C6304ED-17EB-4FAE-B588-89D074C7F0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852F801-D1AD-4DD3-B4A3-3632424604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B74CBFA-0570-43A0-A901-3B55989946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79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F3DBE54-2316-4F0F-B858-509C92D5FD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
        <p:nvSpPr>
          <p:cNvPr id="4" name="PlaceHolder 3"/>
          <p:cNvSpPr>
            <a:spLocks noGrp="1"/>
          </p:cNvSpPr>
          <p:nvPr>
            <p:ph type="sldNum" idx="2"/>
          </p:nvPr>
        </p:nvSpPr>
        <p:spPr/>
        <p:txBody>
          <a:bodyPr/>
          <a:p>
            <a:fld id="{D1FDA9B6-6C4B-46C4-843E-1CB342D1E3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67" name="PlaceHolder 2"/>
          <p:cNvSpPr>
            <a:spLocks noGrp="1"/>
          </p:cNvSpPr>
          <p:nvPr>
            <p:ph/>
          </p:nvPr>
        </p:nvSpPr>
        <p:spPr>
          <a:xfrm>
            <a:off x="609120" y="1434600"/>
            <a:ext cx="8458200" cy="437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51D6675-9F73-4181-8F5B-79F792D8ED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C1AC0B0-C4EF-463E-B570-14AA97B883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799" name=""/>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3" name=""/>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4" name=""/>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5" name=""/>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6" name=""/>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7" name=""/>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8" name=""/>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9" name=""/>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10" name=""/>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11" name=""/>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12" name=""/>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9B9AB7D-87CA-41E5-ABD3-B688AD3F3E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14" name=""/>
          <p:cNvGraphicFramePr/>
          <p:nvPr/>
        </p:nvGraphicFramePr>
        <p:xfrm>
          <a:off x="304920" y="1828800"/>
          <a:ext cx="8610480" cy="2149560"/>
        </p:xfrm>
        <a:graphic>
          <a:graphicData uri="http://schemas.openxmlformats.org/presentationml/2006/ole">
            <p:oleObj progId="Excel.Sheet.12" r:id="rId1" spid="">
              <p:embed/>
              <p:pic>
                <p:nvPicPr>
                  <p:cNvPr id="815" name="" descr=""/>
                  <p:cNvPicPr/>
                  <p:nvPr/>
                </p:nvPicPr>
                <p:blipFill>
                  <a:blip r:embed="rId2"/>
                  <a:stretch/>
                </p:blipFill>
                <p:spPr>
                  <a:xfrm>
                    <a:off x="304920" y="1828800"/>
                    <a:ext cx="8610480" cy="2149560"/>
                  </a:xfrm>
                  <a:prstGeom prst="rect">
                    <a:avLst/>
                  </a:prstGeom>
                  <a:ln w="0">
                    <a:noFill/>
                  </a:ln>
                </p:spPr>
              </p:pic>
            </p:oleObj>
          </a:graphicData>
        </a:graphic>
      </p:graphicFrame>
      <p:sp>
        <p:nvSpPr>
          <p:cNvPr id="816" name=""/>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
        <p:nvSpPr>
          <p:cNvPr id="3" name="PlaceHolder 2"/>
          <p:cNvSpPr>
            <a:spLocks noGrp="1"/>
          </p:cNvSpPr>
          <p:nvPr>
            <p:ph type="sldNum" idx="2"/>
          </p:nvPr>
        </p:nvSpPr>
        <p:spPr/>
        <p:txBody>
          <a:bodyPr/>
          <a:p>
            <a:fld id="{E51EF42F-F664-4CF3-A02A-2EBD110F9C3B}" type="slidenum">
              <a:t>72</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69" name="PlaceHolder 2"/>
          <p:cNvSpPr>
            <a:spLocks noGrp="1"/>
          </p:cNvSpPr>
          <p:nvPr>
            <p:ph/>
          </p:nvPr>
        </p:nvSpPr>
        <p:spPr>
          <a:xfrm>
            <a:off x="609120" y="1142640"/>
            <a:ext cx="8458200" cy="559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AFCBD90-D08F-4D4E-AC33-55AB72D55D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1066320"/>
            <a:ext cx="8458200" cy="541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EB737E3-8651-4DD9-B2C4-92F2021E37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jtorrest</cp:lastModifiedBy>
  <dcterms:modified xsi:type="dcterms:W3CDTF">2006-08-01T15:31:28Z</dcterms:modified>
  <cp:revision>68</cp:revision>
  <dc:subject/>
  <dc:title>Gestión de Empresas de Telecomunicaciones</dc:title>
</cp:coreProperties>
</file>