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40FF9-548A-43C7-B687-F885D2A6B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8460-94EB-40E7-9469-A5E367DFB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767E3-830A-4E58-87FA-D8670F07A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B20F5-CE73-4F91-8D5E-4CBC40C5B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F7643-A4BA-4D0B-A23B-BE43A2CEF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F1E69-1BDF-46C5-A42B-135D01DC5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699B2-E874-4544-86F0-939AC894D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23C75-EBA2-479D-9270-93E99E7E3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33BEB-0304-417C-810D-AF2BC8ED1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F52C0-7225-4FC5-A517-93805B31F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C3DDF-7B1E-4165-8F57-CD8B08A6C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72EC8-3CD6-432E-B311-FCBAEEAAB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60FC3-75A3-432C-804B-EB9B8277D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92DFF-5B39-4A28-AABF-396C52B36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C8347-A5B7-41F8-8DF5-EBBCCB540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9E856-0BA4-4AC9-BCF0-6AC0A7A67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79587-A116-457D-9C07-2FDBB06B0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C012D-6981-4B0C-B1D9-DDEA08C4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46420-9EAF-4DE3-A5A0-1E052B93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6E035-8FA9-486E-8B2D-F4AA8FD1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A8ED2-2641-4D3C-B192-3E2CD85F8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C9D1-974D-4E01-8BDB-0F9DFD03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DFB77-B611-420F-940F-0208B2F8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079B-EA9B-48C8-AD36-4F1CE61E1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555E-3621-403E-AD54-A921D1B3E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1A0C-03DF-42AA-8248-A38FB6D3F7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6680"/>
            <a:ext cx="72388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p:nvPr/>
        </p:nvSpPr>
        <p:spPr>
          <a:xfrm>
            <a:off x="2990880" y="15156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44" name=""/>
          <p:cNvGraphicFramePr/>
          <p:nvPr/>
        </p:nvGraphicFramePr>
        <p:xfrm>
          <a:off x="2989440" y="2157480"/>
          <a:ext cx="2822400" cy="3186000"/>
        </p:xfrm>
        <a:graphic>
          <a:graphicData uri="http://schemas.openxmlformats.org/drawingml/2006/table">
            <a:tbl>
              <a:tblPr/>
              <a:tblGrid>
                <a:gridCol w="2822400"/>
              </a:tblGrid>
              <a:tr h="346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5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pic>
        <p:nvPicPr>
          <p:cNvPr id="145" name="" descr="null"/>
          <p:cNvPicPr/>
          <p:nvPr/>
        </p:nvPicPr>
        <p:blipFill>
          <a:blip r:embed="rId1"/>
          <a:stretch/>
        </p:blipFill>
        <p:spPr>
          <a:xfrm>
            <a:off x="3144960" y="2203560"/>
            <a:ext cx="300960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802.16e’s addition of mobile devices future cell phones and PDA’s will be able to have access to high speed internet.</a:t>
            </a: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ue to the mesh architecture capabilities of the wimax hardware the transmitters could be used to create a backup (or primary) communications network that cant be destroyed with a single attack.</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Future Possibilities</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96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Technological Advantages over WiFi</a:t>
            </a:r>
            <a:endParaRPr b="0" lang="en-US" sz="4800" spc="-1" strike="noStrike">
              <a:solidFill>
                <a:srgbClr val="ffcc00"/>
              </a:solidFill>
              <a:latin typeface="Arial Black"/>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vers a broader spectrum of frequenc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Fi = 2.4 GHz – WiMax = 10-66 GHz plus added coverage in the 2-11 GHz ran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verage area is greater than that of WiF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n cover a radius of up to 50 k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hanced MAC (Media Access Control) over WiF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Fi = competition over Access Point – WiMax = continuous access to Access Poi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Technological Advantages over WiFi (cont’d)</a:t>
            </a:r>
            <a:endParaRPr b="0" lang="en-US" sz="4800" spc="-1" strike="noStrike">
              <a:solidFill>
                <a:srgbClr val="ffcc00"/>
              </a:solidFill>
              <a:latin typeface="Arial Black"/>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Max incorporates more “duplexing” options</a:t>
            </a:r>
            <a:endParaRPr b="0" lang="en-US" sz="2400" spc="-1" strike="noStrike">
              <a:solidFill>
                <a:srgbClr val="ffffff"/>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Fi only supports TDD (Time Division Duplexing) – send and receive functions occur on the same channel</a:t>
            </a:r>
            <a:endParaRPr b="0" lang="en-US" sz="2000" spc="-1" strike="noStrike">
              <a:solidFill>
                <a:srgbClr val="ffffff"/>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Max supports TDD as well as FDD (Frequency Division Duplexing) – send and receive functions occur on different frequencies, simultaneous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Times New Roman"/>
              </a:rPr>
              <a:t>Connection Capability</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ternative internet connec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oIP implementa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2"/>
          <p:cNvSpPr>
            <a:spLocks noGrp="1"/>
          </p:cNvSpPr>
          <p:nvPr>
            <p:ph type="title"/>
          </p:nvPr>
        </p:nvSpPr>
        <p:spPr>
          <a:xfrm>
            <a:off x="685800" y="227160"/>
            <a:ext cx="77724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Implementation and Uses of WiMax</a:t>
            </a:r>
            <a:br>
              <a:rPr sz="4800"/>
            </a:b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ation with Legacy Cellular Networks</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ed for faster Internet Connec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ayer Gaming</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title"/>
          </p:nvPr>
        </p:nvSpPr>
        <p:spPr>
          <a:xfrm>
            <a:off x="685800" y="380520"/>
            <a:ext cx="777240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Uses of WiMax continued…</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
        <p:nvSpPr>
          <p:cNvPr id="14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is a wireless digital communications system, (a.k.a.IEEE 802.16) intended for wireless metropolitan area networks.   </a:t>
            </a:r>
            <a:endParaRPr b="0" lang="en-US" sz="2400" spc="-1" strike="noStrike">
              <a:solidFill>
                <a:srgbClr val="ffffff"/>
              </a:solidFill>
              <a:latin typeface="Arial"/>
            </a:endParaRPr>
          </a:p>
          <a:p>
            <a:pPr marL="335880" indent="-335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connects IEEE 802.11(Wi-Fi) hotspots to the Internet and provides a wireless extension to cable and DSL.</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35880" indent="-335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can provide broadband wireless access (BWA) up to 30 miles (50 km) for fixed stations, and 3 - 10 miles (5 - 15 km) for mobile stations.  </a:t>
            </a:r>
            <a:endParaRPr b="0" lang="en-US" sz="2400" spc="-1" strike="noStrike">
              <a:solidFill>
                <a:srgbClr val="ffffff"/>
              </a:solidFill>
              <a:latin typeface="Arial"/>
            </a:endParaRPr>
          </a:p>
          <a:p>
            <a:pPr marL="335880" indent="-3358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It allows users connectivity without a direct line of sight to a base station. This does not necessarily mean that users 50 km away without line of sight will have connectivity. </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The technology also provides shared data rates up to 70 Mbit/s, which, according to WiMAX proponents, is enough bandwidth to simultaneously support more than 60 businesses with T1-type connectivity and well over a thousand homes at 1Mbit/s DSL-level connectivity.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imes New Roman"/>
              </a:rPr>
              <a:t>WiMAX does not conflict with Wi-Fi but complements it. Because IEEE 802.16 networks use the same Logical Link Controller (standardized by IEEE 802.2) as other LANs and WANs, it can be both bridged and routed to them.</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st wireless client can scan or be manually configured to match the channel of the wireless access point.</a:t>
            </a: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 Point checks to see if client is authorized to access network.</a:t>
            </a: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ss point transmits information about the frequency it till hop to next and the length of time before the changes agai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hat is Wi-Max?</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DHCP is enabled network settings are transmitted to the client.</a:t>
            </a:r>
            <a:endParaRPr b="0" lang="en-US" sz="2400" spc="-1" strike="noStrike">
              <a:solidFill>
                <a:srgbClr val="ffffff"/>
              </a:solidFill>
              <a:latin typeface="Arial"/>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s are randomly transmitted between client and access point.</a:t>
            </a:r>
            <a:endParaRPr b="0" lang="en-US" sz="2400" spc="-1" strike="noStrike">
              <a:solidFill>
                <a:srgbClr val="ffffff"/>
              </a:solidFill>
              <a:latin typeface="Arial"/>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random time the frequency is changed to random frequency. This helps to prevent someone intercepting  your packe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2"/>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How Wireless Networks Work</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pic>
        <p:nvPicPr>
          <p:cNvPr id="155" name="" descr=""/>
          <p:cNvPicPr/>
          <p:nvPr/>
        </p:nvPicPr>
        <p:blipFill>
          <a:blip r:embed="rId1"/>
          <a:stretch/>
        </p:blipFill>
        <p:spPr>
          <a:xfrm>
            <a:off x="1905120" y="1219320"/>
            <a:ext cx="4572000" cy="4708440"/>
          </a:xfrm>
          <a:prstGeom prst="rect">
            <a:avLst/>
          </a:prstGeom>
          <a:ln w="0">
            <a:noFill/>
          </a:ln>
        </p:spPr>
      </p:pic>
      <p:sp>
        <p:nvSpPr>
          <p:cNvPr id="156" name=""/>
          <p:cNvSpPr/>
          <p:nvPr/>
        </p:nvSpPr>
        <p:spPr>
          <a:xfrm>
            <a:off x="720" y="6583320"/>
            <a:ext cx="256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 </a:t>
            </a:r>
            <a:r>
              <a:rPr b="0" lang="en-US" sz="1200" spc="-1" strike="noStrike">
                <a:solidFill>
                  <a:srgbClr val="ffffff"/>
                </a:solidFill>
                <a:latin typeface="Arial"/>
                <a:ea typeface="Arial"/>
              </a:rPr>
              <a:t>courtesy</a:t>
            </a:r>
            <a:r>
              <a:rPr b="0" lang="en-US" sz="1200" spc="-1" strike="noStrike">
                <a:solidFill>
                  <a:srgbClr val="ffffff"/>
                </a:solidFill>
                <a:latin typeface="Times New Roman"/>
              </a:rPr>
              <a:t> of howstuffworks.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248520" y="2438280"/>
            <a:ext cx="2666880" cy="2971800"/>
          </a:xfrm>
          <a:prstGeom prst="rect">
            <a:avLst/>
          </a:prstGeom>
          <a:ln w="0">
            <a:noFill/>
          </a:ln>
        </p:spPr>
      </p:pic>
      <p:sp>
        <p:nvSpPr>
          <p:cNvPr id="158" name=""/>
          <p:cNvSpPr/>
          <p:nvPr/>
        </p:nvSpPr>
        <p:spPr>
          <a:xfrm>
            <a:off x="0" y="1641600"/>
            <a:ext cx="670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quency Ran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2.16: 10 – 66 GH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802.16a: 2 – 11 GH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ddition of the 802.16a was created for use of unlicensed frequenc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5-6 GHz range is used for non line of sight (NLOS) transmiss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2.16e has amendments made to incorporate the addition of mobile devi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6172200" y="635652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6778800" y="5257800"/>
            <a:ext cx="1619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hoto courtesy Intel</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iMax Standards</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71680" y="1228680"/>
            <a:ext cx="9715680" cy="5629320"/>
          </a:xfrm>
          <a:prstGeom prst="rect">
            <a:avLst/>
          </a:prstGeom>
          <a:ln w="0">
            <a:noFill/>
          </a:ln>
        </p:spPr>
      </p:pic>
      <p:sp>
        <p:nvSpPr>
          <p:cNvPr id="163"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iMax Unleashed</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71680" y="990720"/>
            <a:ext cx="9715680" cy="5629320"/>
          </a:xfrm>
          <a:prstGeom prst="rect">
            <a:avLst/>
          </a:prstGeom>
          <a:ln w="0">
            <a:noFill/>
          </a:ln>
        </p:spPr>
      </p:pic>
      <p:sp>
        <p:nvSpPr>
          <p:cNvPr id="165" name="PlaceHolder 1"/>
          <p:cNvSpPr>
            <a:spLocks noGrp="1"/>
          </p:cNvSpPr>
          <p:nvPr>
            <p:ph type="title"/>
          </p:nvPr>
        </p:nvSpPr>
        <p:spPr>
          <a:xfrm>
            <a:off x="762120" y="165960"/>
            <a:ext cx="7772400" cy="82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WiMax Unleashed</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2:38:05Z</dcterms:created>
  <dc:creator>angelusforever</dc:creator>
  <dc:description/>
  <dc:language>en-US</dc:language>
  <cp:lastModifiedBy>Valenzuela Patricio</cp:lastModifiedBy>
  <dcterms:modified xsi:type="dcterms:W3CDTF">2006-11-10T02:02:42Z</dcterms:modified>
  <cp:revision>9</cp:revision>
  <dc:subject/>
  <dc:title>What Is Wi-Max?</dc:title>
</cp:coreProperties>
</file>