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9.png" ContentType="image/png"/>
  <Override PartName="/ppt/media/image13.jpeg" ContentType="image/jpeg"/>
  <Override PartName="/ppt/media/image40.jpeg" ContentType="image/jpeg"/>
  <Override PartName="/ppt/media/image3.png" ContentType="image/png"/>
  <Override PartName="/ppt/media/image15.png" ContentType="image/png"/>
  <Override PartName="/ppt/media/image56.jpeg" ContentType="image/jpeg"/>
  <Override PartName="/ppt/media/image10.wmf" ContentType="image/x-wmf"/>
  <Override PartName="/ppt/media/image25.jpeg" ContentType="image/jpeg"/>
  <Override PartName="/ppt/media/image62.png" ContentType="image/png"/>
  <Override PartName="/ppt/media/image51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8.wmf" ContentType="image/x-wmf"/>
  <Override PartName="/ppt/media/image34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7.jpeg" ContentType="image/jpeg"/>
  <Override PartName="/ppt/media/image35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0.jpeg" ContentType="image/jpeg"/>
  <Override PartName="/ppt/media/image14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21.png" ContentType="image/png"/>
  <Override PartName="/ppt/media/image1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32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9960" y="74412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2200" y="4710240"/>
            <a:ext cx="546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D80-E5A3-498B-98D5-E6FD82F55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64F3-4175-4507-9905-55C4D3163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48200" cy="371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863-2A3D-472C-8119-EA1EC89664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95320" y="711360"/>
            <a:ext cx="4995720" cy="374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8ABD-5622-405A-BA97-CC2293C82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57560" cy="3718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68E-1638-4D3B-A291-1D218303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229-C93E-4E56-8D05-1DAE9CC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421-A7BE-4445-A443-D10354DF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D20-7D03-4D7C-AB9A-B907376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F5C-86E7-44E9-8846-53065303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F97-702A-4235-B610-676F4E5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8A6-CD45-4B6E-A0A3-268875B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9CA-A5CA-4564-9116-CE3B727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08D-5989-47F1-B39C-329E9D5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3CE-E6B1-40EF-8373-C069CCBE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899-FE54-4618-AC9B-A7C40815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29A-7CF5-4B84-84DF-813E447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mts-forum.org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CA3A-7E02-4489-B605-C11DB5FE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45600" y="61920"/>
            <a:ext cx="610920" cy="1004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51600"/>
            <a:ext cx="57150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bilkomaustria.com/CDA/frameset/start_frame/0,3149,888-888-html-de,00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-mobile.at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mobitel.si/slo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etisalat.ae/index2.ht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hyperlink" Target="http://www.o2.co.uk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13.jpeg"/><Relationship Id="rId18" Type="http://schemas.openxmlformats.org/officeDocument/2006/relationships/hyperlink" Target="http://www.optimus.pt/Site+Optimus/MassMarket" TargetMode="External"/><Relationship Id="rId19" Type="http://schemas.openxmlformats.org/officeDocument/2006/relationships/image" Target="../media/image14.png"/><Relationship Id="rId20" Type="http://schemas.openxmlformats.org/officeDocument/2006/relationships/hyperlink" Target="http://www.cosmote.gr/" TargetMode="External"/><Relationship Id="rId21" Type="http://schemas.openxmlformats.org/officeDocument/2006/relationships/image" Target="../media/image15.png"/><Relationship Id="rId22" Type="http://schemas.openxmlformats.org/officeDocument/2006/relationships/hyperlink" Target="http://www.ept.lu/" TargetMode="External"/><Relationship Id="rId23" Type="http://schemas.openxmlformats.org/officeDocument/2006/relationships/image" Target="../media/image16.png"/><Relationship Id="rId24" Type="http://schemas.openxmlformats.org/officeDocument/2006/relationships/hyperlink" Target="http://www.mtc-vodafone.com.bh/MTCIM/webportal/homepage?BV_SessionID=@@@@0007197577.1093878948@@@@&amp;BV_EngineID=ccceadcmgkgdmikcflgcegfdffndfkn.0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www.vodafone.ie/index.jsp;jsessionid=www.vodafone.ie-e986%3A413346d6%3Ae2d1604ef87a7323" TargetMode="External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21.png"/><Relationship Id="rId31" Type="http://schemas.openxmlformats.org/officeDocument/2006/relationships/image" Target="../media/image22.jpe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image" Target="../media/image26.jpe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jpeg"/><Relationship Id="rId40" Type="http://schemas.openxmlformats.org/officeDocument/2006/relationships/image" Target="../media/image31.png"/><Relationship Id="rId41" Type="http://schemas.openxmlformats.org/officeDocument/2006/relationships/image" Target="../media/image32.jpe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png"/><Relationship Id="rId14" Type="http://schemas.openxmlformats.org/officeDocument/2006/relationships/image" Target="../media/image50.jpeg"/><Relationship Id="rId15" Type="http://schemas.openxmlformats.org/officeDocument/2006/relationships/image" Target="../media/image51.jpeg"/><Relationship Id="rId16" Type="http://schemas.openxmlformats.org/officeDocument/2006/relationships/image" Target="../media/image52.png"/><Relationship Id="rId17" Type="http://schemas.openxmlformats.org/officeDocument/2006/relationships/image" Target="../media/image53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volution of Cellular &amp; Wireless Technologies</a:t>
            </a:r>
            <a:br>
              <a:rPr sz="40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How IEEE will complement 3GPP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3G Evolution towards Systems beyond IM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MS (IP Multimedia Subsyst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3282840"/>
            <a:ext cx="81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imultaneous delivery of multiple real-tim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hanced person-to-person communication experienc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ith interactivity and integr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standardized solution across fixed and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st-effective enabling technology for service differentiation and new revenue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1970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AL TI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ERSON TO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PLE, SYNCHRONI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Why I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3986280"/>
            <a:ext cx="777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unified support for IP multimedia application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within the 3G/UMT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mobile operators to offer their subscriber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 services, built upon Internet applications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s and protocols, including SIP (Session Initiation Protocol), which is used to manage IP multimedia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268280"/>
            <a:ext cx="7705800" cy="238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S provides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lexible architectu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or the rapid deployment of innovative features. It enables users to communicate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video/voice/text vi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gle client on the handse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sion for the IMS core network i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ximum flexibility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nd independe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e access technologies.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is accomplished in part via th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paration of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cess, transport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MS separates RAN, transpor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260360"/>
            <a:ext cx="81374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dio Access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the over-the-ai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nec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from user equipment to core network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low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cket Core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for signaling and bearer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high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P-based Multimedia Subsystem IM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of applications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control of session and media co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5054760"/>
            <a:ext cx="7848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IMS, media control, session control and application control are separated as distinct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345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000" y="551664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 separates radio access, transport and control elements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with the IMS handling control of applications, control of sessions, and media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777440" cy="493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77080" y="4408560"/>
            <a:ext cx="18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Times New Roman"/>
              </a:rPr>
              <a:t>Source: 3G Amer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720" y="290160"/>
            <a:ext cx="8869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Tomorrow… mobile broadcast (DVB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8760" y="1252440"/>
            <a:ext cx="8211960" cy="4408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plementary to EDGE and 3G / UMTS,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VB-H brings “broadcast” services to handheld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rom « one-to-one » to « one-to-many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Simultaneity, speed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mobile operators bring to DVB-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rue interactivity via cellula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cess to new range of customers and their mobilit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ntrolled content distribution to 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Mass market distribution of UMTS / DVB-H handsets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8164" t="15406" r="32988" b="23129"/>
          <a:stretch/>
        </p:blipFill>
        <p:spPr>
          <a:xfrm>
            <a:off x="6732720" y="1552680"/>
            <a:ext cx="2895480" cy="4492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1120" y="1301760"/>
            <a:ext cx="8697960" cy="977760"/>
          </a:xfrm>
          <a:prstGeom prst="leftArrow">
            <a:avLst>
              <a:gd name="adj1" fmla="val 53120"/>
              <a:gd name="adj2" fmla="val 132860"/>
            </a:avLst>
          </a:prstGeom>
          <a:gradFill rotWithShape="0">
            <a:gsLst>
              <a:gs pos="0">
                <a:srgbClr val="354175">
                  <a:alpha val="0"/>
                </a:srgbClr>
              </a:gs>
              <a:gs pos="100000">
                <a:srgbClr val="758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2255760"/>
            <a:ext cx="6967440" cy="29926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3920" y="2170080"/>
            <a:ext cx="6018120" cy="31449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7480" y="2227320"/>
            <a:ext cx="2914560" cy="299232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80000" y="2251080"/>
            <a:ext cx="1562040" cy="29685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1547640"/>
            <a:ext cx="77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6600" y="1547640"/>
            <a:ext cx="77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85320" y="1546200"/>
            <a:ext cx="66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02360" y="1546200"/>
            <a:ext cx="69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640" y="3094200"/>
            <a:ext cx="988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3840" y="3035160"/>
            <a:ext cx="1863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802.16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Hip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81280" y="3216240"/>
            <a:ext cx="928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57240" y="3294000"/>
            <a:ext cx="11934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U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Demi Cond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3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Wireless Networks Will Co-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334120"/>
            <a:ext cx="5432400" cy="615960"/>
          </a:xfrm>
          <a:prstGeom prst="roundRect">
            <a:avLst>
              <a:gd name="adj" fmla="val 16667"/>
            </a:avLst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The Result: </a:t>
            </a: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Always Best Conn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85040" y="2249640"/>
            <a:ext cx="662040" cy="29080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0920" y="3400560"/>
            <a:ext cx="740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RFID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0760" y="322092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920" y="308448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9079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Source: WiMAX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WiMAX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907920"/>
            <a:ext cx="79898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abling broadband wireless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MM_367_585_11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The original 802.16 specification described broadband wireless access systems using point-to-multipoint infrastruct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operating at radio frequencies between 10 GHz and 66 G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 specifies a metropolitan area networking (MAN) protoco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nable a wireless alternative for ‘last mile’ broadband acces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well as providing backhaul for 801.11 hotsp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quent 802.16a standard supports low latency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voice and video, and provides broadband connectivity without requiring direct line of sight between terminal and 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xed WiMAX chipsets now launched (e.g. Intel / Fujitsu) –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ed equipment available in volume from end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e enhancement adds some mobility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l commercialisation not expected befor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56754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WiMAX Forum / industr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3G / UMTS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25360"/>
            <a:ext cx="79898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mplete, end-to-end mobil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………………………………………………………………………………………………………………………………………………………………</a:t>
            </a: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more than 22 million 3G/UMTS customers subscribing to almost 70 networks globally with choice of 150+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G/UMTS delivers cost efficient, WIDE AREA network coverage, supporting a rich choice of services and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for fully mobil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ly standardised via 3GPP, using globally harmonised spectrum in common bands (paired and unpa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international roaming, plus integral security and b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t rates up to 384 kbps in wide area / 2 Mbps 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early defined roadmap to &gt;14 Mbps and higher capacitie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HSDPA/HS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240" y="0"/>
            <a:ext cx="8088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LAN / WiMAX: complementary to 3G / UMTS</a:t>
            </a: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989000"/>
            <a:ext cx="82821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is useful for high-speed Internet/Intranet access for low mobility &amp; stationary users (especially corpora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coverage of a major city may require typically approx 100:1 as many access points compared with number of UMTS base stations for equivalent coverage;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also requires substantial investment in backhau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s regarding WLAN performance when hot spot capacity is shared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y a large number of simultaneous user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MAX – broadband wireless access (BWA) system for metropolitan area network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G / UMTS offers benefits of wide area coverage, full mobility, integral security, roaming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full integration with charging / bill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5000760"/>
            <a:ext cx="806436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LAN &amp; WiMAX coupled / combined with 3G / UMTS / HSDP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offer mobile broadband f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BO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WHE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ever the technology and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941400"/>
            <a:ext cx="777564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LAN gives “hot spot”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MAX extends coverage to metropolitan area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G/UMTS gives full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5520" y="1135080"/>
            <a:ext cx="8845560" cy="4861080"/>
          </a:xfrm>
          <a:prstGeom prst="rect">
            <a:avLst/>
          </a:prstGeom>
          <a:solidFill>
            <a:srgbClr val="b9c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6160" y="1293840"/>
            <a:ext cx="2282760" cy="2954160"/>
          </a:xfrm>
          <a:prstGeom prst="rect">
            <a:avLst/>
          </a:prstGeom>
          <a:solidFill>
            <a:srgbClr val="b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1080" indent="-181080">
              <a:lnSpc>
                <a:spcPct val="100000"/>
              </a:lnSpc>
              <a:spcBef>
                <a:spcPts val="1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-CDMA and its enhancement HSDP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cover the biggest are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in the diagram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mobility vs. user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iMAX technologies (IEEE802.16d/e) are bandwidth scalable and cover additional area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for fixed wireless and nomadic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621160" y="1149480"/>
            <a:ext cx="5118840" cy="5021280"/>
            <a:chOff x="2621160" y="1149480"/>
            <a:chExt cx="5118840" cy="5021280"/>
          </a:xfrm>
        </p:grpSpPr>
        <p:sp>
          <p:nvSpPr>
            <p:cNvPr id="359" name=""/>
            <p:cNvSpPr/>
            <p:nvPr/>
          </p:nvSpPr>
          <p:spPr>
            <a:xfrm rot="2620200">
              <a:off x="2650680" y="2603520"/>
              <a:ext cx="5059080" cy="2112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500200">
              <a:off x="4430880" y="2896920"/>
              <a:ext cx="2053800" cy="6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Systems Beyond 3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&gt;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33560" y="3554280"/>
            <a:ext cx="4367160" cy="1927440"/>
          </a:xfrm>
          <a:custGeom>
            <a:avLst/>
            <a:gdLst/>
            <a:ahLst/>
            <a:rect l="l" t="t" r="r" b="b"/>
            <a:pathLst>
              <a:path w="2370" h="1662">
                <a:moveTo>
                  <a:pt x="0" y="1650"/>
                </a:moveTo>
                <a:lnTo>
                  <a:pt x="0" y="0"/>
                </a:lnTo>
                <a:lnTo>
                  <a:pt x="1632" y="0"/>
                </a:lnTo>
                <a:lnTo>
                  <a:pt x="2370" y="624"/>
                </a:lnTo>
                <a:lnTo>
                  <a:pt x="2370" y="1662"/>
                </a:lnTo>
                <a:lnTo>
                  <a:pt x="0" y="1650"/>
                </a:lnTo>
                <a:close/>
              </a:path>
            </a:pathLst>
          </a:custGeom>
          <a:solidFill>
            <a:srgbClr val="7a9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4659480"/>
            <a:ext cx="4735440" cy="868320"/>
          </a:xfrm>
          <a:custGeom>
            <a:avLst/>
            <a:gdLst/>
            <a:ahLst/>
            <a:rect l="l" t="t" r="r" b="b"/>
            <a:pathLst>
              <a:path w="3224" h="562">
                <a:moveTo>
                  <a:pt x="0" y="562"/>
                </a:moveTo>
                <a:lnTo>
                  <a:pt x="0" y="0"/>
                </a:lnTo>
                <a:lnTo>
                  <a:pt x="2447" y="0"/>
                </a:lnTo>
                <a:lnTo>
                  <a:pt x="3224" y="302"/>
                </a:lnTo>
                <a:lnTo>
                  <a:pt x="3222" y="562"/>
                </a:lnTo>
                <a:lnTo>
                  <a:pt x="0" y="562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8680" y="1892160"/>
            <a:ext cx="3451320" cy="3613320"/>
          </a:xfrm>
          <a:custGeom>
            <a:avLst/>
            <a:gdLst/>
            <a:ahLst/>
            <a:rect l="l" t="t" r="r" b="b"/>
            <a:pathLst>
              <a:path w="2103" h="2310">
                <a:moveTo>
                  <a:pt x="0" y="2310"/>
                </a:moveTo>
                <a:lnTo>
                  <a:pt x="3" y="0"/>
                </a:lnTo>
                <a:lnTo>
                  <a:pt x="885" y="0"/>
                </a:lnTo>
                <a:lnTo>
                  <a:pt x="2103" y="1194"/>
                </a:lnTo>
                <a:lnTo>
                  <a:pt x="2096" y="2310"/>
                </a:lnTo>
                <a:lnTo>
                  <a:pt x="0" y="231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1893960"/>
            <a:ext cx="2724120" cy="3589200"/>
          </a:xfrm>
          <a:custGeom>
            <a:avLst/>
            <a:gdLst/>
            <a:ahLst/>
            <a:rect l="l" t="t" r="r" b="b"/>
            <a:pathLst>
              <a:path w="1660" h="2303">
                <a:moveTo>
                  <a:pt x="2" y="2303"/>
                </a:moveTo>
                <a:lnTo>
                  <a:pt x="0" y="0"/>
                </a:lnTo>
                <a:lnTo>
                  <a:pt x="900" y="1"/>
                </a:lnTo>
                <a:lnTo>
                  <a:pt x="1660" y="1296"/>
                </a:lnTo>
                <a:lnTo>
                  <a:pt x="1660" y="2303"/>
                </a:lnTo>
                <a:lnTo>
                  <a:pt x="2" y="2303"/>
                </a:lnTo>
                <a:close/>
              </a:path>
            </a:pathLst>
          </a:custGeom>
          <a:solidFill>
            <a:srgbClr val="ed9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1766880"/>
            <a:ext cx="1619280" cy="3805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1800" y="228600"/>
            <a:ext cx="840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WiMAX as standardized solution is a </a:t>
            </a:r>
            <a:r>
              <a:rPr b="1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promising complementary technology to W-CDMA / HSD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91440" y="4874400"/>
            <a:ext cx="93024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55080" y="3797280"/>
            <a:ext cx="122400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W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-313200" y="2403720"/>
            <a:ext cx="173988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Veh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6520" y="1379520"/>
            <a:ext cx="1753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Mobility /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87560" y="2592360"/>
            <a:ext cx="48960" cy="144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35080" y="2922480"/>
            <a:ext cx="1440" cy="3672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9000" y="2592360"/>
            <a:ext cx="46080" cy="144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35080" y="2924280"/>
            <a:ext cx="1440" cy="3492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760" y="49737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1400" y="372096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dest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1200" y="197496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High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360" y="248112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4000" y="528624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34360" y="308304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2400" y="46483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ixed 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6600" y="5267160"/>
            <a:ext cx="1456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User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45120" y="5530680"/>
            <a:ext cx="42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5840" y="5592600"/>
            <a:ext cx="355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57600" y="5694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16920" y="5530680"/>
            <a:ext cx="1076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2600" y="5592600"/>
            <a:ext cx="1039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95440" y="568656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72280" y="4443480"/>
            <a:ext cx="1252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8760" y="4524480"/>
            <a:ext cx="63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08760" y="4824360"/>
            <a:ext cx="1217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61200" y="5132520"/>
            <a:ext cx="909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3280" y="4270320"/>
            <a:ext cx="126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9400" y="4734000"/>
            <a:ext cx="63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9720" y="5037120"/>
            <a:ext cx="959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1720" y="1797120"/>
            <a:ext cx="1176120" cy="3682800"/>
          </a:xfrm>
          <a:custGeom>
            <a:avLst/>
            <a:gdLst/>
            <a:ahLst/>
            <a:rect l="l" t="t" r="r" b="b"/>
            <a:pathLst>
              <a:path w="657" h="1363">
                <a:moveTo>
                  <a:pt x="0" y="1363"/>
                </a:moveTo>
                <a:lnTo>
                  <a:pt x="20" y="0"/>
                </a:lnTo>
                <a:lnTo>
                  <a:pt x="318" y="0"/>
                </a:lnTo>
                <a:lnTo>
                  <a:pt x="657" y="769"/>
                </a:lnTo>
                <a:lnTo>
                  <a:pt x="657" y="1363"/>
                </a:lnTo>
                <a:lnTo>
                  <a:pt x="0" y="13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17800" y="569916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43560" y="5530680"/>
            <a:ext cx="29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9240" y="5592600"/>
            <a:ext cx="230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14520" y="5234040"/>
            <a:ext cx="1244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6640" y="6359400"/>
            <a:ext cx="2357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37360" y="6456240"/>
            <a:ext cx="2367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55400" y="5138640"/>
            <a:ext cx="816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802.16a,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2000" y="5694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72680" y="5686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385596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HSD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4294080" y="3031920"/>
            <a:ext cx="363600" cy="110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3080" y="4203720"/>
            <a:ext cx="65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802.16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4600" y="41274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Noma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55880" y="4714920"/>
            <a:ext cx="3876480" cy="850680"/>
          </a:xfrm>
          <a:custGeom>
            <a:avLst/>
            <a:gdLst/>
            <a:ahLst/>
            <a:rect l="l" t="t" r="r" b="b"/>
            <a:pathLst>
              <a:path w="2480" h="568">
                <a:moveTo>
                  <a:pt x="0" y="568"/>
                </a:moveTo>
                <a:lnTo>
                  <a:pt x="2480" y="560"/>
                </a:lnTo>
                <a:lnTo>
                  <a:pt x="2480" y="280"/>
                </a:lnTo>
                <a:lnTo>
                  <a:pt x="1872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02960" y="5065560"/>
            <a:ext cx="11635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WLA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(IEEE 802.11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3280" y="1819440"/>
            <a:ext cx="2612880" cy="3728880"/>
          </a:xfrm>
          <a:custGeom>
            <a:avLst/>
            <a:gdLst/>
            <a:ahLst/>
            <a:rect l="l" t="t" r="r" b="b"/>
            <a:pathLst>
              <a:path w="1793" h="2349">
                <a:moveTo>
                  <a:pt x="2" y="2349"/>
                </a:moveTo>
                <a:lnTo>
                  <a:pt x="0" y="5"/>
                </a:lnTo>
                <a:lnTo>
                  <a:pt x="1108" y="0"/>
                </a:lnTo>
                <a:lnTo>
                  <a:pt x="1793" y="1324"/>
                </a:lnTo>
                <a:lnTo>
                  <a:pt x="1793" y="2349"/>
                </a:lnTo>
                <a:lnTo>
                  <a:pt x="2" y="234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0040" y="2422440"/>
            <a:ext cx="1687320" cy="3032280"/>
          </a:xfrm>
          <a:custGeom>
            <a:avLst/>
            <a:gdLst/>
            <a:ahLst/>
            <a:rect l="l" t="t" r="r" b="b"/>
            <a:pathLst>
              <a:path w="1063" h="1910">
                <a:moveTo>
                  <a:pt x="0" y="1910"/>
                </a:moveTo>
                <a:lnTo>
                  <a:pt x="0" y="0"/>
                </a:lnTo>
                <a:lnTo>
                  <a:pt x="402" y="0"/>
                </a:lnTo>
                <a:lnTo>
                  <a:pt x="1056" y="984"/>
                </a:lnTo>
                <a:lnTo>
                  <a:pt x="1063" y="1910"/>
                </a:lnTo>
                <a:lnTo>
                  <a:pt x="0" y="19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7080" y="1792440"/>
            <a:ext cx="986040" cy="3687480"/>
          </a:xfrm>
          <a:custGeom>
            <a:avLst/>
            <a:gdLst/>
            <a:ahLst/>
            <a:rect l="l" t="t" r="r" b="b"/>
            <a:pathLst>
              <a:path w="657" h="1365">
                <a:moveTo>
                  <a:pt x="0" y="1365"/>
                </a:moveTo>
                <a:lnTo>
                  <a:pt x="7" y="0"/>
                </a:lnTo>
                <a:cubicBezTo>
                  <a:pt x="7" y="0"/>
                  <a:pt x="162" y="1"/>
                  <a:pt x="318" y="2"/>
                </a:cubicBezTo>
                <a:cubicBezTo>
                  <a:pt x="487" y="386"/>
                  <a:pt x="657" y="771"/>
                  <a:pt x="657" y="771"/>
                </a:cubicBezTo>
                <a:lnTo>
                  <a:pt x="657" y="1365"/>
                </a:lnTo>
                <a:lnTo>
                  <a:pt x="0" y="1365"/>
                </a:lnTo>
                <a:close/>
              </a:path>
            </a:pathLst>
          </a:custGeom>
          <a:solidFill>
            <a:srgbClr val="94aeb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04200" y="3078000"/>
            <a:ext cx="58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S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59120" y="4626000"/>
            <a:ext cx="1458720" cy="934920"/>
          </a:xfrm>
          <a:custGeom>
            <a:avLst/>
            <a:gdLst/>
            <a:ahLst/>
            <a:rect l="l" t="t" r="r" b="b"/>
            <a:pathLst>
              <a:path w="1081" h="457">
                <a:moveTo>
                  <a:pt x="0" y="457"/>
                </a:moveTo>
                <a:lnTo>
                  <a:pt x="0" y="0"/>
                </a:lnTo>
                <a:lnTo>
                  <a:pt x="821" y="0"/>
                </a:lnTo>
                <a:lnTo>
                  <a:pt x="1081" y="151"/>
                </a:lnTo>
                <a:lnTo>
                  <a:pt x="1081" y="457"/>
                </a:lnTo>
                <a:lnTo>
                  <a:pt x="0" y="457"/>
                </a:lnTo>
                <a:close/>
              </a:path>
            </a:pathLst>
          </a:cu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36040" y="4849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iemens Sans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3280" y="5259240"/>
            <a:ext cx="2043000" cy="297000"/>
          </a:xfrm>
          <a:custGeom>
            <a:avLst/>
            <a:gdLst/>
            <a:ahLst/>
            <a:rect l="l" t="t" r="r" b="b"/>
            <a:pathLst>
              <a:path w="996" h="106">
                <a:moveTo>
                  <a:pt x="18" y="0"/>
                </a:moveTo>
                <a:lnTo>
                  <a:pt x="13" y="2"/>
                </a:lnTo>
                <a:lnTo>
                  <a:pt x="5" y="5"/>
                </a:lnTo>
                <a:lnTo>
                  <a:pt x="3" y="12"/>
                </a:lnTo>
                <a:lnTo>
                  <a:pt x="0" y="17"/>
                </a:lnTo>
                <a:lnTo>
                  <a:pt x="0" y="88"/>
                </a:lnTo>
                <a:lnTo>
                  <a:pt x="3" y="96"/>
                </a:lnTo>
                <a:lnTo>
                  <a:pt x="5" y="101"/>
                </a:lnTo>
                <a:lnTo>
                  <a:pt x="13" y="103"/>
                </a:lnTo>
                <a:lnTo>
                  <a:pt x="18" y="106"/>
                </a:lnTo>
                <a:lnTo>
                  <a:pt x="978" y="106"/>
                </a:lnTo>
                <a:lnTo>
                  <a:pt x="984" y="103"/>
                </a:lnTo>
                <a:lnTo>
                  <a:pt x="991" y="101"/>
                </a:lnTo>
                <a:lnTo>
                  <a:pt x="994" y="96"/>
                </a:lnTo>
                <a:lnTo>
                  <a:pt x="996" y="88"/>
                </a:lnTo>
                <a:lnTo>
                  <a:pt x="996" y="17"/>
                </a:lnTo>
                <a:lnTo>
                  <a:pt x="994" y="12"/>
                </a:lnTo>
                <a:lnTo>
                  <a:pt x="991" y="5"/>
                </a:lnTo>
                <a:lnTo>
                  <a:pt x="984" y="2"/>
                </a:lnTo>
                <a:lnTo>
                  <a:pt x="97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28840" y="5186520"/>
            <a:ext cx="1139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2959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2960" y="3529080"/>
            <a:ext cx="103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3G/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6200" y="407196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640480" y="4726080"/>
            <a:ext cx="600120" cy="2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3591720" y="2738520"/>
            <a:ext cx="1093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lashOFDM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(802.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6440" y="1289160"/>
            <a:ext cx="4196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Wireless Technology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43280" y="1677960"/>
            <a:ext cx="6464160" cy="3867120"/>
          </a:xfrm>
          <a:custGeom>
            <a:avLst/>
            <a:gdLst/>
            <a:ahLst/>
            <a:rect l="l" t="t" r="r" b="b"/>
            <a:pathLst>
              <a:path w="3623" h="1403">
                <a:moveTo>
                  <a:pt x="3623" y="1403"/>
                </a:moveTo>
                <a:lnTo>
                  <a:pt x="0" y="140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8137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bout the UMT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 status of 3G / UMTS la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role of WiFi &amp; 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 look to the future – myths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importance of (harmonized)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69960" y="164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Future – Systems beyond IMT („4G“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82320"/>
            <a:ext cx="33289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y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ll-) IP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DM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‘s skip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is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167000" y="1282320"/>
            <a:ext cx="4290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be All-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radio will use OFD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does not exis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o what inste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need to co-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4440" y="4675320"/>
            <a:ext cx="8126640" cy="1188720"/>
            <a:chOff x="604440" y="4675320"/>
            <a:chExt cx="8126640" cy="1188720"/>
          </a:xfrm>
        </p:grpSpPr>
        <p:sp>
          <p:nvSpPr>
            <p:cNvPr id="435" name=""/>
            <p:cNvSpPr txBox="1"/>
            <p:nvPr/>
          </p:nvSpPr>
          <p:spPr>
            <a:xfrm>
              <a:off x="969840" y="4878360"/>
              <a:ext cx="38268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344680" y="4838760"/>
              <a:ext cx="176364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NHANCED 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4859280" y="4675320"/>
              <a:ext cx="1763640" cy="58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SUPER 3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3G PLUS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694640" y="4833720"/>
              <a:ext cx="534960" cy="32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4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560" y="5573520"/>
              <a:ext cx="80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04440" y="5484600"/>
              <a:ext cx="461160" cy="377640"/>
              <a:chOff x="604440" y="5484600"/>
              <a:chExt cx="461160" cy="377640"/>
            </a:xfrm>
          </p:grpSpPr>
          <p:sp>
            <p:nvSpPr>
              <p:cNvPr id="441" name=""/>
              <p:cNvSpPr/>
              <p:nvPr/>
            </p:nvSpPr>
            <p:spPr>
              <a:xfrm>
                <a:off x="83484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444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636280" y="5483160"/>
              <a:ext cx="461160" cy="377640"/>
              <a:chOff x="2636280" y="5483160"/>
              <a:chExt cx="461160" cy="377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67040" y="5483160"/>
                <a:ext cx="4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36280" y="56145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777920" y="5486400"/>
              <a:ext cx="461160" cy="377640"/>
              <a:chOff x="4777920" y="5486400"/>
              <a:chExt cx="461160" cy="377640"/>
            </a:xfrm>
          </p:grpSpPr>
          <p:sp>
            <p:nvSpPr>
              <p:cNvPr id="447" name=""/>
              <p:cNvSpPr/>
              <p:nvPr/>
            </p:nvSpPr>
            <p:spPr>
              <a:xfrm>
                <a:off x="5008320" y="54864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77920" y="56178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14720" y="5484600"/>
              <a:ext cx="461160" cy="377640"/>
              <a:chOff x="6714720" y="5484600"/>
              <a:chExt cx="461160" cy="377640"/>
            </a:xfrm>
          </p:grpSpPr>
          <p:sp>
            <p:nvSpPr>
              <p:cNvPr id="450" name=""/>
              <p:cNvSpPr/>
              <p:nvPr/>
            </p:nvSpPr>
            <p:spPr>
              <a:xfrm>
                <a:off x="694512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1472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803240" y="491652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0240" y="4917960"/>
              <a:ext cx="339840" cy="27756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1680" y="491976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85016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MTS Forum Viewpoint 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59120" y="445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6360" y="4851360"/>
            <a:ext cx="813744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MTS Forum recommends that new frequencie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3G / UMTS services must be proposed to all operator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 a transparent basis and globally harmon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019160"/>
            <a:ext cx="8331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commendations on use of other bands for 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 for roaming and interoperability mea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a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ly harmonised frequency ba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minimise requirements for multi-mode / multi-band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studies within ITU, as stated in WRC 03 Resolution 228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be the basis for additional identification of spectru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development of IMT-2000, in particular for rural areas…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 the 470-600 MHz (cf. UMTS Forum Report 38 “Coverage Extensions Bands for UMTS / IMT-2000 in the bands between 470-600 MHz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” national allocations or mixed band plans will not serve the interes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f mobile users and the market as a whole, e.g. 1900 MHz issue in In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systems beyond IMT will require significant amounts of new spectr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needs to be identified and justified for assignment starting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48840"/>
            <a:ext cx="8154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9000"/>
            <a:ext cx="8820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G / UMT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s already a commercial reality with more than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2 million subscribers on almost 70 network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G / UMTS uses globally harmonised spectrum and builds on economies of scale of global GSM market (&gt;1.3 billion custom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th HSDPA / HSUPA, mobile operators can significantly boost performance of W-CDMA to achieve higher speeds &amp;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S offers the platform for 3G evolution and servic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EEE technologies such as WiFi &amp; WiMAX present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valuable complement to operators’ pure cellular 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stems beyond IMT2000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„4G“?) will happen in due tim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another addition to the portfolio of complementary ra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ectrum is the most critical resource in wireless communication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wide roaming and economies of scale demand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MTS-Forum continues to contribute to the decis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2133720"/>
            <a:ext cx="640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For more information…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Times New Roman"/>
              </a:rPr>
              <a:t>www.umts-forum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219640" y="1125360"/>
            <a:ext cx="3673440" cy="251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65534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Operator Evolu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3992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492280"/>
            <a:ext cx="129528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00536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724280"/>
            <a:ext cx="136656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MA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105520"/>
            <a:ext cx="143964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06864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400536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42100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S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2608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492280"/>
            <a:ext cx="144000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724280"/>
            <a:ext cx="1493640" cy="432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1771560"/>
            <a:ext cx="1440000" cy="17287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DP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77336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1970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/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36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494028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80000" y="494028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5105520"/>
            <a:ext cx="797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2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79640" y="41482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59280" y="29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1482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5516640"/>
            <a:ext cx="598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.5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8968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36000" y="5445000"/>
            <a:ext cx="1763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HANCED 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41300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3860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0%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4076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479736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2608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3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34136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472608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00536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249228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716280"/>
            <a:ext cx="576360" cy="57636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76320"/>
            <a:ext cx="7993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Glob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492280"/>
            <a:ext cx="7056360" cy="16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lmost 70 networks in commercial service in 30 countries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th many others in trial / pre-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2 million 3G/UMTS subscribers (April 2005), and growing 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30+ 3G/UMTS licenses awarded in 45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CDMA take-up faster than GSM at the sam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Zur Startseite von mobilkom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394240"/>
            <a:ext cx="1655640" cy="4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046240"/>
            <a:ext cx="1984320" cy="23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867280" y="5373720"/>
            <a:ext cx="648000" cy="52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105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Etisalat Home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56680" y="2060640"/>
            <a:ext cx="5364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572000" y="343044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788000" y="36464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108000" y="3213000"/>
            <a:ext cx="77940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1405080" y="4724280"/>
            <a:ext cx="107928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187280" y="1073160"/>
            <a:ext cx="115272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Go to O2 homep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40360" y="530064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3G"/>
          <p:cNvPicPr/>
          <p:nvPr/>
        </p:nvPicPr>
        <p:blipFill>
          <a:blip r:embed="rId17"/>
          <a:stretch/>
        </p:blipFill>
        <p:spPr>
          <a:xfrm>
            <a:off x="179280" y="5122800"/>
            <a:ext cx="93672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OPTIMU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484360" y="692280"/>
            <a:ext cx="935280" cy="8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COSMOT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68360" y="1989000"/>
            <a:ext cx="1295640" cy="393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291280" y="1536840"/>
            <a:ext cx="1009440" cy="45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8101080" y="4454640"/>
            <a:ext cx="792000" cy="48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Vodafone logo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04000" y="4959360"/>
            <a:ext cx="934920" cy="5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T&amp;T Wireless"/>
          <p:cNvPicPr/>
          <p:nvPr/>
        </p:nvPicPr>
        <p:blipFill>
          <a:blip r:embed="rId28"/>
          <a:stretch/>
        </p:blipFill>
        <p:spPr>
          <a:xfrm>
            <a:off x="307800" y="4370400"/>
            <a:ext cx="1527480" cy="3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9"/>
          <a:stretch/>
        </p:blipFill>
        <p:spPr>
          <a:xfrm>
            <a:off x="6202440" y="907920"/>
            <a:ext cx="96192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1"/>
          <a:stretch/>
        </p:blipFill>
        <p:spPr>
          <a:xfrm>
            <a:off x="3780000" y="1700280"/>
            <a:ext cx="1511280" cy="59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2"/>
          <a:stretch/>
        </p:blipFill>
        <p:spPr>
          <a:xfrm>
            <a:off x="1187280" y="1751040"/>
            <a:ext cx="7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FOMA"/>
          <p:cNvPicPr/>
          <p:nvPr/>
        </p:nvPicPr>
        <p:blipFill>
          <a:blip r:embed="rId33"/>
          <a:stretch/>
        </p:blipFill>
        <p:spPr>
          <a:xfrm>
            <a:off x="3708360" y="907920"/>
            <a:ext cx="102888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4"/>
          <a:stretch/>
        </p:blipFill>
        <p:spPr>
          <a:xfrm>
            <a:off x="179280" y="2282760"/>
            <a:ext cx="720720" cy="70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5"/>
          <a:stretch/>
        </p:blipFill>
        <p:spPr>
          <a:xfrm>
            <a:off x="8264520" y="3139920"/>
            <a:ext cx="77148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6"/>
          <a:stretch/>
        </p:blipFill>
        <p:spPr>
          <a:xfrm>
            <a:off x="1984320" y="4282920"/>
            <a:ext cx="15796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7"/>
          <a:stretch/>
        </p:blipFill>
        <p:spPr>
          <a:xfrm>
            <a:off x="5003640" y="907920"/>
            <a:ext cx="86364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8"/>
          <a:stretch/>
        </p:blipFill>
        <p:spPr>
          <a:xfrm>
            <a:off x="2556000" y="5373720"/>
            <a:ext cx="1296720" cy="68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9"/>
          <a:stretch/>
        </p:blipFill>
        <p:spPr>
          <a:xfrm>
            <a:off x="4788000" y="4884840"/>
            <a:ext cx="93636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0"/>
          <a:stretch/>
        </p:blipFill>
        <p:spPr>
          <a:xfrm>
            <a:off x="1332000" y="5370480"/>
            <a:ext cx="1295280" cy="72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1"/>
          <a:stretch/>
        </p:blipFill>
        <p:spPr>
          <a:xfrm>
            <a:off x="2843280" y="4784760"/>
            <a:ext cx="152568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2"/>
          <a:stretch/>
        </p:blipFill>
        <p:spPr>
          <a:xfrm>
            <a:off x="7020000" y="1268280"/>
            <a:ext cx="1876320" cy="44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Logo Wind"/>
          <p:cNvPicPr/>
          <p:nvPr/>
        </p:nvPicPr>
        <p:blipFill>
          <a:blip r:embed="rId43"/>
          <a:stretch/>
        </p:blipFill>
        <p:spPr>
          <a:xfrm>
            <a:off x="2716200" y="1341360"/>
            <a:ext cx="1063800" cy="72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elecom New Zealand"/>
          <p:cNvPicPr/>
          <p:nvPr/>
        </p:nvPicPr>
        <p:blipFill>
          <a:blip r:embed="rId44"/>
          <a:stretch/>
        </p:blipFill>
        <p:spPr>
          <a:xfrm>
            <a:off x="4048200" y="4294080"/>
            <a:ext cx="131580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49280" y="1766880"/>
            <a:ext cx="5743800" cy="3188880"/>
            <a:chOff x="1349280" y="1766880"/>
            <a:chExt cx="5743800" cy="3188880"/>
          </a:xfrm>
        </p:grpSpPr>
        <p:sp>
          <p:nvSpPr>
            <p:cNvPr id="143" name=""/>
            <p:cNvSpPr/>
            <p:nvPr/>
          </p:nvSpPr>
          <p:spPr>
            <a:xfrm>
              <a:off x="1420560" y="2089800"/>
              <a:ext cx="2032200" cy="2865960"/>
            </a:xfrm>
            <a:custGeom>
              <a:avLst/>
              <a:gdLst/>
              <a:ahLst/>
              <a:rect l="l" t="t" r="r" b="b"/>
              <a:pathLst>
                <a:path w="1848" h="2608">
                  <a:moveTo>
                    <a:pt x="1136" y="1383"/>
                  </a:moveTo>
                  <a:lnTo>
                    <a:pt x="1111" y="1409"/>
                  </a:lnTo>
                  <a:lnTo>
                    <a:pt x="1068" y="1393"/>
                  </a:lnTo>
                  <a:lnTo>
                    <a:pt x="1026" y="1374"/>
                  </a:lnTo>
                  <a:lnTo>
                    <a:pt x="1004" y="1317"/>
                  </a:lnTo>
                  <a:lnTo>
                    <a:pt x="936" y="1287"/>
                  </a:lnTo>
                  <a:lnTo>
                    <a:pt x="911" y="1257"/>
                  </a:lnTo>
                  <a:lnTo>
                    <a:pt x="848" y="1262"/>
                  </a:lnTo>
                  <a:lnTo>
                    <a:pt x="733" y="1190"/>
                  </a:lnTo>
                  <a:lnTo>
                    <a:pt x="707" y="1109"/>
                  </a:lnTo>
                  <a:lnTo>
                    <a:pt x="602" y="961"/>
                  </a:lnTo>
                  <a:lnTo>
                    <a:pt x="671" y="1119"/>
                  </a:lnTo>
                  <a:lnTo>
                    <a:pt x="667" y="1129"/>
                  </a:lnTo>
                  <a:lnTo>
                    <a:pt x="634" y="1093"/>
                  </a:lnTo>
                  <a:lnTo>
                    <a:pt x="634" y="1068"/>
                  </a:lnTo>
                  <a:lnTo>
                    <a:pt x="588" y="1033"/>
                  </a:lnTo>
                  <a:lnTo>
                    <a:pt x="608" y="1033"/>
                  </a:lnTo>
                  <a:lnTo>
                    <a:pt x="561" y="941"/>
                  </a:lnTo>
                  <a:lnTo>
                    <a:pt x="532" y="920"/>
                  </a:lnTo>
                  <a:lnTo>
                    <a:pt x="482" y="809"/>
                  </a:lnTo>
                  <a:lnTo>
                    <a:pt x="515" y="640"/>
                  </a:lnTo>
                  <a:lnTo>
                    <a:pt x="542" y="655"/>
                  </a:lnTo>
                  <a:lnTo>
                    <a:pt x="545" y="626"/>
                  </a:lnTo>
                  <a:lnTo>
                    <a:pt x="505" y="584"/>
                  </a:lnTo>
                  <a:lnTo>
                    <a:pt x="482" y="519"/>
                  </a:lnTo>
                  <a:lnTo>
                    <a:pt x="466" y="513"/>
                  </a:lnTo>
                  <a:lnTo>
                    <a:pt x="447" y="478"/>
                  </a:lnTo>
                  <a:lnTo>
                    <a:pt x="347" y="376"/>
                  </a:lnTo>
                  <a:lnTo>
                    <a:pt x="248" y="345"/>
                  </a:lnTo>
                  <a:lnTo>
                    <a:pt x="182" y="386"/>
                  </a:lnTo>
                  <a:lnTo>
                    <a:pt x="215" y="341"/>
                  </a:lnTo>
                  <a:lnTo>
                    <a:pt x="149" y="391"/>
                  </a:lnTo>
                  <a:lnTo>
                    <a:pt x="149" y="400"/>
                  </a:lnTo>
                  <a:lnTo>
                    <a:pt x="24" y="467"/>
                  </a:lnTo>
                  <a:lnTo>
                    <a:pt x="75" y="416"/>
                  </a:lnTo>
                  <a:lnTo>
                    <a:pt x="24" y="400"/>
                  </a:lnTo>
                  <a:lnTo>
                    <a:pt x="39" y="376"/>
                  </a:lnTo>
                  <a:lnTo>
                    <a:pt x="0" y="365"/>
                  </a:lnTo>
                  <a:lnTo>
                    <a:pt x="0" y="324"/>
                  </a:lnTo>
                  <a:lnTo>
                    <a:pt x="24" y="289"/>
                  </a:lnTo>
                  <a:lnTo>
                    <a:pt x="70" y="289"/>
                  </a:lnTo>
                  <a:lnTo>
                    <a:pt x="92" y="259"/>
                  </a:lnTo>
                  <a:lnTo>
                    <a:pt x="28" y="264"/>
                  </a:lnTo>
                  <a:lnTo>
                    <a:pt x="7" y="233"/>
                  </a:lnTo>
                  <a:lnTo>
                    <a:pt x="60" y="208"/>
                  </a:lnTo>
                  <a:lnTo>
                    <a:pt x="112" y="208"/>
                  </a:lnTo>
                  <a:lnTo>
                    <a:pt x="75" y="193"/>
                  </a:lnTo>
                  <a:lnTo>
                    <a:pt x="56" y="157"/>
                  </a:lnTo>
                  <a:lnTo>
                    <a:pt x="227" y="80"/>
                  </a:lnTo>
                  <a:lnTo>
                    <a:pt x="482" y="142"/>
                  </a:lnTo>
                  <a:lnTo>
                    <a:pt x="608" y="96"/>
                  </a:lnTo>
                  <a:lnTo>
                    <a:pt x="770" y="136"/>
                  </a:lnTo>
                  <a:lnTo>
                    <a:pt x="764" y="162"/>
                  </a:lnTo>
                  <a:lnTo>
                    <a:pt x="865" y="181"/>
                  </a:lnTo>
                  <a:lnTo>
                    <a:pt x="896" y="142"/>
                  </a:lnTo>
                  <a:lnTo>
                    <a:pt x="936" y="166"/>
                  </a:lnTo>
                  <a:lnTo>
                    <a:pt x="1004" y="172"/>
                  </a:lnTo>
                  <a:lnTo>
                    <a:pt x="1014" y="153"/>
                  </a:lnTo>
                  <a:lnTo>
                    <a:pt x="995" y="136"/>
                  </a:lnTo>
                  <a:lnTo>
                    <a:pt x="1021" y="116"/>
                  </a:lnTo>
                  <a:lnTo>
                    <a:pt x="1031" y="142"/>
                  </a:lnTo>
                  <a:lnTo>
                    <a:pt x="1021" y="153"/>
                  </a:lnTo>
                  <a:lnTo>
                    <a:pt x="1042" y="181"/>
                  </a:lnTo>
                  <a:lnTo>
                    <a:pt x="1068" y="153"/>
                  </a:lnTo>
                  <a:lnTo>
                    <a:pt x="1046" y="96"/>
                  </a:lnTo>
                  <a:lnTo>
                    <a:pt x="1068" y="65"/>
                  </a:lnTo>
                  <a:lnTo>
                    <a:pt x="1085" y="0"/>
                  </a:lnTo>
                  <a:lnTo>
                    <a:pt x="1145" y="0"/>
                  </a:lnTo>
                  <a:lnTo>
                    <a:pt x="1120" y="29"/>
                  </a:lnTo>
                  <a:lnTo>
                    <a:pt x="1087" y="29"/>
                  </a:lnTo>
                  <a:lnTo>
                    <a:pt x="1098" y="40"/>
                  </a:lnTo>
                  <a:lnTo>
                    <a:pt x="1087" y="60"/>
                  </a:lnTo>
                  <a:lnTo>
                    <a:pt x="1093" y="116"/>
                  </a:lnTo>
                  <a:lnTo>
                    <a:pt x="1125" y="157"/>
                  </a:lnTo>
                  <a:lnTo>
                    <a:pt x="1140" y="126"/>
                  </a:lnTo>
                  <a:lnTo>
                    <a:pt x="1151" y="181"/>
                  </a:lnTo>
                  <a:lnTo>
                    <a:pt x="1197" y="116"/>
                  </a:lnTo>
                  <a:lnTo>
                    <a:pt x="1250" y="136"/>
                  </a:lnTo>
                  <a:lnTo>
                    <a:pt x="1223" y="188"/>
                  </a:lnTo>
                  <a:lnTo>
                    <a:pt x="1166" y="198"/>
                  </a:lnTo>
                  <a:lnTo>
                    <a:pt x="1130" y="254"/>
                  </a:lnTo>
                  <a:lnTo>
                    <a:pt x="1085" y="274"/>
                  </a:lnTo>
                  <a:lnTo>
                    <a:pt x="1021" y="335"/>
                  </a:lnTo>
                  <a:lnTo>
                    <a:pt x="1014" y="416"/>
                  </a:lnTo>
                  <a:lnTo>
                    <a:pt x="1145" y="478"/>
                  </a:lnTo>
                  <a:lnTo>
                    <a:pt x="1166" y="467"/>
                  </a:lnTo>
                  <a:lnTo>
                    <a:pt x="1166" y="533"/>
                  </a:lnTo>
                  <a:lnTo>
                    <a:pt x="1209" y="554"/>
                  </a:lnTo>
                  <a:lnTo>
                    <a:pt x="1203" y="487"/>
                  </a:lnTo>
                  <a:lnTo>
                    <a:pt x="1260" y="416"/>
                  </a:lnTo>
                  <a:lnTo>
                    <a:pt x="1240" y="391"/>
                  </a:lnTo>
                  <a:lnTo>
                    <a:pt x="1266" y="299"/>
                  </a:lnTo>
                  <a:lnTo>
                    <a:pt x="1323" y="289"/>
                  </a:lnTo>
                  <a:lnTo>
                    <a:pt x="1376" y="335"/>
                  </a:lnTo>
                  <a:lnTo>
                    <a:pt x="1368" y="386"/>
                  </a:lnTo>
                  <a:lnTo>
                    <a:pt x="1395" y="400"/>
                  </a:lnTo>
                  <a:lnTo>
                    <a:pt x="1428" y="386"/>
                  </a:lnTo>
                  <a:lnTo>
                    <a:pt x="1437" y="350"/>
                  </a:lnTo>
                  <a:lnTo>
                    <a:pt x="1479" y="416"/>
                  </a:lnTo>
                  <a:lnTo>
                    <a:pt x="1479" y="452"/>
                  </a:lnTo>
                  <a:lnTo>
                    <a:pt x="1543" y="493"/>
                  </a:lnTo>
                  <a:lnTo>
                    <a:pt x="1553" y="533"/>
                  </a:lnTo>
                  <a:lnTo>
                    <a:pt x="1532" y="589"/>
                  </a:lnTo>
                  <a:lnTo>
                    <a:pt x="1578" y="605"/>
                  </a:lnTo>
                  <a:lnTo>
                    <a:pt x="1578" y="655"/>
                  </a:lnTo>
                  <a:lnTo>
                    <a:pt x="1543" y="655"/>
                  </a:lnTo>
                  <a:lnTo>
                    <a:pt x="1490" y="635"/>
                  </a:lnTo>
                  <a:lnTo>
                    <a:pt x="1527" y="565"/>
                  </a:lnTo>
                  <a:lnTo>
                    <a:pt x="1479" y="584"/>
                  </a:lnTo>
                  <a:lnTo>
                    <a:pt x="1422" y="569"/>
                  </a:lnTo>
                  <a:lnTo>
                    <a:pt x="1368" y="584"/>
                  </a:lnTo>
                  <a:lnTo>
                    <a:pt x="1350" y="631"/>
                  </a:lnTo>
                  <a:lnTo>
                    <a:pt x="1428" y="610"/>
                  </a:lnTo>
                  <a:lnTo>
                    <a:pt x="1410" y="671"/>
                  </a:lnTo>
                  <a:lnTo>
                    <a:pt x="1475" y="655"/>
                  </a:lnTo>
                  <a:lnTo>
                    <a:pt x="1475" y="676"/>
                  </a:lnTo>
                  <a:lnTo>
                    <a:pt x="1395" y="721"/>
                  </a:lnTo>
                  <a:lnTo>
                    <a:pt x="1417" y="690"/>
                  </a:lnTo>
                  <a:lnTo>
                    <a:pt x="1385" y="690"/>
                  </a:lnTo>
                  <a:lnTo>
                    <a:pt x="1301" y="737"/>
                  </a:lnTo>
                  <a:lnTo>
                    <a:pt x="1298" y="757"/>
                  </a:lnTo>
                  <a:lnTo>
                    <a:pt x="1318" y="763"/>
                  </a:lnTo>
                  <a:lnTo>
                    <a:pt x="1323" y="748"/>
                  </a:lnTo>
                  <a:lnTo>
                    <a:pt x="1323" y="763"/>
                  </a:lnTo>
                  <a:lnTo>
                    <a:pt x="1318" y="773"/>
                  </a:lnTo>
                  <a:lnTo>
                    <a:pt x="1292" y="773"/>
                  </a:lnTo>
                  <a:lnTo>
                    <a:pt x="1255" y="787"/>
                  </a:lnTo>
                  <a:lnTo>
                    <a:pt x="1213" y="859"/>
                  </a:lnTo>
                  <a:lnTo>
                    <a:pt x="1220" y="890"/>
                  </a:lnTo>
                  <a:lnTo>
                    <a:pt x="1172" y="925"/>
                  </a:lnTo>
                  <a:lnTo>
                    <a:pt x="1120" y="986"/>
                  </a:lnTo>
                  <a:lnTo>
                    <a:pt x="1136" y="1074"/>
                  </a:lnTo>
                  <a:lnTo>
                    <a:pt x="1120" y="1093"/>
                  </a:lnTo>
                  <a:lnTo>
                    <a:pt x="1093" y="1042"/>
                  </a:lnTo>
                  <a:lnTo>
                    <a:pt x="1085" y="1002"/>
                  </a:lnTo>
                  <a:lnTo>
                    <a:pt x="978" y="986"/>
                  </a:lnTo>
                  <a:lnTo>
                    <a:pt x="995" y="1007"/>
                  </a:lnTo>
                  <a:lnTo>
                    <a:pt x="915" y="1007"/>
                  </a:lnTo>
                  <a:lnTo>
                    <a:pt x="869" y="1042"/>
                  </a:lnTo>
                  <a:lnTo>
                    <a:pt x="859" y="1129"/>
                  </a:lnTo>
                  <a:lnTo>
                    <a:pt x="874" y="1195"/>
                  </a:lnTo>
                  <a:lnTo>
                    <a:pt x="948" y="1199"/>
                  </a:lnTo>
                  <a:lnTo>
                    <a:pt x="968" y="1164"/>
                  </a:lnTo>
                  <a:lnTo>
                    <a:pt x="1031" y="1159"/>
                  </a:lnTo>
                  <a:lnTo>
                    <a:pt x="995" y="1257"/>
                  </a:lnTo>
                  <a:lnTo>
                    <a:pt x="1068" y="1262"/>
                  </a:lnTo>
                  <a:lnTo>
                    <a:pt x="1068" y="1338"/>
                  </a:lnTo>
                  <a:lnTo>
                    <a:pt x="1103" y="1378"/>
                  </a:lnTo>
                  <a:lnTo>
                    <a:pt x="1140" y="1374"/>
                  </a:lnTo>
                  <a:lnTo>
                    <a:pt x="1166" y="1393"/>
                  </a:lnTo>
                  <a:lnTo>
                    <a:pt x="1193" y="1347"/>
                  </a:lnTo>
                  <a:lnTo>
                    <a:pt x="1260" y="1317"/>
                  </a:lnTo>
                  <a:lnTo>
                    <a:pt x="1391" y="1347"/>
                  </a:lnTo>
                  <a:lnTo>
                    <a:pt x="1553" y="1445"/>
                  </a:lnTo>
                  <a:lnTo>
                    <a:pt x="1595" y="1516"/>
                  </a:lnTo>
                  <a:lnTo>
                    <a:pt x="1569" y="1557"/>
                  </a:lnTo>
                  <a:lnTo>
                    <a:pt x="1600" y="1541"/>
                  </a:lnTo>
                  <a:lnTo>
                    <a:pt x="1825" y="1629"/>
                  </a:lnTo>
                  <a:lnTo>
                    <a:pt x="1847" y="1679"/>
                  </a:lnTo>
                  <a:lnTo>
                    <a:pt x="1777" y="1771"/>
                  </a:lnTo>
                  <a:lnTo>
                    <a:pt x="1757" y="1902"/>
                  </a:lnTo>
                  <a:lnTo>
                    <a:pt x="1718" y="1954"/>
                  </a:lnTo>
                  <a:lnTo>
                    <a:pt x="1682" y="1954"/>
                  </a:lnTo>
                  <a:lnTo>
                    <a:pt x="1620" y="2009"/>
                  </a:lnTo>
                  <a:lnTo>
                    <a:pt x="1620" y="2055"/>
                  </a:lnTo>
                  <a:lnTo>
                    <a:pt x="1546" y="2182"/>
                  </a:lnTo>
                  <a:lnTo>
                    <a:pt x="1490" y="2168"/>
                  </a:lnTo>
                  <a:lnTo>
                    <a:pt x="1521" y="2208"/>
                  </a:lnTo>
                  <a:lnTo>
                    <a:pt x="1490" y="2254"/>
                  </a:lnTo>
                  <a:lnTo>
                    <a:pt x="1448" y="2254"/>
                  </a:lnTo>
                  <a:lnTo>
                    <a:pt x="1437" y="2285"/>
                  </a:lnTo>
                  <a:lnTo>
                    <a:pt x="1401" y="2315"/>
                  </a:lnTo>
                  <a:lnTo>
                    <a:pt x="1422" y="2326"/>
                  </a:lnTo>
                  <a:lnTo>
                    <a:pt x="1408" y="2372"/>
                  </a:lnTo>
                  <a:lnTo>
                    <a:pt x="1382" y="2387"/>
                  </a:lnTo>
                  <a:lnTo>
                    <a:pt x="1401" y="2442"/>
                  </a:lnTo>
                  <a:lnTo>
                    <a:pt x="1368" y="2508"/>
                  </a:lnTo>
                  <a:lnTo>
                    <a:pt x="1401" y="2569"/>
                  </a:lnTo>
                  <a:lnTo>
                    <a:pt x="1422" y="2584"/>
                  </a:lnTo>
                  <a:lnTo>
                    <a:pt x="1448" y="2584"/>
                  </a:lnTo>
                  <a:lnTo>
                    <a:pt x="1408" y="2599"/>
                  </a:lnTo>
                  <a:lnTo>
                    <a:pt x="1368" y="2607"/>
                  </a:lnTo>
                  <a:lnTo>
                    <a:pt x="1323" y="2569"/>
                  </a:lnTo>
                  <a:lnTo>
                    <a:pt x="1298" y="2534"/>
                  </a:lnTo>
                  <a:lnTo>
                    <a:pt x="1266" y="2406"/>
                  </a:lnTo>
                  <a:lnTo>
                    <a:pt x="1281" y="2401"/>
                  </a:lnTo>
                  <a:lnTo>
                    <a:pt x="1298" y="2336"/>
                  </a:lnTo>
                  <a:lnTo>
                    <a:pt x="1275" y="2315"/>
                  </a:lnTo>
                  <a:lnTo>
                    <a:pt x="1260" y="2234"/>
                  </a:lnTo>
                  <a:lnTo>
                    <a:pt x="1287" y="2182"/>
                  </a:lnTo>
                  <a:lnTo>
                    <a:pt x="1275" y="1873"/>
                  </a:lnTo>
                  <a:lnTo>
                    <a:pt x="1187" y="1806"/>
                  </a:lnTo>
                  <a:lnTo>
                    <a:pt x="1172" y="1760"/>
                  </a:lnTo>
                  <a:lnTo>
                    <a:pt x="1111" y="1679"/>
                  </a:lnTo>
                  <a:lnTo>
                    <a:pt x="1098" y="1618"/>
                  </a:lnTo>
                  <a:lnTo>
                    <a:pt x="1111" y="1607"/>
                  </a:lnTo>
                  <a:lnTo>
                    <a:pt x="1103" y="1552"/>
                  </a:lnTo>
                  <a:lnTo>
                    <a:pt x="1151" y="1491"/>
                  </a:lnTo>
                  <a:lnTo>
                    <a:pt x="1156" y="1409"/>
                  </a:lnTo>
                  <a:lnTo>
                    <a:pt x="1136" y="13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8560" y="1947240"/>
              <a:ext cx="3213360" cy="2516400"/>
            </a:xfrm>
            <a:custGeom>
              <a:avLst/>
              <a:gdLst/>
              <a:ahLst/>
              <a:rect l="l" t="t" r="r" b="b"/>
              <a:pathLst>
                <a:path w="2922" h="2290">
                  <a:moveTo>
                    <a:pt x="766" y="1113"/>
                  </a:moveTo>
                  <a:lnTo>
                    <a:pt x="834" y="1244"/>
                  </a:lnTo>
                  <a:lnTo>
                    <a:pt x="850" y="1260"/>
                  </a:lnTo>
                  <a:lnTo>
                    <a:pt x="855" y="1311"/>
                  </a:lnTo>
                  <a:lnTo>
                    <a:pt x="975" y="1463"/>
                  </a:lnTo>
                  <a:lnTo>
                    <a:pt x="1080" y="1444"/>
                  </a:lnTo>
                  <a:lnTo>
                    <a:pt x="1054" y="1545"/>
                  </a:lnTo>
                  <a:lnTo>
                    <a:pt x="902" y="1758"/>
                  </a:lnTo>
                  <a:lnTo>
                    <a:pt x="918" y="1926"/>
                  </a:lnTo>
                  <a:lnTo>
                    <a:pt x="828" y="2012"/>
                  </a:lnTo>
                  <a:lnTo>
                    <a:pt x="834" y="2094"/>
                  </a:lnTo>
                  <a:lnTo>
                    <a:pt x="793" y="2120"/>
                  </a:lnTo>
                  <a:lnTo>
                    <a:pt x="714" y="2262"/>
                  </a:lnTo>
                  <a:lnTo>
                    <a:pt x="583" y="2289"/>
                  </a:lnTo>
                  <a:lnTo>
                    <a:pt x="509" y="2135"/>
                  </a:lnTo>
                  <a:lnTo>
                    <a:pt x="464" y="1952"/>
                  </a:lnTo>
                  <a:lnTo>
                    <a:pt x="493" y="1856"/>
                  </a:lnTo>
                  <a:lnTo>
                    <a:pt x="425" y="1697"/>
                  </a:lnTo>
                  <a:lnTo>
                    <a:pt x="410" y="1569"/>
                  </a:lnTo>
                  <a:lnTo>
                    <a:pt x="364" y="1569"/>
                  </a:lnTo>
                  <a:lnTo>
                    <a:pt x="343" y="1545"/>
                  </a:lnTo>
                  <a:lnTo>
                    <a:pt x="144" y="1576"/>
                  </a:lnTo>
                  <a:lnTo>
                    <a:pt x="7" y="1437"/>
                  </a:lnTo>
                  <a:lnTo>
                    <a:pt x="0" y="1284"/>
                  </a:lnTo>
                  <a:lnTo>
                    <a:pt x="117" y="1061"/>
                  </a:lnTo>
                  <a:lnTo>
                    <a:pt x="186" y="1006"/>
                  </a:lnTo>
                  <a:lnTo>
                    <a:pt x="433" y="975"/>
                  </a:lnTo>
                  <a:lnTo>
                    <a:pt x="421" y="1037"/>
                  </a:lnTo>
                  <a:lnTo>
                    <a:pt x="568" y="1108"/>
                  </a:lnTo>
                  <a:lnTo>
                    <a:pt x="578" y="1072"/>
                  </a:lnTo>
                  <a:lnTo>
                    <a:pt x="802" y="1082"/>
                  </a:lnTo>
                  <a:lnTo>
                    <a:pt x="819" y="990"/>
                  </a:lnTo>
                  <a:lnTo>
                    <a:pt x="704" y="975"/>
                  </a:lnTo>
                  <a:lnTo>
                    <a:pt x="698" y="908"/>
                  </a:lnTo>
                  <a:lnTo>
                    <a:pt x="756" y="872"/>
                  </a:lnTo>
                  <a:lnTo>
                    <a:pt x="896" y="889"/>
                  </a:lnTo>
                  <a:lnTo>
                    <a:pt x="834" y="811"/>
                  </a:lnTo>
                  <a:lnTo>
                    <a:pt x="850" y="766"/>
                  </a:lnTo>
                  <a:lnTo>
                    <a:pt x="793" y="782"/>
                  </a:lnTo>
                  <a:lnTo>
                    <a:pt x="802" y="802"/>
                  </a:lnTo>
                  <a:lnTo>
                    <a:pt x="766" y="822"/>
                  </a:lnTo>
                  <a:lnTo>
                    <a:pt x="750" y="771"/>
                  </a:lnTo>
                  <a:lnTo>
                    <a:pt x="723" y="782"/>
                  </a:lnTo>
                  <a:lnTo>
                    <a:pt x="698" y="894"/>
                  </a:lnTo>
                  <a:lnTo>
                    <a:pt x="609" y="904"/>
                  </a:lnTo>
                  <a:lnTo>
                    <a:pt x="625" y="954"/>
                  </a:lnTo>
                  <a:lnTo>
                    <a:pt x="609" y="990"/>
                  </a:lnTo>
                  <a:lnTo>
                    <a:pt x="552" y="868"/>
                  </a:lnTo>
                  <a:lnTo>
                    <a:pt x="464" y="792"/>
                  </a:lnTo>
                  <a:lnTo>
                    <a:pt x="452" y="827"/>
                  </a:lnTo>
                  <a:lnTo>
                    <a:pt x="536" y="913"/>
                  </a:lnTo>
                  <a:lnTo>
                    <a:pt x="515" y="913"/>
                  </a:lnTo>
                  <a:lnTo>
                    <a:pt x="499" y="950"/>
                  </a:lnTo>
                  <a:lnTo>
                    <a:pt x="499" y="913"/>
                  </a:lnTo>
                  <a:lnTo>
                    <a:pt x="406" y="833"/>
                  </a:lnTo>
                  <a:lnTo>
                    <a:pt x="259" y="929"/>
                  </a:lnTo>
                  <a:lnTo>
                    <a:pt x="234" y="980"/>
                  </a:lnTo>
                  <a:lnTo>
                    <a:pt x="149" y="980"/>
                  </a:lnTo>
                  <a:lnTo>
                    <a:pt x="117" y="939"/>
                  </a:lnTo>
                  <a:lnTo>
                    <a:pt x="135" y="853"/>
                  </a:lnTo>
                  <a:lnTo>
                    <a:pt x="234" y="842"/>
                  </a:lnTo>
                  <a:lnTo>
                    <a:pt x="238" y="787"/>
                  </a:lnTo>
                  <a:lnTo>
                    <a:pt x="195" y="741"/>
                  </a:lnTo>
                  <a:lnTo>
                    <a:pt x="327" y="674"/>
                  </a:lnTo>
                  <a:lnTo>
                    <a:pt x="390" y="618"/>
                  </a:lnTo>
                  <a:lnTo>
                    <a:pt x="380" y="563"/>
                  </a:lnTo>
                  <a:lnTo>
                    <a:pt x="410" y="552"/>
                  </a:lnTo>
                  <a:lnTo>
                    <a:pt x="410" y="608"/>
                  </a:lnTo>
                  <a:lnTo>
                    <a:pt x="568" y="594"/>
                  </a:lnTo>
                  <a:lnTo>
                    <a:pt x="573" y="542"/>
                  </a:lnTo>
                  <a:lnTo>
                    <a:pt x="609" y="547"/>
                  </a:lnTo>
                  <a:lnTo>
                    <a:pt x="687" y="482"/>
                  </a:lnTo>
                  <a:lnTo>
                    <a:pt x="573" y="471"/>
                  </a:lnTo>
                  <a:lnTo>
                    <a:pt x="614" y="359"/>
                  </a:lnTo>
                  <a:lnTo>
                    <a:pt x="568" y="329"/>
                  </a:lnTo>
                  <a:lnTo>
                    <a:pt x="490" y="573"/>
                  </a:lnTo>
                  <a:lnTo>
                    <a:pt x="457" y="583"/>
                  </a:lnTo>
                  <a:lnTo>
                    <a:pt x="421" y="486"/>
                  </a:lnTo>
                  <a:lnTo>
                    <a:pt x="354" y="522"/>
                  </a:lnTo>
                  <a:lnTo>
                    <a:pt x="331" y="451"/>
                  </a:lnTo>
                  <a:lnTo>
                    <a:pt x="515" y="228"/>
                  </a:lnTo>
                  <a:lnTo>
                    <a:pt x="631" y="192"/>
                  </a:lnTo>
                  <a:lnTo>
                    <a:pt x="823" y="283"/>
                  </a:lnTo>
                  <a:lnTo>
                    <a:pt x="787" y="319"/>
                  </a:lnTo>
                  <a:lnTo>
                    <a:pt x="723" y="303"/>
                  </a:lnTo>
                  <a:lnTo>
                    <a:pt x="793" y="385"/>
                  </a:lnTo>
                  <a:lnTo>
                    <a:pt x="877" y="313"/>
                  </a:lnTo>
                  <a:lnTo>
                    <a:pt x="870" y="257"/>
                  </a:lnTo>
                  <a:lnTo>
                    <a:pt x="908" y="274"/>
                  </a:lnTo>
                  <a:lnTo>
                    <a:pt x="908" y="298"/>
                  </a:lnTo>
                  <a:lnTo>
                    <a:pt x="1100" y="252"/>
                  </a:lnTo>
                  <a:lnTo>
                    <a:pt x="1070" y="211"/>
                  </a:lnTo>
                  <a:lnTo>
                    <a:pt x="1210" y="263"/>
                  </a:lnTo>
                  <a:lnTo>
                    <a:pt x="1205" y="136"/>
                  </a:lnTo>
                  <a:lnTo>
                    <a:pt x="1246" y="136"/>
                  </a:lnTo>
                  <a:lnTo>
                    <a:pt x="1246" y="176"/>
                  </a:lnTo>
                  <a:lnTo>
                    <a:pt x="1284" y="263"/>
                  </a:lnTo>
                  <a:lnTo>
                    <a:pt x="1252" y="313"/>
                  </a:lnTo>
                  <a:lnTo>
                    <a:pt x="1304" y="293"/>
                  </a:lnTo>
                  <a:lnTo>
                    <a:pt x="1304" y="257"/>
                  </a:lnTo>
                  <a:lnTo>
                    <a:pt x="1341" y="267"/>
                  </a:lnTo>
                  <a:lnTo>
                    <a:pt x="1346" y="252"/>
                  </a:lnTo>
                  <a:lnTo>
                    <a:pt x="1289" y="216"/>
                  </a:lnTo>
                  <a:lnTo>
                    <a:pt x="1272" y="125"/>
                  </a:lnTo>
                  <a:lnTo>
                    <a:pt x="1407" y="197"/>
                  </a:lnTo>
                  <a:lnTo>
                    <a:pt x="1356" y="121"/>
                  </a:lnTo>
                  <a:lnTo>
                    <a:pt x="1628" y="0"/>
                  </a:lnTo>
                  <a:lnTo>
                    <a:pt x="1775" y="49"/>
                  </a:lnTo>
                  <a:lnTo>
                    <a:pt x="1742" y="95"/>
                  </a:lnTo>
                  <a:lnTo>
                    <a:pt x="2020" y="125"/>
                  </a:lnTo>
                  <a:lnTo>
                    <a:pt x="2025" y="156"/>
                  </a:lnTo>
                  <a:lnTo>
                    <a:pt x="2182" y="161"/>
                  </a:lnTo>
                  <a:lnTo>
                    <a:pt x="2194" y="125"/>
                  </a:lnTo>
                  <a:lnTo>
                    <a:pt x="2443" y="187"/>
                  </a:lnTo>
                  <a:lnTo>
                    <a:pt x="2496" y="222"/>
                  </a:lnTo>
                  <a:lnTo>
                    <a:pt x="2684" y="201"/>
                  </a:lnTo>
                  <a:lnTo>
                    <a:pt x="2921" y="293"/>
                  </a:lnTo>
                  <a:lnTo>
                    <a:pt x="2914" y="349"/>
                  </a:lnTo>
                  <a:lnTo>
                    <a:pt x="2806" y="319"/>
                  </a:lnTo>
                  <a:lnTo>
                    <a:pt x="2773" y="344"/>
                  </a:lnTo>
                  <a:lnTo>
                    <a:pt x="2819" y="390"/>
                  </a:lnTo>
                  <a:lnTo>
                    <a:pt x="2779" y="395"/>
                  </a:lnTo>
                  <a:lnTo>
                    <a:pt x="2721" y="451"/>
                  </a:lnTo>
                  <a:lnTo>
                    <a:pt x="2627" y="462"/>
                  </a:lnTo>
                  <a:lnTo>
                    <a:pt x="2617" y="497"/>
                  </a:lnTo>
                  <a:lnTo>
                    <a:pt x="2647" y="542"/>
                  </a:lnTo>
                  <a:lnTo>
                    <a:pt x="2627" y="614"/>
                  </a:lnTo>
                  <a:lnTo>
                    <a:pt x="2605" y="618"/>
                  </a:lnTo>
                  <a:lnTo>
                    <a:pt x="2580" y="654"/>
                  </a:lnTo>
                  <a:lnTo>
                    <a:pt x="2537" y="559"/>
                  </a:lnTo>
                  <a:lnTo>
                    <a:pt x="2542" y="507"/>
                  </a:lnTo>
                  <a:lnTo>
                    <a:pt x="2627" y="399"/>
                  </a:lnTo>
                  <a:lnTo>
                    <a:pt x="2601" y="395"/>
                  </a:lnTo>
                  <a:lnTo>
                    <a:pt x="2564" y="435"/>
                  </a:lnTo>
                  <a:lnTo>
                    <a:pt x="2553" y="420"/>
                  </a:lnTo>
                  <a:lnTo>
                    <a:pt x="2517" y="420"/>
                  </a:lnTo>
                  <a:lnTo>
                    <a:pt x="2496" y="446"/>
                  </a:lnTo>
                  <a:lnTo>
                    <a:pt x="2502" y="476"/>
                  </a:lnTo>
                  <a:lnTo>
                    <a:pt x="2465" y="482"/>
                  </a:lnTo>
                  <a:lnTo>
                    <a:pt x="2402" y="471"/>
                  </a:lnTo>
                  <a:lnTo>
                    <a:pt x="2319" y="482"/>
                  </a:lnTo>
                  <a:lnTo>
                    <a:pt x="2256" y="583"/>
                  </a:lnTo>
                  <a:lnTo>
                    <a:pt x="2355" y="634"/>
                  </a:lnTo>
                  <a:lnTo>
                    <a:pt x="2366" y="710"/>
                  </a:lnTo>
                  <a:lnTo>
                    <a:pt x="2308" y="822"/>
                  </a:lnTo>
                  <a:lnTo>
                    <a:pt x="2267" y="833"/>
                  </a:lnTo>
                  <a:lnTo>
                    <a:pt x="2208" y="913"/>
                  </a:lnTo>
                  <a:lnTo>
                    <a:pt x="2244" y="935"/>
                  </a:lnTo>
                  <a:lnTo>
                    <a:pt x="2256" y="980"/>
                  </a:lnTo>
                  <a:lnTo>
                    <a:pt x="2244" y="1001"/>
                  </a:lnTo>
                  <a:lnTo>
                    <a:pt x="2220" y="1010"/>
                  </a:lnTo>
                  <a:lnTo>
                    <a:pt x="2198" y="944"/>
                  </a:lnTo>
                  <a:lnTo>
                    <a:pt x="2177" y="904"/>
                  </a:lnTo>
                  <a:lnTo>
                    <a:pt x="2109" y="889"/>
                  </a:lnTo>
                  <a:lnTo>
                    <a:pt x="2066" y="929"/>
                  </a:lnTo>
                  <a:lnTo>
                    <a:pt x="2146" y="944"/>
                  </a:lnTo>
                  <a:lnTo>
                    <a:pt x="2125" y="1016"/>
                  </a:lnTo>
                  <a:lnTo>
                    <a:pt x="2168" y="1096"/>
                  </a:lnTo>
                  <a:lnTo>
                    <a:pt x="2093" y="1225"/>
                  </a:lnTo>
                  <a:lnTo>
                    <a:pt x="2010" y="1256"/>
                  </a:lnTo>
                  <a:lnTo>
                    <a:pt x="1999" y="1284"/>
                  </a:lnTo>
                  <a:lnTo>
                    <a:pt x="1989" y="1256"/>
                  </a:lnTo>
                  <a:lnTo>
                    <a:pt x="1936" y="1315"/>
                  </a:lnTo>
                  <a:lnTo>
                    <a:pt x="1989" y="1367"/>
                  </a:lnTo>
                  <a:lnTo>
                    <a:pt x="1999" y="1413"/>
                  </a:lnTo>
                  <a:lnTo>
                    <a:pt x="1931" y="1479"/>
                  </a:lnTo>
                  <a:lnTo>
                    <a:pt x="1931" y="1453"/>
                  </a:lnTo>
                  <a:lnTo>
                    <a:pt x="1864" y="1392"/>
                  </a:lnTo>
                  <a:lnTo>
                    <a:pt x="1847" y="1463"/>
                  </a:lnTo>
                  <a:lnTo>
                    <a:pt x="1911" y="1549"/>
                  </a:lnTo>
                  <a:lnTo>
                    <a:pt x="1927" y="1611"/>
                  </a:lnTo>
                  <a:lnTo>
                    <a:pt x="1885" y="1585"/>
                  </a:lnTo>
                  <a:lnTo>
                    <a:pt x="1827" y="1489"/>
                  </a:lnTo>
                  <a:lnTo>
                    <a:pt x="1800" y="1342"/>
                  </a:lnTo>
                  <a:lnTo>
                    <a:pt x="1758" y="1361"/>
                  </a:lnTo>
                  <a:lnTo>
                    <a:pt x="1697" y="1234"/>
                  </a:lnTo>
                  <a:lnTo>
                    <a:pt x="1634" y="1260"/>
                  </a:lnTo>
                  <a:lnTo>
                    <a:pt x="1529" y="1377"/>
                  </a:lnTo>
                  <a:lnTo>
                    <a:pt x="1529" y="1444"/>
                  </a:lnTo>
                  <a:lnTo>
                    <a:pt x="1492" y="1489"/>
                  </a:lnTo>
                  <a:lnTo>
                    <a:pt x="1450" y="1392"/>
                  </a:lnTo>
                  <a:lnTo>
                    <a:pt x="1425" y="1361"/>
                  </a:lnTo>
                  <a:lnTo>
                    <a:pt x="1399" y="1260"/>
                  </a:lnTo>
                  <a:lnTo>
                    <a:pt x="1368" y="1260"/>
                  </a:lnTo>
                  <a:lnTo>
                    <a:pt x="1309" y="1189"/>
                  </a:lnTo>
                  <a:lnTo>
                    <a:pt x="1169" y="1183"/>
                  </a:lnTo>
                  <a:lnTo>
                    <a:pt x="1148" y="1153"/>
                  </a:lnTo>
                  <a:lnTo>
                    <a:pt x="1131" y="1163"/>
                  </a:lnTo>
                  <a:lnTo>
                    <a:pt x="1028" y="1108"/>
                  </a:lnTo>
                  <a:lnTo>
                    <a:pt x="1091" y="1219"/>
                  </a:lnTo>
                  <a:lnTo>
                    <a:pt x="1148" y="1183"/>
                  </a:lnTo>
                  <a:lnTo>
                    <a:pt x="1169" y="1219"/>
                  </a:lnTo>
                  <a:lnTo>
                    <a:pt x="1210" y="1260"/>
                  </a:lnTo>
                  <a:lnTo>
                    <a:pt x="1117" y="1342"/>
                  </a:lnTo>
                  <a:lnTo>
                    <a:pt x="1095" y="1377"/>
                  </a:lnTo>
                  <a:lnTo>
                    <a:pt x="964" y="1417"/>
                  </a:lnTo>
                  <a:lnTo>
                    <a:pt x="877" y="1225"/>
                  </a:lnTo>
                  <a:lnTo>
                    <a:pt x="860" y="1214"/>
                  </a:lnTo>
                  <a:lnTo>
                    <a:pt x="819" y="1118"/>
                  </a:lnTo>
                  <a:lnTo>
                    <a:pt x="797" y="1142"/>
                  </a:lnTo>
                  <a:lnTo>
                    <a:pt x="766" y="11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5880" y="2052720"/>
              <a:ext cx="48240" cy="327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29"/>
                  </a:moveTo>
                  <a:lnTo>
                    <a:pt x="3" y="18"/>
                  </a:lnTo>
                  <a:lnTo>
                    <a:pt x="19" y="8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0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2520" y="2297520"/>
              <a:ext cx="170280" cy="979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14" y="45"/>
                  </a:moveTo>
                  <a:lnTo>
                    <a:pt x="20" y="45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3" y="30"/>
                  </a:lnTo>
                  <a:lnTo>
                    <a:pt x="0" y="19"/>
                  </a:lnTo>
                  <a:lnTo>
                    <a:pt x="8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41" y="9"/>
                  </a:lnTo>
                  <a:lnTo>
                    <a:pt x="46" y="19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56" y="9"/>
                  </a:lnTo>
                  <a:lnTo>
                    <a:pt x="83" y="9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47" y="19"/>
                  </a:lnTo>
                  <a:lnTo>
                    <a:pt x="154" y="24"/>
                  </a:lnTo>
                  <a:lnTo>
                    <a:pt x="154" y="45"/>
                  </a:lnTo>
                  <a:lnTo>
                    <a:pt x="141" y="51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89" y="81"/>
                  </a:lnTo>
                  <a:lnTo>
                    <a:pt x="77" y="88"/>
                  </a:lnTo>
                  <a:lnTo>
                    <a:pt x="46" y="71"/>
                  </a:lnTo>
                  <a:lnTo>
                    <a:pt x="24" y="71"/>
                  </a:lnTo>
                  <a:lnTo>
                    <a:pt x="20" y="51"/>
                  </a:lnTo>
                  <a:lnTo>
                    <a:pt x="14" y="4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4440" y="2343960"/>
              <a:ext cx="102240" cy="59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20" y="53"/>
                  </a:moveTo>
                  <a:lnTo>
                    <a:pt x="8" y="41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15" y="18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52" y="5"/>
                  </a:lnTo>
                  <a:lnTo>
                    <a:pt x="63" y="18"/>
                  </a:lnTo>
                  <a:lnTo>
                    <a:pt x="79" y="18"/>
                  </a:lnTo>
                  <a:lnTo>
                    <a:pt x="92" y="32"/>
                  </a:lnTo>
                  <a:lnTo>
                    <a:pt x="92" y="41"/>
                  </a:lnTo>
                  <a:lnTo>
                    <a:pt x="74" y="41"/>
                  </a:lnTo>
                  <a:lnTo>
                    <a:pt x="59" y="32"/>
                  </a:lnTo>
                  <a:lnTo>
                    <a:pt x="35" y="41"/>
                  </a:lnTo>
                  <a:lnTo>
                    <a:pt x="20" y="5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8320" y="2265480"/>
              <a:ext cx="30600" cy="273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3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7" y="13"/>
                  </a:lnTo>
                  <a:lnTo>
                    <a:pt x="21" y="24"/>
                  </a:lnTo>
                  <a:lnTo>
                    <a:pt x="7" y="24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2840" y="2098800"/>
              <a:ext cx="59040" cy="295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27" y="0"/>
                  </a:moveTo>
                  <a:lnTo>
                    <a:pt x="45" y="4"/>
                  </a:lnTo>
                  <a:lnTo>
                    <a:pt x="53" y="14"/>
                  </a:lnTo>
                  <a:lnTo>
                    <a:pt x="14" y="26"/>
                  </a:lnTo>
                  <a:lnTo>
                    <a:pt x="9" y="2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440" y="2084400"/>
              <a:ext cx="402480" cy="359280"/>
            </a:xfrm>
            <a:custGeom>
              <a:avLst/>
              <a:gdLst/>
              <a:ahLst/>
              <a:rect l="l" t="t" r="r" b="b"/>
              <a:pathLst>
                <a:path w="366" h="327">
                  <a:moveTo>
                    <a:pt x="76" y="10"/>
                  </a:moveTo>
                  <a:lnTo>
                    <a:pt x="60" y="14"/>
                  </a:lnTo>
                  <a:lnTo>
                    <a:pt x="50" y="33"/>
                  </a:lnTo>
                  <a:lnTo>
                    <a:pt x="50" y="56"/>
                  </a:lnTo>
                  <a:lnTo>
                    <a:pt x="60" y="69"/>
                  </a:lnTo>
                  <a:lnTo>
                    <a:pt x="66" y="69"/>
                  </a:lnTo>
                  <a:lnTo>
                    <a:pt x="73" y="49"/>
                  </a:lnTo>
                  <a:lnTo>
                    <a:pt x="73" y="33"/>
                  </a:lnTo>
                  <a:lnTo>
                    <a:pt x="83" y="20"/>
                  </a:lnTo>
                  <a:lnTo>
                    <a:pt x="108" y="10"/>
                  </a:lnTo>
                  <a:lnTo>
                    <a:pt x="123" y="10"/>
                  </a:lnTo>
                  <a:lnTo>
                    <a:pt x="134" y="40"/>
                  </a:lnTo>
                  <a:lnTo>
                    <a:pt x="129" y="49"/>
                  </a:lnTo>
                  <a:lnTo>
                    <a:pt x="150" y="49"/>
                  </a:lnTo>
                  <a:lnTo>
                    <a:pt x="181" y="33"/>
                  </a:lnTo>
                  <a:lnTo>
                    <a:pt x="202" y="45"/>
                  </a:lnTo>
                  <a:lnTo>
                    <a:pt x="212" y="49"/>
                  </a:lnTo>
                  <a:lnTo>
                    <a:pt x="223" y="65"/>
                  </a:lnTo>
                  <a:lnTo>
                    <a:pt x="243" y="60"/>
                  </a:lnTo>
                  <a:lnTo>
                    <a:pt x="250" y="60"/>
                  </a:lnTo>
                  <a:lnTo>
                    <a:pt x="259" y="69"/>
                  </a:lnTo>
                  <a:lnTo>
                    <a:pt x="259" y="76"/>
                  </a:lnTo>
                  <a:lnTo>
                    <a:pt x="296" y="95"/>
                  </a:lnTo>
                  <a:lnTo>
                    <a:pt x="306" y="112"/>
                  </a:lnTo>
                  <a:lnTo>
                    <a:pt x="306" y="136"/>
                  </a:lnTo>
                  <a:lnTo>
                    <a:pt x="296" y="140"/>
                  </a:lnTo>
                  <a:lnTo>
                    <a:pt x="296" y="152"/>
                  </a:lnTo>
                  <a:lnTo>
                    <a:pt x="306" y="157"/>
                  </a:lnTo>
                  <a:lnTo>
                    <a:pt x="333" y="162"/>
                  </a:lnTo>
                  <a:lnTo>
                    <a:pt x="336" y="167"/>
                  </a:lnTo>
                  <a:lnTo>
                    <a:pt x="348" y="187"/>
                  </a:lnTo>
                  <a:lnTo>
                    <a:pt x="365" y="193"/>
                  </a:lnTo>
                  <a:lnTo>
                    <a:pt x="365" y="212"/>
                  </a:lnTo>
                  <a:lnTo>
                    <a:pt x="348" y="219"/>
                  </a:lnTo>
                  <a:lnTo>
                    <a:pt x="336" y="219"/>
                  </a:lnTo>
                  <a:lnTo>
                    <a:pt x="333" y="228"/>
                  </a:lnTo>
                  <a:lnTo>
                    <a:pt x="316" y="212"/>
                  </a:lnTo>
                  <a:lnTo>
                    <a:pt x="296" y="208"/>
                  </a:lnTo>
                  <a:lnTo>
                    <a:pt x="286" y="203"/>
                  </a:lnTo>
                  <a:lnTo>
                    <a:pt x="290" y="212"/>
                  </a:lnTo>
                  <a:lnTo>
                    <a:pt x="279" y="223"/>
                  </a:lnTo>
                  <a:lnTo>
                    <a:pt x="286" y="243"/>
                  </a:lnTo>
                  <a:lnTo>
                    <a:pt x="311" y="259"/>
                  </a:lnTo>
                  <a:lnTo>
                    <a:pt x="316" y="268"/>
                  </a:lnTo>
                  <a:lnTo>
                    <a:pt x="311" y="278"/>
                  </a:lnTo>
                  <a:lnTo>
                    <a:pt x="306" y="291"/>
                  </a:lnTo>
                  <a:lnTo>
                    <a:pt x="296" y="291"/>
                  </a:lnTo>
                  <a:lnTo>
                    <a:pt x="270" y="283"/>
                  </a:lnTo>
                  <a:lnTo>
                    <a:pt x="275" y="300"/>
                  </a:lnTo>
                  <a:lnTo>
                    <a:pt x="286" y="310"/>
                  </a:lnTo>
                  <a:lnTo>
                    <a:pt x="290" y="326"/>
                  </a:lnTo>
                  <a:lnTo>
                    <a:pt x="279" y="319"/>
                  </a:lnTo>
                  <a:lnTo>
                    <a:pt x="253" y="310"/>
                  </a:lnTo>
                  <a:lnTo>
                    <a:pt x="223" y="304"/>
                  </a:lnTo>
                  <a:lnTo>
                    <a:pt x="212" y="295"/>
                  </a:lnTo>
                  <a:lnTo>
                    <a:pt x="193" y="264"/>
                  </a:lnTo>
                  <a:lnTo>
                    <a:pt x="185" y="259"/>
                  </a:lnTo>
                  <a:lnTo>
                    <a:pt x="144" y="259"/>
                  </a:lnTo>
                  <a:lnTo>
                    <a:pt x="138" y="248"/>
                  </a:lnTo>
                  <a:lnTo>
                    <a:pt x="138" y="239"/>
                  </a:lnTo>
                  <a:lnTo>
                    <a:pt x="150" y="243"/>
                  </a:lnTo>
                  <a:lnTo>
                    <a:pt x="169" y="239"/>
                  </a:lnTo>
                  <a:lnTo>
                    <a:pt x="193" y="228"/>
                  </a:lnTo>
                  <a:lnTo>
                    <a:pt x="193" y="212"/>
                  </a:lnTo>
                  <a:lnTo>
                    <a:pt x="196" y="203"/>
                  </a:lnTo>
                  <a:lnTo>
                    <a:pt x="217" y="193"/>
                  </a:lnTo>
                  <a:lnTo>
                    <a:pt x="217" y="172"/>
                  </a:lnTo>
                  <a:lnTo>
                    <a:pt x="212" y="152"/>
                  </a:lnTo>
                  <a:lnTo>
                    <a:pt x="207" y="140"/>
                  </a:lnTo>
                  <a:lnTo>
                    <a:pt x="176" y="131"/>
                  </a:lnTo>
                  <a:lnTo>
                    <a:pt x="154" y="112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29" y="116"/>
                  </a:lnTo>
                  <a:lnTo>
                    <a:pt x="113" y="112"/>
                  </a:lnTo>
                  <a:lnTo>
                    <a:pt x="76" y="112"/>
                  </a:lnTo>
                  <a:lnTo>
                    <a:pt x="40" y="101"/>
                  </a:lnTo>
                  <a:lnTo>
                    <a:pt x="20" y="101"/>
                  </a:lnTo>
                  <a:lnTo>
                    <a:pt x="7" y="95"/>
                  </a:lnTo>
                  <a:lnTo>
                    <a:pt x="3" y="69"/>
                  </a:lnTo>
                  <a:lnTo>
                    <a:pt x="0" y="60"/>
                  </a:lnTo>
                  <a:lnTo>
                    <a:pt x="30" y="20"/>
                  </a:lnTo>
                  <a:lnTo>
                    <a:pt x="56" y="0"/>
                  </a:lnTo>
                  <a:lnTo>
                    <a:pt x="76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8480" y="2041560"/>
              <a:ext cx="55800" cy="3060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0" y="15"/>
                  </a:moveTo>
                  <a:lnTo>
                    <a:pt x="9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50" y="10"/>
                  </a:lnTo>
                  <a:lnTo>
                    <a:pt x="50" y="27"/>
                  </a:lnTo>
                  <a:lnTo>
                    <a:pt x="25" y="27"/>
                  </a:lnTo>
                  <a:lnTo>
                    <a:pt x="0" y="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0560" y="2098800"/>
              <a:ext cx="81360" cy="712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3" y="18"/>
                  </a:moveTo>
                  <a:lnTo>
                    <a:pt x="17" y="23"/>
                  </a:lnTo>
                  <a:lnTo>
                    <a:pt x="22" y="18"/>
                  </a:lnTo>
                  <a:lnTo>
                    <a:pt x="22" y="0"/>
                  </a:lnTo>
                  <a:lnTo>
                    <a:pt x="73" y="0"/>
                  </a:lnTo>
                  <a:lnTo>
                    <a:pt x="61" y="9"/>
                  </a:lnTo>
                  <a:lnTo>
                    <a:pt x="57" y="18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42" y="57"/>
                  </a:lnTo>
                  <a:lnTo>
                    <a:pt x="31" y="64"/>
                  </a:lnTo>
                  <a:lnTo>
                    <a:pt x="22" y="57"/>
                  </a:lnTo>
                  <a:lnTo>
                    <a:pt x="13" y="37"/>
                  </a:lnTo>
                  <a:lnTo>
                    <a:pt x="0" y="28"/>
                  </a:lnTo>
                  <a:lnTo>
                    <a:pt x="3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4680" y="2000880"/>
              <a:ext cx="70200" cy="60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33" y="54"/>
                  </a:moveTo>
                  <a:lnTo>
                    <a:pt x="50" y="42"/>
                  </a:lnTo>
                  <a:lnTo>
                    <a:pt x="63" y="36"/>
                  </a:lnTo>
                  <a:lnTo>
                    <a:pt x="63" y="4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15" y="42"/>
                  </a:lnTo>
                  <a:lnTo>
                    <a:pt x="15" y="47"/>
                  </a:lnTo>
                  <a:lnTo>
                    <a:pt x="33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7160" y="2000880"/>
              <a:ext cx="178200" cy="78840"/>
            </a:xfrm>
            <a:custGeom>
              <a:avLst/>
              <a:gdLst/>
              <a:ahLst/>
              <a:rect l="l" t="t" r="r" b="b"/>
              <a:pathLst>
                <a:path w="162" h="72">
                  <a:moveTo>
                    <a:pt x="61" y="50"/>
                  </a:moveTo>
                  <a:lnTo>
                    <a:pt x="0" y="50"/>
                  </a:lnTo>
                  <a:lnTo>
                    <a:pt x="0" y="40"/>
                  </a:lnTo>
                  <a:lnTo>
                    <a:pt x="34" y="9"/>
                  </a:lnTo>
                  <a:lnTo>
                    <a:pt x="61" y="14"/>
                  </a:lnTo>
                  <a:lnTo>
                    <a:pt x="93" y="40"/>
                  </a:lnTo>
                  <a:lnTo>
                    <a:pt x="103" y="33"/>
                  </a:lnTo>
                  <a:lnTo>
                    <a:pt x="108" y="23"/>
                  </a:lnTo>
                  <a:lnTo>
                    <a:pt x="103" y="9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8" y="19"/>
                  </a:lnTo>
                  <a:lnTo>
                    <a:pt x="139" y="23"/>
                  </a:lnTo>
                  <a:lnTo>
                    <a:pt x="149" y="19"/>
                  </a:lnTo>
                  <a:lnTo>
                    <a:pt x="161" y="23"/>
                  </a:lnTo>
                  <a:lnTo>
                    <a:pt x="161" y="45"/>
                  </a:lnTo>
                  <a:lnTo>
                    <a:pt x="149" y="54"/>
                  </a:lnTo>
                  <a:lnTo>
                    <a:pt x="123" y="54"/>
                  </a:lnTo>
                  <a:lnTo>
                    <a:pt x="103" y="50"/>
                  </a:lnTo>
                  <a:lnTo>
                    <a:pt x="85" y="54"/>
                  </a:lnTo>
                  <a:lnTo>
                    <a:pt x="66" y="64"/>
                  </a:lnTo>
                  <a:lnTo>
                    <a:pt x="51" y="71"/>
                  </a:lnTo>
                  <a:lnTo>
                    <a:pt x="39" y="64"/>
                  </a:lnTo>
                  <a:lnTo>
                    <a:pt x="61" y="5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4440" y="1978920"/>
              <a:ext cx="111960" cy="5148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62" y="39"/>
                  </a:moveTo>
                  <a:lnTo>
                    <a:pt x="78" y="30"/>
                  </a:lnTo>
                  <a:lnTo>
                    <a:pt x="88" y="20"/>
                  </a:lnTo>
                  <a:lnTo>
                    <a:pt x="101" y="4"/>
                  </a:lnTo>
                  <a:lnTo>
                    <a:pt x="94" y="0"/>
                  </a:lnTo>
                  <a:lnTo>
                    <a:pt x="62" y="4"/>
                  </a:lnTo>
                  <a:lnTo>
                    <a:pt x="21" y="15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30" y="39"/>
                  </a:lnTo>
                  <a:lnTo>
                    <a:pt x="41" y="39"/>
                  </a:lnTo>
                  <a:lnTo>
                    <a:pt x="51" y="30"/>
                  </a:lnTo>
                  <a:lnTo>
                    <a:pt x="62" y="3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0640" y="1918440"/>
              <a:ext cx="71280" cy="4932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39" y="9"/>
                  </a:lnTo>
                  <a:lnTo>
                    <a:pt x="52" y="13"/>
                  </a:lnTo>
                  <a:lnTo>
                    <a:pt x="57" y="23"/>
                  </a:lnTo>
                  <a:lnTo>
                    <a:pt x="57" y="28"/>
                  </a:lnTo>
                  <a:lnTo>
                    <a:pt x="64" y="44"/>
                  </a:lnTo>
                  <a:lnTo>
                    <a:pt x="42" y="44"/>
                  </a:lnTo>
                  <a:lnTo>
                    <a:pt x="39" y="32"/>
                  </a:lnTo>
                  <a:lnTo>
                    <a:pt x="7" y="32"/>
                  </a:lnTo>
                  <a:lnTo>
                    <a:pt x="3" y="28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0680" y="1959120"/>
              <a:ext cx="49320" cy="316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9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7" y="28"/>
                  </a:lnTo>
                  <a:lnTo>
                    <a:pt x="27" y="28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1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6120" y="1990080"/>
              <a:ext cx="239760" cy="89640"/>
            </a:xfrm>
            <a:custGeom>
              <a:avLst/>
              <a:gdLst/>
              <a:ahLst/>
              <a:rect l="l" t="t" r="r" b="b"/>
              <a:pathLst>
                <a:path w="218" h="82">
                  <a:moveTo>
                    <a:pt x="0" y="9"/>
                  </a:moveTo>
                  <a:lnTo>
                    <a:pt x="7" y="5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9" y="9"/>
                  </a:lnTo>
                  <a:lnTo>
                    <a:pt x="65" y="9"/>
                  </a:lnTo>
                  <a:lnTo>
                    <a:pt x="76" y="14"/>
                  </a:lnTo>
                  <a:lnTo>
                    <a:pt x="80" y="29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128" y="50"/>
                  </a:lnTo>
                  <a:lnTo>
                    <a:pt x="147" y="44"/>
                  </a:lnTo>
                  <a:lnTo>
                    <a:pt x="174" y="34"/>
                  </a:lnTo>
                  <a:lnTo>
                    <a:pt x="188" y="44"/>
                  </a:lnTo>
                  <a:lnTo>
                    <a:pt x="210" y="55"/>
                  </a:lnTo>
                  <a:lnTo>
                    <a:pt x="217" y="65"/>
                  </a:lnTo>
                  <a:lnTo>
                    <a:pt x="205" y="74"/>
                  </a:lnTo>
                  <a:lnTo>
                    <a:pt x="154" y="70"/>
                  </a:lnTo>
                  <a:lnTo>
                    <a:pt x="112" y="81"/>
                  </a:lnTo>
                  <a:lnTo>
                    <a:pt x="86" y="74"/>
                  </a:lnTo>
                  <a:lnTo>
                    <a:pt x="80" y="70"/>
                  </a:lnTo>
                  <a:lnTo>
                    <a:pt x="60" y="70"/>
                  </a:lnTo>
                  <a:lnTo>
                    <a:pt x="49" y="60"/>
                  </a:lnTo>
                  <a:lnTo>
                    <a:pt x="49" y="29"/>
                  </a:lnTo>
                  <a:lnTo>
                    <a:pt x="24" y="19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8760" y="2071080"/>
              <a:ext cx="362880" cy="188640"/>
            </a:xfrm>
            <a:custGeom>
              <a:avLst/>
              <a:gdLst/>
              <a:ahLst/>
              <a:rect l="l" t="t" r="r" b="b"/>
              <a:pathLst>
                <a:path w="330" h="172">
                  <a:moveTo>
                    <a:pt x="180" y="115"/>
                  </a:moveTo>
                  <a:lnTo>
                    <a:pt x="149" y="115"/>
                  </a:lnTo>
                  <a:lnTo>
                    <a:pt x="138" y="108"/>
                  </a:lnTo>
                  <a:lnTo>
                    <a:pt x="103" y="108"/>
                  </a:lnTo>
                  <a:lnTo>
                    <a:pt x="97" y="99"/>
                  </a:lnTo>
                  <a:lnTo>
                    <a:pt x="103" y="89"/>
                  </a:lnTo>
                  <a:lnTo>
                    <a:pt x="90" y="79"/>
                  </a:lnTo>
                  <a:lnTo>
                    <a:pt x="103" y="59"/>
                  </a:lnTo>
                  <a:lnTo>
                    <a:pt x="143" y="33"/>
                  </a:lnTo>
                  <a:lnTo>
                    <a:pt x="133" y="39"/>
                  </a:lnTo>
                  <a:lnTo>
                    <a:pt x="113" y="39"/>
                  </a:lnTo>
                  <a:lnTo>
                    <a:pt x="90" y="53"/>
                  </a:lnTo>
                  <a:lnTo>
                    <a:pt x="81" y="69"/>
                  </a:lnTo>
                  <a:lnTo>
                    <a:pt x="72" y="74"/>
                  </a:lnTo>
                  <a:lnTo>
                    <a:pt x="66" y="89"/>
                  </a:lnTo>
                  <a:lnTo>
                    <a:pt x="50" y="89"/>
                  </a:lnTo>
                  <a:lnTo>
                    <a:pt x="34" y="99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7" y="49"/>
                  </a:lnTo>
                  <a:lnTo>
                    <a:pt x="20" y="33"/>
                  </a:lnTo>
                  <a:lnTo>
                    <a:pt x="29" y="29"/>
                  </a:lnTo>
                  <a:lnTo>
                    <a:pt x="34" y="13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38" y="13"/>
                  </a:lnTo>
                  <a:lnTo>
                    <a:pt x="149" y="24"/>
                  </a:lnTo>
                  <a:lnTo>
                    <a:pt x="143" y="33"/>
                  </a:lnTo>
                  <a:lnTo>
                    <a:pt x="156" y="33"/>
                  </a:lnTo>
                  <a:lnTo>
                    <a:pt x="165" y="39"/>
                  </a:lnTo>
                  <a:lnTo>
                    <a:pt x="192" y="49"/>
                  </a:lnTo>
                  <a:lnTo>
                    <a:pt x="202" y="53"/>
                  </a:lnTo>
                  <a:lnTo>
                    <a:pt x="202" y="59"/>
                  </a:lnTo>
                  <a:lnTo>
                    <a:pt x="212" y="53"/>
                  </a:lnTo>
                  <a:lnTo>
                    <a:pt x="222" y="49"/>
                  </a:lnTo>
                  <a:lnTo>
                    <a:pt x="232" y="49"/>
                  </a:lnTo>
                  <a:lnTo>
                    <a:pt x="232" y="79"/>
                  </a:lnTo>
                  <a:lnTo>
                    <a:pt x="239" y="79"/>
                  </a:lnTo>
                  <a:lnTo>
                    <a:pt x="249" y="74"/>
                  </a:lnTo>
                  <a:lnTo>
                    <a:pt x="249" y="44"/>
                  </a:lnTo>
                  <a:lnTo>
                    <a:pt x="259" y="33"/>
                  </a:lnTo>
                  <a:lnTo>
                    <a:pt x="280" y="24"/>
                  </a:lnTo>
                  <a:lnTo>
                    <a:pt x="299" y="24"/>
                  </a:lnTo>
                  <a:lnTo>
                    <a:pt x="299" y="39"/>
                  </a:lnTo>
                  <a:lnTo>
                    <a:pt x="285" y="49"/>
                  </a:lnTo>
                  <a:lnTo>
                    <a:pt x="285" y="74"/>
                  </a:lnTo>
                  <a:lnTo>
                    <a:pt x="290" y="84"/>
                  </a:lnTo>
                  <a:lnTo>
                    <a:pt x="285" y="95"/>
                  </a:lnTo>
                  <a:lnTo>
                    <a:pt x="290" y="108"/>
                  </a:lnTo>
                  <a:lnTo>
                    <a:pt x="316" y="119"/>
                  </a:lnTo>
                  <a:lnTo>
                    <a:pt x="329" y="124"/>
                  </a:lnTo>
                  <a:lnTo>
                    <a:pt x="322" y="129"/>
                  </a:lnTo>
                  <a:lnTo>
                    <a:pt x="306" y="129"/>
                  </a:lnTo>
                  <a:lnTo>
                    <a:pt x="299" y="139"/>
                  </a:lnTo>
                  <a:lnTo>
                    <a:pt x="316" y="149"/>
                  </a:lnTo>
                  <a:lnTo>
                    <a:pt x="306" y="159"/>
                  </a:lnTo>
                  <a:lnTo>
                    <a:pt x="290" y="159"/>
                  </a:lnTo>
                  <a:lnTo>
                    <a:pt x="253" y="144"/>
                  </a:lnTo>
                  <a:lnTo>
                    <a:pt x="226" y="149"/>
                  </a:lnTo>
                  <a:lnTo>
                    <a:pt x="212" y="154"/>
                  </a:lnTo>
                  <a:lnTo>
                    <a:pt x="212" y="164"/>
                  </a:lnTo>
                  <a:lnTo>
                    <a:pt x="165" y="171"/>
                  </a:lnTo>
                  <a:lnTo>
                    <a:pt x="156" y="164"/>
                  </a:lnTo>
                  <a:lnTo>
                    <a:pt x="138" y="144"/>
                  </a:lnTo>
                  <a:lnTo>
                    <a:pt x="113" y="139"/>
                  </a:lnTo>
                  <a:lnTo>
                    <a:pt x="103" y="129"/>
                  </a:lnTo>
                  <a:lnTo>
                    <a:pt x="107" y="124"/>
                  </a:lnTo>
                  <a:lnTo>
                    <a:pt x="143" y="115"/>
                  </a:lnTo>
                  <a:lnTo>
                    <a:pt x="180" y="1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1240" y="1766880"/>
              <a:ext cx="891720" cy="723960"/>
            </a:xfrm>
            <a:custGeom>
              <a:avLst/>
              <a:gdLst/>
              <a:ahLst/>
              <a:rect l="l" t="t" r="r" b="b"/>
              <a:pathLst>
                <a:path w="811" h="659">
                  <a:moveTo>
                    <a:pt x="586" y="13"/>
                  </a:moveTo>
                  <a:lnTo>
                    <a:pt x="574" y="4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460" y="0"/>
                  </a:lnTo>
                  <a:lnTo>
                    <a:pt x="455" y="4"/>
                  </a:lnTo>
                  <a:lnTo>
                    <a:pt x="445" y="4"/>
                  </a:lnTo>
                  <a:lnTo>
                    <a:pt x="434" y="9"/>
                  </a:lnTo>
                  <a:lnTo>
                    <a:pt x="403" y="9"/>
                  </a:lnTo>
                  <a:lnTo>
                    <a:pt x="398" y="4"/>
                  </a:lnTo>
                  <a:lnTo>
                    <a:pt x="361" y="9"/>
                  </a:lnTo>
                  <a:lnTo>
                    <a:pt x="330" y="20"/>
                  </a:lnTo>
                  <a:lnTo>
                    <a:pt x="330" y="29"/>
                  </a:lnTo>
                  <a:lnTo>
                    <a:pt x="340" y="50"/>
                  </a:lnTo>
                  <a:lnTo>
                    <a:pt x="303" y="34"/>
                  </a:lnTo>
                  <a:lnTo>
                    <a:pt x="289" y="34"/>
                  </a:lnTo>
                  <a:lnTo>
                    <a:pt x="289" y="50"/>
                  </a:lnTo>
                  <a:lnTo>
                    <a:pt x="283" y="59"/>
                  </a:lnTo>
                  <a:lnTo>
                    <a:pt x="274" y="59"/>
                  </a:lnTo>
                  <a:lnTo>
                    <a:pt x="257" y="50"/>
                  </a:lnTo>
                  <a:lnTo>
                    <a:pt x="246" y="55"/>
                  </a:lnTo>
                  <a:lnTo>
                    <a:pt x="246" y="44"/>
                  </a:lnTo>
                  <a:lnTo>
                    <a:pt x="236" y="34"/>
                  </a:lnTo>
                  <a:lnTo>
                    <a:pt x="185" y="40"/>
                  </a:lnTo>
                  <a:lnTo>
                    <a:pt x="168" y="55"/>
                  </a:lnTo>
                  <a:lnTo>
                    <a:pt x="149" y="59"/>
                  </a:lnTo>
                  <a:lnTo>
                    <a:pt x="138" y="80"/>
                  </a:lnTo>
                  <a:lnTo>
                    <a:pt x="122" y="80"/>
                  </a:lnTo>
                  <a:lnTo>
                    <a:pt x="102" y="86"/>
                  </a:lnTo>
                  <a:lnTo>
                    <a:pt x="81" y="95"/>
                  </a:lnTo>
                  <a:lnTo>
                    <a:pt x="75" y="105"/>
                  </a:lnTo>
                  <a:lnTo>
                    <a:pt x="75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2" y="132"/>
                  </a:lnTo>
                  <a:lnTo>
                    <a:pt x="65" y="141"/>
                  </a:lnTo>
                  <a:lnTo>
                    <a:pt x="33" y="145"/>
                  </a:lnTo>
                  <a:lnTo>
                    <a:pt x="0" y="162"/>
                  </a:lnTo>
                  <a:lnTo>
                    <a:pt x="0" y="177"/>
                  </a:lnTo>
                  <a:lnTo>
                    <a:pt x="33" y="188"/>
                  </a:lnTo>
                  <a:lnTo>
                    <a:pt x="60" y="183"/>
                  </a:lnTo>
                  <a:lnTo>
                    <a:pt x="75" y="188"/>
                  </a:lnTo>
                  <a:lnTo>
                    <a:pt x="70" y="198"/>
                  </a:lnTo>
                  <a:lnTo>
                    <a:pt x="28" y="198"/>
                  </a:lnTo>
                  <a:lnTo>
                    <a:pt x="13" y="208"/>
                  </a:lnTo>
                  <a:lnTo>
                    <a:pt x="28" y="213"/>
                  </a:lnTo>
                  <a:lnTo>
                    <a:pt x="60" y="238"/>
                  </a:lnTo>
                  <a:lnTo>
                    <a:pt x="81" y="228"/>
                  </a:lnTo>
                  <a:lnTo>
                    <a:pt x="106" y="223"/>
                  </a:lnTo>
                  <a:lnTo>
                    <a:pt x="168" y="243"/>
                  </a:lnTo>
                  <a:lnTo>
                    <a:pt x="180" y="254"/>
                  </a:lnTo>
                  <a:lnTo>
                    <a:pt x="185" y="284"/>
                  </a:lnTo>
                  <a:lnTo>
                    <a:pt x="200" y="310"/>
                  </a:lnTo>
                  <a:lnTo>
                    <a:pt x="195" y="356"/>
                  </a:lnTo>
                  <a:lnTo>
                    <a:pt x="200" y="361"/>
                  </a:lnTo>
                  <a:lnTo>
                    <a:pt x="210" y="356"/>
                  </a:lnTo>
                  <a:lnTo>
                    <a:pt x="232" y="351"/>
                  </a:lnTo>
                  <a:lnTo>
                    <a:pt x="236" y="361"/>
                  </a:lnTo>
                  <a:lnTo>
                    <a:pt x="246" y="381"/>
                  </a:lnTo>
                  <a:lnTo>
                    <a:pt x="232" y="381"/>
                  </a:lnTo>
                  <a:lnTo>
                    <a:pt x="221" y="386"/>
                  </a:lnTo>
                  <a:lnTo>
                    <a:pt x="221" y="391"/>
                  </a:lnTo>
                  <a:lnTo>
                    <a:pt x="210" y="386"/>
                  </a:lnTo>
                  <a:lnTo>
                    <a:pt x="200" y="386"/>
                  </a:lnTo>
                  <a:lnTo>
                    <a:pt x="195" y="391"/>
                  </a:lnTo>
                  <a:lnTo>
                    <a:pt x="190" y="401"/>
                  </a:lnTo>
                  <a:lnTo>
                    <a:pt x="195" y="412"/>
                  </a:lnTo>
                  <a:lnTo>
                    <a:pt x="217" y="417"/>
                  </a:lnTo>
                  <a:lnTo>
                    <a:pt x="226" y="417"/>
                  </a:lnTo>
                  <a:lnTo>
                    <a:pt x="226" y="397"/>
                  </a:lnTo>
                  <a:lnTo>
                    <a:pt x="241" y="401"/>
                  </a:lnTo>
                  <a:lnTo>
                    <a:pt x="246" y="407"/>
                  </a:lnTo>
                  <a:lnTo>
                    <a:pt x="236" y="422"/>
                  </a:lnTo>
                  <a:lnTo>
                    <a:pt x="232" y="437"/>
                  </a:lnTo>
                  <a:lnTo>
                    <a:pt x="232" y="448"/>
                  </a:lnTo>
                  <a:lnTo>
                    <a:pt x="210" y="448"/>
                  </a:lnTo>
                  <a:lnTo>
                    <a:pt x="200" y="457"/>
                  </a:lnTo>
                  <a:lnTo>
                    <a:pt x="200" y="503"/>
                  </a:lnTo>
                  <a:lnTo>
                    <a:pt x="210" y="530"/>
                  </a:lnTo>
                  <a:lnTo>
                    <a:pt x="217" y="555"/>
                  </a:lnTo>
                  <a:lnTo>
                    <a:pt x="232" y="580"/>
                  </a:lnTo>
                  <a:lnTo>
                    <a:pt x="252" y="627"/>
                  </a:lnTo>
                  <a:lnTo>
                    <a:pt x="263" y="636"/>
                  </a:lnTo>
                  <a:lnTo>
                    <a:pt x="289" y="632"/>
                  </a:lnTo>
                  <a:lnTo>
                    <a:pt x="299" y="646"/>
                  </a:lnTo>
                  <a:lnTo>
                    <a:pt x="316" y="658"/>
                  </a:lnTo>
                  <a:lnTo>
                    <a:pt x="325" y="651"/>
                  </a:lnTo>
                  <a:lnTo>
                    <a:pt x="330" y="636"/>
                  </a:lnTo>
                  <a:lnTo>
                    <a:pt x="340" y="611"/>
                  </a:lnTo>
                  <a:lnTo>
                    <a:pt x="345" y="596"/>
                  </a:lnTo>
                  <a:lnTo>
                    <a:pt x="351" y="575"/>
                  </a:lnTo>
                  <a:lnTo>
                    <a:pt x="367" y="560"/>
                  </a:lnTo>
                  <a:lnTo>
                    <a:pt x="367" y="545"/>
                  </a:lnTo>
                  <a:lnTo>
                    <a:pt x="371" y="530"/>
                  </a:lnTo>
                  <a:lnTo>
                    <a:pt x="382" y="523"/>
                  </a:lnTo>
                  <a:lnTo>
                    <a:pt x="403" y="509"/>
                  </a:lnTo>
                  <a:lnTo>
                    <a:pt x="434" y="499"/>
                  </a:lnTo>
                  <a:lnTo>
                    <a:pt x="455" y="489"/>
                  </a:lnTo>
                  <a:lnTo>
                    <a:pt x="460" y="479"/>
                  </a:lnTo>
                  <a:lnTo>
                    <a:pt x="486" y="457"/>
                  </a:lnTo>
                  <a:lnTo>
                    <a:pt x="492" y="448"/>
                  </a:lnTo>
                  <a:lnTo>
                    <a:pt x="520" y="444"/>
                  </a:lnTo>
                  <a:lnTo>
                    <a:pt x="563" y="437"/>
                  </a:lnTo>
                  <a:lnTo>
                    <a:pt x="586" y="422"/>
                  </a:lnTo>
                  <a:lnTo>
                    <a:pt x="600" y="417"/>
                  </a:lnTo>
                  <a:lnTo>
                    <a:pt x="627" y="417"/>
                  </a:lnTo>
                  <a:lnTo>
                    <a:pt x="657" y="397"/>
                  </a:lnTo>
                  <a:lnTo>
                    <a:pt x="668" y="391"/>
                  </a:lnTo>
                  <a:lnTo>
                    <a:pt x="657" y="391"/>
                  </a:lnTo>
                  <a:lnTo>
                    <a:pt x="627" y="381"/>
                  </a:lnTo>
                  <a:lnTo>
                    <a:pt x="627" y="367"/>
                  </a:lnTo>
                  <a:lnTo>
                    <a:pt x="636" y="361"/>
                  </a:lnTo>
                  <a:lnTo>
                    <a:pt x="652" y="376"/>
                  </a:lnTo>
                  <a:lnTo>
                    <a:pt x="673" y="381"/>
                  </a:lnTo>
                  <a:lnTo>
                    <a:pt x="688" y="376"/>
                  </a:lnTo>
                  <a:lnTo>
                    <a:pt x="688" y="356"/>
                  </a:lnTo>
                  <a:lnTo>
                    <a:pt x="668" y="315"/>
                  </a:lnTo>
                  <a:lnTo>
                    <a:pt x="694" y="300"/>
                  </a:lnTo>
                  <a:lnTo>
                    <a:pt x="694" y="289"/>
                  </a:lnTo>
                  <a:lnTo>
                    <a:pt x="721" y="279"/>
                  </a:lnTo>
                  <a:lnTo>
                    <a:pt x="721" y="233"/>
                  </a:lnTo>
                  <a:lnTo>
                    <a:pt x="704" y="218"/>
                  </a:lnTo>
                  <a:lnTo>
                    <a:pt x="714" y="213"/>
                  </a:lnTo>
                  <a:lnTo>
                    <a:pt x="725" y="208"/>
                  </a:lnTo>
                  <a:lnTo>
                    <a:pt x="730" y="198"/>
                  </a:lnTo>
                  <a:lnTo>
                    <a:pt x="730" y="183"/>
                  </a:lnTo>
                  <a:lnTo>
                    <a:pt x="704" y="172"/>
                  </a:lnTo>
                  <a:lnTo>
                    <a:pt x="699" y="167"/>
                  </a:lnTo>
                  <a:lnTo>
                    <a:pt x="704" y="145"/>
                  </a:lnTo>
                  <a:lnTo>
                    <a:pt x="725" y="132"/>
                  </a:lnTo>
                  <a:lnTo>
                    <a:pt x="730" y="117"/>
                  </a:lnTo>
                  <a:lnTo>
                    <a:pt x="735" y="105"/>
                  </a:lnTo>
                  <a:lnTo>
                    <a:pt x="756" y="100"/>
                  </a:lnTo>
                  <a:lnTo>
                    <a:pt x="756" y="86"/>
                  </a:lnTo>
                  <a:lnTo>
                    <a:pt x="761" y="86"/>
                  </a:lnTo>
                  <a:lnTo>
                    <a:pt x="803" y="59"/>
                  </a:lnTo>
                  <a:lnTo>
                    <a:pt x="810" y="55"/>
                  </a:lnTo>
                  <a:lnTo>
                    <a:pt x="787" y="44"/>
                  </a:lnTo>
                  <a:lnTo>
                    <a:pt x="761" y="34"/>
                  </a:lnTo>
                  <a:lnTo>
                    <a:pt x="740" y="55"/>
                  </a:lnTo>
                  <a:lnTo>
                    <a:pt x="694" y="55"/>
                  </a:lnTo>
                  <a:lnTo>
                    <a:pt x="678" y="66"/>
                  </a:lnTo>
                  <a:lnTo>
                    <a:pt x="668" y="86"/>
                  </a:lnTo>
                  <a:lnTo>
                    <a:pt x="682" y="55"/>
                  </a:lnTo>
                  <a:lnTo>
                    <a:pt x="682" y="50"/>
                  </a:lnTo>
                  <a:lnTo>
                    <a:pt x="668" y="40"/>
                  </a:lnTo>
                  <a:lnTo>
                    <a:pt x="636" y="50"/>
                  </a:lnTo>
                  <a:lnTo>
                    <a:pt x="589" y="59"/>
                  </a:lnTo>
                  <a:lnTo>
                    <a:pt x="610" y="44"/>
                  </a:lnTo>
                  <a:lnTo>
                    <a:pt x="631" y="44"/>
                  </a:lnTo>
                  <a:lnTo>
                    <a:pt x="652" y="34"/>
                  </a:lnTo>
                  <a:lnTo>
                    <a:pt x="673" y="34"/>
                  </a:lnTo>
                  <a:lnTo>
                    <a:pt x="682" y="29"/>
                  </a:lnTo>
                  <a:lnTo>
                    <a:pt x="699" y="24"/>
                  </a:lnTo>
                  <a:lnTo>
                    <a:pt x="694" y="13"/>
                  </a:lnTo>
                  <a:lnTo>
                    <a:pt x="673" y="13"/>
                  </a:lnTo>
                  <a:lnTo>
                    <a:pt x="663" y="20"/>
                  </a:lnTo>
                  <a:lnTo>
                    <a:pt x="652" y="20"/>
                  </a:lnTo>
                  <a:lnTo>
                    <a:pt x="652" y="9"/>
                  </a:lnTo>
                  <a:lnTo>
                    <a:pt x="636" y="9"/>
                  </a:lnTo>
                  <a:lnTo>
                    <a:pt x="586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9360" y="2644920"/>
              <a:ext cx="230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3560" y="1778760"/>
              <a:ext cx="515520" cy="243720"/>
            </a:xfrm>
            <a:custGeom>
              <a:avLst/>
              <a:gdLst/>
              <a:ahLst/>
              <a:rect l="l" t="t" r="r" b="b"/>
              <a:pathLst>
                <a:path w="469" h="222">
                  <a:moveTo>
                    <a:pt x="160" y="94"/>
                  </a:moveTo>
                  <a:lnTo>
                    <a:pt x="145" y="94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09" y="74"/>
                  </a:lnTo>
                  <a:lnTo>
                    <a:pt x="103" y="64"/>
                  </a:lnTo>
                  <a:lnTo>
                    <a:pt x="92" y="54"/>
                  </a:lnTo>
                  <a:lnTo>
                    <a:pt x="82" y="60"/>
                  </a:lnTo>
                  <a:lnTo>
                    <a:pt x="77" y="84"/>
                  </a:lnTo>
                  <a:lnTo>
                    <a:pt x="92" y="94"/>
                  </a:lnTo>
                  <a:lnTo>
                    <a:pt x="113" y="104"/>
                  </a:lnTo>
                  <a:lnTo>
                    <a:pt x="130" y="125"/>
                  </a:lnTo>
                  <a:lnTo>
                    <a:pt x="118" y="125"/>
                  </a:lnTo>
                  <a:lnTo>
                    <a:pt x="103" y="134"/>
                  </a:lnTo>
                  <a:lnTo>
                    <a:pt x="77" y="155"/>
                  </a:lnTo>
                  <a:lnTo>
                    <a:pt x="50" y="160"/>
                  </a:lnTo>
                  <a:lnTo>
                    <a:pt x="34" y="155"/>
                  </a:lnTo>
                  <a:lnTo>
                    <a:pt x="29" y="150"/>
                  </a:lnTo>
                  <a:lnTo>
                    <a:pt x="29" y="138"/>
                  </a:lnTo>
                  <a:lnTo>
                    <a:pt x="50" y="125"/>
                  </a:lnTo>
                  <a:lnTo>
                    <a:pt x="19" y="125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19" y="84"/>
                  </a:lnTo>
                  <a:lnTo>
                    <a:pt x="40" y="60"/>
                  </a:lnTo>
                  <a:lnTo>
                    <a:pt x="72" y="60"/>
                  </a:lnTo>
                  <a:lnTo>
                    <a:pt x="77" y="49"/>
                  </a:lnTo>
                  <a:lnTo>
                    <a:pt x="92" y="54"/>
                  </a:lnTo>
                  <a:lnTo>
                    <a:pt x="103" y="40"/>
                  </a:lnTo>
                  <a:lnTo>
                    <a:pt x="124" y="33"/>
                  </a:lnTo>
                  <a:lnTo>
                    <a:pt x="140" y="24"/>
                  </a:lnTo>
                  <a:lnTo>
                    <a:pt x="183" y="24"/>
                  </a:lnTo>
                  <a:lnTo>
                    <a:pt x="192" y="33"/>
                  </a:lnTo>
                  <a:lnTo>
                    <a:pt x="187" y="24"/>
                  </a:lnTo>
                  <a:lnTo>
                    <a:pt x="218" y="10"/>
                  </a:lnTo>
                  <a:lnTo>
                    <a:pt x="229" y="4"/>
                  </a:lnTo>
                  <a:lnTo>
                    <a:pt x="240" y="10"/>
                  </a:lnTo>
                  <a:lnTo>
                    <a:pt x="256" y="0"/>
                  </a:lnTo>
                  <a:lnTo>
                    <a:pt x="272" y="0"/>
                  </a:lnTo>
                  <a:lnTo>
                    <a:pt x="298" y="4"/>
                  </a:lnTo>
                  <a:lnTo>
                    <a:pt x="309" y="4"/>
                  </a:lnTo>
                  <a:lnTo>
                    <a:pt x="335" y="0"/>
                  </a:lnTo>
                  <a:lnTo>
                    <a:pt x="355" y="4"/>
                  </a:lnTo>
                  <a:lnTo>
                    <a:pt x="387" y="4"/>
                  </a:lnTo>
                  <a:lnTo>
                    <a:pt x="393" y="10"/>
                  </a:lnTo>
                  <a:lnTo>
                    <a:pt x="439" y="10"/>
                  </a:lnTo>
                  <a:lnTo>
                    <a:pt x="445" y="20"/>
                  </a:lnTo>
                  <a:lnTo>
                    <a:pt x="455" y="20"/>
                  </a:lnTo>
                  <a:lnTo>
                    <a:pt x="468" y="24"/>
                  </a:lnTo>
                  <a:lnTo>
                    <a:pt x="423" y="44"/>
                  </a:lnTo>
                  <a:lnTo>
                    <a:pt x="405" y="54"/>
                  </a:lnTo>
                  <a:lnTo>
                    <a:pt x="398" y="54"/>
                  </a:lnTo>
                  <a:lnTo>
                    <a:pt x="382" y="69"/>
                  </a:lnTo>
                  <a:lnTo>
                    <a:pt x="362" y="80"/>
                  </a:lnTo>
                  <a:lnTo>
                    <a:pt x="324" y="104"/>
                  </a:lnTo>
                  <a:lnTo>
                    <a:pt x="282" y="109"/>
                  </a:lnTo>
                  <a:lnTo>
                    <a:pt x="282" y="120"/>
                  </a:lnTo>
                  <a:lnTo>
                    <a:pt x="267" y="125"/>
                  </a:lnTo>
                  <a:lnTo>
                    <a:pt x="256" y="125"/>
                  </a:lnTo>
                  <a:lnTo>
                    <a:pt x="267" y="129"/>
                  </a:lnTo>
                  <a:lnTo>
                    <a:pt x="272" y="134"/>
                  </a:lnTo>
                  <a:lnTo>
                    <a:pt x="256" y="150"/>
                  </a:lnTo>
                  <a:lnTo>
                    <a:pt x="249" y="160"/>
                  </a:lnTo>
                  <a:lnTo>
                    <a:pt x="225" y="169"/>
                  </a:lnTo>
                  <a:lnTo>
                    <a:pt x="218" y="178"/>
                  </a:lnTo>
                  <a:lnTo>
                    <a:pt x="208" y="185"/>
                  </a:lnTo>
                  <a:lnTo>
                    <a:pt x="203" y="189"/>
                  </a:lnTo>
                  <a:lnTo>
                    <a:pt x="208" y="200"/>
                  </a:lnTo>
                  <a:lnTo>
                    <a:pt x="192" y="221"/>
                  </a:lnTo>
                  <a:lnTo>
                    <a:pt x="176" y="221"/>
                  </a:lnTo>
                  <a:lnTo>
                    <a:pt x="160" y="209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18" y="214"/>
                  </a:lnTo>
                  <a:lnTo>
                    <a:pt x="103" y="209"/>
                  </a:lnTo>
                  <a:lnTo>
                    <a:pt x="60" y="209"/>
                  </a:lnTo>
                  <a:lnTo>
                    <a:pt x="56" y="200"/>
                  </a:lnTo>
                  <a:lnTo>
                    <a:pt x="66" y="189"/>
                  </a:lnTo>
                  <a:lnTo>
                    <a:pt x="87" y="185"/>
                  </a:lnTo>
                  <a:lnTo>
                    <a:pt x="92" y="174"/>
                  </a:lnTo>
                  <a:lnTo>
                    <a:pt x="92" y="169"/>
                  </a:lnTo>
                  <a:lnTo>
                    <a:pt x="103" y="169"/>
                  </a:lnTo>
                  <a:lnTo>
                    <a:pt x="118" y="185"/>
                  </a:lnTo>
                  <a:lnTo>
                    <a:pt x="135" y="185"/>
                  </a:lnTo>
                  <a:lnTo>
                    <a:pt x="140" y="174"/>
                  </a:lnTo>
                  <a:lnTo>
                    <a:pt x="130" y="169"/>
                  </a:lnTo>
                  <a:lnTo>
                    <a:pt x="130" y="155"/>
                  </a:lnTo>
                  <a:lnTo>
                    <a:pt x="113" y="150"/>
                  </a:lnTo>
                  <a:lnTo>
                    <a:pt x="124" y="138"/>
                  </a:lnTo>
                  <a:lnTo>
                    <a:pt x="135" y="134"/>
                  </a:lnTo>
                  <a:lnTo>
                    <a:pt x="150" y="134"/>
                  </a:lnTo>
                  <a:lnTo>
                    <a:pt x="145" y="100"/>
                  </a:lnTo>
                  <a:lnTo>
                    <a:pt x="187" y="94"/>
                  </a:lnTo>
                  <a:lnTo>
                    <a:pt x="160" y="9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0800" y="2115000"/>
              <a:ext cx="6048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0" y="16"/>
                  </a:moveTo>
                  <a:lnTo>
                    <a:pt x="3" y="7"/>
                  </a:lnTo>
                  <a:lnTo>
                    <a:pt x="10" y="0"/>
                  </a:lnTo>
                  <a:lnTo>
                    <a:pt x="33" y="3"/>
                  </a:lnTo>
                  <a:lnTo>
                    <a:pt x="54" y="12"/>
                  </a:lnTo>
                  <a:lnTo>
                    <a:pt x="47" y="16"/>
                  </a:lnTo>
                  <a:lnTo>
                    <a:pt x="16" y="16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5480" y="1997640"/>
              <a:ext cx="6012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4" y="12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6" y="22"/>
                  </a:lnTo>
                  <a:lnTo>
                    <a:pt x="54" y="1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62840" y="2052720"/>
              <a:ext cx="42840" cy="24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4"/>
                  </a:moveTo>
                  <a:lnTo>
                    <a:pt x="3" y="0"/>
                  </a:lnTo>
                  <a:lnTo>
                    <a:pt x="14" y="4"/>
                  </a:lnTo>
                  <a:lnTo>
                    <a:pt x="25" y="4"/>
                  </a:lnTo>
                  <a:lnTo>
                    <a:pt x="38" y="14"/>
                  </a:lnTo>
                  <a:lnTo>
                    <a:pt x="25" y="21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3360" y="1990080"/>
              <a:ext cx="116280" cy="40320"/>
            </a:xfrm>
            <a:custGeom>
              <a:avLst/>
              <a:gdLst/>
              <a:ahLst/>
              <a:rect l="l" t="t" r="r" b="b"/>
              <a:pathLst>
                <a:path w="106" h="37">
                  <a:moveTo>
                    <a:pt x="33" y="9"/>
                  </a:moveTo>
                  <a:lnTo>
                    <a:pt x="57" y="0"/>
                  </a:lnTo>
                  <a:lnTo>
                    <a:pt x="82" y="19"/>
                  </a:lnTo>
                  <a:lnTo>
                    <a:pt x="77" y="5"/>
                  </a:lnTo>
                  <a:lnTo>
                    <a:pt x="92" y="5"/>
                  </a:lnTo>
                  <a:lnTo>
                    <a:pt x="105" y="9"/>
                  </a:lnTo>
                  <a:lnTo>
                    <a:pt x="92" y="19"/>
                  </a:lnTo>
                  <a:lnTo>
                    <a:pt x="82" y="19"/>
                  </a:lnTo>
                  <a:lnTo>
                    <a:pt x="72" y="29"/>
                  </a:lnTo>
                  <a:lnTo>
                    <a:pt x="40" y="29"/>
                  </a:lnTo>
                  <a:lnTo>
                    <a:pt x="24" y="36"/>
                  </a:lnTo>
                  <a:lnTo>
                    <a:pt x="13" y="36"/>
                  </a:lnTo>
                  <a:lnTo>
                    <a:pt x="3" y="25"/>
                  </a:lnTo>
                  <a:lnTo>
                    <a:pt x="0" y="5"/>
                  </a:lnTo>
                  <a:lnTo>
                    <a:pt x="33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760" y="1882080"/>
              <a:ext cx="74520" cy="493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33" y="11"/>
                  </a:moveTo>
                  <a:lnTo>
                    <a:pt x="49" y="5"/>
                  </a:lnTo>
                  <a:lnTo>
                    <a:pt x="67" y="31"/>
                  </a:lnTo>
                  <a:lnTo>
                    <a:pt x="55" y="31"/>
                  </a:lnTo>
                  <a:lnTo>
                    <a:pt x="24" y="37"/>
                  </a:lnTo>
                  <a:lnTo>
                    <a:pt x="3" y="44"/>
                  </a:lnTo>
                  <a:lnTo>
                    <a:pt x="0" y="37"/>
                  </a:lnTo>
                  <a:lnTo>
                    <a:pt x="3" y="1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3" y="1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76600" y="1822680"/>
              <a:ext cx="129600" cy="7776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61" y="28"/>
                  </a:moveTo>
                  <a:lnTo>
                    <a:pt x="40" y="35"/>
                  </a:lnTo>
                  <a:lnTo>
                    <a:pt x="30" y="48"/>
                  </a:lnTo>
                  <a:lnTo>
                    <a:pt x="40" y="53"/>
                  </a:lnTo>
                  <a:lnTo>
                    <a:pt x="46" y="58"/>
                  </a:lnTo>
                  <a:lnTo>
                    <a:pt x="67" y="70"/>
                  </a:lnTo>
                  <a:lnTo>
                    <a:pt x="117" y="70"/>
                  </a:lnTo>
                  <a:lnTo>
                    <a:pt x="117" y="44"/>
                  </a:lnTo>
                  <a:lnTo>
                    <a:pt x="110" y="35"/>
                  </a:lnTo>
                  <a:lnTo>
                    <a:pt x="104" y="35"/>
                  </a:lnTo>
                  <a:lnTo>
                    <a:pt x="87" y="44"/>
                  </a:lnTo>
                  <a:lnTo>
                    <a:pt x="72" y="28"/>
                  </a:lnTo>
                  <a:lnTo>
                    <a:pt x="72" y="14"/>
                  </a:lnTo>
                  <a:lnTo>
                    <a:pt x="57" y="4"/>
                  </a:lnTo>
                  <a:lnTo>
                    <a:pt x="46" y="0"/>
                  </a:lnTo>
                  <a:lnTo>
                    <a:pt x="20" y="9"/>
                  </a:lnTo>
                  <a:lnTo>
                    <a:pt x="0" y="23"/>
                  </a:lnTo>
                  <a:lnTo>
                    <a:pt x="10" y="35"/>
                  </a:lnTo>
                  <a:lnTo>
                    <a:pt x="34" y="35"/>
                  </a:lnTo>
                  <a:lnTo>
                    <a:pt x="61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5640" y="2208600"/>
              <a:ext cx="24840" cy="20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9" y="18"/>
                  </a:lnTo>
                  <a:lnTo>
                    <a:pt x="0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0040" y="1846080"/>
              <a:ext cx="48240" cy="19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16" y="17"/>
                  </a:moveTo>
                  <a:lnTo>
                    <a:pt x="43" y="9"/>
                  </a:lnTo>
                  <a:lnTo>
                    <a:pt x="36" y="4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6" y="1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7560" y="1828080"/>
              <a:ext cx="40320" cy="241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21"/>
                  </a:moveTo>
                  <a:lnTo>
                    <a:pt x="18" y="21"/>
                  </a:lnTo>
                  <a:lnTo>
                    <a:pt x="29" y="15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3" y="10"/>
                  </a:lnTo>
                  <a:lnTo>
                    <a:pt x="0" y="2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1600" y="1855800"/>
              <a:ext cx="21600" cy="20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4"/>
                  </a:moveTo>
                  <a:lnTo>
                    <a:pt x="4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2" y="18"/>
                  </a:lnTo>
                  <a:lnTo>
                    <a:pt x="4" y="18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15280" y="1846080"/>
              <a:ext cx="80280" cy="27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9"/>
                  </a:moveTo>
                  <a:lnTo>
                    <a:pt x="18" y="0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39" y="24"/>
                  </a:lnTo>
                  <a:lnTo>
                    <a:pt x="45" y="13"/>
                  </a:lnTo>
                  <a:lnTo>
                    <a:pt x="72" y="13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9" y="9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4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1000" y="1862280"/>
              <a:ext cx="132840" cy="5040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92" y="33"/>
                  </a:moveTo>
                  <a:lnTo>
                    <a:pt x="101" y="33"/>
                  </a:lnTo>
                  <a:lnTo>
                    <a:pt x="120" y="18"/>
                  </a:lnTo>
                  <a:lnTo>
                    <a:pt x="101" y="9"/>
                  </a:lnTo>
                  <a:lnTo>
                    <a:pt x="92" y="9"/>
                  </a:lnTo>
                  <a:lnTo>
                    <a:pt x="83" y="4"/>
                  </a:lnTo>
                  <a:lnTo>
                    <a:pt x="71" y="9"/>
                  </a:lnTo>
                  <a:lnTo>
                    <a:pt x="60" y="0"/>
                  </a:lnTo>
                  <a:lnTo>
                    <a:pt x="50" y="9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9" y="29"/>
                  </a:lnTo>
                  <a:lnTo>
                    <a:pt x="56" y="38"/>
                  </a:lnTo>
                  <a:lnTo>
                    <a:pt x="66" y="45"/>
                  </a:lnTo>
                  <a:lnTo>
                    <a:pt x="92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2000" y="1882080"/>
              <a:ext cx="208800" cy="116280"/>
            </a:xfrm>
            <a:custGeom>
              <a:avLst/>
              <a:gdLst/>
              <a:ahLst/>
              <a:rect l="l" t="t" r="r" b="b"/>
              <a:pathLst>
                <a:path w="190" h="106">
                  <a:moveTo>
                    <a:pt x="0" y="5"/>
                  </a:moveTo>
                  <a:lnTo>
                    <a:pt x="34" y="0"/>
                  </a:lnTo>
                  <a:lnTo>
                    <a:pt x="29" y="5"/>
                  </a:lnTo>
                  <a:lnTo>
                    <a:pt x="50" y="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88" y="0"/>
                  </a:lnTo>
                  <a:lnTo>
                    <a:pt x="96" y="15"/>
                  </a:lnTo>
                  <a:lnTo>
                    <a:pt x="113" y="15"/>
                  </a:lnTo>
                  <a:lnTo>
                    <a:pt x="135" y="30"/>
                  </a:lnTo>
                  <a:lnTo>
                    <a:pt x="150" y="30"/>
                  </a:lnTo>
                  <a:lnTo>
                    <a:pt x="165" y="46"/>
                  </a:lnTo>
                  <a:lnTo>
                    <a:pt x="177" y="62"/>
                  </a:lnTo>
                  <a:lnTo>
                    <a:pt x="189" y="66"/>
                  </a:lnTo>
                  <a:lnTo>
                    <a:pt x="182" y="78"/>
                  </a:lnTo>
                  <a:lnTo>
                    <a:pt x="146" y="78"/>
                  </a:lnTo>
                  <a:lnTo>
                    <a:pt x="139" y="66"/>
                  </a:lnTo>
                  <a:lnTo>
                    <a:pt x="135" y="52"/>
                  </a:lnTo>
                  <a:lnTo>
                    <a:pt x="123" y="40"/>
                  </a:lnTo>
                  <a:lnTo>
                    <a:pt x="113" y="46"/>
                  </a:lnTo>
                  <a:lnTo>
                    <a:pt x="96" y="92"/>
                  </a:lnTo>
                  <a:lnTo>
                    <a:pt x="81" y="105"/>
                  </a:lnTo>
                  <a:lnTo>
                    <a:pt x="61" y="82"/>
                  </a:lnTo>
                  <a:lnTo>
                    <a:pt x="56" y="72"/>
                  </a:lnTo>
                  <a:lnTo>
                    <a:pt x="46" y="66"/>
                  </a:lnTo>
                  <a:lnTo>
                    <a:pt x="39" y="56"/>
                  </a:lnTo>
                  <a:lnTo>
                    <a:pt x="70" y="52"/>
                  </a:lnTo>
                  <a:lnTo>
                    <a:pt x="81" y="40"/>
                  </a:lnTo>
                  <a:lnTo>
                    <a:pt x="76" y="30"/>
                  </a:lnTo>
                  <a:lnTo>
                    <a:pt x="56" y="30"/>
                  </a:lnTo>
                  <a:lnTo>
                    <a:pt x="39" y="52"/>
                  </a:lnTo>
                  <a:lnTo>
                    <a:pt x="13" y="52"/>
                  </a:lnTo>
                  <a:lnTo>
                    <a:pt x="7" y="40"/>
                  </a:lnTo>
                  <a:lnTo>
                    <a:pt x="7" y="25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080" y="1973160"/>
              <a:ext cx="226440" cy="196560"/>
            </a:xfrm>
            <a:custGeom>
              <a:avLst/>
              <a:gdLst/>
              <a:ahLst/>
              <a:rect l="l" t="t" r="r" b="b"/>
              <a:pathLst>
                <a:path w="206" h="179">
                  <a:moveTo>
                    <a:pt x="120" y="49"/>
                  </a:moveTo>
                  <a:lnTo>
                    <a:pt x="111" y="55"/>
                  </a:lnTo>
                  <a:lnTo>
                    <a:pt x="104" y="59"/>
                  </a:lnTo>
                  <a:lnTo>
                    <a:pt x="102" y="59"/>
                  </a:lnTo>
                  <a:lnTo>
                    <a:pt x="90" y="70"/>
                  </a:lnTo>
                  <a:lnTo>
                    <a:pt x="78" y="76"/>
                  </a:lnTo>
                  <a:lnTo>
                    <a:pt x="75" y="76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70" y="95"/>
                  </a:lnTo>
                  <a:lnTo>
                    <a:pt x="59" y="99"/>
                  </a:lnTo>
                  <a:lnTo>
                    <a:pt x="59" y="151"/>
                  </a:lnTo>
                  <a:lnTo>
                    <a:pt x="70" y="166"/>
                  </a:lnTo>
                  <a:lnTo>
                    <a:pt x="78" y="178"/>
                  </a:lnTo>
                  <a:lnTo>
                    <a:pt x="23" y="178"/>
                  </a:lnTo>
                  <a:lnTo>
                    <a:pt x="23" y="151"/>
                  </a:lnTo>
                  <a:lnTo>
                    <a:pt x="7" y="146"/>
                  </a:lnTo>
                  <a:lnTo>
                    <a:pt x="0" y="135"/>
                  </a:lnTo>
                  <a:lnTo>
                    <a:pt x="14" y="121"/>
                  </a:lnTo>
                  <a:lnTo>
                    <a:pt x="14" y="111"/>
                  </a:lnTo>
                  <a:lnTo>
                    <a:pt x="23" y="85"/>
                  </a:lnTo>
                  <a:lnTo>
                    <a:pt x="38" y="65"/>
                  </a:lnTo>
                  <a:lnTo>
                    <a:pt x="33" y="49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78" y="29"/>
                  </a:lnTo>
                  <a:lnTo>
                    <a:pt x="104" y="20"/>
                  </a:lnTo>
                  <a:lnTo>
                    <a:pt x="157" y="13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05" y="13"/>
                  </a:lnTo>
                  <a:lnTo>
                    <a:pt x="198" y="20"/>
                  </a:lnTo>
                  <a:lnTo>
                    <a:pt x="177" y="20"/>
                  </a:lnTo>
                  <a:lnTo>
                    <a:pt x="146" y="29"/>
                  </a:lnTo>
                  <a:lnTo>
                    <a:pt x="137" y="34"/>
                  </a:lnTo>
                  <a:lnTo>
                    <a:pt x="120" y="4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5960" y="2638080"/>
              <a:ext cx="26280" cy="471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10" y="25"/>
                  </a:lnTo>
                  <a:lnTo>
                    <a:pt x="10" y="30"/>
                  </a:lnTo>
                  <a:lnTo>
                    <a:pt x="17" y="42"/>
                  </a:lnTo>
                  <a:lnTo>
                    <a:pt x="17" y="30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5760" y="4853880"/>
              <a:ext cx="24840" cy="19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3" y="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16" y="9"/>
                  </a:lnTo>
                  <a:lnTo>
                    <a:pt x="22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1160" y="342396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1880" y="3393360"/>
              <a:ext cx="60480" cy="5148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31" y="30"/>
                  </a:moveTo>
                  <a:lnTo>
                    <a:pt x="47" y="25"/>
                  </a:lnTo>
                  <a:lnTo>
                    <a:pt x="54" y="18"/>
                  </a:lnTo>
                  <a:lnTo>
                    <a:pt x="31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30"/>
                  </a:lnTo>
                  <a:lnTo>
                    <a:pt x="9" y="46"/>
                  </a:lnTo>
                  <a:lnTo>
                    <a:pt x="14" y="30"/>
                  </a:lnTo>
                  <a:lnTo>
                    <a:pt x="31" y="3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5800" y="3393360"/>
              <a:ext cx="47160" cy="403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29"/>
                  </a:moveTo>
                  <a:lnTo>
                    <a:pt x="7" y="36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9" y="13"/>
                  </a:lnTo>
                  <a:lnTo>
                    <a:pt x="19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2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2000" y="3416400"/>
              <a:ext cx="40320" cy="183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14" y="16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800" y="485388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18" y="8"/>
                  </a:lnTo>
                  <a:lnTo>
                    <a:pt x="18" y="17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7680" y="3328560"/>
              <a:ext cx="174600" cy="6552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51" y="18"/>
                  </a:moveTo>
                  <a:lnTo>
                    <a:pt x="62" y="18"/>
                  </a:lnTo>
                  <a:lnTo>
                    <a:pt x="72" y="28"/>
                  </a:lnTo>
                  <a:lnTo>
                    <a:pt x="82" y="28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51" y="59"/>
                  </a:lnTo>
                  <a:lnTo>
                    <a:pt x="158" y="48"/>
                  </a:lnTo>
                  <a:lnTo>
                    <a:pt x="130" y="28"/>
                  </a:lnTo>
                  <a:lnTo>
                    <a:pt x="103" y="18"/>
                  </a:lnTo>
                  <a:lnTo>
                    <a:pt x="66" y="9"/>
                  </a:lnTo>
                  <a:lnTo>
                    <a:pt x="56" y="0"/>
                  </a:lnTo>
                  <a:lnTo>
                    <a:pt x="30" y="4"/>
                  </a:lnTo>
                  <a:lnTo>
                    <a:pt x="10" y="4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51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8080" y="2562480"/>
              <a:ext cx="41760" cy="183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9"/>
                  </a:moveTo>
                  <a:lnTo>
                    <a:pt x="8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2320" y="26074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0" y="28"/>
                  </a:moveTo>
                  <a:lnTo>
                    <a:pt x="29" y="17"/>
                  </a:lnTo>
                  <a:lnTo>
                    <a:pt x="38" y="13"/>
                  </a:lnTo>
                  <a:lnTo>
                    <a:pt x="66" y="8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38" y="3"/>
                  </a:lnTo>
                  <a:lnTo>
                    <a:pt x="23" y="17"/>
                  </a:lnTo>
                  <a:lnTo>
                    <a:pt x="0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9880" y="2493360"/>
              <a:ext cx="26280" cy="20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49280" y="2401920"/>
              <a:ext cx="31680" cy="230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5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8" y="5"/>
                  </a:lnTo>
                  <a:lnTo>
                    <a:pt x="19" y="2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0480" y="2729520"/>
              <a:ext cx="53640" cy="514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4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7" y="30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48" y="34"/>
                  </a:lnTo>
                  <a:lnTo>
                    <a:pt x="31" y="25"/>
                  </a:lnTo>
                  <a:lnTo>
                    <a:pt x="14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85600" y="2906280"/>
              <a:ext cx="169560" cy="18108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9" y="142"/>
                  </a:moveTo>
                  <a:lnTo>
                    <a:pt x="31" y="142"/>
                  </a:lnTo>
                  <a:lnTo>
                    <a:pt x="21" y="157"/>
                  </a:lnTo>
                  <a:lnTo>
                    <a:pt x="31" y="164"/>
                  </a:lnTo>
                  <a:lnTo>
                    <a:pt x="58" y="142"/>
                  </a:lnTo>
                  <a:lnTo>
                    <a:pt x="64" y="142"/>
                  </a:lnTo>
                  <a:lnTo>
                    <a:pt x="58" y="137"/>
                  </a:lnTo>
                  <a:lnTo>
                    <a:pt x="58" y="132"/>
                  </a:lnTo>
                  <a:lnTo>
                    <a:pt x="64" y="132"/>
                  </a:lnTo>
                  <a:lnTo>
                    <a:pt x="76" y="142"/>
                  </a:lnTo>
                  <a:lnTo>
                    <a:pt x="86" y="137"/>
                  </a:lnTo>
                  <a:lnTo>
                    <a:pt x="91" y="127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6" y="106"/>
                  </a:lnTo>
                  <a:lnTo>
                    <a:pt x="146" y="50"/>
                  </a:lnTo>
                  <a:lnTo>
                    <a:pt x="153" y="40"/>
                  </a:lnTo>
                  <a:lnTo>
                    <a:pt x="153" y="24"/>
                  </a:lnTo>
                  <a:lnTo>
                    <a:pt x="135" y="0"/>
                  </a:lnTo>
                  <a:lnTo>
                    <a:pt x="119" y="5"/>
                  </a:lnTo>
                  <a:lnTo>
                    <a:pt x="119" y="20"/>
                  </a:lnTo>
                  <a:lnTo>
                    <a:pt x="124" y="29"/>
                  </a:lnTo>
                  <a:lnTo>
                    <a:pt x="114" y="60"/>
                  </a:lnTo>
                  <a:lnTo>
                    <a:pt x="96" y="76"/>
                  </a:lnTo>
                  <a:lnTo>
                    <a:pt x="91" y="85"/>
                  </a:lnTo>
                  <a:lnTo>
                    <a:pt x="86" y="76"/>
                  </a:lnTo>
                  <a:lnTo>
                    <a:pt x="69" y="102"/>
                  </a:lnTo>
                  <a:lnTo>
                    <a:pt x="64" y="106"/>
                  </a:lnTo>
                  <a:lnTo>
                    <a:pt x="31" y="106"/>
                  </a:lnTo>
                  <a:lnTo>
                    <a:pt x="9" y="116"/>
                  </a:lnTo>
                  <a:lnTo>
                    <a:pt x="0" y="132"/>
                  </a:lnTo>
                  <a:lnTo>
                    <a:pt x="9" y="1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6840" y="2811960"/>
              <a:ext cx="87840" cy="846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54"/>
                  </a:moveTo>
                  <a:lnTo>
                    <a:pt x="3" y="39"/>
                  </a:lnTo>
                  <a:lnTo>
                    <a:pt x="15" y="39"/>
                  </a:lnTo>
                  <a:lnTo>
                    <a:pt x="20" y="28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50" y="13"/>
                  </a:lnTo>
                  <a:lnTo>
                    <a:pt x="72" y="19"/>
                  </a:lnTo>
                  <a:lnTo>
                    <a:pt x="79" y="33"/>
                  </a:lnTo>
                  <a:lnTo>
                    <a:pt x="62" y="54"/>
                  </a:lnTo>
                  <a:lnTo>
                    <a:pt x="50" y="64"/>
                  </a:lnTo>
                  <a:lnTo>
                    <a:pt x="40" y="54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9" y="76"/>
                  </a:lnTo>
                  <a:lnTo>
                    <a:pt x="3" y="64"/>
                  </a:lnTo>
                  <a:lnTo>
                    <a:pt x="9" y="60"/>
                  </a:lnTo>
                  <a:lnTo>
                    <a:pt x="3" y="60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3640" y="3048120"/>
              <a:ext cx="72360" cy="2844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65" y="25"/>
                  </a:moveTo>
                  <a:lnTo>
                    <a:pt x="24" y="18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52" y="14"/>
                  </a:lnTo>
                  <a:lnTo>
                    <a:pt x="65" y="2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2000" y="2886840"/>
              <a:ext cx="24840" cy="9540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8" y="0"/>
                  </a:moveTo>
                  <a:lnTo>
                    <a:pt x="16" y="9"/>
                  </a:lnTo>
                  <a:lnTo>
                    <a:pt x="11" y="24"/>
                  </a:lnTo>
                  <a:lnTo>
                    <a:pt x="8" y="38"/>
                  </a:lnTo>
                  <a:lnTo>
                    <a:pt x="22" y="45"/>
                  </a:lnTo>
                  <a:lnTo>
                    <a:pt x="22" y="75"/>
                  </a:lnTo>
                  <a:lnTo>
                    <a:pt x="11" y="79"/>
                  </a:lnTo>
                  <a:lnTo>
                    <a:pt x="3" y="86"/>
                  </a:lnTo>
                  <a:lnTo>
                    <a:pt x="0" y="69"/>
                  </a:lnTo>
                  <a:lnTo>
                    <a:pt x="0" y="45"/>
                  </a:lnTo>
                  <a:lnTo>
                    <a:pt x="8" y="38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6960" y="2959200"/>
              <a:ext cx="2088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0" y="6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1880" y="2517480"/>
              <a:ext cx="122040" cy="203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13" y="184"/>
                  </a:moveTo>
                  <a:lnTo>
                    <a:pt x="77" y="184"/>
                  </a:lnTo>
                  <a:lnTo>
                    <a:pt x="97" y="172"/>
                  </a:lnTo>
                  <a:lnTo>
                    <a:pt x="110" y="131"/>
                  </a:lnTo>
                  <a:lnTo>
                    <a:pt x="97" y="126"/>
                  </a:lnTo>
                  <a:lnTo>
                    <a:pt x="93" y="121"/>
                  </a:lnTo>
                  <a:lnTo>
                    <a:pt x="97" y="131"/>
                  </a:lnTo>
                  <a:lnTo>
                    <a:pt x="87" y="131"/>
                  </a:lnTo>
                  <a:lnTo>
                    <a:pt x="87" y="105"/>
                  </a:lnTo>
                  <a:lnTo>
                    <a:pt x="66" y="80"/>
                  </a:lnTo>
                  <a:lnTo>
                    <a:pt x="61" y="64"/>
                  </a:lnTo>
                  <a:lnTo>
                    <a:pt x="51" y="55"/>
                  </a:lnTo>
                  <a:lnTo>
                    <a:pt x="46" y="34"/>
                  </a:lnTo>
                  <a:lnTo>
                    <a:pt x="51" y="23"/>
                  </a:lnTo>
                  <a:lnTo>
                    <a:pt x="24" y="13"/>
                  </a:lnTo>
                  <a:lnTo>
                    <a:pt x="24" y="0"/>
                  </a:lnTo>
                  <a:lnTo>
                    <a:pt x="7" y="4"/>
                  </a:lnTo>
                  <a:lnTo>
                    <a:pt x="0" y="28"/>
                  </a:lnTo>
                  <a:lnTo>
                    <a:pt x="0" y="50"/>
                  </a:lnTo>
                  <a:lnTo>
                    <a:pt x="7" y="55"/>
                  </a:lnTo>
                  <a:lnTo>
                    <a:pt x="7" y="64"/>
                  </a:lnTo>
                  <a:lnTo>
                    <a:pt x="13" y="75"/>
                  </a:lnTo>
                  <a:lnTo>
                    <a:pt x="20" y="86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4" y="105"/>
                  </a:lnTo>
                  <a:lnTo>
                    <a:pt x="40" y="105"/>
                  </a:lnTo>
                  <a:lnTo>
                    <a:pt x="34" y="115"/>
                  </a:lnTo>
                  <a:lnTo>
                    <a:pt x="20" y="126"/>
                  </a:lnTo>
                  <a:lnTo>
                    <a:pt x="20" y="141"/>
                  </a:lnTo>
                  <a:lnTo>
                    <a:pt x="7" y="157"/>
                  </a:lnTo>
                  <a:lnTo>
                    <a:pt x="20" y="172"/>
                  </a:lnTo>
                  <a:lnTo>
                    <a:pt x="13" y="18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5200" y="2599920"/>
              <a:ext cx="85680" cy="9108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0" y="75"/>
                  </a:moveTo>
                  <a:lnTo>
                    <a:pt x="0" y="66"/>
                  </a:lnTo>
                  <a:lnTo>
                    <a:pt x="9" y="51"/>
                  </a:lnTo>
                  <a:lnTo>
                    <a:pt x="0" y="39"/>
                  </a:lnTo>
                  <a:lnTo>
                    <a:pt x="15" y="20"/>
                  </a:lnTo>
                  <a:lnTo>
                    <a:pt x="26" y="14"/>
                  </a:lnTo>
                  <a:lnTo>
                    <a:pt x="26" y="5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77" y="20"/>
                  </a:lnTo>
                  <a:lnTo>
                    <a:pt x="64" y="29"/>
                  </a:lnTo>
                  <a:lnTo>
                    <a:pt x="64" y="66"/>
                  </a:lnTo>
                  <a:lnTo>
                    <a:pt x="37" y="82"/>
                  </a:lnTo>
                  <a:lnTo>
                    <a:pt x="0" y="82"/>
                  </a:lnTo>
                  <a:lnTo>
                    <a:pt x="0" y="7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79120" y="3063600"/>
              <a:ext cx="23040" cy="590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14"/>
                  </a:moveTo>
                  <a:lnTo>
                    <a:pt x="10" y="0"/>
                  </a:lnTo>
                  <a:lnTo>
                    <a:pt x="14" y="4"/>
                  </a:lnTo>
                  <a:lnTo>
                    <a:pt x="20" y="14"/>
                  </a:lnTo>
                  <a:lnTo>
                    <a:pt x="14" y="24"/>
                  </a:lnTo>
                  <a:lnTo>
                    <a:pt x="10" y="53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77040" y="2599920"/>
              <a:ext cx="70560" cy="190800"/>
            </a:xfrm>
            <a:custGeom>
              <a:avLst/>
              <a:gdLst/>
              <a:ahLst/>
              <a:rect l="l" t="t" r="r" b="b"/>
              <a:pathLst>
                <a:path w="64" h="174">
                  <a:moveTo>
                    <a:pt x="34" y="173"/>
                  </a:moveTo>
                  <a:lnTo>
                    <a:pt x="30" y="147"/>
                  </a:lnTo>
                  <a:lnTo>
                    <a:pt x="30" y="142"/>
                  </a:lnTo>
                  <a:lnTo>
                    <a:pt x="19" y="135"/>
                  </a:lnTo>
                  <a:lnTo>
                    <a:pt x="13" y="6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24"/>
                  </a:lnTo>
                  <a:lnTo>
                    <a:pt x="24" y="55"/>
                  </a:lnTo>
                  <a:lnTo>
                    <a:pt x="51" y="100"/>
                  </a:lnTo>
                  <a:lnTo>
                    <a:pt x="56" y="107"/>
                  </a:lnTo>
                  <a:lnTo>
                    <a:pt x="56" y="116"/>
                  </a:lnTo>
                  <a:lnTo>
                    <a:pt x="63" y="116"/>
                  </a:lnTo>
                  <a:lnTo>
                    <a:pt x="56" y="116"/>
                  </a:lnTo>
                  <a:lnTo>
                    <a:pt x="41" y="107"/>
                  </a:lnTo>
                  <a:lnTo>
                    <a:pt x="30" y="116"/>
                  </a:lnTo>
                  <a:lnTo>
                    <a:pt x="34" y="142"/>
                  </a:lnTo>
                  <a:lnTo>
                    <a:pt x="45" y="147"/>
                  </a:lnTo>
                  <a:lnTo>
                    <a:pt x="51" y="161"/>
                  </a:lnTo>
                  <a:lnTo>
                    <a:pt x="34" y="17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85440" y="2996640"/>
              <a:ext cx="47160" cy="306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6" y="0"/>
                  </a:moveTo>
                  <a:lnTo>
                    <a:pt x="0" y="0"/>
                  </a:lnTo>
                  <a:lnTo>
                    <a:pt x="19" y="21"/>
                  </a:lnTo>
                  <a:lnTo>
                    <a:pt x="42" y="27"/>
                  </a:lnTo>
                  <a:lnTo>
                    <a:pt x="3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640" y="4424040"/>
              <a:ext cx="82440" cy="151560"/>
            </a:xfrm>
            <a:custGeom>
              <a:avLst/>
              <a:gdLst/>
              <a:ahLst/>
              <a:rect l="l" t="t" r="r" b="b"/>
              <a:pathLst>
                <a:path w="75" h="138">
                  <a:moveTo>
                    <a:pt x="19" y="55"/>
                  </a:moveTo>
                  <a:lnTo>
                    <a:pt x="14" y="79"/>
                  </a:lnTo>
                  <a:lnTo>
                    <a:pt x="0" y="100"/>
                  </a:lnTo>
                  <a:lnTo>
                    <a:pt x="14" y="121"/>
                  </a:lnTo>
                  <a:lnTo>
                    <a:pt x="14" y="137"/>
                  </a:lnTo>
                  <a:lnTo>
                    <a:pt x="56" y="85"/>
                  </a:lnTo>
                  <a:lnTo>
                    <a:pt x="74" y="70"/>
                  </a:lnTo>
                  <a:lnTo>
                    <a:pt x="45" y="59"/>
                  </a:lnTo>
                  <a:lnTo>
                    <a:pt x="45" y="44"/>
                  </a:lnTo>
                  <a:lnTo>
                    <a:pt x="30" y="44"/>
                  </a:lnTo>
                  <a:lnTo>
                    <a:pt x="23" y="4"/>
                  </a:lnTo>
                  <a:lnTo>
                    <a:pt x="3" y="0"/>
                  </a:lnTo>
                  <a:lnTo>
                    <a:pt x="19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4880" y="4138560"/>
              <a:ext cx="48240" cy="468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13" y="0"/>
                  </a:lnTo>
                  <a:lnTo>
                    <a:pt x="36" y="25"/>
                  </a:lnTo>
                  <a:lnTo>
                    <a:pt x="43" y="35"/>
                  </a:lnTo>
                  <a:lnTo>
                    <a:pt x="43" y="42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3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14560" y="4566960"/>
              <a:ext cx="57960" cy="69120"/>
            </a:xfrm>
            <a:custGeom>
              <a:avLst/>
              <a:gdLst/>
              <a:ahLst/>
              <a:rect l="l" t="t" r="r" b="b"/>
              <a:pathLst>
                <a:path w="53" h="63">
                  <a:moveTo>
                    <a:pt x="0" y="19"/>
                  </a:moveTo>
                  <a:lnTo>
                    <a:pt x="3" y="4"/>
                  </a:lnTo>
                  <a:lnTo>
                    <a:pt x="23" y="4"/>
                  </a:lnTo>
                  <a:lnTo>
                    <a:pt x="52" y="0"/>
                  </a:lnTo>
                  <a:lnTo>
                    <a:pt x="52" y="31"/>
                  </a:lnTo>
                  <a:lnTo>
                    <a:pt x="18" y="62"/>
                  </a:lnTo>
                  <a:lnTo>
                    <a:pt x="9" y="55"/>
                  </a:lnTo>
                  <a:lnTo>
                    <a:pt x="3" y="36"/>
                  </a:lnTo>
                  <a:lnTo>
                    <a:pt x="0" y="1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68400" y="3747240"/>
              <a:ext cx="335160" cy="206280"/>
            </a:xfrm>
            <a:custGeom>
              <a:avLst/>
              <a:gdLst/>
              <a:ahLst/>
              <a:rect l="l" t="t" r="r" b="b"/>
              <a:pathLst>
                <a:path w="305" h="188">
                  <a:moveTo>
                    <a:pt x="304" y="187"/>
                  </a:moveTo>
                  <a:lnTo>
                    <a:pt x="290" y="187"/>
                  </a:lnTo>
                  <a:lnTo>
                    <a:pt x="261" y="175"/>
                  </a:lnTo>
                  <a:lnTo>
                    <a:pt x="228" y="140"/>
                  </a:lnTo>
                  <a:lnTo>
                    <a:pt x="219" y="131"/>
                  </a:lnTo>
                  <a:lnTo>
                    <a:pt x="181" y="160"/>
                  </a:lnTo>
                  <a:lnTo>
                    <a:pt x="138" y="160"/>
                  </a:lnTo>
                  <a:lnTo>
                    <a:pt x="112" y="144"/>
                  </a:lnTo>
                  <a:lnTo>
                    <a:pt x="103" y="144"/>
                  </a:lnTo>
                  <a:lnTo>
                    <a:pt x="103" y="135"/>
                  </a:lnTo>
                  <a:lnTo>
                    <a:pt x="112" y="120"/>
                  </a:lnTo>
                  <a:lnTo>
                    <a:pt x="109" y="109"/>
                  </a:lnTo>
                  <a:lnTo>
                    <a:pt x="92" y="89"/>
                  </a:lnTo>
                  <a:lnTo>
                    <a:pt x="40" y="68"/>
                  </a:lnTo>
                  <a:lnTo>
                    <a:pt x="24" y="68"/>
                  </a:lnTo>
                  <a:lnTo>
                    <a:pt x="19" y="54"/>
                  </a:lnTo>
                  <a:lnTo>
                    <a:pt x="24" y="4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4" y="0"/>
                  </a:lnTo>
                  <a:lnTo>
                    <a:pt x="40" y="13"/>
                  </a:lnTo>
                  <a:lnTo>
                    <a:pt x="46" y="40"/>
                  </a:lnTo>
                  <a:lnTo>
                    <a:pt x="60" y="44"/>
                  </a:lnTo>
                  <a:lnTo>
                    <a:pt x="87" y="33"/>
                  </a:lnTo>
                  <a:lnTo>
                    <a:pt x="97" y="23"/>
                  </a:lnTo>
                  <a:lnTo>
                    <a:pt x="207" y="64"/>
                  </a:lnTo>
                  <a:lnTo>
                    <a:pt x="219" y="76"/>
                  </a:lnTo>
                  <a:lnTo>
                    <a:pt x="222" y="76"/>
                  </a:lnTo>
                  <a:lnTo>
                    <a:pt x="228" y="89"/>
                  </a:lnTo>
                  <a:lnTo>
                    <a:pt x="248" y="99"/>
                  </a:lnTo>
                  <a:lnTo>
                    <a:pt x="261" y="109"/>
                  </a:lnTo>
                  <a:lnTo>
                    <a:pt x="248" y="125"/>
                  </a:lnTo>
                  <a:lnTo>
                    <a:pt x="271" y="151"/>
                  </a:lnTo>
                  <a:lnTo>
                    <a:pt x="285" y="155"/>
                  </a:lnTo>
                  <a:lnTo>
                    <a:pt x="304" y="175"/>
                  </a:lnTo>
                  <a:lnTo>
                    <a:pt x="304" y="18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5400" y="3836160"/>
              <a:ext cx="68040" cy="230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3"/>
                  </a:moveTo>
                  <a:lnTo>
                    <a:pt x="3" y="9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4" y="0"/>
                  </a:lnTo>
                  <a:lnTo>
                    <a:pt x="61" y="4"/>
                  </a:lnTo>
                  <a:lnTo>
                    <a:pt x="54" y="13"/>
                  </a:lnTo>
                  <a:lnTo>
                    <a:pt x="38" y="20"/>
                  </a:lnTo>
                  <a:lnTo>
                    <a:pt x="3" y="20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5480" y="3909960"/>
              <a:ext cx="66960" cy="43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60" y="0"/>
                  </a:moveTo>
                  <a:lnTo>
                    <a:pt x="48" y="13"/>
                  </a:lnTo>
                  <a:lnTo>
                    <a:pt x="28" y="28"/>
                  </a:lnTo>
                  <a:lnTo>
                    <a:pt x="17" y="28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38" y="4"/>
                  </a:lnTo>
                  <a:lnTo>
                    <a:pt x="6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080" y="3909960"/>
              <a:ext cx="37080" cy="19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14" y="17"/>
                  </a:lnTo>
                  <a:lnTo>
                    <a:pt x="17" y="5"/>
                  </a:lnTo>
                  <a:lnTo>
                    <a:pt x="33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12560" y="3795480"/>
              <a:ext cx="30600" cy="360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0"/>
                  </a:moveTo>
                  <a:lnTo>
                    <a:pt x="9" y="4"/>
                  </a:lnTo>
                  <a:lnTo>
                    <a:pt x="27" y="19"/>
                  </a:lnTo>
                  <a:lnTo>
                    <a:pt x="27" y="32"/>
                  </a:lnTo>
                  <a:lnTo>
                    <a:pt x="14" y="19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9080" y="3795480"/>
              <a:ext cx="45000" cy="20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8"/>
                  </a:moveTo>
                  <a:lnTo>
                    <a:pt x="21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40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1080" y="3713040"/>
              <a:ext cx="24120" cy="417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7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21" y="4"/>
                  </a:lnTo>
                  <a:lnTo>
                    <a:pt x="0" y="3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8440" y="3713040"/>
              <a:ext cx="118440" cy="13932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34" y="79"/>
                  </a:moveTo>
                  <a:lnTo>
                    <a:pt x="40" y="84"/>
                  </a:lnTo>
                  <a:lnTo>
                    <a:pt x="40" y="89"/>
                  </a:lnTo>
                  <a:lnTo>
                    <a:pt x="51" y="114"/>
                  </a:lnTo>
                  <a:lnTo>
                    <a:pt x="58" y="110"/>
                  </a:lnTo>
                  <a:lnTo>
                    <a:pt x="63" y="99"/>
                  </a:lnTo>
                  <a:lnTo>
                    <a:pt x="58" y="8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68" y="53"/>
                  </a:lnTo>
                  <a:lnTo>
                    <a:pt x="68" y="39"/>
                  </a:lnTo>
                  <a:lnTo>
                    <a:pt x="63" y="39"/>
                  </a:lnTo>
                  <a:lnTo>
                    <a:pt x="34" y="44"/>
                  </a:lnTo>
                  <a:lnTo>
                    <a:pt x="25" y="34"/>
                  </a:lnTo>
                  <a:lnTo>
                    <a:pt x="40" y="24"/>
                  </a:lnTo>
                  <a:lnTo>
                    <a:pt x="88" y="24"/>
                  </a:lnTo>
                  <a:lnTo>
                    <a:pt x="100" y="9"/>
                  </a:lnTo>
                  <a:lnTo>
                    <a:pt x="107" y="4"/>
                  </a:lnTo>
                  <a:lnTo>
                    <a:pt x="73" y="4"/>
                  </a:lnTo>
                  <a:lnTo>
                    <a:pt x="46" y="0"/>
                  </a:lnTo>
                  <a:lnTo>
                    <a:pt x="25" y="9"/>
                  </a:lnTo>
                  <a:lnTo>
                    <a:pt x="20" y="24"/>
                  </a:lnTo>
                  <a:lnTo>
                    <a:pt x="20" y="34"/>
                  </a:lnTo>
                  <a:lnTo>
                    <a:pt x="14" y="44"/>
                  </a:lnTo>
                  <a:lnTo>
                    <a:pt x="3" y="70"/>
                  </a:lnTo>
                  <a:lnTo>
                    <a:pt x="0" y="79"/>
                  </a:lnTo>
                  <a:lnTo>
                    <a:pt x="10" y="93"/>
                  </a:lnTo>
                  <a:lnTo>
                    <a:pt x="10" y="119"/>
                  </a:lnTo>
                  <a:lnTo>
                    <a:pt x="14" y="126"/>
                  </a:lnTo>
                  <a:lnTo>
                    <a:pt x="25" y="114"/>
                  </a:lnTo>
                  <a:lnTo>
                    <a:pt x="34" y="7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200" y="3533040"/>
              <a:ext cx="26280" cy="468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42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12" y="19"/>
                  </a:lnTo>
                  <a:lnTo>
                    <a:pt x="0" y="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47440" y="3499920"/>
              <a:ext cx="20880" cy="482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7" y="43"/>
                  </a:moveTo>
                  <a:lnTo>
                    <a:pt x="7" y="15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7" y="4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8920" y="3561480"/>
              <a:ext cx="76680" cy="741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9" y="20"/>
                  </a:moveTo>
                  <a:lnTo>
                    <a:pt x="30" y="20"/>
                  </a:lnTo>
                  <a:lnTo>
                    <a:pt x="41" y="9"/>
                  </a:lnTo>
                  <a:lnTo>
                    <a:pt x="57" y="0"/>
                  </a:lnTo>
                  <a:lnTo>
                    <a:pt x="69" y="24"/>
                  </a:lnTo>
                  <a:lnTo>
                    <a:pt x="69" y="44"/>
                  </a:lnTo>
                  <a:lnTo>
                    <a:pt x="57" y="49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30" y="49"/>
                  </a:lnTo>
                  <a:lnTo>
                    <a:pt x="35" y="34"/>
                  </a:lnTo>
                  <a:lnTo>
                    <a:pt x="23" y="30"/>
                  </a:lnTo>
                  <a:lnTo>
                    <a:pt x="15" y="34"/>
                  </a:lnTo>
                  <a:lnTo>
                    <a:pt x="0" y="40"/>
                  </a:lnTo>
                  <a:lnTo>
                    <a:pt x="9" y="2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8920" y="3525120"/>
              <a:ext cx="20880" cy="370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3"/>
                  </a:moveTo>
                  <a:lnTo>
                    <a:pt x="11" y="26"/>
                  </a:lnTo>
                  <a:lnTo>
                    <a:pt x="11" y="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8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920" y="3472560"/>
              <a:ext cx="27360" cy="19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13" y="17"/>
                  </a:lnTo>
                  <a:lnTo>
                    <a:pt x="24" y="9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2760" y="3379320"/>
              <a:ext cx="52560" cy="121680"/>
            </a:xfrm>
            <a:custGeom>
              <a:avLst/>
              <a:gdLst/>
              <a:ahLst/>
              <a:rect l="l" t="t" r="r" b="b"/>
              <a:pathLst>
                <a:path w="48" h="111">
                  <a:moveTo>
                    <a:pt x="0" y="54"/>
                  </a:moveTo>
                  <a:lnTo>
                    <a:pt x="5" y="44"/>
                  </a:lnTo>
                  <a:lnTo>
                    <a:pt x="5" y="9"/>
                  </a:lnTo>
                  <a:lnTo>
                    <a:pt x="11" y="0"/>
                  </a:lnTo>
                  <a:lnTo>
                    <a:pt x="29" y="9"/>
                  </a:lnTo>
                  <a:lnTo>
                    <a:pt x="34" y="9"/>
                  </a:lnTo>
                  <a:lnTo>
                    <a:pt x="47" y="39"/>
                  </a:lnTo>
                  <a:lnTo>
                    <a:pt x="34" y="59"/>
                  </a:lnTo>
                  <a:lnTo>
                    <a:pt x="34" y="84"/>
                  </a:lnTo>
                  <a:lnTo>
                    <a:pt x="41" y="94"/>
                  </a:lnTo>
                  <a:lnTo>
                    <a:pt x="34" y="110"/>
                  </a:lnTo>
                  <a:lnTo>
                    <a:pt x="29" y="110"/>
                  </a:lnTo>
                  <a:lnTo>
                    <a:pt x="22" y="103"/>
                  </a:lnTo>
                  <a:lnTo>
                    <a:pt x="11" y="74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8440" y="3249360"/>
              <a:ext cx="20880" cy="6120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11" y="55"/>
                  </a:moveTo>
                  <a:lnTo>
                    <a:pt x="4" y="48"/>
                  </a:lnTo>
                  <a:lnTo>
                    <a:pt x="0" y="39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18" y="39"/>
                  </a:lnTo>
                  <a:lnTo>
                    <a:pt x="11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3080" y="4006440"/>
              <a:ext cx="125280" cy="259200"/>
            </a:xfrm>
            <a:custGeom>
              <a:avLst/>
              <a:gdLst/>
              <a:ahLst/>
              <a:rect l="l" t="t" r="r" b="b"/>
              <a:pathLst>
                <a:path w="114" h="236">
                  <a:moveTo>
                    <a:pt x="0" y="209"/>
                  </a:moveTo>
                  <a:lnTo>
                    <a:pt x="3" y="173"/>
                  </a:lnTo>
                  <a:lnTo>
                    <a:pt x="3" y="152"/>
                  </a:lnTo>
                  <a:lnTo>
                    <a:pt x="14" y="126"/>
                  </a:lnTo>
                  <a:lnTo>
                    <a:pt x="7" y="90"/>
                  </a:lnTo>
                  <a:lnTo>
                    <a:pt x="19" y="64"/>
                  </a:lnTo>
                  <a:lnTo>
                    <a:pt x="38" y="59"/>
                  </a:lnTo>
                  <a:lnTo>
                    <a:pt x="45" y="50"/>
                  </a:lnTo>
                  <a:lnTo>
                    <a:pt x="61" y="40"/>
                  </a:lnTo>
                  <a:lnTo>
                    <a:pt x="70" y="29"/>
                  </a:lnTo>
                  <a:lnTo>
                    <a:pt x="75" y="13"/>
                  </a:lnTo>
                  <a:lnTo>
                    <a:pt x="96" y="0"/>
                  </a:lnTo>
                  <a:lnTo>
                    <a:pt x="113" y="24"/>
                  </a:lnTo>
                  <a:lnTo>
                    <a:pt x="113" y="50"/>
                  </a:lnTo>
                  <a:lnTo>
                    <a:pt x="101" y="71"/>
                  </a:lnTo>
                  <a:lnTo>
                    <a:pt x="101" y="95"/>
                  </a:lnTo>
                  <a:lnTo>
                    <a:pt x="75" y="142"/>
                  </a:lnTo>
                  <a:lnTo>
                    <a:pt x="64" y="188"/>
                  </a:lnTo>
                  <a:lnTo>
                    <a:pt x="61" y="223"/>
                  </a:lnTo>
                  <a:lnTo>
                    <a:pt x="22" y="235"/>
                  </a:lnTo>
                  <a:lnTo>
                    <a:pt x="7" y="228"/>
                  </a:lnTo>
                  <a:lnTo>
                    <a:pt x="3" y="213"/>
                  </a:lnTo>
                  <a:lnTo>
                    <a:pt x="0" y="20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80320" y="3610080"/>
              <a:ext cx="183240" cy="216000"/>
            </a:xfrm>
            <a:custGeom>
              <a:avLst/>
              <a:gdLst/>
              <a:ahLst/>
              <a:rect l="l" t="t" r="r" b="b"/>
              <a:pathLst>
                <a:path w="167" h="197">
                  <a:moveTo>
                    <a:pt x="0" y="102"/>
                  </a:moveTo>
                  <a:lnTo>
                    <a:pt x="14" y="97"/>
                  </a:lnTo>
                  <a:lnTo>
                    <a:pt x="39" y="71"/>
                  </a:lnTo>
                  <a:lnTo>
                    <a:pt x="65" y="61"/>
                  </a:lnTo>
                  <a:lnTo>
                    <a:pt x="86" y="40"/>
                  </a:lnTo>
                  <a:lnTo>
                    <a:pt x="102" y="34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59" y="20"/>
                  </a:lnTo>
                  <a:lnTo>
                    <a:pt x="166" y="20"/>
                  </a:lnTo>
                  <a:lnTo>
                    <a:pt x="166" y="30"/>
                  </a:lnTo>
                  <a:lnTo>
                    <a:pt x="143" y="56"/>
                  </a:lnTo>
                  <a:lnTo>
                    <a:pt x="148" y="81"/>
                  </a:lnTo>
                  <a:lnTo>
                    <a:pt x="153" y="91"/>
                  </a:lnTo>
                  <a:lnTo>
                    <a:pt x="166" y="97"/>
                  </a:lnTo>
                  <a:lnTo>
                    <a:pt x="143" y="118"/>
                  </a:lnTo>
                  <a:lnTo>
                    <a:pt x="137" y="133"/>
                  </a:lnTo>
                  <a:lnTo>
                    <a:pt x="128" y="148"/>
                  </a:lnTo>
                  <a:lnTo>
                    <a:pt x="116" y="179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76" y="184"/>
                  </a:lnTo>
                  <a:lnTo>
                    <a:pt x="49" y="184"/>
                  </a:lnTo>
                  <a:lnTo>
                    <a:pt x="39" y="179"/>
                  </a:lnTo>
                  <a:lnTo>
                    <a:pt x="34" y="184"/>
                  </a:lnTo>
                  <a:lnTo>
                    <a:pt x="23" y="174"/>
                  </a:lnTo>
                  <a:lnTo>
                    <a:pt x="19" y="164"/>
                  </a:lnTo>
                  <a:lnTo>
                    <a:pt x="7" y="148"/>
                  </a:lnTo>
                  <a:lnTo>
                    <a:pt x="3" y="123"/>
                  </a:lnTo>
                  <a:lnTo>
                    <a:pt x="0" y="10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8680" y="3567960"/>
              <a:ext cx="55800" cy="6768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9" y="0"/>
                  </a:moveTo>
                  <a:lnTo>
                    <a:pt x="0" y="39"/>
                  </a:lnTo>
                  <a:lnTo>
                    <a:pt x="17" y="61"/>
                  </a:lnTo>
                  <a:lnTo>
                    <a:pt x="26" y="61"/>
                  </a:lnTo>
                  <a:lnTo>
                    <a:pt x="44" y="39"/>
                  </a:lnTo>
                  <a:lnTo>
                    <a:pt x="50" y="30"/>
                  </a:lnTo>
                  <a:lnTo>
                    <a:pt x="17" y="4"/>
                  </a:lnTo>
                  <a:lnTo>
                    <a:pt x="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0800" y="3848400"/>
              <a:ext cx="2088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9400" y="3909960"/>
              <a:ext cx="30600" cy="19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7" y="5"/>
                  </a:lnTo>
                  <a:lnTo>
                    <a:pt x="10" y="1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2760" y="3933000"/>
              <a:ext cx="30600" cy="18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20" y="0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9000" y="4561560"/>
              <a:ext cx="162720" cy="14076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9" y="83"/>
                  </a:moveTo>
                  <a:lnTo>
                    <a:pt x="29" y="78"/>
                  </a:lnTo>
                  <a:lnTo>
                    <a:pt x="33" y="67"/>
                  </a:lnTo>
                  <a:lnTo>
                    <a:pt x="47" y="61"/>
                  </a:lnTo>
                  <a:lnTo>
                    <a:pt x="57" y="61"/>
                  </a:lnTo>
                  <a:lnTo>
                    <a:pt x="60" y="56"/>
                  </a:lnTo>
                  <a:lnTo>
                    <a:pt x="108" y="14"/>
                  </a:lnTo>
                  <a:lnTo>
                    <a:pt x="113" y="0"/>
                  </a:lnTo>
                  <a:lnTo>
                    <a:pt x="140" y="9"/>
                  </a:lnTo>
                  <a:lnTo>
                    <a:pt x="147" y="9"/>
                  </a:lnTo>
                  <a:lnTo>
                    <a:pt x="147" y="19"/>
                  </a:lnTo>
                  <a:lnTo>
                    <a:pt x="117" y="51"/>
                  </a:lnTo>
                  <a:lnTo>
                    <a:pt x="103" y="61"/>
                  </a:lnTo>
                  <a:lnTo>
                    <a:pt x="81" y="72"/>
                  </a:lnTo>
                  <a:lnTo>
                    <a:pt x="65" y="93"/>
                  </a:lnTo>
                  <a:lnTo>
                    <a:pt x="47" y="114"/>
                  </a:lnTo>
                  <a:lnTo>
                    <a:pt x="29" y="127"/>
                  </a:lnTo>
                  <a:lnTo>
                    <a:pt x="19" y="127"/>
                  </a:lnTo>
                  <a:lnTo>
                    <a:pt x="7" y="11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19" y="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8280" y="3968280"/>
              <a:ext cx="675000" cy="559440"/>
            </a:xfrm>
            <a:custGeom>
              <a:avLst/>
              <a:gdLst/>
              <a:ahLst/>
              <a:rect l="l" t="t" r="r" b="b"/>
              <a:pathLst>
                <a:path w="614" h="509">
                  <a:moveTo>
                    <a:pt x="595" y="369"/>
                  </a:moveTo>
                  <a:lnTo>
                    <a:pt x="601" y="344"/>
                  </a:lnTo>
                  <a:lnTo>
                    <a:pt x="606" y="329"/>
                  </a:lnTo>
                  <a:lnTo>
                    <a:pt x="613" y="278"/>
                  </a:lnTo>
                  <a:lnTo>
                    <a:pt x="583" y="203"/>
                  </a:lnTo>
                  <a:lnTo>
                    <a:pt x="583" y="191"/>
                  </a:lnTo>
                  <a:lnTo>
                    <a:pt x="559" y="186"/>
                  </a:lnTo>
                  <a:lnTo>
                    <a:pt x="553" y="157"/>
                  </a:lnTo>
                  <a:lnTo>
                    <a:pt x="524" y="126"/>
                  </a:lnTo>
                  <a:lnTo>
                    <a:pt x="518" y="110"/>
                  </a:lnTo>
                  <a:lnTo>
                    <a:pt x="507" y="86"/>
                  </a:lnTo>
                  <a:lnTo>
                    <a:pt x="507" y="60"/>
                  </a:lnTo>
                  <a:lnTo>
                    <a:pt x="497" y="49"/>
                  </a:lnTo>
                  <a:lnTo>
                    <a:pt x="485" y="44"/>
                  </a:lnTo>
                  <a:lnTo>
                    <a:pt x="475" y="0"/>
                  </a:lnTo>
                  <a:lnTo>
                    <a:pt x="465" y="4"/>
                  </a:lnTo>
                  <a:lnTo>
                    <a:pt x="454" y="29"/>
                  </a:lnTo>
                  <a:lnTo>
                    <a:pt x="454" y="65"/>
                  </a:lnTo>
                  <a:lnTo>
                    <a:pt x="429" y="115"/>
                  </a:lnTo>
                  <a:lnTo>
                    <a:pt x="389" y="75"/>
                  </a:lnTo>
                  <a:lnTo>
                    <a:pt x="362" y="60"/>
                  </a:lnTo>
                  <a:lnTo>
                    <a:pt x="362" y="44"/>
                  </a:lnTo>
                  <a:lnTo>
                    <a:pt x="377" y="20"/>
                  </a:lnTo>
                  <a:lnTo>
                    <a:pt x="372" y="9"/>
                  </a:lnTo>
                  <a:lnTo>
                    <a:pt x="330" y="0"/>
                  </a:lnTo>
                  <a:lnTo>
                    <a:pt x="309" y="0"/>
                  </a:lnTo>
                  <a:lnTo>
                    <a:pt x="294" y="9"/>
                  </a:lnTo>
                  <a:lnTo>
                    <a:pt x="277" y="20"/>
                  </a:lnTo>
                  <a:lnTo>
                    <a:pt x="262" y="44"/>
                  </a:lnTo>
                  <a:lnTo>
                    <a:pt x="268" y="60"/>
                  </a:lnTo>
                  <a:lnTo>
                    <a:pt x="258" y="65"/>
                  </a:lnTo>
                  <a:lnTo>
                    <a:pt x="247" y="70"/>
                  </a:lnTo>
                  <a:lnTo>
                    <a:pt x="242" y="65"/>
                  </a:lnTo>
                  <a:lnTo>
                    <a:pt x="232" y="44"/>
                  </a:lnTo>
                  <a:lnTo>
                    <a:pt x="220" y="44"/>
                  </a:lnTo>
                  <a:lnTo>
                    <a:pt x="206" y="49"/>
                  </a:lnTo>
                  <a:lnTo>
                    <a:pt x="179" y="86"/>
                  </a:lnTo>
                  <a:lnTo>
                    <a:pt x="174" y="95"/>
                  </a:lnTo>
                  <a:lnTo>
                    <a:pt x="152" y="95"/>
                  </a:lnTo>
                  <a:lnTo>
                    <a:pt x="148" y="106"/>
                  </a:lnTo>
                  <a:lnTo>
                    <a:pt x="138" y="131"/>
                  </a:lnTo>
                  <a:lnTo>
                    <a:pt x="133" y="145"/>
                  </a:lnTo>
                  <a:lnTo>
                    <a:pt x="59" y="172"/>
                  </a:lnTo>
                  <a:lnTo>
                    <a:pt x="40" y="186"/>
                  </a:lnTo>
                  <a:lnTo>
                    <a:pt x="25" y="191"/>
                  </a:lnTo>
                  <a:lnTo>
                    <a:pt x="7" y="191"/>
                  </a:lnTo>
                  <a:lnTo>
                    <a:pt x="7" y="267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7" y="314"/>
                  </a:lnTo>
                  <a:lnTo>
                    <a:pt x="19" y="391"/>
                  </a:lnTo>
                  <a:lnTo>
                    <a:pt x="7" y="415"/>
                  </a:lnTo>
                  <a:lnTo>
                    <a:pt x="19" y="431"/>
                  </a:lnTo>
                  <a:lnTo>
                    <a:pt x="44" y="436"/>
                  </a:lnTo>
                  <a:lnTo>
                    <a:pt x="55" y="431"/>
                  </a:lnTo>
                  <a:lnTo>
                    <a:pt x="76" y="415"/>
                  </a:lnTo>
                  <a:lnTo>
                    <a:pt x="128" y="415"/>
                  </a:lnTo>
                  <a:lnTo>
                    <a:pt x="211" y="369"/>
                  </a:lnTo>
                  <a:lnTo>
                    <a:pt x="247" y="369"/>
                  </a:lnTo>
                  <a:lnTo>
                    <a:pt x="300" y="379"/>
                  </a:lnTo>
                  <a:lnTo>
                    <a:pt x="309" y="406"/>
                  </a:lnTo>
                  <a:lnTo>
                    <a:pt x="314" y="419"/>
                  </a:lnTo>
                  <a:lnTo>
                    <a:pt x="326" y="415"/>
                  </a:lnTo>
                  <a:lnTo>
                    <a:pt x="340" y="406"/>
                  </a:lnTo>
                  <a:lnTo>
                    <a:pt x="356" y="396"/>
                  </a:lnTo>
                  <a:lnTo>
                    <a:pt x="356" y="410"/>
                  </a:lnTo>
                  <a:lnTo>
                    <a:pt x="352" y="431"/>
                  </a:lnTo>
                  <a:lnTo>
                    <a:pt x="356" y="441"/>
                  </a:lnTo>
                  <a:lnTo>
                    <a:pt x="362" y="446"/>
                  </a:lnTo>
                  <a:lnTo>
                    <a:pt x="372" y="465"/>
                  </a:lnTo>
                  <a:lnTo>
                    <a:pt x="372" y="482"/>
                  </a:lnTo>
                  <a:lnTo>
                    <a:pt x="389" y="492"/>
                  </a:lnTo>
                  <a:lnTo>
                    <a:pt x="403" y="492"/>
                  </a:lnTo>
                  <a:lnTo>
                    <a:pt x="418" y="508"/>
                  </a:lnTo>
                  <a:lnTo>
                    <a:pt x="435" y="496"/>
                  </a:lnTo>
                  <a:lnTo>
                    <a:pt x="449" y="496"/>
                  </a:lnTo>
                  <a:lnTo>
                    <a:pt x="465" y="508"/>
                  </a:lnTo>
                  <a:lnTo>
                    <a:pt x="481" y="496"/>
                  </a:lnTo>
                  <a:lnTo>
                    <a:pt x="500" y="482"/>
                  </a:lnTo>
                  <a:lnTo>
                    <a:pt x="518" y="482"/>
                  </a:lnTo>
                  <a:lnTo>
                    <a:pt x="524" y="471"/>
                  </a:lnTo>
                  <a:lnTo>
                    <a:pt x="548" y="415"/>
                  </a:lnTo>
                  <a:lnTo>
                    <a:pt x="595" y="36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20560" y="3870360"/>
              <a:ext cx="159480" cy="446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51" y="29"/>
                  </a:moveTo>
                  <a:lnTo>
                    <a:pt x="24" y="24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24" y="0"/>
                  </a:lnTo>
                  <a:lnTo>
                    <a:pt x="51" y="9"/>
                  </a:lnTo>
                  <a:lnTo>
                    <a:pt x="66" y="9"/>
                  </a:lnTo>
                  <a:lnTo>
                    <a:pt x="88" y="0"/>
                  </a:lnTo>
                  <a:lnTo>
                    <a:pt x="93" y="9"/>
                  </a:lnTo>
                  <a:lnTo>
                    <a:pt x="120" y="14"/>
                  </a:lnTo>
                  <a:lnTo>
                    <a:pt x="126" y="24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78" y="40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51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9480" y="3643920"/>
              <a:ext cx="196560" cy="22752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80" y="118"/>
                  </a:moveTo>
                  <a:lnTo>
                    <a:pt x="80" y="113"/>
                  </a:lnTo>
                  <a:lnTo>
                    <a:pt x="75" y="104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3" y="85"/>
                  </a:lnTo>
                  <a:lnTo>
                    <a:pt x="59" y="79"/>
                  </a:lnTo>
                  <a:lnTo>
                    <a:pt x="53" y="68"/>
                  </a:lnTo>
                  <a:lnTo>
                    <a:pt x="49" y="64"/>
                  </a:lnTo>
                  <a:lnTo>
                    <a:pt x="44" y="54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13" y="2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4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53" y="23"/>
                  </a:lnTo>
                  <a:lnTo>
                    <a:pt x="59" y="33"/>
                  </a:lnTo>
                  <a:lnTo>
                    <a:pt x="83" y="54"/>
                  </a:lnTo>
                  <a:lnTo>
                    <a:pt x="115" y="73"/>
                  </a:lnTo>
                  <a:lnTo>
                    <a:pt x="129" y="90"/>
                  </a:lnTo>
                  <a:lnTo>
                    <a:pt x="135" y="113"/>
                  </a:lnTo>
                  <a:lnTo>
                    <a:pt x="161" y="139"/>
                  </a:lnTo>
                  <a:lnTo>
                    <a:pt x="178" y="149"/>
                  </a:lnTo>
                  <a:lnTo>
                    <a:pt x="178" y="159"/>
                  </a:lnTo>
                  <a:lnTo>
                    <a:pt x="166" y="171"/>
                  </a:lnTo>
                  <a:lnTo>
                    <a:pt x="166" y="199"/>
                  </a:lnTo>
                  <a:lnTo>
                    <a:pt x="155" y="199"/>
                  </a:lnTo>
                  <a:lnTo>
                    <a:pt x="151" y="206"/>
                  </a:lnTo>
                  <a:lnTo>
                    <a:pt x="145" y="190"/>
                  </a:lnTo>
                  <a:lnTo>
                    <a:pt x="99" y="149"/>
                  </a:lnTo>
                  <a:lnTo>
                    <a:pt x="80" y="1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2680" y="3354840"/>
              <a:ext cx="28440" cy="36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9"/>
                  </a:moveTo>
                  <a:lnTo>
                    <a:pt x="13" y="4"/>
                  </a:lnTo>
                  <a:lnTo>
                    <a:pt x="19" y="0"/>
                  </a:lnTo>
                  <a:lnTo>
                    <a:pt x="25" y="20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755640" y="1319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19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arly GSM vs. W-CDMA Growth Comparison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eep W-CDMA subscriptions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93560" y="3141360"/>
            <a:ext cx="1929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Subscriptions (Worl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2120" y="5316480"/>
            <a:ext cx="2343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Quarters since first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156120"/>
            <a:ext cx="1908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2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0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100 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billion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0000" y="2436840"/>
            <a:ext cx="178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Steep 3G / W-CDMA subscription grow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to continu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3440" y="4398840"/>
            <a:ext cx="918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4160" y="416412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4880" y="390204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16680" y="311940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0480" y="438480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51560" y="414972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2280" y="3889440"/>
            <a:ext cx="907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04080" y="310500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6400" y="234792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08080" y="2009880"/>
            <a:ext cx="1411200" cy="501480"/>
            <a:chOff x="2008080" y="2009880"/>
            <a:chExt cx="1411200" cy="501480"/>
          </a:xfrm>
        </p:grpSpPr>
        <p:sp>
          <p:nvSpPr>
            <p:cNvPr id="246" name=""/>
            <p:cNvSpPr/>
            <p:nvPr/>
          </p:nvSpPr>
          <p:spPr>
            <a:xfrm>
              <a:off x="2008080" y="2009880"/>
              <a:ext cx="14112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5440" y="2146320"/>
              <a:ext cx="216000" cy="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0880" y="20541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3G W-CDM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5440" y="2393640"/>
              <a:ext cx="21600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76360" y="230184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GS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3040" y="5762880"/>
            <a:ext cx="979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ource: Siem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080" y="2257560"/>
            <a:ext cx="1690560" cy="21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07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048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940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035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8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6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7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300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612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5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9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517212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640" y="5764320"/>
            <a:ext cx="11361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tatus: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The LG U8110"/>
          <p:cNvPicPr/>
          <p:nvPr/>
        </p:nvPicPr>
        <p:blipFill>
          <a:blip r:embed="rId1"/>
          <a:stretch/>
        </p:blipFill>
        <p:spPr>
          <a:xfrm>
            <a:off x="1979640" y="1197000"/>
            <a:ext cx="544320" cy="1224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2025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/UMTS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FOMA SH900i"/>
          <p:cNvPicPr/>
          <p:nvPr/>
        </p:nvPicPr>
        <p:blipFill>
          <a:blip r:embed="rId2"/>
          <a:stretch/>
        </p:blipFill>
        <p:spPr>
          <a:xfrm>
            <a:off x="22320" y="4365720"/>
            <a:ext cx="60300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547640" cy="7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956720" y="4653000"/>
            <a:ext cx="102708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403280" y="2536920"/>
            <a:ext cx="640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 3G/UMTS terminals and PC car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ally available or announced by a grow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ge of European, Asian and US manufactu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st models compare with 2G hands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battery life, weight an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Nokia 7600 on 3"/>
          <p:cNvPicPr/>
          <p:nvPr/>
        </p:nvPicPr>
        <p:blipFill>
          <a:blip r:embed="rId5"/>
          <a:stretch/>
        </p:blipFill>
        <p:spPr>
          <a:xfrm>
            <a:off x="1835280" y="4724280"/>
            <a:ext cx="97128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(Orange 3G Mobile Office Card 3G Data Card with 384 kbps UMTS &amp; up to 85.6 kbps GPRS/GSM connectivity - datacard)"/>
          <p:cNvPicPr/>
          <p:nvPr/>
        </p:nvPicPr>
        <p:blipFill>
          <a:blip r:embed="rId6"/>
          <a:stretch/>
        </p:blipFill>
        <p:spPr>
          <a:xfrm rot="20673600">
            <a:off x="1042920" y="4365360"/>
            <a:ext cx="563760" cy="1130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(3 Three 3G NEC e313 video mobile phone)"/>
          <p:cNvPicPr/>
          <p:nvPr/>
        </p:nvPicPr>
        <p:blipFill>
          <a:blip r:embed="rId7"/>
          <a:stretch/>
        </p:blipFill>
        <p:spPr>
          <a:xfrm>
            <a:off x="7596360" y="1125360"/>
            <a:ext cx="498240" cy="1297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(3 Motorola A925 video mobile phone)"/>
          <p:cNvPicPr/>
          <p:nvPr/>
        </p:nvPicPr>
        <p:blipFill>
          <a:blip r:embed="rId8"/>
          <a:stretch/>
        </p:blipFill>
        <p:spPr>
          <a:xfrm>
            <a:off x="8379000" y="1557360"/>
            <a:ext cx="568080" cy="1297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(3 Three 3G NEC e228 video mobile phone)"/>
          <p:cNvPicPr/>
          <p:nvPr/>
        </p:nvPicPr>
        <p:blipFill>
          <a:blip r:embed="rId9"/>
          <a:stretch/>
        </p:blipFill>
        <p:spPr>
          <a:xfrm>
            <a:off x="7132680" y="4365720"/>
            <a:ext cx="752400" cy="1498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273560" y="2023920"/>
            <a:ext cx="1450800" cy="6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5651640" y="5157720"/>
            <a:ext cx="844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5148360" y="189000"/>
            <a:ext cx="1152360" cy="1123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LG 8110 Mobile Phone"/>
          <p:cNvPicPr/>
          <p:nvPr/>
        </p:nvPicPr>
        <p:blipFill>
          <a:blip r:embed="rId13"/>
          <a:stretch/>
        </p:blipFill>
        <p:spPr>
          <a:xfrm>
            <a:off x="2916360" y="1052640"/>
            <a:ext cx="984240" cy="151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4"/>
          <a:stretch/>
        </p:blipFill>
        <p:spPr>
          <a:xfrm>
            <a:off x="6280200" y="4076640"/>
            <a:ext cx="73980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5"/>
          <a:stretch/>
        </p:blipFill>
        <p:spPr>
          <a:xfrm>
            <a:off x="3718080" y="4797360"/>
            <a:ext cx="114120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3G mobile connect card"/>
          <p:cNvPicPr/>
          <p:nvPr/>
        </p:nvPicPr>
        <p:blipFill>
          <a:blip r:embed="rId16"/>
          <a:stretch/>
        </p:blipFill>
        <p:spPr>
          <a:xfrm>
            <a:off x="8101080" y="377028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Motorola V980"/>
          <p:cNvPicPr/>
          <p:nvPr/>
        </p:nvPicPr>
        <p:blipFill>
          <a:blip r:embed="rId17"/>
          <a:stretch/>
        </p:blipFill>
        <p:spPr>
          <a:xfrm>
            <a:off x="4930920" y="4076640"/>
            <a:ext cx="720720" cy="119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Sony Ericsson V800i"/>
          <p:cNvPicPr/>
          <p:nvPr/>
        </p:nvPicPr>
        <p:blipFill>
          <a:blip r:embed="rId18"/>
          <a:stretch/>
        </p:blipFill>
        <p:spPr>
          <a:xfrm>
            <a:off x="574560" y="1628640"/>
            <a:ext cx="828720" cy="15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Motorola E1000"/>
          <p:cNvPicPr/>
          <p:nvPr/>
        </p:nvPicPr>
        <p:blipFill>
          <a:blip r:embed="rId19"/>
          <a:stretch/>
        </p:blipFill>
        <p:spPr>
          <a:xfrm>
            <a:off x="250920" y="2997360"/>
            <a:ext cx="750960" cy="13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Samsung Z107"/>
          <p:cNvPicPr/>
          <p:nvPr/>
        </p:nvPicPr>
        <p:blipFill>
          <a:blip r:embed="rId20"/>
          <a:stretch/>
        </p:blipFill>
        <p:spPr>
          <a:xfrm>
            <a:off x="5796000" y="1184400"/>
            <a:ext cx="828720" cy="152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1"/>
          <a:stretch/>
        </p:blipFill>
        <p:spPr>
          <a:xfrm>
            <a:off x="6729480" y="260280"/>
            <a:ext cx="795240" cy="1559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2"/>
          <a:stretch/>
        </p:blipFill>
        <p:spPr>
          <a:xfrm>
            <a:off x="3851280" y="765000"/>
            <a:ext cx="701640" cy="126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3"/>
          <a:stretch/>
        </p:blipFill>
        <p:spPr>
          <a:xfrm>
            <a:off x="2987640" y="4221000"/>
            <a:ext cx="644400" cy="17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4"/>
          <a:stretch/>
        </p:blipFill>
        <p:spPr>
          <a:xfrm>
            <a:off x="7672320" y="2760840"/>
            <a:ext cx="86040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next  step in evolution of the 3GPP air interfac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581120"/>
            <a:ext cx="7777440" cy="162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SDPA = true mobile broadb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abling a wide variety of high bandwidth multimedia servic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high quality streaming vide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fast downloads of high resolution images and larg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3645000"/>
            <a:ext cx="770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mpared with WCDMA, HSDP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throughput (2→14.4 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data capacity up to 5x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 dense urban environments (micro-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 new paradigm for pack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560" y="3343320"/>
            <a:ext cx="78505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SDPA introdu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ynamic adaptive modulation &amp; coding, multicode oper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scheduling of packet data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physical layer retransmission of data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his is accomplished by incorporating many of the key scheduling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&amp; control processes at the base station – as opposed to the Radio Network Controller (RNC) – and thus closer to the air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1460520"/>
            <a:ext cx="7704360" cy="147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voice on a dedicated channel (D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igh Speed Data (up to 14.4 Mbps) on downlink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ared channel on the same carrier (HS-DSCH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an be deployed in both FDD &amp; TDD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8720" y="4428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5445000"/>
            <a:ext cx="7777440" cy="459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pgrading from Release 99 WCDMA to HSDPA is smooth since – from an air-interface perspective – HSDPA can coexist on the same RF carrier with Rel.99 WCDMA; only Node B (base station) is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32:40Z</dcterms:created>
  <dc:creator>Steve Hearnden</dc:creator>
  <dc:description/>
  <dc:language>en-US</dc:language>
  <cp:lastModifiedBy>Valenzuela Patricio</cp:lastModifiedBy>
  <dcterms:modified xsi:type="dcterms:W3CDTF">2006-11-10T02:06:50Z</dcterms:modified>
  <cp:revision>1528</cp:revision>
  <dc:subject/>
  <dc:title>India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0829609</vt:r8>
  </property>
  <property fmtid="{D5CDD505-2E9C-101B-9397-08002B2CF9AE}" pid="3" name="_AuthorEmail">
    <vt:lpwstr>klaus.kohrt@siemens.com</vt:lpwstr>
  </property>
  <property fmtid="{D5CDD505-2E9C-101B-9397-08002B2CF9AE}" pid="4" name="_AuthorEmailDisplayName">
    <vt:lpwstr>Kohrt, Klaus-Dieter</vt:lpwstr>
  </property>
  <property fmtid="{D5CDD505-2E9C-101B-9397-08002B2CF9AE}" pid="5" name="_EmailSubject">
    <vt:lpwstr>Your presentations</vt:lpwstr>
  </property>
  <property fmtid="{D5CDD505-2E9C-101B-9397-08002B2CF9AE}" pid="6" name="_ReviewingToolsShownOnce">
    <vt:lpwstr/>
  </property>
</Properties>
</file>