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4870450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4870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11140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758680" y="-360"/>
            <a:ext cx="210996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6743520"/>
            <a:ext cx="211140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2758680" y="6743520"/>
            <a:ext cx="210996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94B50EF6-F96A-4583-82F9-6DA0C2187B67}" type="slidenum"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do WCDMA / UMTS m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band CDMA, Universal Mobile Telecommunications System,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Brief network by network, and thei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ntroduce the Concepts of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N : CS /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llustrates sample data paths (CS and 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M: Universal Subscriber Identity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rvices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 is supported by different layers of bearer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All defined by the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s some of the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s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conclusion : Architecture, Services,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Drill into the detail of the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Item: Air Interface, UTRAN, 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ir Inte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the 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llowing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Principle and Advantage of the wideb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Different physical channels and how they ope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pread Spectrum -&gt; In order to illustrates Multipath and V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H, RACH, DCH, CPCH, 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-&gt; Illustrates “Random Access, Schedule Access, Dedicated A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compact review of the very detaile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rotoco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Horizontal Layer and Vertical P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Part, Cor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2 example for illustration, R99 and R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changes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S: Home Subscriber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ny Database Functions, e.g. HLR, DNS, Security, Network Acces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, Brief, Brie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es differen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es how AC, LC, PS re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ssion Control (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s all new incoming traffic. Check whether new connection can be admitted to the system and generates parameters for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ad Control (L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s situation when system load exceeds the threshold and some counter measures have to be taken to get system back to a feasible lo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cket Scheduler (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s all non real time traffic, (packet data users). It decides when a packet transmission is initiated and the bit rate to be us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ased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Brief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presentation more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e of some further stud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admap of the Evolution of Wireless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Technologies -&gt; 2.5G -&gt; 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Intermediate Steps of Tran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: GSM (EDGE: Enhanced Data for GSM Ev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: 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Upper Stream -&gt; Introduce WHY WCDMA would be today’s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position / define a 3G Net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et’s take a closer look of how 3G Network is evolved and standar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 by connection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-&gt; Access Network -&gt; Core Network -&gt; External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MS: Network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S: Base St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SS: Network Suppor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ter, in so call 2.5G, E-GPRS is introduced, BSS -&gt; Enhanced 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First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Support new external networks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 3GPP Release 99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ame: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RAN evolved into UTRAN (UMTS Terrestrial Radio Access Net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grade of BTS, BSC to BS and 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R99, there’s R4 and R5/6 (most upd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all the way to an ALL-IP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4: Minor changes to the C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Separate control and data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More Sca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SC: Mobile Switching Center, MGW: Media Gatew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5/6: Only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ircuit Routing: Virtual Circuit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G Requires a new Radio/Ai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GPP’s UMTS adopted W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llustrates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4BF-0741-406D-8ACC-D1EB10BD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708-E529-41A0-AF6D-EBBA5D58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9E4-798C-4C1C-8A01-6B9E491B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528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396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264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0A3-584C-4541-B796-01A768E4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F4D8-3128-4B59-B452-FF37720E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CF09-FBAF-4E8D-B144-5F3CE68B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BA4-0617-40F9-8AA4-8C59B104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99A3-83F8-461B-8FCD-B72788E1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5760-ABC2-44AD-A6D6-2D62E887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5694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6CA0-8AAD-4FFE-9D9B-832C9F4C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8F4E-2FE7-4464-95E1-9E4BB259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25A-9AD7-4E3D-95A6-FC4ACC38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7172-A2D4-49DE-AFE6-B9F4AE58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7C1A-D974-49CC-902A-B4965F10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290D-169F-4620-97D2-613AADA6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8F28-4CF4-4E34-A19F-957035F9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9528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396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264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6605-D4A2-4366-ACC6-25B8185B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6F4-3BFB-446C-B6F5-D8D7F931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F08-0E61-40E1-BF9C-4C579550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5C6-6323-4A3D-800F-9E2E3D5A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5694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279-07B6-4872-9CFE-834593C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85F-C3DC-472A-8FD0-2F9FE73E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14E-1369-435B-8135-2BB254C6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FDA-ED53-4DA0-850B-5A97B8D3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08000" y="692280"/>
            <a:ext cx="8928000" cy="6049800"/>
          </a:xfrm>
          <a:prstGeom prst="roundRect">
            <a:avLst>
              <a:gd name="adj" fmla="val 41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83064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CA7D-9455-4401-864F-2673BBEE8A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08000" y="1123920"/>
            <a:ext cx="8928000" cy="4610160"/>
          </a:xfrm>
          <a:prstGeom prst="roundRect">
            <a:avLst>
              <a:gd name="adj" fmla="val 41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3064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2924-4C71-41B3-9FD4-41DD3A1197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2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en-US" sz="50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 Generation </a:t>
            </a:r>
            <a:br>
              <a:rPr sz="5000"/>
            </a:b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WCDMA / UMTS</a:t>
            </a:r>
            <a:br>
              <a:rPr sz="5000"/>
            </a:b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Wireless Network</a:t>
            </a:r>
            <a:endParaRPr b="1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4149720"/>
            <a:ext cx="8928000" cy="71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DD9F-740C-4E02-BA7C-1D03ADBB85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WCDMA vs C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EF1-C7B8-4414-ABD2-6C2F7FF450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System Architectu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081-2999-4747-B8E3-A21E4D31B7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Bearer Serv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1784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1484280"/>
            <a:ext cx="9363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 I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23280" y="1484280"/>
            <a:ext cx="9363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2419200"/>
            <a:ext cx="691200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-to-En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3211560"/>
            <a:ext cx="129528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4003560"/>
            <a:ext cx="26636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Access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64000" y="4795920"/>
            <a:ext cx="129564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5587920"/>
            <a:ext cx="1295280" cy="50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T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/TD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3211560"/>
            <a:ext cx="13683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/MT Loc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er S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3211560"/>
            <a:ext cx="396072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Beare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4003560"/>
            <a:ext cx="12956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N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795920"/>
            <a:ext cx="129528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4795920"/>
            <a:ext cx="122400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5587920"/>
            <a:ext cx="1297080" cy="50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3528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5280" y="1341360"/>
            <a:ext cx="54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1052640"/>
            <a:ext cx="100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3FC-FB72-4444-BEB4-CDA2B199B9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QoS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66560" y="1273320"/>
          <a:ext cx="8210880" cy="4819320"/>
        </p:xfrm>
        <a:graphic>
          <a:graphicData uri="http://schemas.openxmlformats.org/drawingml/2006/table">
            <a:tbl>
              <a:tblPr/>
              <a:tblGrid>
                <a:gridCol w="1641600"/>
                <a:gridCol w="1743120"/>
                <a:gridCol w="1657440"/>
                <a:gridCol w="1655640"/>
                <a:gridCol w="151308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al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 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time relation between information entities of the st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al pattern (stringent and low del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time relation between information entities of the st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ponse 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data 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tion is not expecting the data within a certain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data 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of the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, videotelephony, video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ulti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browsing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 download of em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398-09E3-471A-9CC0-648A49A315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In Detai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D60-7D3A-4CAA-8E26-00CB207839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eband CDMA, Over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-CDMA, 5 MHz Carrier Spacin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MA Gives Frequency Reuse Factor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 MHz Bandwidth allows Multipath Diversity using Rake Recei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 Spreading Factor (VSF) to offer Bandwidth on Demand (BoD) up to 2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t (1.5kHz) Power Control for Optimal Interference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s multiplexing with different Q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-time / Best-ef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% Frame Error Rate to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it Error 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A62-EE04-45F4-A71D-A30C0AF636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rect Sequence Sprea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258920" y="134136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2060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258920" y="2349360"/>
            <a:ext cx="217440" cy="719280"/>
          </a:xfrm>
          <a:custGeom>
            <a:avLst/>
            <a:gdLst>
              <a:gd name="textAreaLeft" fmla="*/ 47880 w 217440"/>
              <a:gd name="textAreaRight" fmla="*/ 169560 w 217440"/>
              <a:gd name="textAreaTop" fmla="*/ 158040 h 719280"/>
              <a:gd name="textAreaBottom" fmla="*/ 5612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3068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256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560" y="148428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256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6560" y="249228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1844640"/>
            <a:ext cx="650880" cy="217440"/>
          </a:xfrm>
          <a:custGeom>
            <a:avLst/>
            <a:gdLst>
              <a:gd name="textAreaLeft" fmla="*/ 142920 w 650880"/>
              <a:gd name="textAreaRight" fmla="*/ 507960 w 650880"/>
              <a:gd name="textAreaTop" fmla="*/ 47880 h 217440"/>
              <a:gd name="textAreaBottom" fmla="*/ 16956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59280" y="2852640"/>
            <a:ext cx="647640" cy="216000"/>
          </a:xfrm>
          <a:custGeom>
            <a:avLst/>
            <a:gdLst>
              <a:gd name="textAreaLeft" fmla="*/ 142200 w 647640"/>
              <a:gd name="textAreaRight" fmla="*/ 505440 w 64764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198900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140360" y="26348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76720" y="2205000"/>
            <a:ext cx="787680" cy="432000"/>
          </a:xfrm>
          <a:custGeom>
            <a:avLst/>
            <a:gdLst>
              <a:gd name="textAreaLeft" fmla="*/ 173160 w 787680"/>
              <a:gd name="textAreaRight" fmla="*/ 614520 w 787680"/>
              <a:gd name="textAreaTop" fmla="*/ 95040 h 432000"/>
              <a:gd name="textAreaBottom" fmla="*/ 3369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3cbab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46560" y="26352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54560" y="2419200"/>
            <a:ext cx="7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213192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1280" y="26352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51640" y="191628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12000" y="19162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40720" y="1987560"/>
            <a:ext cx="57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03640" y="3068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equency Reuse Fac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16360" y="2060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6360" y="3068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6093000"/>
            <a:ext cx="33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 MHz Wideband Signal allows Multipath Diversity with Rake Rece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26920" y="4021920"/>
            <a:ext cx="69840" cy="701640"/>
          </a:xfrm>
          <a:custGeom>
            <a:avLst/>
            <a:gdLst>
              <a:gd name="textAreaLeft" fmla="*/ 15120 w 69840"/>
              <a:gd name="textAreaRight" fmla="*/ 54720 w 69840"/>
              <a:gd name="textAreaTop" fmla="*/ 154080 h 701640"/>
              <a:gd name="textAreaBottom" fmla="*/ 54756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114560" y="4383000"/>
            <a:ext cx="72720" cy="341280"/>
          </a:xfrm>
          <a:custGeom>
            <a:avLst/>
            <a:gdLst>
              <a:gd name="textAreaLeft" fmla="*/ 15840 w 72720"/>
              <a:gd name="textAreaRight" fmla="*/ 56880 w 72720"/>
              <a:gd name="textAreaTop" fmla="*/ 74880 h 341280"/>
              <a:gd name="textAreaBottom" fmla="*/ 26640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549440" y="4507920"/>
            <a:ext cx="69840" cy="215640"/>
          </a:xfrm>
          <a:custGeom>
            <a:avLst/>
            <a:gdLst>
              <a:gd name="textAreaLeft" fmla="*/ 15120 w 69840"/>
              <a:gd name="textAreaRight" fmla="*/ 54720 w 6984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825480" y="4956120"/>
            <a:ext cx="939960" cy="704880"/>
          </a:xfrm>
          <a:custGeom>
            <a:avLst/>
            <a:gdLst>
              <a:gd name="textAreaLeft" fmla="*/ 206640 w 939960"/>
              <a:gd name="textAreaRight" fmla="*/ 733320 w 939960"/>
              <a:gd name="textAreaTop" fmla="*/ 154800 h 704880"/>
              <a:gd name="textAreaBottom" fmla="*/ 5500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114560" y="5318280"/>
            <a:ext cx="1009440" cy="342720"/>
          </a:xfrm>
          <a:custGeom>
            <a:avLst/>
            <a:gdLst>
              <a:gd name="textAreaLeft" fmla="*/ 221760 w 1009440"/>
              <a:gd name="textAreaRight" fmla="*/ 787680 w 100944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547640" y="5445000"/>
            <a:ext cx="936720" cy="216000"/>
          </a:xfrm>
          <a:custGeom>
            <a:avLst/>
            <a:gdLst>
              <a:gd name="textAreaLeft" fmla="*/ 205920 w 936720"/>
              <a:gd name="textAreaRight" fmla="*/ 730800 w 936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47640" y="47419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47640" y="567684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8000" y="292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8000" y="1916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44000" y="2492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2000" y="2492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24360" y="292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1916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45990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55324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3645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 Delay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56000" y="364500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Spreading Factor (V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000760" y="3933720"/>
            <a:ext cx="75960" cy="720720"/>
          </a:xfrm>
          <a:custGeom>
            <a:avLst/>
            <a:gdLst>
              <a:gd name="textAreaLeft" fmla="*/ 16560 w 75960"/>
              <a:gd name="textAreaRight" fmla="*/ 59400 w 7596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4653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420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30960" y="407664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 : 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585120" y="4580640"/>
            <a:ext cx="939600" cy="71640"/>
          </a:xfrm>
          <a:custGeom>
            <a:avLst/>
            <a:gdLst>
              <a:gd name="textAreaLeft" fmla="*/ 206640 w 939600"/>
              <a:gd name="textAreaRight" fmla="*/ 732960 w 939600"/>
              <a:gd name="textAreaTop" fmla="*/ 15480 h 71640"/>
              <a:gd name="textAreaBottom" fmla="*/ 5616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4653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0000" y="45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96360" y="4508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857840" y="4941720"/>
            <a:ext cx="361800" cy="720720"/>
          </a:xfrm>
          <a:custGeom>
            <a:avLst/>
            <a:gdLst>
              <a:gd name="textAreaLeft" fmla="*/ 79560 w 361800"/>
              <a:gd name="textAreaRight" fmla="*/ 282240 w 3618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5661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4200" y="537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30960" y="508464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 :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585120" y="5373720"/>
            <a:ext cx="939600" cy="287280"/>
          </a:xfrm>
          <a:custGeom>
            <a:avLst/>
            <a:gdLst>
              <a:gd name="textAreaLeft" fmla="*/ 206640 w 939600"/>
              <a:gd name="textAreaRight" fmla="*/ 732960 w 93960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16720" y="5661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80000" y="5516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96360" y="5516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27640" y="5950080"/>
            <a:ext cx="41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SF Allows Bandwidth on Demand. Lower Spreading Factor requires Higher SNR, causing Higher Interference in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69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4764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946920" y="2492280"/>
            <a:ext cx="1225440" cy="144720"/>
          </a:xfrm>
          <a:custGeom>
            <a:avLst/>
            <a:gdLst>
              <a:gd name="textAreaLeft" fmla="*/ 153360 w 1225440"/>
              <a:gd name="textAreaRight" fmla="*/ 1072080 w 1225440"/>
              <a:gd name="textAreaTop" fmla="*/ 18000 h 144720"/>
              <a:gd name="textAreaBottom" fmla="*/ 126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85" y="21600"/>
                </a:lnTo>
                <a:lnTo>
                  <a:pt x="1715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20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692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20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43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0920" y="26352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877080" y="2637000"/>
            <a:ext cx="13651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472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661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892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528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98920" y="566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15280" y="566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8800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2472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561-DC1C-4575-8885-4AFCCED82F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pping of Transport Channels and Physical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13399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adcast Channel (B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17002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ward Access Channel (F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0606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ing Channel (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24336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dom Access Channel (R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27795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Channel (D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002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wnlink Shared Channel (D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38592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Packet Channel (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134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Common Control Physical Channel (PC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170172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ary Common Control Physical Channel (SC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243540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Random Access Channel (PR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78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Physical Data Channel (DPD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31417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Physical Control Channel (DPC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3502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Downlink Shared Channel (PD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386064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Common Packet Channel (P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422280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hronization Channel (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458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Pilot Channel (CP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9417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quisition Indication Channel (A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302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ing Indication Channel (P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5734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 Status Indication Channel (CS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606888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ision Detection/Channel Assignment Indicator Channel (CD/CA-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19640" y="148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19640" y="184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419640" y="1844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19640" y="256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292428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964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5373720"/>
            <a:ext cx="37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ly Differentiated Types of Channels enable best combination of Interference Reduction, QoS and Energy Efficienc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341-ED52-4A0C-B691-D23F84D2F7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on Channels - RACH (uplink) and FACH (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6560" y="127152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dom Access, No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w Setup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Feedback Channel, No Fast Power Control, Use Fixed Transmission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Link-level Performance and High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Short, Discontinuous Packe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41832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on Channel - CPCH (up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6560" y="4510080"/>
            <a:ext cx="8210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tension for R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ervation across Multiple 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Utilize Fast Power Control, Higher Bit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Short to Medium Sized Packe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95640" y="3500280"/>
            <a:ext cx="554508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3570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95640" y="2997360"/>
            <a:ext cx="5545080" cy="43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3068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11280" y="299736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8920" y="2997360"/>
            <a:ext cx="21600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91280" y="2997360"/>
            <a:ext cx="215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80360" y="2997360"/>
            <a:ext cx="21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90920" y="3500280"/>
            <a:ext cx="216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3500280"/>
            <a:ext cx="146160" cy="432000"/>
          </a:xfrm>
          <a:prstGeom prst="flowChartManualInpu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5280" y="3645000"/>
            <a:ext cx="21744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3645000"/>
            <a:ext cx="146160" cy="2872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95640" y="594828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6920" y="6018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71640" y="6091200"/>
            <a:ext cx="100836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13080" y="6091200"/>
            <a:ext cx="214200" cy="2890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5948280"/>
            <a:ext cx="19447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29080" y="5948280"/>
            <a:ext cx="146160" cy="432000"/>
          </a:xfrm>
          <a:prstGeom prst="flowChartManualInpu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732-3317-4628-BF24-C8250E0D1A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dicated Channel - DCH (uplink &amp; 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6560" y="126828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dicated, Requires Long Channel Setup 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ter Link Performance and Small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Large and Continuous Blocks of Data, up to 2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able Bitrate in a Frame-by-Fram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40068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ed Channel - DSCH (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6560" y="436572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 Division Multiplexed, Fast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ter Link Performance and Small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Large and Bursty Data, up to 2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able Bitrate in a Frame-by-Fram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068640"/>
            <a:ext cx="554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95640" y="3500280"/>
            <a:ext cx="5545080" cy="216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26920" y="3068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34988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9564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98920" y="3213000"/>
            <a:ext cx="5029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3640" y="3284640"/>
            <a:ext cx="503280" cy="144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06920" y="3139920"/>
            <a:ext cx="5032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11640" y="321300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492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1964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22920" y="321300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27640" y="3357720"/>
            <a:ext cx="505080" cy="71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32720" y="3284640"/>
            <a:ext cx="503280" cy="144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6000" y="3068640"/>
            <a:ext cx="50292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98920" y="3500280"/>
            <a:ext cx="5029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3640" y="350028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06920" y="3645000"/>
            <a:ext cx="5032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11640" y="3573360"/>
            <a:ext cx="503280" cy="14292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14920" y="350028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19640" y="3645000"/>
            <a:ext cx="5032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27640" y="3645000"/>
            <a:ext cx="5050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2720" y="3571920"/>
            <a:ext cx="50328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6000" y="3500280"/>
            <a:ext cx="5029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601992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6091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6021360"/>
            <a:ext cx="5029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03640" y="6165720"/>
            <a:ext cx="50328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0692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1640" y="623736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14920" y="6308640"/>
            <a:ext cx="50328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1964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6237360"/>
            <a:ext cx="5047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27640" y="6165720"/>
            <a:ext cx="50508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32720" y="6021360"/>
            <a:ext cx="50328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36000" y="6093000"/>
            <a:ext cx="50292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5AA-A583-4DC8-B1BF-41ED85C26F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CDMA vs C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8D8-C015-4EE9-A0BE-183F415F49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6560" y="1413000"/>
            <a:ext cx="8210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MHz Bandwidth -&gt; High Capacity, Multipath 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Spreading Factor -&gt; Bandwidth on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40000" y="4726080"/>
            <a:ext cx="554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40000" y="5157720"/>
            <a:ext cx="5545080" cy="216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40000" y="5732640"/>
            <a:ext cx="5545080" cy="43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40000" y="393372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40000" y="3213000"/>
            <a:ext cx="554508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71640" y="32828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40035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71640" y="4797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71640" y="5156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58039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40000" y="242100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71640" y="2492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56000" y="2421000"/>
            <a:ext cx="215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3280" y="2421000"/>
            <a:ext cx="21600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35640" y="242100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24720" y="2421000"/>
            <a:ext cx="21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35280" y="3213000"/>
            <a:ext cx="216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3213000"/>
            <a:ext cx="145800" cy="432000"/>
          </a:xfrm>
          <a:prstGeom prst="flowChartManualInpu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59640" y="3357720"/>
            <a:ext cx="21744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00720" y="3357720"/>
            <a:ext cx="146160" cy="2872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16360" y="4076640"/>
            <a:ext cx="100800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57440" y="4076640"/>
            <a:ext cx="214200" cy="2890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32360" y="3933720"/>
            <a:ext cx="19447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3440" y="3933720"/>
            <a:ext cx="146160" cy="432000"/>
          </a:xfrm>
          <a:prstGeom prst="flowChartManualInpu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48000" y="4941720"/>
            <a:ext cx="50328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51280" y="4797360"/>
            <a:ext cx="5032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5928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6400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72360" y="5014800"/>
            <a:ext cx="504720" cy="7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4941720"/>
            <a:ext cx="50328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8036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4328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4800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51280" y="5302080"/>
            <a:ext cx="50328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56000" y="5230800"/>
            <a:ext cx="503280" cy="14292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64000" y="5302080"/>
            <a:ext cx="50328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72360" y="5302080"/>
            <a:ext cx="50472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77080" y="5229360"/>
            <a:ext cx="50328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8036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4000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43280" y="5734080"/>
            <a:ext cx="503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48000" y="5878440"/>
            <a:ext cx="50328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128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5950080"/>
            <a:ext cx="503280" cy="215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6021360"/>
            <a:ext cx="503280" cy="14436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5950080"/>
            <a:ext cx="503280" cy="215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72360" y="5878440"/>
            <a:ext cx="504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5734080"/>
            <a:ext cx="50328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80360" y="5805360"/>
            <a:ext cx="50328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860-F4AF-4ADB-B056-AED1C9ADB5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AA0-0289-491D-8139-730276C797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083280" y="449100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83280" y="254628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54560" y="2763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54560" y="33400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38920" y="305100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62920" y="29797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162920" y="326664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54560" y="46911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54560" y="52671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738920" y="497844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62920" y="4906800"/>
            <a:ext cx="57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162920" y="51944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2330280"/>
            <a:ext cx="2880000" cy="374652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3746520"/>
              <a:gd name="textAreaBottom" fmla="*/ 3606120 h 3746520"/>
            </a:gdLst>
            <a:ahLst/>
            <a:rect l="textAreaLeft" t="textAreaTop" r="textAreaRight" b="textAreaBottom"/>
            <a:pathLst>
              <a:path w="21600" h="28098">
                <a:moveTo>
                  <a:pt x="3600" y="0"/>
                </a:moveTo>
                <a:arcTo wR="3600" hR="3600" stAng="16200000" swAng="-5400000"/>
                <a:lnTo>
                  <a:pt x="0" y="24498"/>
                </a:lnTo>
                <a:arcTo wR="3600" hR="3600" stAng="10800000" swAng="-5400000"/>
                <a:lnTo>
                  <a:pt x="18000" y="28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99280" y="3409920"/>
            <a:ext cx="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80400" y="420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448400" y="26924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72400" y="4059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097840" y="3916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459640" y="326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9640" y="521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67640" y="6165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51640" y="36273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51640" y="557064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1197000"/>
            <a:ext cx="525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wo Distinct Elements :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se Stations (Node B)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dio Network Controllers (RN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 RNC and 1+ Node Bs are group together to form a Radio Network Sub-system (RN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ndles all Radio-Related Functionalit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ft Hando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adio Resources Management Algorith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ximization of the commonalities of the PS and CS data hand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9018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MTS Terrestrial Radio Access Network,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68D-3D58-4D73-983B-8DE87D5250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ocol Model for UTRAN Terrestrial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39880" y="1488960"/>
            <a:ext cx="5241240" cy="3234960"/>
            <a:chOff x="839880" y="1488960"/>
            <a:chExt cx="5241240" cy="3234960"/>
          </a:xfrm>
        </p:grpSpPr>
        <p:sp>
          <p:nvSpPr>
            <p:cNvPr id="635" name=""/>
            <p:cNvSpPr/>
            <p:nvPr/>
          </p:nvSpPr>
          <p:spPr>
            <a:xfrm>
              <a:off x="839880" y="2594880"/>
              <a:ext cx="5241240" cy="212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9880" y="1488960"/>
              <a:ext cx="5241240" cy="102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1720" y="1932840"/>
              <a:ext cx="118152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43120" y="1963800"/>
              <a:ext cx="114696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6280" y="1963800"/>
              <a:ext cx="90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68480" y="196056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51640" y="213876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61160" y="3104640"/>
              <a:ext cx="118836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60920" y="1924200"/>
              <a:ext cx="1178280" cy="51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75040" y="2062440"/>
              <a:ext cx="815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7840" y="1963800"/>
              <a:ext cx="79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39360" y="196056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77360" y="213876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eam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97280" y="3539880"/>
              <a:ext cx="106884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71440" y="3519360"/>
              <a:ext cx="8154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01280" y="3144240"/>
              <a:ext cx="7894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58160" y="3147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LCAP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79120" y="2674440"/>
              <a:ext cx="70992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65520" y="267084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09800" y="284508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89000" y="30250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1120" y="4240080"/>
              <a:ext cx="12902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16680" y="3612600"/>
              <a:ext cx="298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161160" y="3539880"/>
              <a:ext cx="119556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46200" y="4170960"/>
              <a:ext cx="44553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80680" y="4286520"/>
              <a:ext cx="860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87240" y="4286520"/>
              <a:ext cx="75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ysical Lay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84520" y="3539880"/>
              <a:ext cx="102600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2240" y="3579840"/>
              <a:ext cx="75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440" y="35766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1492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2240640" y="3934080"/>
              <a:ext cx="111960" cy="391680"/>
              <a:chOff x="2240640" y="3934080"/>
              <a:chExt cx="111960" cy="391680"/>
            </a:xfrm>
          </p:grpSpPr>
          <p:sp>
            <p:nvSpPr>
              <p:cNvPr id="667" name=""/>
              <p:cNvSpPr/>
              <p:nvPr/>
            </p:nvSpPr>
            <p:spPr>
              <a:xfrm>
                <a:off x="2295720" y="4033800"/>
                <a:ext cx="180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242080" y="3934080"/>
                <a:ext cx="11052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240640" y="4218480"/>
                <a:ext cx="108720" cy="107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622160" y="1564920"/>
              <a:ext cx="1350720" cy="3082320"/>
              <a:chOff x="1622160" y="1564920"/>
              <a:chExt cx="1350720" cy="3082320"/>
            </a:xfrm>
          </p:grpSpPr>
          <p:sp>
            <p:nvSpPr>
              <p:cNvPr id="671" name=""/>
              <p:cNvSpPr/>
              <p:nvPr/>
            </p:nvSpPr>
            <p:spPr>
              <a:xfrm>
                <a:off x="1622160" y="1568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622160" y="1638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22160" y="17082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622160" y="1776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622160" y="1847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22160" y="1917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622160" y="19864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622160" y="205524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22160" y="2126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22160" y="21952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622160" y="2264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22160" y="2335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622160" y="2404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22160" y="24735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22160" y="2544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22160" y="2613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22160" y="26827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22160" y="2753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22160" y="2822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22160" y="28915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22160" y="2962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622160" y="3031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622160" y="3100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622160" y="3171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622160" y="3240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622160" y="3309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22160" y="3380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22160" y="3449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22160" y="3519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22160" y="3589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22160" y="3658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22160" y="3728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622160" y="379692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622160" y="3867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622160" y="3936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22160" y="4006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22160" y="4077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622160" y="4146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22160" y="4215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22160" y="4286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622160" y="4354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622160" y="4424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622160" y="4495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22160" y="4564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22160" y="463320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2" y="8"/>
                    </a:lnTo>
                    <a:lnTo>
                      <a:pt x="2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894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7586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277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898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96740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0368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07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176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2456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1660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853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4548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257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5945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636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345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8036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872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43720" y="4624560"/>
                <a:ext cx="29160" cy="226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0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7" y="9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62440" y="45540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62440" y="4484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62440" y="44157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962440" y="434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962440" y="4276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962440" y="420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62440" y="413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962440" y="406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962440" y="399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962440" y="392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62440" y="385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62440" y="3788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962440" y="3717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62440" y="364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62440" y="35794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962440" y="3508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62440" y="3439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962440" y="3370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62440" y="3299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62440" y="3230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62440" y="3161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62440" y="30920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62440" y="30211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62440" y="2952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62440" y="2882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962440" y="2812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62440" y="27428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62440" y="2674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962440" y="2603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62440" y="25340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962440" y="2464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62440" y="2394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62440" y="2324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62440" y="2256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62440" y="21852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62440" y="2115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62440" y="204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962440" y="197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962440" y="1906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62440" y="183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962440" y="176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962440" y="169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962440" y="1628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55960" y="1564920"/>
                <a:ext cx="16920" cy="3420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4" y="20"/>
                    </a:moveTo>
                    <a:lnTo>
                      <a:pt x="10" y="2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8864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8173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74644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776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082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5380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4685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3994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3284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2597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19024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1193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0505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814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9105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8414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7722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01360" y="1564920"/>
                <a:ext cx="414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6326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3081960" y="2670840"/>
              <a:ext cx="1346760" cy="1900440"/>
              <a:chOff x="3081960" y="2670840"/>
              <a:chExt cx="1346760" cy="1900440"/>
            </a:xfrm>
          </p:grpSpPr>
          <p:sp>
            <p:nvSpPr>
              <p:cNvPr id="799" name=""/>
              <p:cNvSpPr/>
              <p:nvPr/>
            </p:nvSpPr>
            <p:spPr>
              <a:xfrm>
                <a:off x="3081960" y="2674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81960" y="2743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081960" y="28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81960" y="2882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81960" y="2952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081960" y="3021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81960" y="309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081960" y="3161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081960" y="3230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081960" y="32994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081960" y="3370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81960" y="3439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081960" y="3508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081960" y="357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081960" y="3648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081960" y="3717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81960" y="37886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081960" y="3857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081960" y="3926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081960" y="39978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81960" y="4066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81960" y="4135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81960" y="42066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81960" y="4276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081960" y="4344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81960" y="44157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081960" y="4484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81960" y="4554360"/>
                <a:ext cx="32400" cy="16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9" y="10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45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214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2839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354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423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4927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5636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324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7018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772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841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9106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981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050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1198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1907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259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286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99560" y="4547160"/>
                <a:ext cx="29160" cy="241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8"/>
                    </a:moveTo>
                    <a:lnTo>
                      <a:pt x="0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418640" y="44780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418640" y="4408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418640" y="4338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418640" y="4268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8640" y="4200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418640" y="41292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418640" y="4059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18640" y="3990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418640" y="3921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418640" y="3850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418640" y="3781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418640" y="37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418640" y="36417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418640" y="3572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418640" y="3503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418640" y="3432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418640" y="3363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418640" y="3294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18640" y="3223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418640" y="3154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418640" y="3085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418640" y="3014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418640" y="2945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18640" y="2876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418640" y="28054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418640" y="2736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415040" y="2670840"/>
                <a:ext cx="13680" cy="3636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2" y="21"/>
                    </a:moveTo>
                    <a:lnTo>
                      <a:pt x="8" y="2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3462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2768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2058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37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0680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970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279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588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7879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91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496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579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100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4408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3699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3012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317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1608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0920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4538160" y="1564920"/>
              <a:ext cx="1390320" cy="3082320"/>
              <a:chOff x="4538160" y="1564920"/>
              <a:chExt cx="1390320" cy="3082320"/>
            </a:xfrm>
          </p:grpSpPr>
          <p:sp>
            <p:nvSpPr>
              <p:cNvPr id="893" name=""/>
              <p:cNvSpPr/>
              <p:nvPr/>
            </p:nvSpPr>
            <p:spPr>
              <a:xfrm>
                <a:off x="4538160" y="1568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38160" y="1638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538160" y="17082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38160" y="1776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538160" y="1847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38160" y="1917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538160" y="19864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38160" y="205524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38160" y="2126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538160" y="21952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538160" y="2264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38160" y="2335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38160" y="2404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38160" y="24735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538160" y="2544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538160" y="26132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538160" y="26827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38160" y="2753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38160" y="282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38160" y="28915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538160" y="2962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538160" y="3031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38160" y="3100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538160" y="3171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38160" y="3240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538160" y="330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538160" y="3380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538160" y="3449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538160" y="3519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538160" y="3589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538160" y="3658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538160" y="3728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538160" y="379692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38160" y="3867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538160" y="3936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38160" y="4006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538160" y="4077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538160" y="4146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538160" y="42152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538160" y="4286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38160" y="4354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538160" y="4424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538160" y="4495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538160" y="4564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538160" y="463320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1" y="8"/>
                    </a:lnTo>
                    <a:lnTo>
                      <a:pt x="2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6054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6742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7437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14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8834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525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0234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092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1616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2326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3013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3704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439600" y="463680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5105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79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48400" y="463680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193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788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57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918040" y="4593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918040" y="452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918040" y="4455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918040" y="4384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4315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918040" y="424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18040" y="4175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918040" y="4106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918040" y="403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18040" y="3966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918040" y="3897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918040" y="382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918040" y="3757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918040" y="3688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918040" y="3619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918040" y="354816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918040" y="3479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18040" y="3409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18040" y="3340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918040" y="3269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918040" y="3201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918040" y="3131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918040" y="3061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918040" y="2991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18040" y="2922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918040" y="2851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918040" y="2783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918040" y="2713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18040" y="26427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18040" y="2573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18040" y="2504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918040" y="24339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918040" y="2364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918040" y="2295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918040" y="2224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918040" y="2155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18040" y="208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18040" y="2015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918040" y="19465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18040" y="1877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918040" y="180648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918040" y="17377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918040" y="1668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918040" y="1599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820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1256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420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28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037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328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640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3946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3236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549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858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1148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4576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057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8369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674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969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278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586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1701720" y="2670840"/>
              <a:ext cx="1191600" cy="1900440"/>
              <a:chOff x="1701720" y="2670840"/>
              <a:chExt cx="1191600" cy="1900440"/>
            </a:xfrm>
          </p:grpSpPr>
          <p:sp>
            <p:nvSpPr>
              <p:cNvPr id="1022" name=""/>
              <p:cNvSpPr/>
              <p:nvPr/>
            </p:nvSpPr>
            <p:spPr>
              <a:xfrm>
                <a:off x="1701720" y="2670840"/>
                <a:ext cx="16920" cy="4284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6" y="2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01720" y="2743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01720" y="2812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01720" y="2882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01720" y="2952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701720" y="3021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701720" y="3092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701720" y="3161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701720" y="3230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01720" y="3299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01720" y="3370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701720" y="3439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01720" y="3508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01720" y="3579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01720" y="364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701720" y="3717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01720" y="3788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01720" y="385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01720" y="392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01720" y="399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01720" y="4066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01720" y="413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01720" y="420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701720" y="4276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701720" y="434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01720" y="44157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01720" y="4484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01720" y="4554360"/>
                <a:ext cx="34200" cy="169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0" y="10"/>
                    </a:lnTo>
                    <a:lnTo>
                      <a:pt x="2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65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834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054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74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043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1142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837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252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3234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3925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461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322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017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70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739600" y="456084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105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879640" y="4531320"/>
                <a:ext cx="13680" cy="3996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0" y="17"/>
                    </a:moveTo>
                    <a:lnTo>
                      <a:pt x="0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19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82880" y="4460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82880" y="4391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82880" y="43225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82880" y="4253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82880" y="4182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82880" y="4113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82880" y="40442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82880" y="3973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882880" y="3904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882880" y="38350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882880" y="3764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882880" y="3695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82880" y="36262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882880" y="3555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82880" y="3485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882880" y="3417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82880" y="3346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82880" y="3277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82880" y="3207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82880" y="3137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82880" y="3067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82880" y="2999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882880" y="29282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82880" y="2859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82880" y="2789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82880" y="271872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864160" y="2670840"/>
                <a:ext cx="29160" cy="190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1" y="11"/>
                    </a:moveTo>
                    <a:lnTo>
                      <a:pt x="17" y="11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932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24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6550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844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5149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4462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752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3061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2370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1661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0970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0282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9573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878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190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481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4617720" y="2670840"/>
              <a:ext cx="1231200" cy="1900440"/>
              <a:chOff x="4617720" y="2670840"/>
              <a:chExt cx="1231200" cy="1900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4617720" y="2670840"/>
                <a:ext cx="27360" cy="428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6" y="2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617720" y="2743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617720" y="28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617720" y="2882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617720" y="2952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17720" y="3021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617720" y="309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617720" y="3161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617720" y="3230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617720" y="32994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617720" y="3370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617720" y="3439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617720" y="3508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617720" y="357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17720" y="3648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617720" y="3717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617720" y="37886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17720" y="3857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617720" y="3926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17720" y="39978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17720" y="4066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617720" y="4135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617720" y="42066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617720" y="4276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617720" y="4344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617720" y="44157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617720" y="4484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617720" y="4554360"/>
                <a:ext cx="32760" cy="16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9" y="10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6814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7502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819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890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593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28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994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168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376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308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3773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468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517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5864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6556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726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7952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38840" y="4502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38840" y="4431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38840" y="43621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38840" y="4293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38840" y="4222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38840" y="4153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38840" y="40838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38840" y="4012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38840" y="3944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38840" y="38750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38840" y="3804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38840" y="3735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8840" y="3665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8840" y="3594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8840" y="35262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38840" y="3456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38840" y="3386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38840" y="3316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38840" y="3247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38840" y="31770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38840" y="3107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38840" y="30387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38840" y="296784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38840" y="2898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38840" y="2829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38840" y="2760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38840" y="2689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7888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7193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648400" y="2670840"/>
                <a:ext cx="41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5796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105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9600" y="2670840"/>
                <a:ext cx="41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3704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3013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2326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1616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0925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0234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9525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834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46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437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6742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1704960" y="2714040"/>
              <a:ext cx="5544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01800" y="271044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48400" y="285228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35680" y="2714040"/>
              <a:ext cx="5180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408400" y="271044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96160" y="28522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704960" y="1608120"/>
              <a:ext cx="1184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06560" y="161136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736880" y="1608120"/>
              <a:ext cx="1029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36680" y="161136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ser 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2240640" y="2358000"/>
              <a:ext cx="111960" cy="1221480"/>
              <a:chOff x="2240640" y="2358000"/>
              <a:chExt cx="111960" cy="1221480"/>
            </a:xfrm>
          </p:grpSpPr>
          <p:sp>
            <p:nvSpPr>
              <p:cNvPr id="1211" name=""/>
              <p:cNvSpPr/>
              <p:nvPr/>
            </p:nvSpPr>
            <p:spPr>
              <a:xfrm>
                <a:off x="2295720" y="2458080"/>
                <a:ext cx="1800" cy="10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42080" y="2358000"/>
                <a:ext cx="110520" cy="1069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240640" y="3472200"/>
                <a:ext cx="108720" cy="107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4660920" y="2714040"/>
              <a:ext cx="5544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754160" y="271044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00760" y="285228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91640" y="2714040"/>
              <a:ext cx="5144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59680" y="271044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49600" y="28522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194800" y="2358000"/>
              <a:ext cx="113400" cy="1221480"/>
              <a:chOff x="5194800" y="2358000"/>
              <a:chExt cx="113400" cy="1221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5251320" y="2458080"/>
                <a:ext cx="1800" cy="10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98040" y="2358000"/>
                <a:ext cx="110160" cy="1069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94800" y="347220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3158280" y="2719080"/>
              <a:ext cx="11984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66000" y="2719080"/>
              <a:ext cx="94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81920" y="2862360"/>
              <a:ext cx="69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9120" y="1568520"/>
              <a:ext cx="6699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64520" y="156852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87480" y="174132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9920" y="19206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01280" y="357984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506040" y="35766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1036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857840" y="3579840"/>
              <a:ext cx="751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114880" y="35766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7052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3695040" y="3303360"/>
              <a:ext cx="113400" cy="276120"/>
              <a:chOff x="3695040" y="3303360"/>
              <a:chExt cx="113400" cy="276120"/>
            </a:xfrm>
          </p:grpSpPr>
          <p:sp>
            <p:nvSpPr>
              <p:cNvPr id="1238" name=""/>
              <p:cNvSpPr/>
              <p:nvPr/>
            </p:nvSpPr>
            <p:spPr>
              <a:xfrm>
                <a:off x="3751920" y="3403440"/>
                <a:ext cx="14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698280" y="330336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695040" y="347220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3695040" y="3934080"/>
              <a:ext cx="113400" cy="391680"/>
              <a:chOff x="3695040" y="3934080"/>
              <a:chExt cx="113400" cy="391680"/>
            </a:xfrm>
          </p:grpSpPr>
          <p:sp>
            <p:nvSpPr>
              <p:cNvPr id="1242" name=""/>
              <p:cNvSpPr/>
              <p:nvPr/>
            </p:nvSpPr>
            <p:spPr>
              <a:xfrm>
                <a:off x="3751920" y="4033800"/>
                <a:ext cx="144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698280" y="393408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695040" y="421848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194800" y="3934080"/>
              <a:ext cx="113400" cy="391680"/>
              <a:chOff x="5194800" y="3934080"/>
              <a:chExt cx="113400" cy="39168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51320" y="4033800"/>
                <a:ext cx="180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198040" y="393408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194800" y="421848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9" name=""/>
          <p:cNvSpPr/>
          <p:nvPr/>
        </p:nvSpPr>
        <p:spPr>
          <a:xfrm>
            <a:off x="6443640" y="2570040"/>
            <a:ext cx="20160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r1, Iur2, Iur3, Iu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B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95280" y="5013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s of Node B (Base S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5280" y="5578560"/>
            <a:ext cx="8353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ir Interface L1 Processing (Channel Coding, Interleaving, Rate Adaptation, Spreading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ic RRM, e.g. Inner Loop Powe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63F-AF32-40DB-B740-CBF0ADE5F4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154560" y="15145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54560" y="20908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738920" y="180180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62920" y="17305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62920" y="201780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gical Roles of the 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5280" y="1473120"/>
            <a:ext cx="374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ling RNC (C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ible for the load and congestion control of its own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96360" y="148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229440" y="305100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229440" y="348300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453440" y="326700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021440" y="319572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021440" y="3411360"/>
            <a:ext cx="43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95280" y="3060720"/>
            <a:ext cx="37450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rving RNC (S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rminates : Iu link of user data, Radio Resource Control Sign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s : L2 processing of data to/from the radio interface, RRM operations (Handover, Outer Loop Power Contr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5280" y="5445000"/>
            <a:ext cx="374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rift RNC (D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s : Macrodiversity Combining and spli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229440" y="393372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229440" y="436572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453440" y="414972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021440" y="407844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7021440" y="42940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740720" y="3556080"/>
            <a:ext cx="0" cy="59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101080" y="3411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01080" y="4294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29440" y="494028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229440" y="537228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53440" y="515628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21440" y="5084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021440" y="5300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29440" y="580536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229440" y="623736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53440" y="602136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021440" y="595008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7021440" y="616572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740720" y="544500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101080" y="530064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101080" y="61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292720" y="3700440"/>
            <a:ext cx="4334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5724360" y="36291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24360" y="3989520"/>
            <a:ext cx="503280" cy="8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92720" y="6005520"/>
            <a:ext cx="4334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5724360" y="5933880"/>
            <a:ext cx="503280" cy="15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66560" y="278136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932360" y="3068640"/>
            <a:ext cx="0" cy="3384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317080" y="3213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317080" y="299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317080" y="4076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17080" y="3860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317080" y="508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317080" y="486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317080" y="59500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317080" y="57340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96360" y="573408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96360" y="38606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40720" y="35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740720" y="5445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C97-CAFA-4FD4-B89F-1BE084C8D4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D9A-CCF8-4252-B2E3-D24A93C723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583240" y="3213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67600" y="335772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59124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83240" y="5516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167600" y="5516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238880" y="4797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912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67240" y="2997360"/>
            <a:ext cx="2951280" cy="316836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168360"/>
              <a:gd name="textAreaBottom" fmla="*/ 3024360 h 316836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878520" y="4437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7238880" y="3716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6520" y="3860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6086520" y="4653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149800" y="357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149800" y="573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942160" y="3860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1010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101080" y="573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21440" y="6237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rot="16200000">
            <a:off x="7637040" y="4540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932360" y="4508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95280" y="981000"/>
            <a:ext cx="460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hanges From Release ’99 to Release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Seamless Transition from GSM to All-IP 3G Core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ponsible for Switching and Routing Calls and Data Connections within, and to the External Networks 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e.g. PSTN, ISDN and Interne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vided into CS Network and PS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FD6-148A-40F9-85C9-002A6AC894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583240" y="132408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167600" y="146844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591240" y="1684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83240" y="36273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167600" y="362736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2908440"/>
            <a:ext cx="432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591240" y="384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367240" y="1108080"/>
            <a:ext cx="2951280" cy="316872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168720"/>
              <a:gd name="textAreaBottom" fmla="*/ 3024720 h 3168720"/>
            </a:gdLst>
            <a:ahLst/>
            <a:rect l="textAreaLeft" t="textAreaTop" r="textAreaRight" b="textAreaBottom"/>
            <a:pathLst>
              <a:path w="21600" h="23191">
                <a:moveTo>
                  <a:pt x="3600" y="0"/>
                </a:moveTo>
                <a:arcTo wR="3600" hR="3600" stAng="16200000" swAng="-5400000"/>
                <a:lnTo>
                  <a:pt x="0" y="19591"/>
                </a:lnTo>
                <a:arcTo wR="3600" hR="3600" stAng="10800000" swAng="-5400000"/>
                <a:lnTo>
                  <a:pt x="18000" y="23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78520" y="254808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7238880" y="182736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86520" y="1971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6086520" y="27637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49800" y="1684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49800" y="384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942160" y="1971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101080" y="1684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101080" y="384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16200000">
            <a:off x="7637040" y="2651400"/>
            <a:ext cx="19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788000" y="1395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95280" y="981000"/>
            <a:ext cx="4537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Release ‘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bile Switching Centre (MSC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witching CS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sitor Location Register (VL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lds a copy of the visiting user’s service profile, and the precise info of the UE’s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ateway MSC (GMS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witch that connects to 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S Domain 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rving GPRS Support Node (SGS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function as MSC/VL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ateway GPRS Support Node (GGS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function as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003640" y="4653000"/>
            <a:ext cx="3745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er 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me Location Register (HL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s master copies of users service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s UE location on the level of MSC/VLR/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78800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480-5EEF-450D-B758-964B694DEA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80000" y="2765520"/>
            <a:ext cx="1008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951600" y="2749680"/>
            <a:ext cx="936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588000" y="2981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580000" y="34131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948360" y="3413160"/>
            <a:ext cx="9352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588000" y="3629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149800" y="29653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146560" y="36291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85080" y="29653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885080" y="3629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885080" y="3052800"/>
            <a:ext cx="10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003640" y="26766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95280" y="981000"/>
            <a:ext cx="4753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hase of the IP Multimedia Subsystem (I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able standardized approach for IP based service provi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dia Resource Function (MR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ll Session Control Function (CSC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dia Gateway Control Function (MGC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SC and GMS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 Function, can control multiple MGW, hence sca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S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MSC for the actual switching and 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ery similar to R’99 with some enhancement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00760" y="33591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580000" y="210168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951600" y="210168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588000" y="2333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149800" y="23176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003640" y="20448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08472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164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451640" y="31258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24360" y="4060800"/>
            <a:ext cx="792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732720" y="4060800"/>
            <a:ext cx="1008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028000" y="1484280"/>
            <a:ext cx="72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956720" y="4060800"/>
            <a:ext cx="936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236000" y="3773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516720" y="42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740720" y="42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85080" y="2909880"/>
            <a:ext cx="574560" cy="115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796000" y="134136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227640" y="4724280"/>
            <a:ext cx="2016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23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508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508720" y="4076640"/>
            <a:ext cx="71280" cy="360360"/>
          </a:xfrm>
          <a:custGeom>
            <a:avLst/>
            <a:gdLst>
              <a:gd name="textAreaLeft" fmla="*/ 20880 w 71280"/>
              <a:gd name="textAreaRight" fmla="*/ 71640 w 71280"/>
              <a:gd name="textAreaTop" fmla="*/ 14760 h 360360"/>
              <a:gd name="textAreaBottom" fmla="*/ 3456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21440" y="471168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S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08472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7451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E8E-383C-4D65-99E0-7405534927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66560" y="981000"/>
            <a:ext cx="8210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Architecture, Bearer Services, QoS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CDMA Air Interface : Spread Spectrum, Transport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RAN : Roles of RNCs and Node 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re Network : Roles of Different Components of R’99 and 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66560" y="263520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4360" y="384336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4360" y="486900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341440" y="31399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341440" y="37162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925800" y="342756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49800" y="33559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3349800" y="364284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341440" y="5067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341440" y="5643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925800" y="535464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349800" y="5283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3349800" y="5570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125800" y="263520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510160" y="313992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094520" y="328464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518160" y="350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510160" y="54435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094520" y="544356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165800" y="472428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518160" y="5659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294160" y="263520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805440" y="436392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165800" y="364320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013440" y="37879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6013440" y="45799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286160" y="3787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46520" y="3500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646520" y="56595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4646160" y="3500280"/>
            <a:ext cx="8622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646520" y="3500280"/>
            <a:ext cx="8622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044720" y="4219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69080" y="37879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078520" y="306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08000" y="306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028000" y="35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028000" y="5659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564000" y="616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948360" y="61642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1280" y="616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16200000">
            <a:off x="7563960" y="446724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26920" y="4579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116000" y="4292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92360" y="2708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859280" y="2708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67280" y="4579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35280" y="306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059280" y="44355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284720" y="4292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BCE-AB39-415A-A429-F07F1D4646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ill not be cov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enna, RF Propagation and Fa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ed Services, e.g. Location Serv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rtain Technical Aspects, e.g. WCDMA TDD Mode, Base Station Synchro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ed Protocol Struct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ed Design Issues, Optim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formance Evalu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dma200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7E9-181F-44F4-AE66-6C804CD207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Resources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WCDMA vs 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39C-65FF-4DC1-BFD3-D6F190B8A2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Resources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Based Fu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mission Control (A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ll new incoming traffic. Check whether new connection can be admitted to the system and generates parameters for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ad Control (L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nages situation when system load exceeds the threshold and some counter measures have to be taken to get system back to a feasible loa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cket Scheduler (P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ll non real time traffic, (packet data users). It decides when a packet transmission is initiated and the bit rate to be use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nection Based Fu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andover Control (H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nd makes the handover decision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ntrols the active set of Base Stations of M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ower Control (P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ains radio link qualit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inimize and control the power used in radio interface, thus maximizing the call capacit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Lecture Notes of S-72.238 Wideband CDMA systems, Communications Laboratory, Helsinki University of Technolo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208-9495-42CF-81BB-58D18CF305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work Based Func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9" name="" descr=""/>
          <p:cNvPicPr/>
          <p:nvPr/>
        </p:nvPicPr>
        <p:blipFill>
          <a:blip r:embed="rId1"/>
          <a:stretch/>
        </p:blipFill>
        <p:spPr>
          <a:xfrm>
            <a:off x="395280" y="1054080"/>
            <a:ext cx="8282160" cy="489600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755640" y="59626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 / NRT : Real-time / Non-Real-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 : Radio Access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Lecture Notes of S-72.238 Wideband CDMA systems, Communications Laboratory, Helsinki University of Technolo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956-1347-400A-8ABE-BAAA16EC08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nection Based Fun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95280" y="981000"/>
            <a:ext cx="460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we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vent Excessive Interference and Near-far Effe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pen-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ough estimation of path loss from receiving sig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itial power setting, or when no feedback channel is ex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st Close-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eedback loop with 1.5kHz cycle to adjust uplink / downlink power to its min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ven faster than the speed of Rayleigh fading for moderate mobile spee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uter 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just the target SIR setpoint in base station according to the target 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mmanded by R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" descr=""/>
          <p:cNvPicPr/>
          <p:nvPr/>
        </p:nvPicPr>
        <p:blipFill>
          <a:blip r:embed="rId1"/>
          <a:stretch/>
        </p:blipFill>
        <p:spPr>
          <a:xfrm>
            <a:off x="6443640" y="2852640"/>
            <a:ext cx="600120" cy="129708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2"/>
          <a:stretch/>
        </p:blipFill>
        <p:spPr>
          <a:xfrm>
            <a:off x="7596360" y="119700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36" name="" descr=""/>
          <p:cNvPicPr/>
          <p:nvPr/>
        </p:nvPicPr>
        <p:blipFill>
          <a:blip r:embed="rId3"/>
          <a:stretch/>
        </p:blipFill>
        <p:spPr>
          <a:xfrm>
            <a:off x="5580000" y="5373720"/>
            <a:ext cx="327240" cy="431640"/>
          </a:xfrm>
          <a:prstGeom prst="rect">
            <a:avLst/>
          </a:prstGeom>
          <a:ln w="0">
            <a:noFill/>
          </a:ln>
        </p:spPr>
      </p:pic>
      <p:sp>
        <p:nvSpPr>
          <p:cNvPr id="1537" name=""/>
          <p:cNvSpPr/>
          <p:nvPr/>
        </p:nvSpPr>
        <p:spPr>
          <a:xfrm flipV="1">
            <a:off x="5724360" y="4005360"/>
            <a:ext cx="719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5867280" y="4076640"/>
            <a:ext cx="720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877080" y="1917360"/>
            <a:ext cx="5745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7019640" y="1989000"/>
            <a:ext cx="576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59640" y="4365720"/>
            <a:ext cx="20178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SIR &lt; SI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send “power up” command to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219640" y="1052640"/>
            <a:ext cx="2448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er Loop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quality &lt; target, increases SI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43F-1F83-47C8-8BB0-F967490550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6372360" y="4005360"/>
            <a:ext cx="600120" cy="1296720"/>
          </a:xfrm>
          <a:prstGeom prst="rect">
            <a:avLst/>
          </a:prstGeom>
          <a:ln w="0">
            <a:noFill/>
          </a:ln>
        </p:spPr>
      </p:pic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nection Based Fun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95280" y="981000"/>
            <a:ext cx="460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er Hando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 MS is in the overlapping coverage of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 sectors of a base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urrent communication via 2 air interface chann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 channels are maximally combined with rake 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 Hando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 MS is in the overlapping coverage of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 different base st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urrent communication via 2 air interface chann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ownlink: Maximal combining with rake 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plink: Routed to RNC for selection combining, according to a frame reliability indicator by the base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Kind of Macrodivers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2"/>
          <a:stretch/>
        </p:blipFill>
        <p:spPr>
          <a:xfrm>
            <a:off x="5148360" y="263844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600120" cy="129672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rot="4500000">
            <a:off x="7127640" y="1593720"/>
            <a:ext cx="122580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1897200">
            <a:off x="6730920" y="836280"/>
            <a:ext cx="122580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" descr=""/>
          <p:cNvPicPr/>
          <p:nvPr/>
        </p:nvPicPr>
        <p:blipFill>
          <a:blip r:embed="rId4"/>
          <a:stretch/>
        </p:blipFill>
        <p:spPr>
          <a:xfrm>
            <a:off x="7773840" y="1701720"/>
            <a:ext cx="327240" cy="432000"/>
          </a:xfrm>
          <a:prstGeom prst="rect">
            <a:avLst/>
          </a:prstGeom>
          <a:ln w="0">
            <a:noFill/>
          </a:ln>
        </p:spPr>
      </p:pic>
      <p:sp>
        <p:nvSpPr>
          <p:cNvPr id="1551" name=""/>
          <p:cNvSpPr/>
          <p:nvPr/>
        </p:nvSpPr>
        <p:spPr>
          <a:xfrm>
            <a:off x="6804000" y="1701720"/>
            <a:ext cx="936720" cy="57636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544" y="23"/>
                </a:moveTo>
                <a:cubicBezTo>
                  <a:pt x="491" y="11"/>
                  <a:pt x="438" y="0"/>
                  <a:pt x="362" y="23"/>
                </a:cubicBezTo>
                <a:cubicBezTo>
                  <a:pt x="286" y="46"/>
                  <a:pt x="150" y="98"/>
                  <a:pt x="90" y="159"/>
                </a:cubicBezTo>
                <a:cubicBezTo>
                  <a:pt x="30" y="220"/>
                  <a:pt x="23" y="235"/>
                  <a:pt x="0" y="3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 flipV="1">
            <a:off x="7020000" y="2206080"/>
            <a:ext cx="936720" cy="32364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544" y="23"/>
                </a:moveTo>
                <a:cubicBezTo>
                  <a:pt x="491" y="11"/>
                  <a:pt x="438" y="0"/>
                  <a:pt x="362" y="23"/>
                </a:cubicBezTo>
                <a:cubicBezTo>
                  <a:pt x="286" y="46"/>
                  <a:pt x="150" y="98"/>
                  <a:pt x="90" y="159"/>
                </a:cubicBezTo>
                <a:cubicBezTo>
                  <a:pt x="30" y="220"/>
                  <a:pt x="23" y="235"/>
                  <a:pt x="0" y="3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012000" y="3212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5"/>
          <a:stretch/>
        </p:blipFill>
        <p:spPr>
          <a:xfrm>
            <a:off x="5148360" y="522936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55" name="" descr=""/>
          <p:cNvPicPr/>
          <p:nvPr/>
        </p:nvPicPr>
        <p:blipFill>
          <a:blip r:embed="rId6"/>
          <a:stretch/>
        </p:blipFill>
        <p:spPr>
          <a:xfrm>
            <a:off x="7093080" y="5157720"/>
            <a:ext cx="600120" cy="1297080"/>
          </a:xfrm>
          <a:prstGeom prst="rect">
            <a:avLst/>
          </a:prstGeom>
          <a:ln w="0">
            <a:noFill/>
          </a:ln>
        </p:spPr>
      </p:pic>
      <p:sp>
        <p:nvSpPr>
          <p:cNvPr id="1556" name=""/>
          <p:cNvSpPr/>
          <p:nvPr/>
        </p:nvSpPr>
        <p:spPr>
          <a:xfrm rot="3340800">
            <a:off x="7272360" y="4113360"/>
            <a:ext cx="122544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rot="5685600">
            <a:off x="6767640" y="3320640"/>
            <a:ext cx="122544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7"/>
          <a:stretch/>
        </p:blipFill>
        <p:spPr>
          <a:xfrm>
            <a:off x="8172360" y="4221000"/>
            <a:ext cx="327240" cy="4320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6012000" y="580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6011640" y="508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6732360" y="4292640"/>
            <a:ext cx="143964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7524360" y="472428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B10-17F2-4660-A94F-BFBF8DC7AB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ditional Brief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WCDMA vs 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3F1-660A-44F8-AC58-075A0C24EC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Network Planning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137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dio Link Power Budge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ference margin (loading) + Fast fading margin (power control headroom) + Soft handover gain (macrodiversity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ell Coverage is obtain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ad Fa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timation of Supported Traffic per Base S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quired SNR, Intracell Interference, Intercell Interfer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rthogonality of Channel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ne of the example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 Capac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DMA has no definite capacity limi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always “borrow” capacity from other cell or decrease Q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etwork Sha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-plann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-operator Interfer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8" name=""/>
          <p:cNvGraphicFramePr/>
          <p:nvPr/>
        </p:nvGraphicFramePr>
        <p:xfrm>
          <a:off x="1668600" y="3378240"/>
          <a:ext cx="3695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3378240"/>
                    <a:ext cx="3695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435-2A25-45A0-BCDC-53F8E83AA8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SDP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95280" y="981000"/>
            <a:ext cx="8137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Speed Downlink Packet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tandardized in 3GPP Release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mproves System Capacity and User Data Rates in the Downlink Direction to 10Mbps in a 5MHz Chann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ive Modulation and Coding (AM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places Fast Power Control 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ser farer from Base Station utilizes a coding and modulation that requires lower Bit Energy to Interference Ratio, leading to a lower through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places Variable Spreading Factor 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se of more robust coding and fast Hybrid Automatic Repeat Request (HARQ, retransmit occurs only between MS and B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RQ provides Fast Retransmission with Soft Combining and Incremental Redundan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ft Combining : Identical Retransmiss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cremental Redundancy : Retransmits Parity Bits on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st Scheduling 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ich is Controlled in the Base Station rather than by the R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E62-414D-47D2-84DD-59A6627BF2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vs cdma200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466560" y="1814400"/>
          <a:ext cx="8210880" cy="4497480"/>
        </p:xfrm>
        <a:graphic>
          <a:graphicData uri="http://schemas.openxmlformats.org/drawingml/2006/table">
            <a:tbl>
              <a:tblPr/>
              <a:tblGrid>
                <a:gridCol w="1729080"/>
                <a:gridCol w="1439640"/>
                <a:gridCol w="1800360"/>
                <a:gridCol w="32418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of the Major Differ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CD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mda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read Sprectrum 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Mhz Wideband DS-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arrier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1.25MHz Narrowband DS-SS, 250kHz Guard 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arrier does not requires a contiguous spectral ban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th scheme can achieve similar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4M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864Mcps (1.2288 per carri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 alone does not determine system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 L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ms for data, 5ms for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and efficiency trade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Control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er gives better link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Station Synchro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nchron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nchro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nchronous requires not timing reference which is usually hard to acqui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nchronized operation usually gives better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4" name=""/>
          <p:cNvSpPr/>
          <p:nvPr/>
        </p:nvSpPr>
        <p:spPr>
          <a:xfrm>
            <a:off x="395280" y="907920"/>
            <a:ext cx="813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opted by Telecommunications Industry Association, backward compatible with IS-95, lately moved to 3GPP2 (in contrast to 3GPP for WCDMA) as the CDMA MultiCarrier member of the IMT-2000 family of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005-094F-41E6-861F-B877CB2913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rap Up and Key 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we have been talked abo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G to 3G Evol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CDMA Ai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Resources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work Planning Iss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 Speed Data Packet Ac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CDMA vs cdma2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ey 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CDMA for UM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Radio Access for Third Generation Mobile Communications, 2nd Ed., Edited by Harri Holma and Antti Toska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view of UM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Guoyou He, Telecommunication Software and Multimedia Laboratory, Helsinki University of Technolog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se materials from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urse S-72.238 : Wideband CDMA syste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Communications Laboratory, Helsinki University of Technolog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5CA-1583-41AD-8EC9-1D9363E469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: From 2G to 3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566" t="13359" r="1973" b="16919"/>
          <a:stretch/>
        </p:blipFill>
        <p:spPr>
          <a:xfrm>
            <a:off x="684360" y="1052640"/>
            <a:ext cx="7848360" cy="513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Northstream, Operator Options for 3G Evolution,  Feb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6F8-4CD2-446A-94F2-D8731C2D6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: From 2G to 3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lly specified and world-widely valid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jor interfaces should be standardized and op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pports multimedia and all of its componen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deband radio acces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ices must be independent from radio access technology and is not limited by the network infrastruct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mary Requirements of a 3G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AFE-8BDF-43E4-B91B-9E6C5ADB90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695680" cy="18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3rd Generation Partnership Project (3G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ole: Create 3G Specifications and Repor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3G is standardized based on the evolved GSM core networks and the supporting Radio Access Technolog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0200" y="3006720"/>
            <a:ext cx="6842160" cy="2870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708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547-3A58-404D-BB8D-81149081E8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1080" y="3645000"/>
            <a:ext cx="5327640" cy="2859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92360" y="870120"/>
            <a:ext cx="5327640" cy="2774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ction of GPRS / E-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7101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‘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287200">
            <a:off x="4932360" y="3284280"/>
            <a:ext cx="431640" cy="288720"/>
          </a:xfrm>
          <a:prstGeom prst="rightArrow">
            <a:avLst>
              <a:gd name="adj1" fmla="val 50204"/>
              <a:gd name="adj2" fmla="val 6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5877000"/>
            <a:ext cx="431640" cy="288720"/>
          </a:xfrm>
          <a:prstGeom prst="rightArrow">
            <a:avLst>
              <a:gd name="adj1" fmla="val 50204"/>
              <a:gd name="adj2" fmla="val 6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CF9-605C-4393-B248-2B1E512F68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92360" y="836640"/>
            <a:ext cx="5327640" cy="257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37101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5-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P 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48000" y="3733920"/>
            <a:ext cx="5616720" cy="2503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9000000">
            <a:off x="7379640" y="1267920"/>
            <a:ext cx="431640" cy="289080"/>
          </a:xfrm>
          <a:prstGeom prst="rightArrow">
            <a:avLst>
              <a:gd name="adj1" fmla="val 50204"/>
              <a:gd name="adj2" fmla="val 66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300000">
            <a:off x="6732000" y="4363560"/>
            <a:ext cx="431640" cy="289080"/>
          </a:xfrm>
          <a:prstGeom prst="rightArrow">
            <a:avLst>
              <a:gd name="adj1" fmla="val 50204"/>
              <a:gd name="adj2" fmla="val 66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A0D-C44F-43AD-A81A-DC7680450A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413000"/>
          <a:ext cx="8424720" cy="5024160"/>
        </p:xfrm>
        <a:graphic>
          <a:graphicData uri="http://schemas.openxmlformats.org/drawingml/2006/table">
            <a:tbl>
              <a:tblPr/>
              <a:tblGrid>
                <a:gridCol w="3672000"/>
                <a:gridCol w="47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e Acces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S-CD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plexing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DD/T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Station Synchr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chronous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nel Sepa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4 Mc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 Multiplex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e Services with different QoS Requirements Multiplexed on one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rate Con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 Spreading Factor and Multi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herent, using Pilot Symbols or Common Pi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user Detection, Smart Anten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ed by Standard, Optional in Imp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CDMA Air Interface, Mai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389-63DB-4C7C-B3D7-3ECA83470C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zuela Patricio</cp:lastModifiedBy>
  <dcterms:modified xsi:type="dcterms:W3CDTF">2005-11-09T02:21:16Z</dcterms:modified>
  <cp:revision>220</cp:revision>
  <dc:subject/>
  <dc:title>PowerPoint Presentation</dc:title>
</cp:coreProperties>
</file>