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4870450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870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758680" y="-36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2758680" y="674352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005EBAA-B625-43BD-B7B0-7BF6C6B2F051}" type="slidenum"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do WCDMA / UMTS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CDMA, Universal Mobile Telecommunications System,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Brief network by network, and thei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ntroduce the Concept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N : CS /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sample data paths (CS and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M: Universal Subscriber Identity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is supported by different layers of beare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All defined by th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some of th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conclusion : Architecture, Services,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rill into the detail of the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Item: Air Interface, UTRAN,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ir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Principle and Advantage of the wideb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Different physical channels and how they ope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pread Spectrum -&gt; In order to illustrates Multipath and V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H, RACH, DCH, CPCH, 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-&gt; Illustrates “Random Access, Schedule Access, Dedicated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ompact review of the very detaile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toco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Horizontal Layer and Vertical P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Part, 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2 example for illustration, R99 and 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changes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S: Home Subscribe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ny Database Functions, e.g. HLR, DNS, Security, Network Acces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, Brief, Brie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differen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how AC, LC, PS re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ssion Control (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ew incoming traffic. Check whether new connection can be admitted to the system and generates parameters for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 Control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s situation when system load exceeds the threshold and some counter measures have to be taken to get system back to a feasible lo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et Scheduler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on real time traffic, (packet data users). It decides when a packet transmission is initiated and the bit rate to be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ased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rief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presentation mor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 of some further stud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admap of the Evolution of Wirel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Technologies -&gt; 2.5G -&gt;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Intermediate Steps of Tran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: GSM (EDGE: Enhanced Data for GSM 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: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Upper Stream -&gt; Introduce WHY WCDMA would be today’s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position / define a 3G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t’s take a closer look of how 3G Network is evolved and standar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 by connection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-&gt; Access Network -&gt; Core Network -&gt; Ex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S: Network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: Base St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S: Network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er, in so call 2.5G, E-GPRS is introduced, BSS -&gt; Enhanced 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First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upport new external network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 3GPP Release 99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ame: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RAN evolved into UTRAN (UMTS Terrestrial Radio Access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of BTS, BSC to BS and 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99, there’s R4 and R5/6 (most up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all the way to an ALL-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4: Minor changes to the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eparate control and data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More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SC: Mobile Switching Center, MGW: Media Gate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5/6: Only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ircuit Routing: Virtual Circui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 Requires a new Radio/Ai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PP’s UMTS adopted 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948-850A-4CE6-B79D-D284581A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F43-E5EE-45B9-B197-60128E3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267-13C1-4B99-BAB5-629FB51B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DED-AA61-4535-88BB-431EB923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6C0A-F043-4F2E-A32F-DCFC9CB8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E18-DF07-4D00-8A6A-A312853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11F-935A-4986-A869-D4954BE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412F-6319-49AD-A050-293934B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6140-E3F6-4C8E-BA4F-4D7DBD89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032C-8340-4D18-A44D-EA770C9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CA9-E808-4EB8-8FDD-96C2F5E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377-FF7F-47F4-9280-8BE0786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5F5-756E-4AC0-B614-9D223258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068-F6C2-4CAE-91E5-C0D6E1B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33E-9B76-4EE0-92CA-B1903F50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36E-2045-44E2-B08E-6FE6FE4B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314-3025-4F06-AC93-53593A99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B6C-781C-4C6E-B27B-C38ED83B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323-CC29-447E-988C-0E617C1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D28-40AC-4FF3-B5E3-5687F404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462-89CF-4B4A-9F6B-724D48B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070-4101-4DE2-BC3D-435B0FAD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390-163C-495B-A86F-48860E5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D5A-CFA4-48BE-8314-59D5289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08000" y="692280"/>
            <a:ext cx="8928000" cy="604980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0B2-0900-4C6B-BC58-6863411C5F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8000" y="1123920"/>
            <a:ext cx="8928000" cy="461016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BE1-3056-4C82-9F63-FEB554B480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2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50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 Generation 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CDMA / UMTS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ireless Network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149720"/>
            <a:ext cx="8928000" cy="71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DFFA-AAE4-4DDA-98AB-A727F9A5C4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DBC-2AD9-415F-80A7-759E58E1F9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System Architec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44E-0282-4874-82C5-102C26F45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Bearer Serv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1784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 I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328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2419200"/>
            <a:ext cx="691200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3211560"/>
            <a:ext cx="1295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3560"/>
            <a:ext cx="2663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Access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4795920"/>
            <a:ext cx="129564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587920"/>
            <a:ext cx="12952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/TD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211560"/>
            <a:ext cx="136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/MT Loc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er S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3211560"/>
            <a:ext cx="3960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Bear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4003560"/>
            <a:ext cx="1295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795920"/>
            <a:ext cx="129528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795920"/>
            <a:ext cx="122400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5587920"/>
            <a:ext cx="12970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1341360"/>
            <a:ext cx="54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05264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78F-3BAF-4788-8996-4CF42247AF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QoS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6560" y="1273320"/>
          <a:ext cx="8210880" cy="4819320"/>
        </p:xfrm>
        <a:graphic>
          <a:graphicData uri="http://schemas.openxmlformats.org/drawingml/2006/table">
            <a:tbl>
              <a:tblPr/>
              <a:tblGrid>
                <a:gridCol w="1641600"/>
                <a:gridCol w="1743120"/>
                <a:gridCol w="1657440"/>
                <a:gridCol w="1655640"/>
                <a:gridCol w="1513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pattern (stringent and low del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ponse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 is not expecting the data within a certai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of the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, videotelephony, video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ulti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rows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download of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3DA-D635-45C4-A524-CE9D03B54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In Detai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7DB-8660-45D0-A8AA-9280A703F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eband CDMA, Ov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-CDMA, 5 MHz Carrier Spac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A Gives Frequency Reuse Factor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Hz Bandwidth allows Multipath Diversity using Rake Rece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Spreading Factor (VSF) to offer Bandwidth on Demand (BoD) up to 2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t (1.5kHz) Power Control for Optimal Interference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multiplexing with different Q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-time / Best-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% Frame Error Rate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t Error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4A1-7CD4-4F02-B274-E2137234E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Sequence Sprea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258920" y="1341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206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349360"/>
            <a:ext cx="217440" cy="719280"/>
          </a:xfrm>
          <a:custGeom>
            <a:avLst/>
            <a:gdLst>
              <a:gd name="textAreaLeft" fmla="*/ 47880 w 217440"/>
              <a:gd name="textAreaRight" fmla="*/ 169560 w 217440"/>
              <a:gd name="textAreaTop" fmla="*/ 158040 h 719280"/>
              <a:gd name="textAreaBottom" fmla="*/ 5612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068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2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560" y="1484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56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6560" y="2492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1844640"/>
            <a:ext cx="650880" cy="217440"/>
          </a:xfrm>
          <a:custGeom>
            <a:avLst/>
            <a:gdLst>
              <a:gd name="textAreaLeft" fmla="*/ 142920 w 650880"/>
              <a:gd name="textAreaRight" fmla="*/ 507960 w 65088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59280" y="2852640"/>
            <a:ext cx="647640" cy="21600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989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40360" y="26348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76720" y="2205000"/>
            <a:ext cx="787680" cy="432000"/>
          </a:xfrm>
          <a:custGeom>
            <a:avLst/>
            <a:gdLst>
              <a:gd name="textAreaLeft" fmla="*/ 173160 w 787680"/>
              <a:gd name="textAreaRight" fmla="*/ 614520 w 78768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3cbab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46560" y="2635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54560" y="241920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192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1280" y="26352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51640" y="191628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19162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1987560"/>
            <a:ext cx="57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3068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cy Reuse Fac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060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60930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 MHz Wideband Signal allows Multipath Diversity with Rake Rece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26920" y="4021920"/>
            <a:ext cx="69840" cy="701640"/>
          </a:xfrm>
          <a:custGeom>
            <a:avLst/>
            <a:gdLst>
              <a:gd name="textAreaLeft" fmla="*/ 15120 w 69840"/>
              <a:gd name="textAreaRight" fmla="*/ 54720 w 69840"/>
              <a:gd name="textAreaTop" fmla="*/ 154080 h 701640"/>
              <a:gd name="textAreaBottom" fmla="*/ 54756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114560" y="4383000"/>
            <a:ext cx="72720" cy="341280"/>
          </a:xfrm>
          <a:custGeom>
            <a:avLst/>
            <a:gdLst>
              <a:gd name="textAreaLeft" fmla="*/ 15840 w 72720"/>
              <a:gd name="textAreaRight" fmla="*/ 56880 w 72720"/>
              <a:gd name="textAreaTop" fmla="*/ 74880 h 341280"/>
              <a:gd name="textAreaBottom" fmla="*/ 26640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549440" y="4507920"/>
            <a:ext cx="69840" cy="215640"/>
          </a:xfrm>
          <a:custGeom>
            <a:avLst/>
            <a:gdLst>
              <a:gd name="textAreaLeft" fmla="*/ 15120 w 69840"/>
              <a:gd name="textAreaRight" fmla="*/ 54720 w 698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5480" y="4956120"/>
            <a:ext cx="939960" cy="704880"/>
          </a:xfrm>
          <a:custGeom>
            <a:avLst/>
            <a:gdLst>
              <a:gd name="textAreaLeft" fmla="*/ 206640 w 939960"/>
              <a:gd name="textAreaRight" fmla="*/ 733320 w 93996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4560" y="5318280"/>
            <a:ext cx="1009440" cy="342720"/>
          </a:xfrm>
          <a:custGeom>
            <a:avLst/>
            <a:gdLst>
              <a:gd name="textAreaLeft" fmla="*/ 221760 w 1009440"/>
              <a:gd name="textAreaRight" fmla="*/ 787680 w 100944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47640" y="5445000"/>
            <a:ext cx="936720" cy="216000"/>
          </a:xfrm>
          <a:custGeom>
            <a:avLst/>
            <a:gdLst>
              <a:gd name="textAreaLeft" fmla="*/ 205920 w 936720"/>
              <a:gd name="textAreaRight" fmla="*/ 730800 w 936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4741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56768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4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599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532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3645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 Dela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6450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Spreading Factor (V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00760" y="3933720"/>
            <a:ext cx="75960" cy="720720"/>
          </a:xfrm>
          <a:custGeom>
            <a:avLst/>
            <a:gdLst>
              <a:gd name="textAreaLeft" fmla="*/ 16560 w 75960"/>
              <a:gd name="textAreaRight" fmla="*/ 59400 w 7596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30960" y="4076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85120" y="4580640"/>
            <a:ext cx="939600" cy="71640"/>
          </a:xfrm>
          <a:custGeom>
            <a:avLst/>
            <a:gdLst>
              <a:gd name="textAreaLeft" fmla="*/ 206640 w 939600"/>
              <a:gd name="textAreaRight" fmla="*/ 732960 w 9396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653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5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6360" y="4508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57840" y="4941720"/>
            <a:ext cx="361800" cy="720720"/>
          </a:xfrm>
          <a:custGeom>
            <a:avLst/>
            <a:gdLst>
              <a:gd name="textAreaLeft" fmla="*/ 79560 w 361800"/>
              <a:gd name="textAreaRight" fmla="*/ 282240 w 36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5661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30960" y="5084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85120" y="5373720"/>
            <a:ext cx="939600" cy="287280"/>
          </a:xfrm>
          <a:custGeom>
            <a:avLst/>
            <a:gdLst>
              <a:gd name="textAreaLeft" fmla="*/ 206640 w 939600"/>
              <a:gd name="textAreaRight" fmla="*/ 732960 w 9396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566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516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5516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5950080"/>
            <a:ext cx="41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SF Allows Bandwidth on Demand. Lower Spreading Factor requires Higher SNR, causing Higher Interference in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46920" y="2492280"/>
            <a:ext cx="1225440" cy="144720"/>
          </a:xfrm>
          <a:custGeom>
            <a:avLst/>
            <a:gdLst>
              <a:gd name="textAreaLeft" fmla="*/ 153360 w 1225440"/>
              <a:gd name="textAreaRight" fmla="*/ 1072080 w 122544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5" y="21600"/>
                </a:lnTo>
                <a:lnTo>
                  <a:pt x="1715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0920" y="26352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77080" y="2637000"/>
            <a:ext cx="13651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892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4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6D3-5898-463E-B823-6E4306609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pping of Transport Channels and Physical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39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cast Channel (B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17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ccess Channel (F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0606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Channel (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433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Access Channel (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7795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Channel (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link Shared Channel (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8592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acket Channel (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Common Control Physical Channel (P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70172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 Common Control Physical Channel (S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4354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Random Access Channel (P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Data Channel (DP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1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Control Channel (DPC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5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Downlink Shared Channel (P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86064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Common Packet Channel (P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2228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hronization Channel (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5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ilot Channel (C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9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 Indication Channel (A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3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Indication Channel (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34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 Status Indication Channel (CS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606888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 Detection/Channel Assignment Indicator Channel (CD/CA-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964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92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3737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ly Differentiated Types of Channels enable best combination of Interference Reduction, QoS and Energy Efficien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C7F-A014-42E5-9F3E-3594A9427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s - RACH (uplink) and FA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2715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ccess, No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Feedback Channel, No Fast Power Control, Use Fixed Transmission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Link-level Performance and High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, Discontinuous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1832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 - CPCH (up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560" y="4510080"/>
            <a:ext cx="8210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sion for R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rvation across Multiple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Utilize Fast Power Control, Higher Bi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 to Medium Sized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0028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3570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299736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299736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8920" y="299736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299736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0360" y="299736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0920" y="350028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500280"/>
            <a:ext cx="14616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5280" y="364500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364500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594828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6018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6091200"/>
            <a:ext cx="10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3080" y="609120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94828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594828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A9A-9B08-4AE2-A334-DCE6BAACF5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dicated Channel - DCH (uplink &amp; 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560" y="126828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dicated, Requires Long Channel Setup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Continuous Blocks of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006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ed Channel - DS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43657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Division Multiplexed, Fast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Bursty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06864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350028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3498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920" y="3213000"/>
            <a:ext cx="502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06920" y="313992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492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2292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3357720"/>
            <a:ext cx="505080" cy="71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3272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3068640"/>
            <a:ext cx="502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692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357336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7640" y="3645000"/>
            <a:ext cx="5050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357192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600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60199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6091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6021360"/>
            <a:ext cx="5029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3640" y="6165720"/>
            <a:ext cx="5032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692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1640" y="623736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14920" y="6308640"/>
            <a:ext cx="50328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6237360"/>
            <a:ext cx="5047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6165720"/>
            <a:ext cx="5050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6021360"/>
            <a:ext cx="50328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6093000"/>
            <a:ext cx="502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3F5-7FEA-47A8-99B0-A9F34FC432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1F5-C887-48DE-A38B-B0FA9E35F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6560" y="1413000"/>
            <a:ext cx="8210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MHz Bandwidth -&gt; High Capacity, Multipath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Spreading Factor -&gt; 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472608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515772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40000" y="573264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000" y="39337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40000" y="321300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3282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4003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515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8039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242100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42100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42100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242100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4720" y="242100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321300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213000"/>
            <a:ext cx="14580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35772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0720" y="335772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076640"/>
            <a:ext cx="100800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57440" y="407664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93372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3440" y="393372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1280" y="479736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014800"/>
            <a:ext cx="504720" cy="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8036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3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6000" y="523080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400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72360" y="5302080"/>
            <a:ext cx="50472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522936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036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5734080"/>
            <a:ext cx="503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5878440"/>
            <a:ext cx="5032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128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6021360"/>
            <a:ext cx="503280" cy="14436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5878440"/>
            <a:ext cx="504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5734080"/>
            <a:ext cx="50328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5805360"/>
            <a:ext cx="50328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AC2-1C30-4F1A-A669-76F0C6468A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688-28A5-4DC7-8886-43E9D9C8C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83280" y="449100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83280" y="254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4560" y="276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4560" y="33400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38920" y="30510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2920" y="2979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162920" y="32666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560" y="4691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54560" y="5267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38920" y="49784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62920" y="4906800"/>
            <a:ext cx="57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162920" y="51944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330280"/>
            <a:ext cx="2880000" cy="37465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746520"/>
              <a:gd name="textAreaBottom" fmla="*/ 3606120 h 3746520"/>
            </a:gdLst>
            <a:ahLst/>
            <a:rect l="textAreaLeft" t="textAreaTop" r="textAreaRight" b="textAreaBottom"/>
            <a:pathLst>
              <a:path w="21600" h="28098">
                <a:moveTo>
                  <a:pt x="3600" y="0"/>
                </a:moveTo>
                <a:arcTo wR="3600" hR="3600" stAng="16200000" swAng="-5400000"/>
                <a:lnTo>
                  <a:pt x="0" y="24498"/>
                </a:lnTo>
                <a:arcTo wR="3600" hR="3600" stAng="10800000" swAng="-5400000"/>
                <a:lnTo>
                  <a:pt x="18000" y="2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9280" y="340992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0400" y="420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8400" y="26924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0" y="405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97840" y="3916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9640" y="326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9640" y="521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67640" y="6165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51640" y="36273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1640" y="5570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1197000"/>
            <a:ext cx="525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wo Distinct Elements :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 Stations (Node B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Network Controllers (RN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 RNC and 1+ Node Bs are group together to form a Radio Network Sub-system (R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ndles all Radio-Related Functionalit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dio Resources Management Algorith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imization of the commonalities of the PS and CS data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901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TS Terrestrial Radio Access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760-211B-423F-8B6F-DD791C5DCB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ocol Model for UTRAN Terrestrial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9880" y="1488960"/>
            <a:ext cx="5241240" cy="3234960"/>
            <a:chOff x="839880" y="1488960"/>
            <a:chExt cx="5241240" cy="3234960"/>
          </a:xfrm>
        </p:grpSpPr>
        <p:sp>
          <p:nvSpPr>
            <p:cNvPr id="635" name=""/>
            <p:cNvSpPr/>
            <p:nvPr/>
          </p:nvSpPr>
          <p:spPr>
            <a:xfrm>
              <a:off x="839880" y="2594880"/>
              <a:ext cx="5241240" cy="212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9880" y="1488960"/>
              <a:ext cx="5241240" cy="10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1720" y="1932840"/>
              <a:ext cx="11815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43120" y="1963800"/>
              <a:ext cx="1146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6280" y="1963800"/>
              <a:ext cx="90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8480" y="196056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1640" y="213876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61160" y="3104640"/>
              <a:ext cx="118836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0920" y="1924200"/>
              <a:ext cx="1178280" cy="51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75040" y="2062440"/>
              <a:ext cx="81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7840" y="1963800"/>
              <a:ext cx="7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9360" y="1960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77360" y="21387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eam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280" y="3539880"/>
              <a:ext cx="106884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71440" y="3519360"/>
              <a:ext cx="8154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1280" y="3144240"/>
              <a:ext cx="789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58160" y="3147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CAP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120" y="2674440"/>
              <a:ext cx="709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5520" y="2670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800" y="28450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89000" y="30250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40080"/>
              <a:ext cx="12902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6680" y="3612600"/>
              <a:ext cx="298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61160" y="3539880"/>
              <a:ext cx="1195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46200" y="4170960"/>
              <a:ext cx="44553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80680" y="4286520"/>
              <a:ext cx="860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87240" y="4286520"/>
              <a:ext cx="75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 La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539880"/>
              <a:ext cx="102600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2240" y="3579840"/>
              <a:ext cx="75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4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49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240640" y="3934080"/>
              <a:ext cx="111960" cy="391680"/>
              <a:chOff x="2240640" y="3934080"/>
              <a:chExt cx="111960" cy="391680"/>
            </a:xfrm>
          </p:grpSpPr>
          <p:sp>
            <p:nvSpPr>
              <p:cNvPr id="667" name=""/>
              <p:cNvSpPr/>
              <p:nvPr/>
            </p:nvSpPr>
            <p:spPr>
              <a:xfrm>
                <a:off x="22957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242080" y="3934080"/>
                <a:ext cx="11052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40640" y="421848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622160" y="1564920"/>
              <a:ext cx="1350720" cy="3082320"/>
              <a:chOff x="1622160" y="1564920"/>
              <a:chExt cx="1350720" cy="308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622160" y="156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22160" y="1638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2160" y="1708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22160" y="177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22160" y="1847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22160" y="1917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2160" y="1986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22160" y="205524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22160" y="2126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2160" y="21952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22160" y="226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22160" y="233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22160" y="240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22160" y="24735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22160" y="254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22160" y="2613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2160" y="2682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22160" y="275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2160" y="282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22160" y="2891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22160" y="2962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2160" y="303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2160" y="3100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22160" y="3171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622160" y="3240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22160" y="330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22160" y="3380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2160" y="3449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22160" y="3519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2160" y="3589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22160" y="3658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22160" y="372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22160" y="37969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2160" y="3867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2160" y="393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22160" y="4006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22160" y="407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622160" y="414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22160" y="4215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22160" y="428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22160" y="435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22160" y="442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22160" y="449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22160" y="456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22160" y="463320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2" y="8"/>
                    </a:lnTo>
                    <a:lnTo>
                      <a:pt x="2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89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58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277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98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674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368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7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76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56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166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85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548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257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94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36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345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03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72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43720" y="4624560"/>
                <a:ext cx="29160" cy="226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2440" y="45540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244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6244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244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6244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6244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6244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62440" y="406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6244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6244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6244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6244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62440" y="3717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6244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62440" y="3579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62440" y="3508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6244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6244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6244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244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244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2440" y="3092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2440" y="30211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244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6244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62440" y="2812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62440" y="27428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2440" y="2674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440" y="260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62440" y="2534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62440" y="246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62440" y="2394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62440" y="232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440" y="225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62440" y="2185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62440" y="2115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2440" y="204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62440" y="197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62440" y="190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62440" y="183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62440" y="176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62440" y="169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62440" y="1628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55960" y="1564920"/>
                <a:ext cx="16920" cy="34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4" y="20"/>
                    </a:moveTo>
                    <a:lnTo>
                      <a:pt x="10" y="2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86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8173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464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77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082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38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85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94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284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97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902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193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0505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814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05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14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722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1360" y="1564920"/>
                <a:ext cx="41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326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081960" y="2670840"/>
              <a:ext cx="1346760" cy="1900440"/>
              <a:chOff x="3081960" y="2670840"/>
              <a:chExt cx="1346760" cy="19004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81960" y="2674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8196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8196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8196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8196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08196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8196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8196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8196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08196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08196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8196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8196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8196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8196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8196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8196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8196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8196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196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8196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8196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8196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8196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8196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8196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96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81960" y="4554360"/>
                <a:ext cx="3240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45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14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839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354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3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927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563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32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018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72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41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9106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981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0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198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0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9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286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9560" y="4547160"/>
                <a:ext cx="29160" cy="241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18640" y="4478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18640" y="4408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418640" y="4338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8640" y="4268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8640" y="4200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18640" y="41292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18640" y="4059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8640" y="3990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640" y="3921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18640" y="3850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18640" y="3781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8640" y="37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18640" y="3641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18640" y="3572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418640" y="3503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18640" y="3432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418640" y="3363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8640" y="3294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8640" y="3223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18640" y="3154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418640" y="3085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18640" y="3014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2945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18640" y="2876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18640" y="2805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18640" y="2736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15040" y="267084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1"/>
                    </a:moveTo>
                    <a:lnTo>
                      <a:pt x="8" y="2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46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6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58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37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68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970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27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588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79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9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96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79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10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408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99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1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317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60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920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38160" y="1564920"/>
              <a:ext cx="1390320" cy="3082320"/>
              <a:chOff x="4538160" y="1564920"/>
              <a:chExt cx="1390320" cy="3082320"/>
            </a:xfrm>
          </p:grpSpPr>
          <p:sp>
            <p:nvSpPr>
              <p:cNvPr id="893" name=""/>
              <p:cNvSpPr/>
              <p:nvPr/>
            </p:nvSpPr>
            <p:spPr>
              <a:xfrm>
                <a:off x="4538160" y="156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8160" y="163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38160" y="1708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38160" y="177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38160" y="184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38160" y="1917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8160" y="1986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8160" y="20552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8160" y="212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38160" y="21952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38160" y="226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38160" y="2335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38160" y="240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8160" y="24735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38160" y="2544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38160" y="2613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8160" y="26827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38160" y="2753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8160" y="282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38160" y="28915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8160" y="2962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38160" y="3031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38160" y="3100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38160" y="317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38160" y="3240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38160" y="330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38160" y="3380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8160" y="3449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38160" y="3519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38160" y="35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38160" y="3658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38160" y="372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38160" y="379692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38160" y="3867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38160" y="393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38160" y="4006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38160" y="4077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38160" y="4146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38160" y="4215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38160" y="4286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38160" y="4354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38160" y="442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38160" y="4495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38160" y="456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38160" y="46332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1" y="8"/>
                    </a:lnTo>
                    <a:lnTo>
                      <a:pt x="2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054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742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437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14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834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525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234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92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61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32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01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370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4396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10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79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484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3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88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7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18040" y="4593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18040" y="452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18040" y="445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38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431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8040" y="424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18040" y="417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18040" y="410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8040" y="403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18040" y="3966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8040" y="389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918040" y="382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8040" y="3757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18040" y="3688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18040" y="3619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18040" y="354816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18040" y="3479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8040" y="3409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18040" y="3340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18040" y="3269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18040" y="3201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18040" y="313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040" y="3061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18040" y="2991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8040" y="292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8040" y="285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18040" y="278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18040" y="2713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18040" y="26427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18040" y="257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8040" y="250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18040" y="24339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18040" y="236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18040" y="229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918040" y="222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18040" y="215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8040" y="208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18040" y="201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18040" y="1946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18040" y="187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8040" y="180648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18040" y="1737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18040" y="1668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8040" y="159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820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125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42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28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037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328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640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946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236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54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858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148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457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057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369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67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96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78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58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701720" y="2670840"/>
              <a:ext cx="1191600" cy="1900440"/>
              <a:chOff x="1701720" y="2670840"/>
              <a:chExt cx="1191600" cy="19004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701720" y="2670840"/>
                <a:ext cx="16920" cy="4284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01720" y="2743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01720" y="2812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0172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0172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01720" y="3021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01720" y="309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0172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0172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0172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0172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0172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01720" y="3508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01720" y="357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0172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01720" y="3717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0172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0172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0172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0172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720" y="406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0172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0172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0172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0172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72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0172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01720" y="4554360"/>
                <a:ext cx="34200" cy="16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0" y="10"/>
                    </a:lnTo>
                    <a:lnTo>
                      <a:pt x="2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4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5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74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43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4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83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52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323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925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461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322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017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70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39600" y="456084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105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79640" y="4531320"/>
                <a:ext cx="13680" cy="399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17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2880" y="4460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82880" y="439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82880" y="43225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82880" y="4253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82880" y="418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82880" y="4113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82880" y="4044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82880" y="3973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82880" y="3904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82880" y="38350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82880" y="3764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82880" y="3695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82880" y="36262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82880" y="3555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2880" y="3485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2880" y="3417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2880" y="3346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2880" y="3277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2880" y="3207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2880" y="313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82880" y="3067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82880" y="2999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82880" y="2928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82880" y="285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82880" y="2789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82880" y="27187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864160" y="2670840"/>
                <a:ext cx="29160" cy="190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93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24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55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844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14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6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75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306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2370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661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282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573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878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190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481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617720" y="2670840"/>
              <a:ext cx="1231200" cy="1900440"/>
              <a:chOff x="4617720" y="2670840"/>
              <a:chExt cx="1231200" cy="1900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617720" y="2670840"/>
                <a:ext cx="27360" cy="428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1772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1772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1772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1772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1772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72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1772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1772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1772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1772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61772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1772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1772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1772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1772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61772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1772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772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772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72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1772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1772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772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61772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61772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61772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17720" y="455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81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7502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19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90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593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28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99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68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37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08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773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468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7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6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556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26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95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38840" y="4502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38840" y="443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38840" y="43621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8840" y="4293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38840" y="4222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38840" y="4153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38840" y="40838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38840" y="4012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8840" y="3944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8840" y="3875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38840" y="3804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38840" y="3735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8840" y="3665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8840" y="3594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8840" y="3526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38840" y="3456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38840" y="338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38840" y="3316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38840" y="3247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38840" y="31770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8840" y="310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38840" y="3038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38840" y="29678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38840" y="289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38840" y="2829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38840" y="2760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38840" y="26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888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93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484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79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05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96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704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3013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326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616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0925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34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525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834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4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37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74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170496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0180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4840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35680" y="2714040"/>
              <a:ext cx="5180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0840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9616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04960" y="1608120"/>
              <a:ext cx="118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6560" y="161136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36880" y="1608120"/>
              <a:ext cx="102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36680" y="1611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r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240640" y="2358000"/>
              <a:ext cx="111960" cy="1221480"/>
              <a:chOff x="2240640" y="2358000"/>
              <a:chExt cx="111960" cy="1221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957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42080" y="2358000"/>
                <a:ext cx="11052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40640" y="347220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66092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5416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0076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91640" y="2714040"/>
              <a:ext cx="5144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968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960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194800" y="2358000"/>
              <a:ext cx="113400" cy="1221480"/>
              <a:chOff x="5194800" y="2358000"/>
              <a:chExt cx="113400" cy="1221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513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98040" y="2358000"/>
                <a:ext cx="11016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9480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3158280" y="2719080"/>
              <a:ext cx="11984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6000" y="271908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81920" y="286236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120" y="1568520"/>
              <a:ext cx="6699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64520" y="1568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87480" y="17413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9920" y="1920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01280" y="357984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060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1036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57840" y="357984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14880" y="35766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05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95040" y="3303360"/>
              <a:ext cx="113400" cy="276120"/>
              <a:chOff x="3695040" y="3303360"/>
              <a:chExt cx="113400" cy="27612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51920" y="3403440"/>
                <a:ext cx="1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98280" y="330336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9504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3695040" y="3934080"/>
              <a:ext cx="113400" cy="391680"/>
              <a:chOff x="3695040" y="3934080"/>
              <a:chExt cx="113400" cy="391680"/>
            </a:xfrm>
          </p:grpSpPr>
          <p:sp>
            <p:nvSpPr>
              <p:cNvPr id="1242" name=""/>
              <p:cNvSpPr/>
              <p:nvPr/>
            </p:nvSpPr>
            <p:spPr>
              <a:xfrm>
                <a:off x="3751920" y="4033800"/>
                <a:ext cx="14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9828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69504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194800" y="3934080"/>
              <a:ext cx="113400" cy="391680"/>
              <a:chOff x="5194800" y="3934080"/>
              <a:chExt cx="113400" cy="391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513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9804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9480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6443640" y="2570040"/>
            <a:ext cx="20160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r1, Iur2, Iur3, Iu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B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5280" y="501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s of Node B (Base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5280" y="5578560"/>
            <a:ext cx="8353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r Interface L1 Processing (Channel Coding, Interleaving, Rate Adaptation, Spreading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ic RRM, e.g. Inner Loop Pow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D14-329D-42E0-80FB-37DD8CB28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54560" y="15145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54560" y="20908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38920" y="18018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2920" y="17305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62920" y="20178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ical Roles of the 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147312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ling RNC (C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load and congestion control of its own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96360" y="148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229440" y="3051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29440" y="3483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53440" y="326700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21440" y="31957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21440" y="341136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5280" y="3060720"/>
            <a:ext cx="3745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ving RNC (S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s : Iu link of user data, Radio Resource Control 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L2 processing of data to/from the radio interface, RRM operations (Handover, Outer Loop Power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5280" y="544500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ift RNC (D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Macrodiversity Combining and spl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3933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29440" y="4365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453440" y="414972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21440" y="407844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021440" y="429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40720" y="3556080"/>
            <a:ext cx="0" cy="59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101080" y="341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9440" y="4940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5372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53440" y="515628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21440" y="5084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021440" y="530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29440" y="5805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229440" y="6237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53440" y="602136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21440" y="595008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02144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740720" y="544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5300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370044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724360" y="36291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24360" y="3989520"/>
            <a:ext cx="503280" cy="8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600552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724360" y="5933880"/>
            <a:ext cx="503280" cy="15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6560" y="278136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2360" y="3068640"/>
            <a:ext cx="0" cy="338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17080" y="3213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1708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17080" y="40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708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17080" y="50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31708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17080" y="5950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17080" y="57340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96360" y="57340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96360" y="38606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72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0720" y="5445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0C1-6774-4B7C-B385-EEF0E86180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B9B-F67D-4445-9BEB-1A4F7B6A86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83240" y="3213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7600" y="335772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9124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3240" y="5516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67600" y="5516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38880" y="4797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912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67240" y="2997360"/>
            <a:ext cx="2951280" cy="316836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360"/>
              <a:gd name="textAreaBottom" fmla="*/ 3024360 h 316836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78520" y="4437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238880" y="3716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6520" y="3860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86520" y="4653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49800" y="35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49800" y="573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216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101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01080" y="573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21440" y="6237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7637040" y="4540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32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anges From Release ’99 to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Seamless Transition from GSM to All-IP 3G Core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ible for Switching and Routing Calls and Data Connections within, and to the External Networks 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e.g. PSTN, ISDN and Interne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d into CS Network and PS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E3B-18F5-47AA-8ADE-EEFCA75455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83240" y="132408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67600" y="14684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591240" y="1684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83240" y="36273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67600" y="36273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90844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91240" y="384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67240" y="1108080"/>
            <a:ext cx="2951280" cy="316872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720"/>
              <a:gd name="textAreaBottom" fmla="*/ 3024720 h 3168720"/>
            </a:gdLst>
            <a:ahLst/>
            <a:rect l="textAreaLeft" t="textAreaTop" r="textAreaRight" b="textAreaBottom"/>
            <a:pathLst>
              <a:path w="21600" h="23191">
                <a:moveTo>
                  <a:pt x="3600" y="0"/>
                </a:moveTo>
                <a:arcTo wR="3600" hR="3600" stAng="16200000" swAng="-5400000"/>
                <a:lnTo>
                  <a:pt x="0" y="19591"/>
                </a:lnTo>
                <a:arcTo wR="3600" hR="3600" stAng="10800000" swAng="-5400000"/>
                <a:lnTo>
                  <a:pt x="18000" y="2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78520" y="254808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238880" y="182736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86520" y="1971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086520" y="2763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1684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9800" y="384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1971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1684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384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6200000">
            <a:off x="7637040" y="2651400"/>
            <a:ext cx="19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88000" y="13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5280" y="981000"/>
            <a:ext cx="4537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bile Switching Centre (MSC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witching CS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itor Location Register (V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ds a copy of the visiting user’s service profile, and the precise info of the UE’s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MSC (GMS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witch that connects to 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ng GPRS Support Node (S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MSC/VL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GPRS Support Node (G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03640" y="4653000"/>
            <a:ext cx="374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er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me Location Register (H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master copies of users service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UE location on the level of MSC/VLR/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8800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A98-B0BC-4D2F-BE73-983CE2D1AC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80000" y="2765520"/>
            <a:ext cx="1008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51600" y="2749680"/>
            <a:ext cx="936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88000" y="2981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34131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48360" y="3413160"/>
            <a:ext cx="935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88000" y="3629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149800" y="2965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46560" y="36291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85080" y="29653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85080" y="362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85080" y="3052800"/>
            <a:ext cx="10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03640" y="26766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5280" y="981000"/>
            <a:ext cx="4753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hase of the IP Multimedia Subsystem (I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able standardized approach for IP based service provi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Resource Function (MR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l Session Control Function (CS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Gateway Control Function (MG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C and GMS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Function, can control multiple MGW, hence sca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SC for the actual switching 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ery similar to R’99 with some enhancement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00760" y="3359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80000" y="210168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51600" y="21016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88000" y="2333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49800" y="2317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03640" y="20448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8472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1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1640" y="3125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24360" y="4060800"/>
            <a:ext cx="792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2720" y="4060800"/>
            <a:ext cx="100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028000" y="1484280"/>
            <a:ext cx="72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956720" y="4060800"/>
            <a:ext cx="93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36000" y="3773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16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740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85080" y="2909880"/>
            <a:ext cx="57456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96000" y="134136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27640" y="4724280"/>
            <a:ext cx="2016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08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08720" y="407664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21440" y="47116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8472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451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7D5-56D3-45F3-B3E7-2934C2C9B2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6560" y="981000"/>
            <a:ext cx="821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Architecture, Bearer Services,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CDMA Air Interface : Spread Spectrum, Transport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N : Roles of RNCs and No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 Network : Roles of Different Components of R’99 and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560" y="263520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4360" y="384336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4360" y="486900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41440" y="31399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41440" y="37162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25800" y="342756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9800" y="33559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349800" y="36428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41440" y="5067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1440" y="564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25800" y="53546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49800" y="528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349800" y="5570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125800" y="263520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10160" y="313992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094520" y="32846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1816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510160" y="54435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094520" y="54435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5800" y="472428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18160" y="5659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94160" y="263520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05440" y="436392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364320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13440" y="37879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13440" y="45799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86160" y="378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6520" y="3500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46520" y="56595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64616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4652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44720" y="4219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9080" y="37879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7852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800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2800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28000" y="565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56400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6164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7563960" y="4467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26920" y="457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16000" y="4292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92360" y="270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5928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67280" y="457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35280" y="306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9280" y="44355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A3E-A0FC-4435-A2CF-5269124FE5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not be cov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enna, RF Propagation and F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Services, e.g. Location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ain Technical Aspects, e.g. WCDMA TDD Mode, Base Station Synchr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Protocol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Design Issues, Optim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ance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dma2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537-BC33-42A3-8FAC-F36B9F12B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3FF-01C1-4DFC-8E3C-7E6C447513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mission Control (A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ew incoming traffic. Check whether new connection can be admitted to the system and generates parameters for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ad Control (L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nages situation when system load exceeds the threshold and some counter measures have to be taken to get system back to a feasible loa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cket Scheduler (P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on real time traffic, (packet data users). It decides when a packet transmission is initiated and the bit rate to be us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on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andover Control (H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nd makes the handover decisio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ntrols the active set of Base Stations of M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wer Control (P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ains radio link qual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inimize and control the power used in radio interface, thus maximizing the call capac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001-53E3-47F6-A490-6596951123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work Based Fun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395280" y="1054080"/>
            <a:ext cx="8282160" cy="48960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755640" y="59626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/ NRT : Real-time / Non-Real-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 : Radio Access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384-BB5B-44C1-8C88-41B5DAF33C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vent Excessive Interference and Near-far Ef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n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ugh estimation of path loss from receiving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itial power setting, or when no feedback channel is ex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Close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 loop with 1.5kHz cycle to adjust uplink / downlink power to its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ven faster than the speed of Rayleigh fading for moderate mobile spee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er 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just the target SIR setpoint in base station according to the target 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mmanded by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600120" cy="129708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7596360" y="119700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3"/>
          <a:stretch/>
        </p:blipFill>
        <p:spPr>
          <a:xfrm>
            <a:off x="5580000" y="5373720"/>
            <a:ext cx="327240" cy="43164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 flipV="1">
            <a:off x="5724360" y="400536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867280" y="407664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877080" y="1917360"/>
            <a:ext cx="574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019640" y="198900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59640" y="4365720"/>
            <a:ext cx="20178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IR &lt;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end “power up” command to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9640" y="1052640"/>
            <a:ext cx="2448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er Loop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quality &lt; target, increases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550-6018-477A-9BBF-3821ACADEC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er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sectors of a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 channels are maximally combined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different base s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ownlink: Maximal combining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plink: Routed to RNC for selection combining, according to a frame reliability indicator by the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Kind of Macrod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5148360" y="263844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4500000">
            <a:off x="7127640" y="159372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897200">
            <a:off x="6730920" y="83628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7773840" y="170172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804000" y="1701720"/>
            <a:ext cx="936720" cy="57636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7020000" y="2206080"/>
            <a:ext cx="936720" cy="32364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012000" y="3212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5148360" y="522936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7093080" y="5157720"/>
            <a:ext cx="600120" cy="12970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3340800">
            <a:off x="7272360" y="411336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5685600">
            <a:off x="6767640" y="332064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012000" y="580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011640" y="508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6732360" y="4292640"/>
            <a:ext cx="143964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524360" y="4724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62D-8CB5-4C3F-B54A-7FCEAABAC6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ditional Brief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A25-EE6B-4432-819C-0447DE3B49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Network Plann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Link Power Budg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rence margin (loading) + Fast fading margin (power control headroom) + Soft handover gain (macrodiversity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l Coverage is obtain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d Fa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imation of Supported Traffic per Base S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quired SNR, Intracell Interference, Intercell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rthogonality of Chan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ne of the example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Capac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DMA has no definite capacity lim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always “borrow” capacity from other cell or decrease Q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twork Sha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-plan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-operator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1668600" y="3378240"/>
          <a:ext cx="3695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3378240"/>
                    <a:ext cx="3695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A95-9C4C-4B4D-8029-71B43E79FF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SD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98100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Speed Downlink Pac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 3GPP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proves System Capacity and User Data Rates in the Downlink Direction to 10Mbps in a 5MHz Chann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ive Modulation and Coding (AM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Fast Power Control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r farer from Base Station utilizes a coding and modulation that requires lower Bit Energy to Interference Ratio, leading to a lower through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Variable Spreading Factor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 of more robust coding and fast Hybrid Automatic Repeat Request (HARQ, retransmit occurs only between MS and B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RQ provides Fast Retransmission with Soft Combining and Incremental Redundan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Combining : Identical Retransmis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remental Redundancy : Retransmits Parity Bits on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Scheduling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ich is Controlled in the Base Station rather than by the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397-0B88-4D9C-A0E3-06CE6684A2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vs cdma20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66560" y="1814400"/>
          <a:ext cx="8210880" cy="4497480"/>
        </p:xfrm>
        <a:graphic>
          <a:graphicData uri="http://schemas.openxmlformats.org/drawingml/2006/table">
            <a:tbl>
              <a:tblPr/>
              <a:tblGrid>
                <a:gridCol w="1729080"/>
                <a:gridCol w="1439640"/>
                <a:gridCol w="1800360"/>
                <a:gridCol w="32418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of the Major Dif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CD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a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ead Sprectrum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 Wideband DS-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1.25MHz Narrowband DS-SS, 250kHz Guard 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 does not requires a contiguous spectral ban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h scheme can achieve simila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M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864Mcps (1.2288 per carri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 alone does not determine system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ms for data, 5ms fo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and efficiency trade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Control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gives better lin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 requires not timing reference which is usually hard to ac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 operation usually gives bette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395280" y="907920"/>
            <a:ext cx="81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opted by Telecommunications Industry Association, backward compatible with IS-95, lately moved to 3GPP2 (in contrast to 3GPP for WCDMA) as the CDMA MultiCarrier member of the IMT-2000 family of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35C-F00E-472F-9E44-B482411752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rap Up and Key 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we have been talked ab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G to 3G Ev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Ai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work Planning Iss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vs cdma2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DMA for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dio Access for Third Generation Mobile Communications, 2nd Ed., Edited by Harri Holma and Antti Tosk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view of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Guoyou He, Telecommunication Software and Multimedia Laboratory, Helsinki University of Technolo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se materials from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urse S-72.238 : Wideband CDMA syste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Communications Laboratory, Helsinki University of Tech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AC3-37BA-4113-8C40-6622BA9E2A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66" t="13359" r="1973" b="16919"/>
          <a:stretch/>
        </p:blipFill>
        <p:spPr>
          <a:xfrm>
            <a:off x="684360" y="1052640"/>
            <a:ext cx="7848360" cy="513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Northstream, Operator Options for 3G Evolution,  Feb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6BC-F370-4AA7-BF51-851A82411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lly specified and world-widely valid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jor interfaces should be standardized and op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orts multimedia and all of its compon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deband radio ac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s must be independent from radio access technology and is not limited by the network infrastruct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mary Requirements of a 3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30B-B228-44FE-AD2E-E7CCF7F835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695680" cy="18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rd Generation Partnership Project (3G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ole: Create 3G Specifications and Repor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G is standardized based on the evolved GSM core networks and the supporting Radio Access Technolog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0200" y="3006720"/>
            <a:ext cx="6842160" cy="28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D7A-439C-45D6-BC50-B1FC7DA58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327640" cy="28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870120"/>
            <a:ext cx="5327640" cy="277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tion of GPRS / E-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710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287200">
            <a:off x="4932360" y="328428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87700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6A3-31DB-4E3F-A225-4B7C40CE91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327640" cy="257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710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5-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P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733920"/>
            <a:ext cx="5616720" cy="250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000000">
            <a:off x="7379640" y="126792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300000">
            <a:off x="6732000" y="436356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83D-88BA-4CF3-A034-0EDE90624E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13000"/>
          <a:ext cx="842472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47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Acces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S-C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plex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DD/T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chronous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nel Sepa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 M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 Multipl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Services with different QoS Requirements Multiplexed on on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rate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Spreading Factor and Multi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rent, using Pilot Symbols or Common Pi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user Detection, Smart Anten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ed by Standard, Optional in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CDMA Air Interface, Mai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B89-0A31-42EA-AB25-3E58693D2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9T02:21:16Z</dcterms:modified>
  <cp:revision>220</cp:revision>
  <dc:subject/>
  <dc:title>PowerPoint Presentation</dc:title>
</cp:coreProperties>
</file>