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4870450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870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758680" y="-36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674352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2758680" y="674352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B91EBB48-5E46-4649-ABE2-E5295A16953B}" type="slidenum"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do WCDMA / UMTS m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band CDMA, Universal Mobile Telecommunications System,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Brief network by network, and thei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ntroduce the Concepts of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N : CS /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sample data paths (CS and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M: Universal Subscriber Identity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 is supported by different layers of bearer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All defined by th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some of th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conclusion : Architecture, Services,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Drill into the detail of the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Item: Air Interface, UTRAN,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ir Inte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llowing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Principle and Advantage of the wideb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Different physical channels and how they ope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pread Spectrum -&gt; In order to illustrates Multipath and V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H, RACH, DCH, CPCH, 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-&gt; Illustrates “Random Access, Schedule Access, Dedicated A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ompact review of the very detaile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rotoco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Horizontal Layer and Vertical P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Part, Cor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2 example for illustration, R99 and 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changes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S: Home Subscriber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ny Database Functions, e.g. HLR, DNS, Security, Network Acces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, Brief, Brie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differen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how AC, LC, PS re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ssion Control (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ew incoming traffic. Check whether new connection can be admitted to the system and generates parameters for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ad Control (L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s situation when system load exceeds the threshold and some counter measures have to be taken to get system back to a feasible lo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cket Scheduler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on real time traffic, (packet data users). It decides when a packet transmission is initiated and the bit rate to be us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ased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Brief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presentation more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 of some further stud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admap of the Evolution of Wireles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Technologies -&gt; 2.5G -&gt; 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Intermediate Steps of Tran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: GSM (EDGE: Enhanced Data for GSM Ev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: 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Upper Stream -&gt; Introduce WHY WCDMA would be today’s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position / define a 3G Net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t’s take a closer look of how 3G Network is evolved and standar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 by connection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-&gt; Access Network -&gt; Core Network -&gt; External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MS: Network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: Base St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SS: Network Suppor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ter, in so call 2.5G, E-GPRS is introduced, BSS -&gt; Enhanced 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First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upport new external networks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 3GPP Release 99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ame: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RAN evolved into UTRAN (UMTS Terrestrial Radio Access 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of BTS, BSC to BS and 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R99, there’s R4 and R5/6 (most upd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all the way to an ALL-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4: Minor changes to the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eparate control and data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More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SC: Mobile Switching Center, MGW: Media Gatew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5/6: Only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ircuit Routing: Virtual Circuit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 Requires a new Radio/Ai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PP’s UMTS adopted 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E78-F0B6-438C-87E1-37E75419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A53-B3A0-4FCF-A4BC-395C01A3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539-A292-496A-AC15-164B2131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14E-5F05-45AE-BE80-D616E1D0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98D6-409F-448A-88D0-E84C70DC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91BD-5F87-48D4-9983-41EA5AD5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876D-BF60-472F-B130-FDE3B1C1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031-A378-424B-A22F-377EACEF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D778-2FB5-40AE-BF64-AD6B21F4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E33-95DC-41D5-AE52-7B71BAED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8FE-DD6F-4B7B-87C5-AF77903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2A5-CBBD-4348-B527-FAFA7985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F1CF-265B-4E27-920C-656A6EEC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CE67-B553-4167-BB80-551DA01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63B0-4758-42A8-AE0E-7A768585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BCBC-DF05-41D2-BB8E-B3CE5F64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F147-7384-447E-AE65-2A3071F4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577-AF31-4725-AAA2-FC2FA80B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D28-AD6C-4D09-81C1-46E8875E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DD9-4A24-40C3-AB00-44F4D642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D7B-46A5-40DB-88A8-EFBA115D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D7A-C6F8-4ED8-9DF3-A5862733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C63-FB03-4E37-B948-7FC6196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551-2E2A-46F9-BB54-0519D5A0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08000" y="692280"/>
            <a:ext cx="8928000" cy="604980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4412-5DEE-4C95-85C2-6C3B262A65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08000" y="1123920"/>
            <a:ext cx="8928000" cy="461016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D485-C6FF-438D-868C-BA7F25203F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2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en-US" sz="50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 Generation 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CDMA / UMTS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ireless Network</a:t>
            </a:r>
            <a:endParaRPr b="1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4149720"/>
            <a:ext cx="8928000" cy="71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2C6B-039D-4FAC-B14A-F880618BF0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4F3-7ACA-4817-84BC-6054868F00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System Architectu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D0A-6311-4299-90B0-45A68515AF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Bearer Serv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1784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 I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2328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2419200"/>
            <a:ext cx="691200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-to-En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3211560"/>
            <a:ext cx="129528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4003560"/>
            <a:ext cx="2663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Access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4795920"/>
            <a:ext cx="129564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587920"/>
            <a:ext cx="12952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/TD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3211560"/>
            <a:ext cx="13683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/MT Loc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er S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3211560"/>
            <a:ext cx="396072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Bear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4003560"/>
            <a:ext cx="1295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795920"/>
            <a:ext cx="129528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4795920"/>
            <a:ext cx="122400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5587920"/>
            <a:ext cx="12970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528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5280" y="1341360"/>
            <a:ext cx="54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105264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C02-26DE-4D97-9D9B-2EEA280E1F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QoS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6560" y="1273320"/>
          <a:ext cx="8210880" cy="4819320"/>
        </p:xfrm>
        <a:graphic>
          <a:graphicData uri="http://schemas.openxmlformats.org/drawingml/2006/table">
            <a:tbl>
              <a:tblPr/>
              <a:tblGrid>
                <a:gridCol w="1641600"/>
                <a:gridCol w="1743120"/>
                <a:gridCol w="1657440"/>
                <a:gridCol w="1655640"/>
                <a:gridCol w="151308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 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pattern (stringent and low del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ponse 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tion is not expecting the data within a certain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of the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, videotelephony, video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ulti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browsing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 download of em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05E-883D-4958-94D1-3C6E743943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In Detai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441-89FD-4B55-8500-ED2911E09B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eband CDMA, Over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-CDMA, 5 MHz Carrier Spacin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A Gives Frequency Reuse Factor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MHz Bandwidth allows Multipath Diversity using Rake Recei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Spreading Factor (VSF) to offer Bandwidth on Demand (BoD) up to 2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t (1.5kHz) Power Control for Optimal Interference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 multiplexing with different Q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-time / Best-ef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% Frame Error Rate to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t Error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E61-FEBE-4019-8DA8-BE935F4F5D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ct Sequence Sprea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258920" y="134136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2060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58920" y="2349360"/>
            <a:ext cx="217440" cy="719280"/>
          </a:xfrm>
          <a:custGeom>
            <a:avLst/>
            <a:gdLst>
              <a:gd name="textAreaLeft" fmla="*/ 47880 w 217440"/>
              <a:gd name="textAreaRight" fmla="*/ 169560 w 217440"/>
              <a:gd name="textAreaTop" fmla="*/ 158040 h 719280"/>
              <a:gd name="textAreaBottom" fmla="*/ 5612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3068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25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560" y="1484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256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6560" y="2492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1844640"/>
            <a:ext cx="650880" cy="217440"/>
          </a:xfrm>
          <a:custGeom>
            <a:avLst/>
            <a:gdLst>
              <a:gd name="textAreaLeft" fmla="*/ 142920 w 650880"/>
              <a:gd name="textAreaRight" fmla="*/ 507960 w 650880"/>
              <a:gd name="textAreaTop" fmla="*/ 47880 h 217440"/>
              <a:gd name="textAreaBottom" fmla="*/ 1695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59280" y="2852640"/>
            <a:ext cx="647640" cy="216000"/>
          </a:xfrm>
          <a:custGeom>
            <a:avLst/>
            <a:gdLst>
              <a:gd name="textAreaLeft" fmla="*/ 142200 w 647640"/>
              <a:gd name="textAreaRight" fmla="*/ 505440 w 64764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198900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140360" y="26348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76720" y="2205000"/>
            <a:ext cx="787680" cy="432000"/>
          </a:xfrm>
          <a:custGeom>
            <a:avLst/>
            <a:gdLst>
              <a:gd name="textAreaLeft" fmla="*/ 173160 w 787680"/>
              <a:gd name="textAreaRight" fmla="*/ 614520 w 78768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3cbab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46560" y="26352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54560" y="2419200"/>
            <a:ext cx="7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213192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1280" y="26352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51640" y="191628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19162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1987560"/>
            <a:ext cx="57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3068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cy Reuse Fac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16360" y="2060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6360" y="306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6093000"/>
            <a:ext cx="33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 MHz Wideband Signal allows Multipath Diversity with Rake Rece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26920" y="4021920"/>
            <a:ext cx="69840" cy="701640"/>
          </a:xfrm>
          <a:custGeom>
            <a:avLst/>
            <a:gdLst>
              <a:gd name="textAreaLeft" fmla="*/ 15120 w 69840"/>
              <a:gd name="textAreaRight" fmla="*/ 54720 w 69840"/>
              <a:gd name="textAreaTop" fmla="*/ 154080 h 701640"/>
              <a:gd name="textAreaBottom" fmla="*/ 54756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114560" y="4383000"/>
            <a:ext cx="72720" cy="341280"/>
          </a:xfrm>
          <a:custGeom>
            <a:avLst/>
            <a:gdLst>
              <a:gd name="textAreaLeft" fmla="*/ 15840 w 72720"/>
              <a:gd name="textAreaRight" fmla="*/ 56880 w 72720"/>
              <a:gd name="textAreaTop" fmla="*/ 74880 h 341280"/>
              <a:gd name="textAreaBottom" fmla="*/ 26640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549440" y="4507920"/>
            <a:ext cx="69840" cy="215640"/>
          </a:xfrm>
          <a:custGeom>
            <a:avLst/>
            <a:gdLst>
              <a:gd name="textAreaLeft" fmla="*/ 15120 w 69840"/>
              <a:gd name="textAreaRight" fmla="*/ 54720 w 6984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25480" y="4956120"/>
            <a:ext cx="939960" cy="704880"/>
          </a:xfrm>
          <a:custGeom>
            <a:avLst/>
            <a:gdLst>
              <a:gd name="textAreaLeft" fmla="*/ 206640 w 939960"/>
              <a:gd name="textAreaRight" fmla="*/ 733320 w 939960"/>
              <a:gd name="textAreaTop" fmla="*/ 154800 h 704880"/>
              <a:gd name="textAreaBottom" fmla="*/ 5500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114560" y="5318280"/>
            <a:ext cx="1009440" cy="342720"/>
          </a:xfrm>
          <a:custGeom>
            <a:avLst/>
            <a:gdLst>
              <a:gd name="textAreaLeft" fmla="*/ 221760 w 1009440"/>
              <a:gd name="textAreaRight" fmla="*/ 787680 w 100944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547640" y="5445000"/>
            <a:ext cx="936720" cy="216000"/>
          </a:xfrm>
          <a:custGeom>
            <a:avLst/>
            <a:gdLst>
              <a:gd name="textAreaLeft" fmla="*/ 205920 w 936720"/>
              <a:gd name="textAreaRight" fmla="*/ 730800 w 936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47640" y="4741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47640" y="567684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800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800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44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2436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45990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55324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3645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 Delay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56000" y="364500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Spreading Factor (V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000760" y="3933720"/>
            <a:ext cx="75960" cy="720720"/>
          </a:xfrm>
          <a:custGeom>
            <a:avLst/>
            <a:gdLst>
              <a:gd name="textAreaLeft" fmla="*/ 16560 w 75960"/>
              <a:gd name="textAreaRight" fmla="*/ 59400 w 7596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4653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420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30960" y="4076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85120" y="4580640"/>
            <a:ext cx="939600" cy="71640"/>
          </a:xfrm>
          <a:custGeom>
            <a:avLst/>
            <a:gdLst>
              <a:gd name="textAreaLeft" fmla="*/ 206640 w 939600"/>
              <a:gd name="textAreaRight" fmla="*/ 732960 w 939600"/>
              <a:gd name="textAreaTop" fmla="*/ 15480 h 71640"/>
              <a:gd name="textAreaBottom" fmla="*/ 5616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4653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0000" y="45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96360" y="4508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857840" y="4941720"/>
            <a:ext cx="361800" cy="720720"/>
          </a:xfrm>
          <a:custGeom>
            <a:avLst/>
            <a:gdLst>
              <a:gd name="textAreaLeft" fmla="*/ 79560 w 361800"/>
              <a:gd name="textAreaRight" fmla="*/ 282240 w 3618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5661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4200" y="537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30960" y="5084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85120" y="5373720"/>
            <a:ext cx="939600" cy="287280"/>
          </a:xfrm>
          <a:custGeom>
            <a:avLst/>
            <a:gdLst>
              <a:gd name="textAreaLeft" fmla="*/ 206640 w 939600"/>
              <a:gd name="textAreaRight" fmla="*/ 732960 w 93960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16720" y="5661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5516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5516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5950080"/>
            <a:ext cx="41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SF Allows Bandwidth on Demand. Lower Spreading Factor requires Higher SNR, causing Higher Interference in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4764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946920" y="2492280"/>
            <a:ext cx="1225440" cy="144720"/>
          </a:xfrm>
          <a:custGeom>
            <a:avLst/>
            <a:gdLst>
              <a:gd name="textAreaLeft" fmla="*/ 153360 w 1225440"/>
              <a:gd name="textAreaRight" fmla="*/ 1072080 w 1225440"/>
              <a:gd name="textAreaTop" fmla="*/ 18000 h 144720"/>
              <a:gd name="textAreaBottom" fmla="*/ 126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85" y="21600"/>
                </a:lnTo>
                <a:lnTo>
                  <a:pt x="1715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0920" y="26352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877080" y="2637000"/>
            <a:ext cx="13651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47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66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892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528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9892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528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24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3CB-17AC-4E96-9C34-6CCF34AE0E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pping of Transport Channels and Physical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13399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cast Channel (B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17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ward Access Channel (F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0606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Channel (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24336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dom Access Channel (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7795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Channel (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link Shared Channel (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38592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acket Channel (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34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Common Control Physical Channel (P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70172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 Common Control Physical Channel (S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24354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Random Access Channel (P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7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Data Channel (DP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31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Control Channel (DPC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35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Downlink Shared Channel (P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86064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Common Packet Channel (P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2228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hronization Channel (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45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ilot Channel (C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9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tion Indication Channel (A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3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Indication Channel (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5734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 Status Indication Channel (CS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606888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ision Detection/Channel Assignment Indicator Channel (CD/CA-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184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419640" y="184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19640" y="256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292428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537372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ly Differentiated Types of Channels enable best combination of Interference Reduction, QoS and Energy Efficienc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242-8DC2-4E36-AF41-30FB938BEB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s - RACH (uplink) and FA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6560" y="12715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Access, No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Setup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Feedback Channel, No Fast Power Control, Use Fixed Transmission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Link-level Performance and High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, Discontinuous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41832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 - CPCH (up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6560" y="4510080"/>
            <a:ext cx="8210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tension for R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rvation across Multiple 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Utilize Fast Power Control, Higher Bit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 to Medium Sized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5640" y="350028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3570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95640" y="299736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11280" y="299736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8920" y="299736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91280" y="299736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80360" y="299736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0920" y="350028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3500280"/>
            <a:ext cx="14616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5280" y="364500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364500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95640" y="594828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6920" y="6018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71640" y="6091200"/>
            <a:ext cx="10083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13080" y="609120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94828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594828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3F0-A89D-46D4-8773-824FF8C77E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dicated Channel - DCH (uplink &amp; 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6560" y="126828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dicated, Requires Long Channel Setup 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Continuous Blocks of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4006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ed Channel - DS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6560" y="43657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 Division Multiplexed, Fast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Bursty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06864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350028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3498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95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98920" y="3213000"/>
            <a:ext cx="502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364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06920" y="313992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492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19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2292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27640" y="3357720"/>
            <a:ext cx="505080" cy="71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3272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6000" y="3068640"/>
            <a:ext cx="5029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9892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0692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11640" y="357336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1492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1964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27640" y="3645000"/>
            <a:ext cx="5050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2720" y="357192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600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60199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6091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6021360"/>
            <a:ext cx="5029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3640" y="6165720"/>
            <a:ext cx="5032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0692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1640" y="623736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14920" y="6308640"/>
            <a:ext cx="50328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19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6237360"/>
            <a:ext cx="5047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27640" y="6165720"/>
            <a:ext cx="5050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32720" y="6021360"/>
            <a:ext cx="50328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6000" y="6093000"/>
            <a:ext cx="50292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1D7-A510-4CA2-BD9A-3501760C6D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F7F-2450-4D65-9618-01A748896A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6560" y="1413000"/>
            <a:ext cx="8210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MHz Bandwidth -&gt; High Capacity, Multipath 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Spreading Factor -&gt; Bandwidth on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0000" y="472608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515772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40000" y="573264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000" y="39337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40000" y="321300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3282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40035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164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71640" y="5156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58039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40000" y="242100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71640" y="24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242100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3280" y="242100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35640" y="242100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24720" y="242100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35280" y="321300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3213000"/>
            <a:ext cx="14580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35772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00720" y="335772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4076640"/>
            <a:ext cx="100800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57440" y="407664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32360" y="393372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3440" y="393372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4800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51280" y="479736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64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014800"/>
            <a:ext cx="504720" cy="7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8036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43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5128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56000" y="523080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6400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72360" y="5302080"/>
            <a:ext cx="50472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77080" y="522936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8036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43280" y="5734080"/>
            <a:ext cx="503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48000" y="5878440"/>
            <a:ext cx="50328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128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6021360"/>
            <a:ext cx="503280" cy="14436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72360" y="5878440"/>
            <a:ext cx="504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5734080"/>
            <a:ext cx="50328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80360" y="5805360"/>
            <a:ext cx="50328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917-233C-4E84-92CF-811E6480B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6F1-A0C9-4FEB-81DE-97A34A7B50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83280" y="449100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83280" y="254628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54560" y="276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54560" y="33400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38920" y="30510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62920" y="29797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162920" y="32666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54560" y="4691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54560" y="5267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38920" y="49784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62920" y="4906800"/>
            <a:ext cx="57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162920" y="51944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2330280"/>
            <a:ext cx="2880000" cy="374652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3746520"/>
              <a:gd name="textAreaBottom" fmla="*/ 3606120 h 3746520"/>
            </a:gdLst>
            <a:ahLst/>
            <a:rect l="textAreaLeft" t="textAreaTop" r="textAreaRight" b="textAreaBottom"/>
            <a:pathLst>
              <a:path w="21600" h="28098">
                <a:moveTo>
                  <a:pt x="3600" y="0"/>
                </a:moveTo>
                <a:arcTo wR="3600" hR="3600" stAng="16200000" swAng="-5400000"/>
                <a:lnTo>
                  <a:pt x="0" y="24498"/>
                </a:lnTo>
                <a:arcTo wR="3600" hR="3600" stAng="10800000" swAng="-5400000"/>
                <a:lnTo>
                  <a:pt x="18000" y="2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99280" y="340992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80400" y="420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448400" y="26924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72400" y="4059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097840" y="3916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459640" y="326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9640" y="521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67640" y="6165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51640" y="36273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51640" y="557064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1197000"/>
            <a:ext cx="525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wo Distinct Elements :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e Stations (Node B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Network Controllers (RN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 RNC and 1+ Node Bs are group together to form a Radio Network Sub-system (RN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ndles all Radio-Related Functionalit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adio Resources Management Algorith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ximization of the commonalities of the PS and CS data hand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901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MTS Terrestrial Radio Access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210-23BD-4090-8E70-2E7C7482F4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ocol Model for UTRAN Terrestrial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39880" y="1488960"/>
            <a:ext cx="5241240" cy="3234960"/>
            <a:chOff x="839880" y="1488960"/>
            <a:chExt cx="5241240" cy="3234960"/>
          </a:xfrm>
        </p:grpSpPr>
        <p:sp>
          <p:nvSpPr>
            <p:cNvPr id="635" name=""/>
            <p:cNvSpPr/>
            <p:nvPr/>
          </p:nvSpPr>
          <p:spPr>
            <a:xfrm>
              <a:off x="839880" y="2594880"/>
              <a:ext cx="5241240" cy="212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9880" y="1488960"/>
              <a:ext cx="5241240" cy="102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1720" y="1932840"/>
              <a:ext cx="118152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43120" y="1963800"/>
              <a:ext cx="114696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6280" y="1963800"/>
              <a:ext cx="90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68480" y="196056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1640" y="213876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61160" y="3104640"/>
              <a:ext cx="118836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60920" y="1924200"/>
              <a:ext cx="1178280" cy="51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75040" y="2062440"/>
              <a:ext cx="815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7840" y="1963800"/>
              <a:ext cx="79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39360" y="19605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77360" y="21387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eam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7280" y="3539880"/>
              <a:ext cx="106884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71440" y="3519360"/>
              <a:ext cx="8154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01280" y="3144240"/>
              <a:ext cx="789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58160" y="3147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LCAP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79120" y="2674440"/>
              <a:ext cx="7099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65520" y="267084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09800" y="284508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89000" y="30250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1120" y="4240080"/>
              <a:ext cx="12902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16680" y="3612600"/>
              <a:ext cx="298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61160" y="3539880"/>
              <a:ext cx="11955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46200" y="4170960"/>
              <a:ext cx="44553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80680" y="4286520"/>
              <a:ext cx="860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87240" y="4286520"/>
              <a:ext cx="75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ysical Lay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84520" y="3539880"/>
              <a:ext cx="102600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2240" y="3579840"/>
              <a:ext cx="75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4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149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2240640" y="3934080"/>
              <a:ext cx="111960" cy="391680"/>
              <a:chOff x="2240640" y="3934080"/>
              <a:chExt cx="111960" cy="391680"/>
            </a:xfrm>
          </p:grpSpPr>
          <p:sp>
            <p:nvSpPr>
              <p:cNvPr id="667" name=""/>
              <p:cNvSpPr/>
              <p:nvPr/>
            </p:nvSpPr>
            <p:spPr>
              <a:xfrm>
                <a:off x="22957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242080" y="3934080"/>
                <a:ext cx="11052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240640" y="421848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622160" y="1564920"/>
              <a:ext cx="1350720" cy="3082320"/>
              <a:chOff x="1622160" y="1564920"/>
              <a:chExt cx="1350720" cy="3082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622160" y="156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22160" y="1638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22160" y="1708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622160" y="177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622160" y="1847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22160" y="1917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22160" y="1986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622160" y="205524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22160" y="2126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22160" y="21952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22160" y="226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22160" y="233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22160" y="240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22160" y="24735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22160" y="254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22160" y="2613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22160" y="2682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22160" y="275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2160" y="282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22160" y="2891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22160" y="2962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22160" y="303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622160" y="3100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22160" y="3171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622160" y="3240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22160" y="330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22160" y="3380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22160" y="3449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22160" y="3519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22160" y="3589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22160" y="3658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22160" y="372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622160" y="37969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22160" y="3867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622160" y="393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22160" y="4006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22160" y="407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622160" y="414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22160" y="4215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22160" y="428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22160" y="435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22160" y="442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22160" y="449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22160" y="456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22160" y="463320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2" y="8"/>
                    </a:lnTo>
                    <a:lnTo>
                      <a:pt x="2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89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758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277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898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674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368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07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176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2456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166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85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4548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257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94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636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345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03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872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43720" y="4624560"/>
                <a:ext cx="29160" cy="226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9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2440" y="45540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6244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6244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6244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6244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96244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6244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962440" y="406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96244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96244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6244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6244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962440" y="3717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6244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62440" y="3579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962440" y="3508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6244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96244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6244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6244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6244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62440" y="3092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62440" y="30211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6244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6244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62440" y="2812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62440" y="27428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2440" y="2674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62440" y="260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62440" y="2534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962440" y="246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62440" y="2394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62440" y="232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62440" y="225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62440" y="2185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62440" y="2115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2440" y="204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62440" y="197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62440" y="190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62440" y="183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62440" y="176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962440" y="169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962440" y="1628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55960" y="1564920"/>
                <a:ext cx="16920" cy="342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4" y="20"/>
                    </a:moveTo>
                    <a:lnTo>
                      <a:pt x="10" y="2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886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8173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7464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77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082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538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685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3994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3284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2597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1902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1193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0505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814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105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414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722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01360" y="1564920"/>
                <a:ext cx="414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326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3081960" y="2670840"/>
              <a:ext cx="1346760" cy="1900440"/>
              <a:chOff x="3081960" y="2670840"/>
              <a:chExt cx="1346760" cy="1900440"/>
            </a:xfrm>
          </p:grpSpPr>
          <p:sp>
            <p:nvSpPr>
              <p:cNvPr id="799" name=""/>
              <p:cNvSpPr/>
              <p:nvPr/>
            </p:nvSpPr>
            <p:spPr>
              <a:xfrm>
                <a:off x="3081960" y="2674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8196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08196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8196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8196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08196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8196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08196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8196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08196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08196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8196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08196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08196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08196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08196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8196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08196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08196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08196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8196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8196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8196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8196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8196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8196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8196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81960" y="4554360"/>
                <a:ext cx="3240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45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214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2839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354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23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4927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563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32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7018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772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841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9106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981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50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198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90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259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286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99560" y="4547160"/>
                <a:ext cx="29160" cy="241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18640" y="4478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418640" y="4408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418640" y="4338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18640" y="4268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8640" y="4200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418640" y="41292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418640" y="4059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18640" y="3990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640" y="3921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18640" y="3850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18640" y="3781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18640" y="37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418640" y="3641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418640" y="3572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418640" y="3503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18640" y="3432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418640" y="3363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418640" y="3294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18640" y="3223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418640" y="3154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418640" y="3085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418640" y="3014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418640" y="2945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18640" y="2876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18640" y="2805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418640" y="2736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15040" y="267084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2" y="21"/>
                    </a:moveTo>
                    <a:lnTo>
                      <a:pt x="8" y="2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346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276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058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37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68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970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27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588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879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9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496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579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10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4408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699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01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317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60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0920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4538160" y="1564920"/>
              <a:ext cx="1390320" cy="3082320"/>
              <a:chOff x="4538160" y="1564920"/>
              <a:chExt cx="1390320" cy="3082320"/>
            </a:xfrm>
          </p:grpSpPr>
          <p:sp>
            <p:nvSpPr>
              <p:cNvPr id="893" name=""/>
              <p:cNvSpPr/>
              <p:nvPr/>
            </p:nvSpPr>
            <p:spPr>
              <a:xfrm>
                <a:off x="4538160" y="156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38160" y="163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38160" y="1708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38160" y="177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538160" y="184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38160" y="1917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38160" y="1986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38160" y="20552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38160" y="212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38160" y="21952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38160" y="226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38160" y="2335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38160" y="240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38160" y="24735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538160" y="2544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538160" y="2613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538160" y="26827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38160" y="2753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38160" y="282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38160" y="28915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538160" y="2962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538160" y="3031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38160" y="3100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38160" y="317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38160" y="3240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38160" y="330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38160" y="3380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538160" y="3449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38160" y="3519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538160" y="35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38160" y="3658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538160" y="372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538160" y="379692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38160" y="3867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38160" y="393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38160" y="4006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38160" y="4077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38160" y="4146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538160" y="4215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538160" y="4286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38160" y="4354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38160" y="442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38160" y="4495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38160" y="456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538160" y="463320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1" y="8"/>
                    </a:lnTo>
                    <a:lnTo>
                      <a:pt x="2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6054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6742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7437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14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834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525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0234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092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161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232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301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370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4396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510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79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484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193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788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57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18040" y="4593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918040" y="452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918040" y="445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918040" y="438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431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18040" y="424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18040" y="417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18040" y="410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18040" y="403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18040" y="3966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918040" y="389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918040" y="382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918040" y="3757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918040" y="3688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918040" y="3619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918040" y="354816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918040" y="3479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8040" y="3409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18040" y="3340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18040" y="3269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918040" y="3201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918040" y="313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18040" y="3061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918040" y="2991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18040" y="292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18040" y="285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918040" y="278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918040" y="2713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18040" y="26427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18040" y="257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18040" y="250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18040" y="24339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918040" y="236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918040" y="229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918040" y="222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18040" y="215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18040" y="208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18040" y="201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918040" y="1946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18040" y="187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18040" y="180648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18040" y="1737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18040" y="1668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918040" y="159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820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125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42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28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037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328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640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946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3236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54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858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1148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457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057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8369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67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96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278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58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701720" y="2670840"/>
              <a:ext cx="1191600" cy="1900440"/>
              <a:chOff x="1701720" y="2670840"/>
              <a:chExt cx="1191600" cy="1900440"/>
            </a:xfrm>
          </p:grpSpPr>
          <p:sp>
            <p:nvSpPr>
              <p:cNvPr id="1022" name=""/>
              <p:cNvSpPr/>
              <p:nvPr/>
            </p:nvSpPr>
            <p:spPr>
              <a:xfrm>
                <a:off x="1701720" y="2670840"/>
                <a:ext cx="16920" cy="4284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01720" y="2743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01720" y="2812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0172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0172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01720" y="3021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701720" y="309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0172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70172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0172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0172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70172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01720" y="3508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01720" y="357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0172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01720" y="3717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0172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0172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0172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0172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01720" y="406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0172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0172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0172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70172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0172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0172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01720" y="4554360"/>
                <a:ext cx="34200" cy="16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0" y="10"/>
                    </a:lnTo>
                    <a:lnTo>
                      <a:pt x="2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65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34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05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74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043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114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83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252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323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3925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461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322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017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70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739600" y="456084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105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79640" y="4531320"/>
                <a:ext cx="13680" cy="3996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17"/>
                    </a:moveTo>
                    <a:lnTo>
                      <a:pt x="0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19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82880" y="4460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82880" y="439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82880" y="43225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82880" y="4253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82880" y="418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82880" y="4113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82880" y="4044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82880" y="3973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882880" y="3904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882880" y="38350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882880" y="3764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882880" y="3695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82880" y="36262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82880" y="3555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82880" y="3485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82880" y="3417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82880" y="3346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82880" y="3277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82880" y="3207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82880" y="313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82880" y="3067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82880" y="2999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882880" y="2928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82880" y="285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82880" y="2789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82880" y="27187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864160" y="2670840"/>
                <a:ext cx="29160" cy="190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11"/>
                    </a:moveTo>
                    <a:lnTo>
                      <a:pt x="17" y="11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93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24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655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844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514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446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75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306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2370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1661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097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0282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9573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878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190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481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617720" y="2670840"/>
              <a:ext cx="1231200" cy="1900440"/>
              <a:chOff x="4617720" y="2670840"/>
              <a:chExt cx="1231200" cy="1900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4617720" y="2670840"/>
                <a:ext cx="27360" cy="428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61772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1772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1772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1772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1772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1772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61772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1772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61772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61772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61772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61772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61772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1772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1772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61772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1772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1772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1772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1772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61772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1772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61772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61772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61772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61772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617720" y="455436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681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7502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819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890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593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28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99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68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37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08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773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468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517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586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6556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726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795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38840" y="4502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38840" y="443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38840" y="43621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38840" y="4293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38840" y="4222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38840" y="4153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38840" y="40838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38840" y="4012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38840" y="3944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38840" y="3875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38840" y="3804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38840" y="3735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8840" y="3665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8840" y="3594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8840" y="3526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38840" y="3456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38840" y="338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38840" y="3316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38840" y="3247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38840" y="31770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38840" y="310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38840" y="3038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38840" y="29678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38840" y="289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38840" y="2829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38840" y="2760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38840" y="26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888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193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6484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579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105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96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704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3013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2326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1616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0925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34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525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834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4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437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674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170496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0180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4840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35680" y="2714040"/>
              <a:ext cx="5180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40840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9616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704960" y="1608120"/>
              <a:ext cx="1184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06560" y="161136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36880" y="1608120"/>
              <a:ext cx="1029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36680" y="16113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er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2240640" y="2358000"/>
              <a:ext cx="111960" cy="1221480"/>
              <a:chOff x="2240640" y="2358000"/>
              <a:chExt cx="111960" cy="1221480"/>
            </a:xfrm>
          </p:grpSpPr>
          <p:sp>
            <p:nvSpPr>
              <p:cNvPr id="1211" name=""/>
              <p:cNvSpPr/>
              <p:nvPr/>
            </p:nvSpPr>
            <p:spPr>
              <a:xfrm>
                <a:off x="22957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42080" y="2358000"/>
                <a:ext cx="11052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40640" y="347220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466092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75416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0076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91640" y="2714040"/>
              <a:ext cx="5144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5968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4960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194800" y="2358000"/>
              <a:ext cx="113400" cy="1221480"/>
              <a:chOff x="5194800" y="2358000"/>
              <a:chExt cx="113400" cy="1221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2513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98040" y="2358000"/>
                <a:ext cx="11016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9480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3158280" y="2719080"/>
              <a:ext cx="11984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66000" y="2719080"/>
              <a:ext cx="94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81920" y="286236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120" y="1568520"/>
              <a:ext cx="6699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64520" y="156852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87480" y="174132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9920" y="19206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01280" y="357984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5060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1036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57840" y="3579840"/>
              <a:ext cx="751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114880" y="35766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705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3695040" y="3303360"/>
              <a:ext cx="113400" cy="276120"/>
              <a:chOff x="3695040" y="3303360"/>
              <a:chExt cx="113400" cy="276120"/>
            </a:xfrm>
          </p:grpSpPr>
          <p:sp>
            <p:nvSpPr>
              <p:cNvPr id="1238" name=""/>
              <p:cNvSpPr/>
              <p:nvPr/>
            </p:nvSpPr>
            <p:spPr>
              <a:xfrm>
                <a:off x="3751920" y="3403440"/>
                <a:ext cx="14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698280" y="330336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69504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3695040" y="3934080"/>
              <a:ext cx="113400" cy="391680"/>
              <a:chOff x="3695040" y="3934080"/>
              <a:chExt cx="113400" cy="391680"/>
            </a:xfrm>
          </p:grpSpPr>
          <p:sp>
            <p:nvSpPr>
              <p:cNvPr id="1242" name=""/>
              <p:cNvSpPr/>
              <p:nvPr/>
            </p:nvSpPr>
            <p:spPr>
              <a:xfrm>
                <a:off x="3751920" y="4033800"/>
                <a:ext cx="144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69828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69504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194800" y="3934080"/>
              <a:ext cx="113400" cy="391680"/>
              <a:chOff x="5194800" y="3934080"/>
              <a:chExt cx="113400" cy="39168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513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19804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19480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9" name=""/>
          <p:cNvSpPr/>
          <p:nvPr/>
        </p:nvSpPr>
        <p:spPr>
          <a:xfrm>
            <a:off x="6443640" y="2570040"/>
            <a:ext cx="20160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r1, Iur2, Iur3, Iu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B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5280" y="5013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s of Node B (Base S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5280" y="5578560"/>
            <a:ext cx="8353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r Interface L1 Processing (Channel Coding, Interleaving, Rate Adaptation, Spreading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ic RRM, e.g. Inner Loop Pow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D50-B178-4768-94BA-76EDE68CFD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154560" y="15145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54560" y="20908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738920" y="18018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62920" y="17305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62920" y="201780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gical Roles of the 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280" y="147312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ling RNC (C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 for the load and congestion control of its own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96360" y="148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229440" y="3051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229440" y="3483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453440" y="326700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021440" y="319572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021440" y="3411360"/>
            <a:ext cx="43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5280" y="3060720"/>
            <a:ext cx="3745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rving RNC (S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tes : Iu link of user data, Radio Resource Control Sign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L2 processing of data to/from the radio interface, RRM operations (Handover, Outer Loop Power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5280" y="544500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ift RNC (D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Macrodiversity Combining and spli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229440" y="3933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229440" y="4365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453440" y="414972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21440" y="407844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021440" y="42940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740720" y="3556080"/>
            <a:ext cx="0" cy="59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101080" y="341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01080" y="429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29440" y="4940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29440" y="5372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53440" y="515628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21440" y="5084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021440" y="5300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29440" y="5805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229440" y="6237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53440" y="602136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021440" y="595008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7021440" y="616572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740720" y="5445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01080" y="5300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01080" y="61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292720" y="370044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724360" y="36291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24360" y="3989520"/>
            <a:ext cx="503280" cy="8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2720" y="600552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724360" y="5933880"/>
            <a:ext cx="503280" cy="15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66560" y="278136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932360" y="3068640"/>
            <a:ext cx="0" cy="338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317080" y="3213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317080" y="299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17080" y="407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708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317080" y="508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317080" y="486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317080" y="59500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317080" y="57340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96360" y="573408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96360" y="38606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40720" y="35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40720" y="5445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73A-2DC3-495D-9242-A8CF35BEE5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FBE-2FA5-438C-8311-5AA2B15D84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583240" y="3213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67600" y="335772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59124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83240" y="5516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167600" y="5516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238880" y="4797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912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67240" y="2997360"/>
            <a:ext cx="2951280" cy="316836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360"/>
              <a:gd name="textAreaBottom" fmla="*/ 3024360 h 316836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878520" y="4437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7238880" y="3716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6520" y="3860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6086520" y="4653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149800" y="357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49800" y="573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942160" y="3860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101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101080" y="573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21440" y="6237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rot="16200000">
            <a:off x="7637040" y="4540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932360" y="4508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95280" y="981000"/>
            <a:ext cx="460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anges From Release ’99 to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Seamless Transition from GSM to All-IP 3G Core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ponsible for Switching and Routing Calls and Data Connections within, and to the External Networks 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e.g. PSTN, ISDN and Interne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vided into CS Network and PS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A31-65FF-4DFC-B496-ADA74452FC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83240" y="132408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167600" y="14684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591240" y="1684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83240" y="36273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167600" y="36273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290844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591240" y="384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367240" y="1108080"/>
            <a:ext cx="2951280" cy="316872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720"/>
              <a:gd name="textAreaBottom" fmla="*/ 3024720 h 3168720"/>
            </a:gdLst>
            <a:ahLst/>
            <a:rect l="textAreaLeft" t="textAreaTop" r="textAreaRight" b="textAreaBottom"/>
            <a:pathLst>
              <a:path w="21600" h="23191">
                <a:moveTo>
                  <a:pt x="3600" y="0"/>
                </a:moveTo>
                <a:arcTo wR="3600" hR="3600" stAng="16200000" swAng="-5400000"/>
                <a:lnTo>
                  <a:pt x="0" y="19591"/>
                </a:lnTo>
                <a:arcTo wR="3600" hR="3600" stAng="10800000" swAng="-5400000"/>
                <a:lnTo>
                  <a:pt x="18000" y="2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78520" y="254808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7238880" y="182736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86520" y="1971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6086520" y="27637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49800" y="1684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49800" y="384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942160" y="1971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1684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101080" y="384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16200000">
            <a:off x="7637040" y="2651400"/>
            <a:ext cx="19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788000" y="1395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95280" y="981000"/>
            <a:ext cx="4537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bile Switching Centre (MSC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witching CS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sitor Location Register (V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ds a copy of the visiting user’s service profile, and the precise info of the UE’s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MSC (GMS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witch that connects to 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ving GPRS Support Node (S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MSC/VL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GPRS Support Node (G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03640" y="4653000"/>
            <a:ext cx="374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er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me Location Register (H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master copies of users service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UE location on the level of MSC/VLR/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78800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452-0D51-4FD5-9E64-39BC1A7047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80000" y="2765520"/>
            <a:ext cx="1008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951600" y="2749680"/>
            <a:ext cx="936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588000" y="2981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580000" y="34131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948360" y="3413160"/>
            <a:ext cx="9352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588000" y="3629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149800" y="29653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146560" y="36291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85080" y="29653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885080" y="3629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885080" y="3052800"/>
            <a:ext cx="10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003640" y="26766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95280" y="981000"/>
            <a:ext cx="4753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hase of the IP Multimedia Subsystem (I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able standardized approach for IP based service provi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Resource Function (MR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l Session Control Function (CS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Gateway Control Function (MG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C and GMS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Function, can control multiple MGW, hence sca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MSC for the actual switching and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ery similar to R’99 with some enhancement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00760" y="3359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80000" y="210168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951600" y="210168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588000" y="2333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149800" y="23176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03640" y="20448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08472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164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1640" y="31258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24360" y="4060800"/>
            <a:ext cx="792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2720" y="4060800"/>
            <a:ext cx="1008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028000" y="1484280"/>
            <a:ext cx="72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956720" y="4060800"/>
            <a:ext cx="936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236000" y="3773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516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740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85080" y="2909880"/>
            <a:ext cx="574560" cy="115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796000" y="134136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227640" y="4724280"/>
            <a:ext cx="2016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23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508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508720" y="4076640"/>
            <a:ext cx="71280" cy="360360"/>
          </a:xfrm>
          <a:custGeom>
            <a:avLst/>
            <a:gdLst>
              <a:gd name="textAreaLeft" fmla="*/ 20880 w 71280"/>
              <a:gd name="textAreaRight" fmla="*/ 71640 w 71280"/>
              <a:gd name="textAreaTop" fmla="*/ 14760 h 360360"/>
              <a:gd name="textAreaBottom" fmla="*/ 3456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21440" y="471168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S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08472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7451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B0B-E9B2-40E1-B7A5-26D282CEC6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66560" y="981000"/>
            <a:ext cx="8210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Architecture, Bearer Services, QoS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CDMA Air Interface : Spread Spectrum, Transport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N : Roles of RNCs and Nod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e Network : Roles of Different Components of R’99 and 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66560" y="263520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4360" y="384336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4360" y="486900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341440" y="31399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341440" y="37162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925800" y="342756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49800" y="33559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3349800" y="36428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341440" y="5067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341440" y="564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925800" y="53546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349800" y="5283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349800" y="5570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125800" y="263520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10160" y="313992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094520" y="32846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518160" y="35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510160" y="54435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094520" y="54435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165800" y="472428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18160" y="5659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294160" y="263520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805440" y="436392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165800" y="364320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013440" y="37879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6013440" y="45799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286160" y="3787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46520" y="3500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646520" y="56595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64616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64652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44720" y="4219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9080" y="37879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07852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0800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02800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28000" y="565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56400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948360" y="61642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128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16200000">
            <a:off x="7563960" y="44672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26920" y="4579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16000" y="4292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92360" y="2708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859280" y="2708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67280" y="4579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35280" y="306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059280" y="44355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284720" y="4292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1F9-5EB3-43C4-8FCB-4F190D82C8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not be cov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enna, RF Propagation and F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ed Services, e.g. Location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tain Technical Aspects, e.g. WCDMA TDD Mode, Base Station Synchro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Protocol Struct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Design Issues, Optim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ance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dma2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C43-DEA4-4D9D-BC9E-2B5665D324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867-3428-4AFF-A653-551BC773E4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mission Control (A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ew incoming traffic. Check whether new connection can be admitted to the system and generates parameters for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ad Control (L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nages situation when system load exceeds the threshold and some counter measures have to be taken to get system back to a feasible loa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cket Scheduler (P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on real time traffic, (packet data users). It decides when a packet transmission is initiated and the bit rate to be use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nection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andover Control (H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nd makes the handover decision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ntrols the active set of Base Stations of M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wer Control (P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ains radio link qual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inimize and control the power used in radio interface, thus maximizing the call capac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69C-506E-4D4B-AF00-668C630452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work Based Func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9" name="" descr=""/>
          <p:cNvPicPr/>
          <p:nvPr/>
        </p:nvPicPr>
        <p:blipFill>
          <a:blip r:embed="rId1"/>
          <a:stretch/>
        </p:blipFill>
        <p:spPr>
          <a:xfrm>
            <a:off x="395280" y="1054080"/>
            <a:ext cx="8282160" cy="489600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755640" y="59626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 / NRT : Real-time / Non-Real-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 : Radio Access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0FA-43E3-4373-B5A9-2EF94320D4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w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vent Excessive Interference and Near-far Eff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pen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ough estimation of path loss from receiving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itial power setting, or when no feedback channel is ex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Close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eedback loop with 1.5kHz cycle to adjust uplink / downlink power to its min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ven faster than the speed of Rayleigh fading for moderate mobile spee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uter 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just the target SIR setpoint in base station according to the target 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mmanded by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6443640" y="2852640"/>
            <a:ext cx="600120" cy="129708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2"/>
          <a:stretch/>
        </p:blipFill>
        <p:spPr>
          <a:xfrm>
            <a:off x="7596360" y="119700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3"/>
          <a:stretch/>
        </p:blipFill>
        <p:spPr>
          <a:xfrm>
            <a:off x="5580000" y="5373720"/>
            <a:ext cx="327240" cy="431640"/>
          </a:xfrm>
          <a:prstGeom prst="rect">
            <a:avLst/>
          </a:prstGeom>
          <a:ln w="0">
            <a:noFill/>
          </a:ln>
        </p:spPr>
      </p:pic>
      <p:sp>
        <p:nvSpPr>
          <p:cNvPr id="1537" name=""/>
          <p:cNvSpPr/>
          <p:nvPr/>
        </p:nvSpPr>
        <p:spPr>
          <a:xfrm flipV="1">
            <a:off x="5724360" y="4005360"/>
            <a:ext cx="719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5867280" y="4076640"/>
            <a:ext cx="720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877080" y="1917360"/>
            <a:ext cx="5745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7019640" y="1989000"/>
            <a:ext cx="57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59640" y="4365720"/>
            <a:ext cx="20178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IR &lt;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end “power up” command to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219640" y="1052640"/>
            <a:ext cx="2448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er Loop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quality &lt; target, increases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20E-3F3A-400E-BA2B-8D23C65285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6372360" y="400536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er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sectors of a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 channels are maximally combined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different base st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ownlink: Maximal combining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plink: Routed to RNC for selection combining, according to a frame reliability indicator by the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Kind of Macrodivers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5148360" y="263844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rot="4500000">
            <a:off x="7127640" y="159372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897200">
            <a:off x="6730920" y="83628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4"/>
          <a:stretch/>
        </p:blipFill>
        <p:spPr>
          <a:xfrm>
            <a:off x="7773840" y="170172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/>
          <p:nvPr/>
        </p:nvSpPr>
        <p:spPr>
          <a:xfrm>
            <a:off x="6804000" y="1701720"/>
            <a:ext cx="936720" cy="57636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7020000" y="2206080"/>
            <a:ext cx="936720" cy="32364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012000" y="3212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5"/>
          <a:stretch/>
        </p:blipFill>
        <p:spPr>
          <a:xfrm>
            <a:off x="5148360" y="522936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/>
          <p:cNvPicPr/>
          <p:nvPr/>
        </p:nvPicPr>
        <p:blipFill>
          <a:blip r:embed="rId6"/>
          <a:stretch/>
        </p:blipFill>
        <p:spPr>
          <a:xfrm>
            <a:off x="7093080" y="5157720"/>
            <a:ext cx="600120" cy="129708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 rot="3340800">
            <a:off x="7272360" y="411336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rot="5685600">
            <a:off x="6767640" y="332064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7"/>
          <a:stretch/>
        </p:blipFill>
        <p:spPr>
          <a:xfrm>
            <a:off x="8172360" y="422100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6012000" y="580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011640" y="508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6732360" y="4292640"/>
            <a:ext cx="143964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524360" y="472428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C5B-BBAE-421C-B987-459E1D58D6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ditional Brief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708-C9E4-4AE8-8D37-0F720AB796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Network Planning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137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Link Power Budge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ference margin (loading) + Fast fading margin (power control headroom) + Soft handover gain (macrodiversity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ell Coverage is obtain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d Fa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imation of Supported Traffic per Base S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quired SNR, Intracell Interference, Intercell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rthogonality of Chann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ne of the example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Capac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DMA has no definite capacity lim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always “borrow” capacity from other cell or decrease Q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etwork Sha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-plann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-operator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8" name=""/>
          <p:cNvGraphicFramePr/>
          <p:nvPr/>
        </p:nvGraphicFramePr>
        <p:xfrm>
          <a:off x="1668600" y="3378240"/>
          <a:ext cx="3695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3378240"/>
                    <a:ext cx="3695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F40-92CF-4AEC-A6A0-D1193854C5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SDP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95280" y="981000"/>
            <a:ext cx="8137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Speed Downlink Packet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andardized in 3GPP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mproves System Capacity and User Data Rates in the Downlink Direction to 10Mbps in a 5MHz Chann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ive Modulation and Coding (AM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Fast Power Control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r farer from Base Station utilizes a coding and modulation that requires lower Bit Energy to Interference Ratio, leading to a lower through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Variable Spreading Factor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 of more robust coding and fast Hybrid Automatic Repeat Request (HARQ, retransmit occurs only between MS and B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RQ provides Fast Retransmission with Soft Combining and Incremental Redundan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Combining : Identical Retransmiss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cremental Redundancy : Retransmits Parity Bits on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Scheduling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ich is Controlled in the Base Station rather than by the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C7C-B053-4A40-87DE-DC1F7DFAF6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vs cdma20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466560" y="1814400"/>
          <a:ext cx="8210880" cy="4497480"/>
        </p:xfrm>
        <a:graphic>
          <a:graphicData uri="http://schemas.openxmlformats.org/drawingml/2006/table">
            <a:tbl>
              <a:tblPr/>
              <a:tblGrid>
                <a:gridCol w="1729080"/>
                <a:gridCol w="1439640"/>
                <a:gridCol w="1800360"/>
                <a:gridCol w="32418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of the Major Differ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CD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mda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read Sprectrum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 Wideband DS-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1.25MHz Narrowband DS-SS, 250kHz Guard 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 does not requires a contiguous spectral ban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th scheme can achieve simila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M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864Mcps (1.2288 per carri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 alone does not determine system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ms for data, 5ms for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and efficiency trade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Control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er gives better link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 requires not timing reference which is usually hard to acqui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 operation usually gives bette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4" name=""/>
          <p:cNvSpPr/>
          <p:nvPr/>
        </p:nvSpPr>
        <p:spPr>
          <a:xfrm>
            <a:off x="395280" y="907920"/>
            <a:ext cx="81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opted by Telecommunications Industry Association, backward compatible with IS-95, lately moved to 3GPP2 (in contrast to 3GPP for WCDMA) as the CDMA MultiCarrier member of the IMT-2000 family of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8DE-C303-4765-B320-9979CAB733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rap Up and Key 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we have been talked ab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G to 3G Ev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Ai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work Planning Iss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vs cdma2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 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CDMA for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Radio Access for Third Generation Mobile Communications, 2nd Ed., Edited by Harri Holma and Antti Toska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view of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Guoyou He, Telecommunication Software and Multimedia Laboratory, Helsinki University of Technolog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se materials from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urse S-72.238 : Wideband CDMA syste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Communications Laboratory, Helsinki University of Technolog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5EA-6882-475B-8D4A-E1BAD46CF1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566" t="13359" r="1973" b="16919"/>
          <a:stretch/>
        </p:blipFill>
        <p:spPr>
          <a:xfrm>
            <a:off x="684360" y="1052640"/>
            <a:ext cx="7848360" cy="513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Northstream, Operator Options for 3G Evolution,  Feb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381-BF1F-456F-8E31-E2231FA707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lly specified and world-widely valid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jor interfaces should be standardized and op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ports multimedia and all of its componen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deband radio acce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ices must be independent from radio access technology and is not limited by the network infrastruct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mary Requirements of a 3G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46F-3E9A-478A-AD07-56BFE71AAE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695680" cy="18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3rd Generation Partnership Project (3G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ole: Create 3G Specifications and Repor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3G is standardized based on the evolved GSM core networks and the supporting Radio Access Technolog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0200" y="3006720"/>
            <a:ext cx="6842160" cy="287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708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BD8-877D-430A-A264-CDBCEBB7B8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1080" y="3645000"/>
            <a:ext cx="5327640" cy="2859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870120"/>
            <a:ext cx="5327640" cy="2774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ction of GPRS / E-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7101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287200">
            <a:off x="4932360" y="328428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587700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D40-5C76-45D4-B781-50E6F47AF4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360" y="836640"/>
            <a:ext cx="5327640" cy="257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3710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5-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P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3733920"/>
            <a:ext cx="5616720" cy="250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9000000">
            <a:off x="7379640" y="126792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300000">
            <a:off x="6732000" y="436356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3F5-D7A5-476D-913F-B02835841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413000"/>
          <a:ext cx="8424720" cy="5024160"/>
        </p:xfrm>
        <a:graphic>
          <a:graphicData uri="http://schemas.openxmlformats.org/drawingml/2006/table">
            <a:tbl>
              <a:tblPr/>
              <a:tblGrid>
                <a:gridCol w="3672000"/>
                <a:gridCol w="47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Acces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S-CD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plexing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DD/T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chronous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nel Sepa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 M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 Multiplex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Services with different QoS Requirements Multiplexed on one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rate Con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Spreading Factor and Multi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herent, using Pilot Symbols or Common Pi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user Detection, Smart Anten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ed by Standard, Optional in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CDMA Air Interface, Mai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07A-59F9-4204-B3C3-123937F991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zuela Patricio</cp:lastModifiedBy>
  <dcterms:modified xsi:type="dcterms:W3CDTF">2005-11-09T02:21:16Z</dcterms:modified>
  <cp:revision>220</cp:revision>
  <dc:subject/>
  <dc:title>PowerPoint Presentation</dc:title>
</cp:coreProperties>
</file>