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F1BF-6ABA-40EB-83B7-5E362D5CD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D11D-2BD3-4DD5-982C-6F565D62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C721-9485-4E0B-86C7-0EF67C8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5BFA-7A9B-4313-93A1-D224A4394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77BF-1F98-4DB8-8209-EB596212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2A23-1878-4923-8C54-08833FE0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21D8-6EB4-475C-9EF0-3D96587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330A-8008-4B42-AA00-FBA867CB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7C94-E05A-4FBB-9EE5-B49A539C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E881-37F6-4EB0-9F5B-80622270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81D9-7ECC-41BF-A79A-DE67E605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A0F6-4174-43B6-AB3A-49D24DC2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44C-C396-4BFF-9766-5CBAC073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af"/>
                </a:solidFill>
                <a:latin typeface="Arial"/>
              </a:rPr>
              <a:t>GPRS: A new Dimension to Wireless Communication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 continued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SN – Gateway GPRS support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GPRS backbone &amp; External packet dat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GPRS packets into appropriate Packet Data Protocol &amp;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also perform 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2-Many relationship may exist between SGSN &amp; GG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Interfac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 – Connects BSC with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 – SGSN – SGSN/GGSN (in the same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 – SGSN – SGSN/GGSN (in different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 – For equipment querying at registe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– Connects PLMN with external Packet Data Networks (P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 – To exchange User profile between HLR &amp;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– To exchange Database between SGSN &amp;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 – Interface between SMS &amp; 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bout the Backbon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Ns connected through IP bas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encapsulated &amp; tunneled using GPRS Tunneling Protocol (G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 may used TCP or IP based on applicati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GPRS network phase consist of one IP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ackb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PLMN connect within the same network &amp; are private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PLMN connects across different networks. Roaming agreement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N – Inter PLMN interconnect are called Border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af"/>
                </a:solidFill>
                <a:latin typeface="Arial"/>
              </a:rPr>
              <a:t>GPRS Logical Architecture 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– put together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534960"/>
            <a:ext cx="669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88040" y="5478480"/>
            <a:ext cx="1731600" cy="1371240"/>
            <a:chOff x="6188040" y="5478480"/>
            <a:chExt cx="1731600" cy="1371240"/>
          </a:xfrm>
        </p:grpSpPr>
        <p:sp>
          <p:nvSpPr>
            <p:cNvPr id="113" name=""/>
            <p:cNvSpPr/>
            <p:nvPr/>
          </p:nvSpPr>
          <p:spPr>
            <a:xfrm>
              <a:off x="6730200" y="5519880"/>
              <a:ext cx="41544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0480" y="5478480"/>
              <a:ext cx="3362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9720" y="5858280"/>
              <a:ext cx="52992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7040" y="6107760"/>
              <a:ext cx="60912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3120" y="6190920"/>
              <a:ext cx="45432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4400" y="6234480"/>
              <a:ext cx="3391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941080"/>
              <a:ext cx="3362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680" y="5604840"/>
              <a:ext cx="53172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160" y="6275880"/>
              <a:ext cx="53172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320" y="5648040"/>
              <a:ext cx="41652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0120" y="5478480"/>
              <a:ext cx="37728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680" y="5585760"/>
              <a:ext cx="1504800" cy="1090800"/>
            </a:xfrm>
            <a:custGeom>
              <a:avLst/>
              <a:gdLst/>
              <a:ahLst/>
              <a:rect l="l" t="t" r="r" b="b"/>
              <a:pathLst>
                <a:path w="993" h="629">
                  <a:moveTo>
                    <a:pt x="306" y="63"/>
                  </a:moveTo>
                  <a:lnTo>
                    <a:pt x="348" y="18"/>
                  </a:lnTo>
                  <a:lnTo>
                    <a:pt x="533" y="21"/>
                  </a:lnTo>
                  <a:lnTo>
                    <a:pt x="664" y="0"/>
                  </a:lnTo>
                  <a:lnTo>
                    <a:pt x="829" y="75"/>
                  </a:lnTo>
                  <a:lnTo>
                    <a:pt x="912" y="54"/>
                  </a:lnTo>
                  <a:lnTo>
                    <a:pt x="957" y="63"/>
                  </a:lnTo>
                  <a:lnTo>
                    <a:pt x="966" y="249"/>
                  </a:lnTo>
                  <a:lnTo>
                    <a:pt x="992" y="279"/>
                  </a:lnTo>
                  <a:lnTo>
                    <a:pt x="915" y="424"/>
                  </a:lnTo>
                  <a:lnTo>
                    <a:pt x="832" y="325"/>
                  </a:lnTo>
                  <a:lnTo>
                    <a:pt x="810" y="375"/>
                  </a:lnTo>
                  <a:lnTo>
                    <a:pt x="692" y="574"/>
                  </a:lnTo>
                  <a:lnTo>
                    <a:pt x="300" y="628"/>
                  </a:lnTo>
                  <a:lnTo>
                    <a:pt x="96" y="589"/>
                  </a:lnTo>
                  <a:lnTo>
                    <a:pt x="32" y="466"/>
                  </a:lnTo>
                  <a:lnTo>
                    <a:pt x="32" y="339"/>
                  </a:lnTo>
                  <a:lnTo>
                    <a:pt x="0" y="234"/>
                  </a:lnTo>
                  <a:lnTo>
                    <a:pt x="306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0" y="2855880"/>
            <a:ext cx="1585800" cy="1371240"/>
            <a:chOff x="6843600" y="2855880"/>
            <a:chExt cx="1585800" cy="1371240"/>
          </a:xfrm>
        </p:grpSpPr>
        <p:sp>
          <p:nvSpPr>
            <p:cNvPr id="126" name=""/>
            <p:cNvSpPr/>
            <p:nvPr/>
          </p:nvSpPr>
          <p:spPr>
            <a:xfrm>
              <a:off x="7340040" y="28972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0080" y="28558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3040" y="32356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480" y="34851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02280" y="35683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6720" y="36115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184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560" y="29822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9880" y="36532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14320" y="30254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8480" y="28558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6000" y="29631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78640" y="1641600"/>
            <a:ext cx="787320" cy="55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7920" y="5872320"/>
            <a:ext cx="1079280" cy="556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24573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2680" y="20415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1752480"/>
            <a:ext cx="1225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200" y="3181320"/>
            <a:ext cx="933480" cy="55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26161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9400" y="4405320"/>
            <a:ext cx="933480" cy="55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1080" y="2739960"/>
            <a:ext cx="689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36720"/>
            <a:ext cx="1265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MSC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SC/V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6120" y="3308400"/>
            <a:ext cx="863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9520" y="5999040"/>
            <a:ext cx="110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TM-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3240" y="1685880"/>
            <a:ext cx="582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2584440"/>
            <a:ext cx="677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6440" y="2168640"/>
            <a:ext cx="70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4520" y="4530600"/>
            <a:ext cx="89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1240" y="4070520"/>
            <a:ext cx="1804680" cy="1459800"/>
            <a:chOff x="3351240" y="4070520"/>
            <a:chExt cx="1804680" cy="1459800"/>
          </a:xfrm>
        </p:grpSpPr>
        <p:sp>
          <p:nvSpPr>
            <p:cNvPr id="155" name=""/>
            <p:cNvSpPr/>
            <p:nvPr/>
          </p:nvSpPr>
          <p:spPr>
            <a:xfrm>
              <a:off x="3917520" y="4113720"/>
              <a:ext cx="429840" cy="47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9320" y="4070520"/>
              <a:ext cx="352800" cy="388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1880" y="4474080"/>
              <a:ext cx="554040" cy="610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2480" y="4739760"/>
              <a:ext cx="633960" cy="70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320" y="4827960"/>
              <a:ext cx="470880" cy="52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480" y="4874760"/>
              <a:ext cx="35100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562640"/>
              <a:ext cx="34956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240" y="4203720"/>
              <a:ext cx="55260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6360" y="4918320"/>
              <a:ext cx="55404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0" y="4250520"/>
              <a:ext cx="432720" cy="474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2280" y="4070520"/>
              <a:ext cx="390600" cy="43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3440" y="4182840"/>
              <a:ext cx="1565280" cy="1163520"/>
            </a:xfrm>
            <a:custGeom>
              <a:avLst/>
              <a:gdLst/>
              <a:ahLst/>
              <a:rect l="l" t="t" r="r" b="b"/>
              <a:pathLst>
                <a:path w="1034" h="671">
                  <a:moveTo>
                    <a:pt x="319" y="67"/>
                  </a:moveTo>
                  <a:lnTo>
                    <a:pt x="362" y="19"/>
                  </a:lnTo>
                  <a:lnTo>
                    <a:pt x="555" y="22"/>
                  </a:lnTo>
                  <a:lnTo>
                    <a:pt x="691" y="0"/>
                  </a:lnTo>
                  <a:lnTo>
                    <a:pt x="864" y="80"/>
                  </a:lnTo>
                  <a:lnTo>
                    <a:pt x="950" y="58"/>
                  </a:lnTo>
                  <a:lnTo>
                    <a:pt x="996" y="67"/>
                  </a:lnTo>
                  <a:lnTo>
                    <a:pt x="1006" y="266"/>
                  </a:lnTo>
                  <a:lnTo>
                    <a:pt x="1033" y="298"/>
                  </a:lnTo>
                  <a:lnTo>
                    <a:pt x="953" y="452"/>
                  </a:lnTo>
                  <a:lnTo>
                    <a:pt x="867" y="346"/>
                  </a:lnTo>
                  <a:lnTo>
                    <a:pt x="843" y="401"/>
                  </a:lnTo>
                  <a:lnTo>
                    <a:pt x="721" y="612"/>
                  </a:lnTo>
                  <a:lnTo>
                    <a:pt x="312" y="670"/>
                  </a:lnTo>
                  <a:lnTo>
                    <a:pt x="100" y="628"/>
                  </a:lnTo>
                  <a:lnTo>
                    <a:pt x="33" y="497"/>
                  </a:lnTo>
                  <a:lnTo>
                    <a:pt x="33" y="362"/>
                  </a:lnTo>
                  <a:lnTo>
                    <a:pt x="0" y="250"/>
                  </a:lnTo>
                  <a:lnTo>
                    <a:pt x="319" y="6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80920" y="4495680"/>
            <a:ext cx="1630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ck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7160" y="31590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1160" y="5781600"/>
            <a:ext cx="161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95480"/>
            <a:ext cx="657360" cy="44928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7"/>
                </a:moveTo>
                <a:lnTo>
                  <a:pt x="273" y="117"/>
                </a:lnTo>
                <a:lnTo>
                  <a:pt x="233" y="115"/>
                </a:lnTo>
                <a:lnTo>
                  <a:pt x="433" y="0"/>
                </a:lnTo>
                <a:lnTo>
                  <a:pt x="173" y="134"/>
                </a:lnTo>
                <a:lnTo>
                  <a:pt x="206" y="134"/>
                </a:lnTo>
                <a:lnTo>
                  <a:pt x="0" y="25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81120" y="2490840"/>
          <a:ext cx="362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90840"/>
                    <a:ext cx="362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70040" y="2295360"/>
          <a:ext cx="66348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2295360"/>
                    <a:ext cx="6634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97040" y="2930400"/>
            <a:ext cx="10220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2480" y="252396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62480" y="374652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0840" y="5538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47451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99360" y="3828600"/>
            <a:ext cx="5079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8640" y="1912680"/>
            <a:ext cx="1163520" cy="12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81360" y="2746440"/>
            <a:ext cx="116208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43720" y="2360520"/>
            <a:ext cx="582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760" y="2612880"/>
            <a:ext cx="441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1600" y="1890720"/>
            <a:ext cx="395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32520" y="2527200"/>
            <a:ext cx="406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7200" y="4532400"/>
            <a:ext cx="1875600" cy="526320"/>
            <a:chOff x="727200" y="4532400"/>
            <a:chExt cx="1875600" cy="526320"/>
          </a:xfrm>
        </p:grpSpPr>
        <p:sp>
          <p:nvSpPr>
            <p:cNvPr id="188" name=""/>
            <p:cNvSpPr/>
            <p:nvPr/>
          </p:nvSpPr>
          <p:spPr>
            <a:xfrm>
              <a:off x="727200" y="4637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7200" y="48819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9280" y="4532400"/>
              <a:ext cx="14335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fic &amp; 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92680" y="4776480"/>
              <a:ext cx="822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5880" y="5019840"/>
            <a:ext cx="318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 - Base Transceiver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- Base Station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C - Mobile Switch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R - Home Loc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SN - Serving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GSN - Gateway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M-SC - Point-to-Multipoint Service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000" y="3232080"/>
            <a:ext cx="1950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book &amp; GPRS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3520" y="17827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1680" y="2913120"/>
            <a:ext cx="58284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63720" y="23288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1080" y="1889280"/>
            <a:ext cx="66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99360" y="4662360"/>
            <a:ext cx="43632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360" y="318276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24640" y="4187880"/>
            <a:ext cx="1585800" cy="1372320"/>
            <a:chOff x="7424640" y="4187880"/>
            <a:chExt cx="1585800" cy="1372320"/>
          </a:xfrm>
        </p:grpSpPr>
        <p:sp>
          <p:nvSpPr>
            <p:cNvPr id="201" name=""/>
            <p:cNvSpPr/>
            <p:nvPr/>
          </p:nvSpPr>
          <p:spPr>
            <a:xfrm>
              <a:off x="7921080" y="4229280"/>
              <a:ext cx="378720" cy="449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1120" y="4187880"/>
              <a:ext cx="307440" cy="366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24440" y="4567680"/>
              <a:ext cx="486000" cy="572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8520" y="4817880"/>
              <a:ext cx="557280" cy="659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3320" y="49010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7760" y="4944600"/>
              <a:ext cx="30888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4640" y="4651200"/>
              <a:ext cx="30600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3960" y="4314240"/>
              <a:ext cx="48600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90920" y="4986000"/>
              <a:ext cx="48636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95720" y="4358160"/>
              <a:ext cx="380160" cy="44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9520" y="4187880"/>
              <a:ext cx="343800" cy="406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7040" y="4295520"/>
              <a:ext cx="1378440" cy="109152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58920" y="44928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4662360"/>
            <a:ext cx="10191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1746360"/>
            <a:ext cx="581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34120" y="606600"/>
            <a:ext cx="1585800" cy="1372680"/>
            <a:chOff x="7134120" y="606600"/>
            <a:chExt cx="1585800" cy="1372680"/>
          </a:xfrm>
        </p:grpSpPr>
        <p:sp>
          <p:nvSpPr>
            <p:cNvPr id="217" name=""/>
            <p:cNvSpPr/>
            <p:nvPr/>
          </p:nvSpPr>
          <p:spPr>
            <a:xfrm>
              <a:off x="7630920" y="648000"/>
              <a:ext cx="378360" cy="44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0600" y="606600"/>
              <a:ext cx="307440" cy="36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3920" y="986760"/>
              <a:ext cx="486000" cy="57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8360" y="1236600"/>
              <a:ext cx="556920" cy="65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3160" y="1319760"/>
              <a:ext cx="413280" cy="48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7240" y="1362960"/>
              <a:ext cx="30888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4120" y="1069560"/>
              <a:ext cx="30600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3440" y="733320"/>
              <a:ext cx="486360" cy="57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0760" y="1404720"/>
              <a:ext cx="486000" cy="57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05200" y="776520"/>
              <a:ext cx="380160" cy="44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99000" y="606600"/>
              <a:ext cx="343800" cy="40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6880" y="713880"/>
              <a:ext cx="1378080" cy="109188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489800" y="996840"/>
            <a:ext cx="873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N/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90840" y="996840"/>
            <a:ext cx="29800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080" y="376704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4683240"/>
            <a:ext cx="38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Channe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H – Packet Random Access Channel, uplink, used to initiate uplink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CH – Packet Paging Channel, downlink, BSC uses this to page the MS before downlink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CH – Packet Access Grant Channel, downlink, resource assignments are sent on thi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TCH – Packet Data Traffic Channel, up &amp; downlink, used to send data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CH – Packet Associated Control Channel, up &amp; downlink, used to convey signalling along with PD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ypical Scenario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8288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434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2209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3200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03848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12408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3341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3886200"/>
            <a:ext cx="1585440" cy="1371240"/>
            <a:chOff x="6934320" y="3886200"/>
            <a:chExt cx="1585440" cy="1371240"/>
          </a:xfrm>
        </p:grpSpPr>
        <p:sp>
          <p:nvSpPr>
            <p:cNvPr id="247" name=""/>
            <p:cNvSpPr/>
            <p:nvPr/>
          </p:nvSpPr>
          <p:spPr>
            <a:xfrm>
              <a:off x="7430760" y="392760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50440" y="3886200"/>
              <a:ext cx="30708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3760" y="4266000"/>
              <a:ext cx="48600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200" y="451548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2640" y="45986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7440" y="464184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4320" y="434880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3280" y="4012560"/>
              <a:ext cx="48600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0600" y="468360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4680" y="405576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8840" y="388620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56720" y="3993480"/>
              <a:ext cx="137808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4724280"/>
            <a:ext cx="1585800" cy="1371240"/>
            <a:chOff x="4038480" y="4724280"/>
            <a:chExt cx="1585800" cy="1371240"/>
          </a:xfrm>
        </p:grpSpPr>
        <p:sp>
          <p:nvSpPr>
            <p:cNvPr id="260" name=""/>
            <p:cNvSpPr/>
            <p:nvPr/>
          </p:nvSpPr>
          <p:spPr>
            <a:xfrm>
              <a:off x="4534920" y="47656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4960" y="47242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7920" y="51040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2360" y="53535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7160" y="54367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1600" y="54799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51868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7440" y="48506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760" y="55216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9200" y="48938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3360" y="47242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48315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51814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81080" y="1981080"/>
          <a:ext cx="517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429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915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638320" y="41911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50496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486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2" idx="3"/>
            <a:endCxn id="280" idx="0"/>
          </p:cNvCxnSpPr>
          <p:nvPr/>
        </p:nvCxnSpPr>
        <p:spPr>
          <a:xfrm flipV="1">
            <a:off x="3429000" y="4190760"/>
            <a:ext cx="2210400" cy="1180080"/>
          </a:xfrm>
          <a:prstGeom prst="curvedConnector5">
            <a:avLst>
              <a:gd name="adj1" fmla="val 217527"/>
              <a:gd name="adj2" fmla="val 51724"/>
              <a:gd name="adj3" fmla="val 21752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42" idx="3"/>
            <a:endCxn id="239" idx="3"/>
          </p:cNvCxnSpPr>
          <p:nvPr/>
        </p:nvCxnSpPr>
        <p:spPr>
          <a:xfrm flipH="1" flipV="1">
            <a:off x="3809520" y="2398320"/>
            <a:ext cx="1829520" cy="991440"/>
          </a:xfrm>
          <a:prstGeom prst="curvedConnector5">
            <a:avLst>
              <a:gd name="adj1" fmla="val -17437"/>
              <a:gd name="adj2" fmla="val 49981"/>
              <a:gd name="adj3" fmla="val -174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 flipH="1">
            <a:off x="23619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Termina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&amp; traffic) support for GPRS &amp; G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but not traffic) support for GPRS &amp; G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multaneou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Some result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well suited for TCP/IP as bear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cceptable web brows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large no. of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an easily scale up a GPRS system by increasing PD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al than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 ideal bearer for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Limitation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rmina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peeds may vary – may come down to about 38.4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ve an impact on cel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(48+ bytes) protocol overhead in the headers – unacceptable for application sending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part in the transition from 2G to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its salient features &amp; implementations over different cellular bearers, over 100 million subscribers of 2G TDMA based technologies wil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ttle cost &amp; major benefits, GPRS provides easy solution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ve the way for UMTS &amp;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new set of GSM-bearer services that provide packet mode transmission within the GSM network &amp; interconnects with external packet data ne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PRS &amp;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Connec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What is GPRS – A Commerci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an overlay network over the G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hange to G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ata Packet delive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by E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pport for Dat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ill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reorganiz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&amp; Traffic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Salient Features – A technic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ata Rates of about 100 kpbs – an order of magnitude higher than G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up time is negligible – less than a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utilization as per requirements – air interface is assigned temporarily on per-packet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can remain “always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SM Architecture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Addit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SN – Serving GPRS suppor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packet routing &amp;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 – attach/detach &amp; loc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Lin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files of all MS within its pu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13:47Z</dcterms:created>
  <dc:creator>Patricio Valenzuela</dc:creator>
  <dc:description/>
  <dc:language>en-US</dc:language>
  <cp:lastModifiedBy>Valenzuela Patricio</cp:lastModifiedBy>
  <dcterms:modified xsi:type="dcterms:W3CDTF">2005-10-07T03:07:35Z</dcterms:modified>
  <cp:revision>16</cp:revision>
  <dc:subject/>
  <dc:title>GPRS: A new Dimension to Wireless Communication</dc:title>
</cp:coreProperties>
</file>