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16F-BAE6-4779-A8C6-FA6AE879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3241-CC1D-482A-BF20-6A49C85CC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05A-0B2D-4C52-A7BA-342C378C7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8B3-0EA4-4254-B3C7-04540294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AB3-7802-4B72-92FB-67780C82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3F1-A745-490D-BB15-2F1EEB9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9AF-D002-49D2-9633-F816B7D5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685-1F0A-4368-B4A1-7DDA6577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1F6-DF9B-48AF-BD58-12C2649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3DD-2E1A-4EE9-B2D4-38C3219E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265-18BF-40B1-88EA-119D516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126-F1AA-431A-90F9-A30F9915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CCB-9A0E-4A2D-AC54-E01FB80F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2E5-BD8A-449F-A642-D7F4506B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C10-E087-4BAA-8F64-0AF8A70F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4F6-0551-48B4-971E-C2E7BB3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8DE5-2A99-4C3B-A2EB-E6574474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6-09-08T12:47:42Z</dcterms:modified>
  <cp:revision>111</cp:revision>
  <dc:subject/>
  <dc:title>Presentation on GSM</dc:title>
</cp:coreProperties>
</file>