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9FFBA-7314-4EAD-AFEA-5B217E4B65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5E2D4-A635-4EB1-A9F9-A0C478A1F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DAF0B-41AE-4E09-B4FD-6DBCD87B7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4D5F2-2264-443D-95B9-5287F0402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6654-08AF-4E6A-8F6C-3A0F4CD92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8EE2-8502-4AB6-A3A4-B2C8F5700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04AC-28D5-4C2C-AF55-7D6B7DC42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D4BE-C694-4FE7-8697-F0E701FDE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247F-529E-47D1-A088-D7332C2A9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8454-8846-48C8-BA8E-B9D9C304A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5912-9B35-453C-B267-F023DCC0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C3FD-B051-4A82-B593-842B35436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B4F4-60D3-4649-8E72-0488DAB9A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ABDC-D312-4DBC-9B83-5070E59E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E08C-C828-44CF-B259-099995D1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ABA8-9224-48C3-B79B-3514094B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E61A8-5408-4F9B-BD76-0E15BF35B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7392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333399"/>
                </a:solidFill>
                <a:latin typeface="Times New Roman"/>
              </a:rPr>
              <a:t>GSM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8960" y="4266720"/>
            <a:ext cx="69339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bile Station (MS) cont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bscriber Identity Module (SI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rt card contains the International Mobile Subscriber Identity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S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user to send and receive calls and receive other subscribe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ded network identification de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Key Ki,Kc and A3,A5 and A8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ed by a password or P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moved from phone to phone – contains key information to activate the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ase Station Subsystem (BS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Station Subsystem is composed of two parts that communicate across the standardiz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erface allowing operation between components made by different sup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Transceiver Station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Station Controller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S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 Station Subsystem (BSS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2120" y="25142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 Transceiver Station (BTS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des,encrypts,multiplexes,modulates and feeds the RF signals to the anten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cy ho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es with Mobile station and B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s of Transceivers (TRX)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stem Architectur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se Station Subsystem (BSS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462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 Station Controller (B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s Radio resources for B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s Frequency and time slots for all MS’s in its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les call set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coding and rate adaptation funct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over for each 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o Power control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communicates with MSC and B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twork Switching Subsystem(NS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bile Switching Center (MS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rt of the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s communication between GSM and other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setup function and basic swit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lling information and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it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Location Upda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Inter BSS and inter MSC call hand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C does gateway function while its customer roams to other network by using HLR/VL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etwork Switching Sub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e Location Registers (HL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ermanent database about mobile subscribers in a large service area(generally one per GSM network operato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base contains IMSI,MSISDN,prepaid/postpaid,roaming restrictions,supplementary serv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itor Location Registers (VL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orary database which updates whenever new MS enters its area, by HLR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s those mobiles roaming in its are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s number of queries to HL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base contains IMSI,TMSI,MSISDN,MSRN,Location Area,authentication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etwork Switching Subsyste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-360" y="1846080"/>
            <a:ext cx="8785080" cy="50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hentication Center (AU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-252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s against intruders in air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-252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s authentication keys and algorithms and provides security triplets ( RAND,SRES,K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-252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ly associated with HL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quipment Identity Register (E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base that is used to track handsets using the IMEI (International Mobile Equipment Ident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-252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de up of three sub-classes: The White List, The Black List and the Gra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-252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EIR per PL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SM Specifications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F Spect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SM 9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bile to BTS (uplink):    890-915 Mh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TS to Mobile(downlink):935-960 Mh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ndwidth : 2* 25 Mhz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SM 1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bile to BTS (uplink):   1710-1785 Mh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TS to Mobile(downlink) 1805-1880 Mh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ndwidth : 2* 75 Mh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SM Specification-II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rier Separation   : 200 Kh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plex Distance      : 45 Mh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of RF carriers   : 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Method        : TDMA/FD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tion Method : GM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tion data rate   : 270.833 Kb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SM Ope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762120" y="747720"/>
            <a:ext cx="6933960" cy="5564160"/>
            <a:chOff x="762120" y="747720"/>
            <a:chExt cx="6933960" cy="5564160"/>
          </a:xfrm>
        </p:grpSpPr>
        <p:sp>
          <p:nvSpPr>
            <p:cNvPr id="180" name=""/>
            <p:cNvSpPr/>
            <p:nvPr/>
          </p:nvSpPr>
          <p:spPr>
            <a:xfrm>
              <a:off x="5867280" y="1143000"/>
              <a:ext cx="182880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Times New Roman"/>
                </a:rPr>
                <a:t>Speech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808080"/>
                  </a:solidFill>
                  <a:latin typeface="Times New Roman"/>
                </a:rPr>
                <a:t>decod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867280" y="2057400"/>
              <a:ext cx="182880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Times New Roman"/>
                </a:rPr>
                <a:t>Channel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808080"/>
                  </a:solidFill>
                  <a:latin typeface="Times New Roman"/>
                </a:rPr>
                <a:t>decod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867280" y="2971800"/>
              <a:ext cx="182880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Times New Roman"/>
                </a:rPr>
                <a:t>De-interleav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867280" y="3886200"/>
              <a:ext cx="182880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Times New Roman"/>
                </a:rPr>
                <a:t>Burst Format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867280" y="4800600"/>
              <a:ext cx="182880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Times New Roman"/>
                </a:rPr>
                <a:t>De-ciphe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867280" y="5715000"/>
              <a:ext cx="182880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Demodul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62120" y="5715000"/>
              <a:ext cx="182880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Times New Roman"/>
                </a:rPr>
                <a:t>Mod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62120" y="4800600"/>
              <a:ext cx="182880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Times New Roman"/>
                </a:rPr>
                <a:t>Ciphe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38080" y="3886200"/>
              <a:ext cx="182880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Times New Roman"/>
                </a:rPr>
                <a:t>Burs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808080"/>
                  </a:solidFill>
                  <a:latin typeface="Times New Roman"/>
                </a:rPr>
                <a:t>Format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38080" y="2971800"/>
              <a:ext cx="182880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Times New Roman"/>
                </a:rPr>
                <a:t>Interleav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38080" y="2057400"/>
              <a:ext cx="182880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Times New Roman"/>
                </a:rPr>
                <a:t>Channel Cod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38080" y="1143000"/>
              <a:ext cx="182880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590920" y="5638680"/>
              <a:ext cx="3276360" cy="660600"/>
            </a:xfrm>
            <a:custGeom>
              <a:avLst/>
              <a:gdLst/>
              <a:ahLst/>
              <a:rect l="l" t="t" r="r" b="b"/>
              <a:pathLst>
                <a:path w="2064" h="416">
                  <a:moveTo>
                    <a:pt x="0" y="288"/>
                  </a:moveTo>
                  <a:cubicBezTo>
                    <a:pt x="176" y="212"/>
                    <a:pt x="352" y="136"/>
                    <a:pt x="576" y="96"/>
                  </a:cubicBezTo>
                  <a:cubicBezTo>
                    <a:pt x="800" y="56"/>
                    <a:pt x="1280" y="0"/>
                    <a:pt x="1344" y="48"/>
                  </a:cubicBezTo>
                  <a:cubicBezTo>
                    <a:pt x="1408" y="96"/>
                    <a:pt x="840" y="352"/>
                    <a:pt x="960" y="384"/>
                  </a:cubicBezTo>
                  <a:cubicBezTo>
                    <a:pt x="1080" y="416"/>
                    <a:pt x="1572" y="328"/>
                    <a:pt x="2064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051200" y="125748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Times New Roman"/>
                </a:rPr>
                <a:t>Speech cod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11360" y="5527800"/>
              <a:ext cx="207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adio Inter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6781680" y="7621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125800" y="747720"/>
              <a:ext cx="76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pee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843960" y="824040"/>
              <a:ext cx="76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pee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6781680" y="1676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890720" y="1714680"/>
              <a:ext cx="94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3 Kb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06560" y="2604960"/>
              <a:ext cx="112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2.8 Kb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814400" y="3505320"/>
              <a:ext cx="112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2.8 Kb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753920" y="4419720"/>
              <a:ext cx="112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3.6 Kb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738080" y="5334120"/>
              <a:ext cx="112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3.6 Kb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820960" y="5943600"/>
              <a:ext cx="134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70.83 Kb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1676520" y="762120"/>
              <a:ext cx="75960" cy="4952880"/>
              <a:chOff x="1676520" y="762120"/>
              <a:chExt cx="75960" cy="4952880"/>
            </a:xfrm>
          </p:grpSpPr>
          <p:sp>
            <p:nvSpPr>
              <p:cNvPr id="206" name=""/>
              <p:cNvSpPr/>
              <p:nvPr/>
            </p:nvSpPr>
            <p:spPr>
              <a:xfrm>
                <a:off x="1676520" y="7621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676520" y="16765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752480" y="2590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752480" y="53341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752480" y="44197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752480" y="35053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2" name=""/>
            <p:cNvSpPr/>
            <p:nvPr/>
          </p:nvSpPr>
          <p:spPr>
            <a:xfrm flipV="1">
              <a:off x="6781680" y="25909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6781680" y="35053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6781680" y="4419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6781680" y="53341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66680" y="1828800"/>
            <a:ext cx="7239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5240" indent="-1652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GSM-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5240" indent="-1652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5240" indent="-1652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echnical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5240" indent="-1652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rame Structure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5240" indent="-1652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hanne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5240" indent="-1652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5240" indent="-1652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haracteristics and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5240" indent="-1652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hysical Cha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SM-Frame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391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ogical Chann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-304920" y="-39672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752480" y="198108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52480" y="19810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52480" y="45720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00400" y="14479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276720" y="3505320"/>
            <a:ext cx="0" cy="23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1447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00400" y="2514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76720" y="35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2767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76720" y="5867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038480" y="990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38480" y="990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038480" y="1828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09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029200" y="2209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0292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029200" y="2819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343400" y="3124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343400" y="3124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343400" y="3809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19720" y="41911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19720" y="4191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419720" y="45720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419720" y="50292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343400" y="5562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343400" y="5562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343400" y="60199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43400" y="6477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058120" y="1295280"/>
            <a:ext cx="89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raffi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057400" y="4724280"/>
            <a:ext cx="115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contro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4480" y="31212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354480" y="426420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C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61240" y="5524560"/>
            <a:ext cx="11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dic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700240" y="201924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4 k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700240" y="232416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.8 k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792400" y="266688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.6 k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37040" y="2860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13360" y="2936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029200" y="3044880"/>
            <a:ext cx="28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CCH(Frequency correc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29920" y="3657600"/>
            <a:ext cx="22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H(Synchroniz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107320" y="4038480"/>
            <a:ext cx="14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H(Pag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182920" y="4419720"/>
            <a:ext cx="24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CH(Random Acce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83280" y="4800600"/>
            <a:ext cx="220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CH(Access Gra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182920" y="54100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DCCH(Stand Alo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091120" y="5905440"/>
            <a:ext cx="25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CCH(Slow-associat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954320" y="6248520"/>
            <a:ext cx="24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CCH(Fast-associat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572000" y="83520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lf rate 11.4k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572000" y="160020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ll rate 22.8k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185640" y="110484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ee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490200" y="217188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l Rou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 Originating from 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 termination to 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tgoing C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4267080" cy="441936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343400" y="1294920"/>
            <a:ext cx="5029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 sends dialled number to BS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SS sends dialled number to M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,4     MSC checks VLR if MS is allowed the requested service.If so,MSC asks BSS to allocate resources for c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C routes the call to GM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MSC routes the call  to local exchange of called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, 8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,10    Answer back(ring back) tone is routed from called user to MS via GMSC,MSC,B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coming C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4724280" cy="411480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1640" y="228240"/>
            <a:ext cx="38862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732600" indent="-346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ing a GSM subscri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2600" indent="-346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ing call to GSM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2600" indent="-346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l Setup to HL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2600" indent="-346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Request MSRN from VL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2600" indent="-346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 responsible MSC to GM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2600" indent="-346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 Call to current M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2600" indent="-346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 Get current status of 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2600" indent="-346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. Paging of 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2600" indent="-346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. MS ans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2600" indent="-346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. Security che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2600" indent="-346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. Set up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2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andov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4876560" cy="441936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33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1 and 2 – Inter BTS / Intra B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1 and 3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 BSC/ Intra M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1 and 4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 M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curity in G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ir interface, GSM uses encryption and TMSI instead of IMS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 is provided 4-8 digit PIN to validate the ownership of S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algorithms are specified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3 algorithm for authent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5 algorithm for encry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8 algorithm for key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uthentication in G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0" y="1581120"/>
            <a:ext cx="9144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ey generation and Encry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GSM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Global System for Mobile (GSM) is a second generation cellular standard developed to cater voice services and data delivery using digital mod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racteristics of GSM Stand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y digital system using 900,1800 MHz frequency b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DMA over radio carriers(200 KHz carrier spac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full rate or 16 half rate TDMA channels per carri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/terminal authentication for fraud contr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ryption of speech and data transmission over the radio pa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 international roaming cap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speed data services (upto 9.6 Kb/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ISD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of Short Message Service (SM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dvantages of GSM over Analog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y in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d RF transmission power and longer battery li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 roaming cap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security against fraud (through terminal validation and user authentic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ryption capability for information security and priva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ISDN,leading to wider range of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SM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bile teleph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M-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emetr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Flee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utomatic meter 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oll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Remote control and fault reporting of DG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 Adde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SM 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1143000" y="167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e-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arer or Data Serv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ementary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ele Servic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0880" y="1238400"/>
            <a:ext cx="8686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ecommunication services that enable voice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a mobile 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ere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Mobile teleph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Emergency cal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arer 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various data services for information transfer  between GSM and other networks like PSTN, ISDN etc at rates from 300 to 9600 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Message Service (SM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123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 to 160 character alphanumeric data transmission to/from the mobile 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fied Messaging Services(U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3 f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ce mail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upplementary 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4495680" y="1463400"/>
            <a:ext cx="3962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8600" y="1371600"/>
            <a:ext cx="8610480" cy="57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 related servic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 Waiting- Notification of an incoming call while on the hand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 Hold- Put a caller on hold to take another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 Barring- All calls, outgoing calls, or incoming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 Forwarding- Calls can be sent to various numbers defined by the 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 Party Call Conferencing - Link multiple calls toge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P – Caller line identification 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R – Caller line identification restr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G – Closed user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SM Ev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nd Gener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SM -9.6 Kbps (data r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5 Generation ( Future of GS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SCSD (High Speed ckt Switched  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rate : 76.8 Kbps (9.6 x 8 kb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PRS (General Packet Radio servi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rate: 14.4 - 115.2 K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GE (Enhanced data rate for GSM Evol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rate: 547.2 Kbps (max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Gen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CDMA(Wide band CD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rate : 0.348 – 2.0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SM: His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1143000"/>
            <a:ext cx="8610480" cy="55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ed 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 Spéciale Mobile (founded 1982) which was an    initiative of CEPT ( Conference of European Post and Telecommunication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m : to replace the incompatible analog syste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ly the responsibility of GSM standardization resides with special mobile group under ETSI ( European telecommunication Standards Institute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 set of specifications phase-I became available in 199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ETSI, GSM is named as “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ba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stem f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ile communication 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 many providers all over the world use GSM (more than 1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ries in Asia, Africa, Europe, Australia, Americ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than 1300 million subscribers in world and  45 million subscriber in Ind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SM in Wor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1932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0" y="1600200"/>
          <a:ext cx="914400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91440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SM System Archite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2743200"/>
            <a:ext cx="53352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772400" y="1905120"/>
            <a:ext cx="45720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19520" y="1523880"/>
            <a:ext cx="304560" cy="3812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71600" y="1295280"/>
            <a:ext cx="30492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971800" y="3657600"/>
            <a:ext cx="304920" cy="3808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09680" y="4800600"/>
            <a:ext cx="304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3429000"/>
            <a:ext cx="30456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162920" y="4572000"/>
            <a:ext cx="53316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4724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6553080" y="4343400"/>
            <a:ext cx="609840" cy="914400"/>
            <a:chOff x="6553080" y="4343400"/>
            <a:chExt cx="609840" cy="914400"/>
          </a:xfrm>
        </p:grpSpPr>
        <p:sp>
          <p:nvSpPr>
            <p:cNvPr id="71" name=""/>
            <p:cNvSpPr/>
            <p:nvPr/>
          </p:nvSpPr>
          <p:spPr>
            <a:xfrm>
              <a:off x="6553080" y="4343400"/>
              <a:ext cx="533520" cy="30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086600" y="44956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553080" y="44956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553080" y="4876920"/>
              <a:ext cx="53352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162920" y="47242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7162920" y="5105520"/>
            <a:ext cx="53316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772400" y="4800600"/>
            <a:ext cx="53352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05920" y="4952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77240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772400" y="5334120"/>
            <a:ext cx="53352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562720" y="3200400"/>
            <a:ext cx="358128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29000" y="5181480"/>
            <a:ext cx="763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447920"/>
            <a:ext cx="763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4495680"/>
            <a:ext cx="763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0968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209680" y="41907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71600" y="685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1142640" y="6854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371600" y="6854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762120" y="2819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533160" y="2819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1980720" y="41907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320" y="38862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19520" y="38862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47920" y="3276720"/>
            <a:ext cx="137160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320" y="4648320"/>
            <a:ext cx="137160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47920" y="5257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91120" y="5257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819520" y="6019560"/>
            <a:ext cx="137160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19520" y="4648320"/>
            <a:ext cx="137160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6019920"/>
            <a:ext cx="137160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320" y="1143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19520" y="1143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6320" y="533160"/>
            <a:ext cx="137160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1447920" y="1904760"/>
            <a:ext cx="137160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47920" y="533520"/>
            <a:ext cx="137160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320" y="1905120"/>
            <a:ext cx="137160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19520" y="1143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9112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276720" y="327672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19520" y="1905120"/>
            <a:ext cx="137160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486400" y="2133720"/>
            <a:ext cx="22860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200400" y="2971800"/>
            <a:ext cx="17524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71800" y="1752480"/>
            <a:ext cx="19810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1599840" y="1447560"/>
            <a:ext cx="10666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6857640" y="38862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7467120" y="41148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8077320" y="434340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437920" y="464832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447920" y="495252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990720" y="32767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76320" y="358092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437920" y="3733920"/>
            <a:ext cx="38124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90720" y="358128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24080" y="1219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3809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00600" y="1981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43200" y="5715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4300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2280" y="1600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2280" y="3809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81080" y="5181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543800" y="2514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M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153280" y="457200"/>
            <a:ext cx="990720" cy="10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T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D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D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8229600" y="17521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5105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553080" y="5410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238880" y="5715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L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3276720" y="44956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44956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2895480" y="457164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76920" y="3809880"/>
            <a:ext cx="30456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81480" y="38862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76920" y="38862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4076640"/>
            <a:ext cx="304560" cy="190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028840" y="335268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72428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L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SM System Architecture-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bile Station (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0">
              <a:spcBef>
                <a:spcPts val="601"/>
              </a:spcBef>
              <a:buNone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bile Equipment (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0">
              <a:spcBef>
                <a:spcPts val="601"/>
              </a:spcBef>
              <a:buNone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criber Identity Module (SI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 Station Subsystem (B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0">
              <a:spcBef>
                <a:spcPts val="601"/>
              </a:spcBef>
              <a:buNone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Transceiver Station (B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0">
              <a:spcBef>
                <a:spcPts val="601"/>
              </a:spcBef>
              <a:buNone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Station Controller (B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 Switching Subsystem(N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0">
              <a:spcBef>
                <a:spcPts val="601"/>
              </a:spcBef>
              <a:buNone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bile Switching Center (M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0">
              <a:spcBef>
                <a:spcPts val="601"/>
              </a:spcBef>
              <a:buNone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 Location Register (HL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0">
              <a:spcBef>
                <a:spcPts val="601"/>
              </a:spcBef>
              <a:buNone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itor Location Register (VL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0">
              <a:spcBef>
                <a:spcPts val="601"/>
              </a:spcBef>
              <a:buNone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entication Center (AU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0">
              <a:spcBef>
                <a:spcPts val="601"/>
              </a:spcBef>
              <a:buNone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pment Identity Register (EI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bile Station (M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bile Station is made up of two ent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bile Equipment (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criber Identity Module (SI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bile Station (MS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bile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able,vehicle mounted, hand held devic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quely identified by 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E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nternational Mobile Equipment Ident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ce and data transmis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power and signal quality of surrounding cells for optimum hand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level : 0.8W – 20 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0 character long  SM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0T14:35:30Z</dcterms:created>
  <dc:creator>PValenzuela</dc:creator>
  <dc:description/>
  <dc:language>en-US</dc:language>
  <cp:lastModifiedBy>Valenzuela Patricio</cp:lastModifiedBy>
  <dcterms:modified xsi:type="dcterms:W3CDTF">2006-09-08T12:47:42Z</dcterms:modified>
  <cp:revision>111</cp:revision>
  <dc:subject/>
  <dc:title>Presentation on GSM</dc:title>
</cp:coreProperties>
</file>