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186-C1FC-410F-9D4E-6DF4F444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F14-204B-4638-8779-5F022C15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306-737C-49A9-B298-F026C3D8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661-174B-449B-AE6F-4D7788E6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BBA6-0F73-4C3C-BD92-98AF1A7D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DA46-63F6-42D1-8BAD-A7B499B5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8DF6-44B4-445E-9AA2-AEC10B25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D334-FE4C-41FB-9D34-E9EB1759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D8F5-18E7-49FC-B9CE-B6130204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EC7A-B4AA-4F8D-B9D0-AD37879F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9BA9-285C-4935-88C9-FE0F4EA4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F004-CF79-49DD-9244-AF937B9D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B828-2995-441B-B8ED-78AA4B2B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2F96-4656-40C5-A176-C2CCCB6B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D49B-C5B3-4341-88DD-069029E9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7722-E2DB-491E-B6BD-6CEB2D14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92C4-F8F6-4CB4-BABA-02EDD532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A8B-DFD1-4730-8A11-3B98212F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3BFC-9DBE-41A7-9EFE-3FD99CF5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793-71E2-47BE-883A-C3966816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627-69A2-46F0-ACDF-51761B7D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03C-5D4A-46CB-8076-2267134C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649D-5908-43B3-886C-E8625A2D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41E4-7CF5-41B7-A8A2-776E9379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B4E0-A7E4-46C8-876D-B3B1296459A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58C2-E2A4-4B27-87B9-95EEA9DC3464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specificaciones Técnicas: Transformador de Corr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55640" y="386064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uan Pablo Castillo 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aniel Garrido V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anna Monteiro Z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arco Sánchez 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rlos Suazo 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47800" y="96480"/>
            <a:ext cx="73245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Conex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onexiones especiale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Utilizan sólo dos transformadores de corrient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Económicamente más convenient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19640" y="1916280"/>
            <a:ext cx="3138480" cy="1949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319572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16360" y="2205000"/>
            <a:ext cx="4248360" cy="34704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6160" y="96480"/>
            <a:ext cx="74678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Aplic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Medida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Alta precisió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Característica idealizada </a:t>
            </a: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para proteger instrumentos conectados a secundari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Proteccione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06400" indent="-26352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Es conveniente que no exista saturación ante elevadas corrientes primari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06400" indent="-26352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Precisión aceptable durante fallas en el sistem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776160" y="96480"/>
            <a:ext cx="74678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Aplic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32360" y="2637000"/>
            <a:ext cx="37450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Corriente Nomin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Debe ser mayor a la máxima corriente de operación del circuit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Debe considerarse la corriente de inrus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Factor de Sobrecarg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Máxima corriente primaria permanente tal que la temperatura máxima de los enrollados no supere los 30º 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725040" y="96480"/>
            <a:ext cx="76136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ficaciones Técnicas de un 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rriente Térmica de tiempo corto (1s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áximo valor de corriente, tal que la temperatura no exceda 250 o 350º C       (secundario cortocircuitado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ímite de solicitaciones Dinámica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áxima corriente asimétrica de cortocircuito sin producir dañ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5400" y="96840"/>
            <a:ext cx="7613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ficaciones Técnicas de un TC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71640" y="1981080"/>
            <a:ext cx="7488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Voltaje Nomin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rresponde a la tensión entre fases. Los T/C pueden operar hasta con un 10% por sobre el voltaje nominal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I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 especifica de acuerdo al voltaje nominal del sistema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3933720"/>
            <a:ext cx="8316720" cy="2398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25400" y="96840"/>
            <a:ext cx="7613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ficaciones Técnicas de un TC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92929"/>
                </a:solidFill>
                <a:latin typeface="Arial"/>
              </a:rPr>
              <a:t>Burd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Carga externa conectada al secundario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Se expresa generalmente en términos de impedancia y factor de potencia. En algunos casos se expresa también como los Volts-Amperes disipados en la impedancia, a corriente nominal secundaria, con el factor de potencia correspondient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5400" y="96840"/>
            <a:ext cx="7613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ficaciones Técnicas de un TC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yecto Planta de Magnet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286000" y="3581280"/>
            <a:ext cx="653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mpañía Minera del Pacífico S.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MP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672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diciones de Servicio y Oper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49320" y="2465280"/>
            <a:ext cx="76611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pecificaciones Técnicas 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49320" y="2035080"/>
            <a:ext cx="766116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Definición Especificación Técnic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Generalidades T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Especificaciones Técnicas de un T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Proyecto Planta de Magnetit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Proyecto Modernización Subestación Esmeralda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pecificaciones Técnicas 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76615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yecto Modernización Subestación Esmeral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6000" y="3581280"/>
            <a:ext cx="653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RANSELECTRIC S.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mpañía Nacional de Transmisión Eléctrica de Ecuador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enido de la  Especificación Téc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Norm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Requerimientos Genera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aracterísticas Constructiv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Diseños y Datos a Suministrars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Apéndice: Características Particulares del Suministr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enido de la  Especificación Téc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66880" y="1484280"/>
            <a:ext cx="37972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specificaciones Técnicas: Transformador de Corr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uan Pablo Castill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aniel Garrid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anna Monteir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arco Sánchez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rlos Suazo 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finición Especificación Téc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spcAft>
                <a:spcPts val="700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Una  </a:t>
            </a:r>
            <a:r>
              <a:rPr b="1" i="1" lang="es-ES_tradnl" sz="2800" spc="-1" strike="noStrike">
                <a:solidFill>
                  <a:srgbClr val="292929"/>
                </a:solidFill>
                <a:latin typeface="Arial"/>
              </a:rPr>
              <a:t>Especificación Técnica</a:t>
            </a: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 es un conjunto de documentos, emitidos por el cliente, que indica las necesidades funcionales, la calidad, la cantidad y los tipos de materiales con los cuales se debe construir el equipo requerido por dicho client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finición Especificación Téc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ontenido de una Especificación Técnic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Alcance de la Especificación Técnic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Definición de las capacidades nominal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Normas aplicabl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Condiciones de satisfacción, normalmente expresada por medio de las pruebas de recepció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Cantidad a adquiri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Plazo de entreg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Documentación a entreg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Condiciones administrativa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Formas de pag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¿Qué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ransformadores de medid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Entregan una corriente proporcional a la que circula por su enrollado primari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3485" r="0" b="20775"/>
          <a:stretch/>
        </p:blipFill>
        <p:spPr>
          <a:xfrm>
            <a:off x="5435640" y="2060640"/>
            <a:ext cx="3220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T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De acuerdo a 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características constructivas de la bobina primari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bobinad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barr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ventan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T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bobinad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7118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T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8781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barr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ventan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4897440" cy="1730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00360" y="4941720"/>
            <a:ext cx="404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47800" y="96480"/>
            <a:ext cx="73245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Conex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591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onexión estrell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Apropiada cuando se requiere obtener corrientes de secuencia cer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onexión delt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Útil en aplicaciones a protecciones de distanci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3516" b="0"/>
          <a:stretch/>
        </p:blipFill>
        <p:spPr>
          <a:xfrm>
            <a:off x="5292720" y="1989000"/>
            <a:ext cx="3076560" cy="2179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435640" y="4365720"/>
            <a:ext cx="26845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21:13:52Z</dcterms:created>
  <dc:creator>Daniel Garrido</dc:creator>
  <dc:description/>
  <dc:language>en-US</dc:language>
  <cp:lastModifiedBy>ABOTTESELLE</cp:lastModifiedBy>
  <dcterms:modified xsi:type="dcterms:W3CDTF">2006-11-03T15:31:45Z</dcterms:modified>
  <cp:revision>22</cp:revision>
  <dc:subject/>
  <dc:title>Proyecto Planta de Magnetita</dc:title>
</cp:coreProperties>
</file>