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30FC-1771-4874-85BF-81A00E1B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C324-ACFD-4263-AF1D-BFCD4619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9BF6-793E-4D38-9DF0-5A72C7C3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778B-97C3-4AD6-B508-B5EE8F9E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4969-C5B6-4D41-B083-360399F1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B86E-51B2-4FEE-B60F-50593552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AF01-AC20-4975-B41B-069BCB90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2D37-28A0-4B80-9A43-B549ADF4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14D0-09FE-4A00-96D0-236ADB4E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1060-EC75-4083-8E19-3146F030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BEC9-69B9-4255-B5CF-B68BDD0F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CBA4-7F1F-4579-B4F9-EACF6221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201B-A8C4-43B3-96BD-C04EEEC9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3327-4096-4A51-B065-1E7E39D5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98B8-9040-4A40-A798-C6583DD2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EB48-C6FE-4CE6-AC79-7828A470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5DC7-FA23-45A6-8B0C-B159C222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D9F7-63EC-4BAC-A76D-9B55925F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BB39-C341-411E-8F3F-3510D0AB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BF9-C0A5-47FE-8B47-6FBA26BE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4E58-E7B5-43BE-A0A7-CB4AFC8D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7B95-1BC3-434D-8EFD-4A83FE86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397-A912-462C-8103-32C3E960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015-BC6C-49F7-B7C0-6A68E579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56BD-27D5-4884-8B2A-AEB7A068E45B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8D3D-7855-48CA-A00F-25A89AFF7124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specificaciones Técnicas: Transformador de Corr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555640" y="386064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uan Pablo Castillo M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aniel Garrido V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hanna Monteiro Z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arco Sánchez A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rlos Suazo M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47800" y="96480"/>
            <a:ext cx="73245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Conex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Conexiones especiale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Utilizan sólo dos transformadores de corrient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Económicamente más convenient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19640" y="1916280"/>
            <a:ext cx="3138480" cy="1949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319572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16360" y="2205000"/>
            <a:ext cx="4248360" cy="34704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6160" y="96480"/>
            <a:ext cx="74678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Aplic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Medida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Alta precisió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Característica idealizada </a:t>
            </a: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para proteger instrumentos conectados a secundari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Proteccione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06400" indent="-26352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Es conveniente que no exista saturación ante elevadas corrientes primari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06400" indent="-26352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Precisión aceptable durante fallas en el sistem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776160" y="96480"/>
            <a:ext cx="74678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Aplic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32360" y="2637000"/>
            <a:ext cx="37450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Corriente Nomina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Debe ser mayor a la máxima corriente de operación del circuit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Debe considerarse la corriente de inrush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Factor de Sobrecarg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Máxima corriente primaria permanente tal que la temperatura máxima de los enrollados no supere los 30º 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725040" y="96480"/>
            <a:ext cx="76136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ficaciones Técnicas de un 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rriente Térmica de tiempo corto (1s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áximo valor de corriente, tal que la temperatura no exceda 250 o 350º C       (secundario cortocircuitado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ímite de solicitaciones Dinámica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áxima corriente asimétrica de cortocircuito sin producir dañ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5400" y="96840"/>
            <a:ext cx="7613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ficaciones Técnicas de un TC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71640" y="1981080"/>
            <a:ext cx="7488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Voltaje Nomin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rresponde a la tensión entre fases. Los T/C pueden operar hasta con un 10% por sobre el voltaje nominal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I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just"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 especifica de acuerdo al voltaje nominal del sistema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3933720"/>
            <a:ext cx="8316720" cy="2398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25400" y="96840"/>
            <a:ext cx="7613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ficaciones Técnicas de un TC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92929"/>
                </a:solidFill>
                <a:latin typeface="Arial"/>
              </a:rPr>
              <a:t>Burd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Carga externa conectada al secundario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Se expresa generalmente en términos de impedancia y factor de potencia. En algunos casos se expresa también como los Volts-Amperes disipados en la impedancia, a corriente nominal secundaria, con el factor de potencia correspondient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5400" y="96840"/>
            <a:ext cx="7613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ficaciones Técnicas de un TC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yecto Planta de Magnet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286000" y="3581280"/>
            <a:ext cx="653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mpañía Minera del Pacífico S.A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MP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6723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diciones de Servicio y Oper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49320" y="2465280"/>
            <a:ext cx="76611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pecificaciones Técnicas T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49320" y="2035080"/>
            <a:ext cx="766116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Definición Especificación Técnic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Generalidades T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Especificaciones Técnicas de un T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Proyecto Planta de Magnetit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Proyecto Modernización Subestación Esmeralda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pecificaciones Técnicas T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76615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yecto Modernización Subestación Esmeral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286000" y="3581280"/>
            <a:ext cx="653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RANSELECTRIC S.A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mpañía Nacional de Transmisión Eléctrica de Ecuador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tenido de la  Especificación Téc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Norm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Requerimientos General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Características Constructiv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Diseños y Datos a Suministrars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Apéndice: Características Particulares del Suministr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tenido de la  Especificación Téc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66880" y="1484280"/>
            <a:ext cx="37972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specificaciones Técnicas: Transformador de Corr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uan Pablo Castill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aniel Garrid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hanna Monteir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arco Sánchez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rlos Suazo M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finición Especificación Técn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spcAft>
                <a:spcPts val="700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Una  </a:t>
            </a:r>
            <a:r>
              <a:rPr b="1" i="1" lang="es-ES_tradnl" sz="2800" spc="-1" strike="noStrike">
                <a:solidFill>
                  <a:srgbClr val="292929"/>
                </a:solidFill>
                <a:latin typeface="Arial"/>
              </a:rPr>
              <a:t>Especificación Técnica</a:t>
            </a: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 es un conjunto de documentos, emitidos por el cliente, que indica las necesidades funcionales, la calidad, la cantidad y los tipos de materiales con los cuales se debe construir el equipo requerido por dicho client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finición Especificación Técn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Contenido de una Especificación Técnic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Alcance de la Especificación Técnic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Definición de las capacidades nominal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Normas aplicabl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Condiciones de satisfacción, normalmente expresada por medio de las pruebas de recepció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Cantidad a adquiri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Plazo de entreg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Documentación a entreg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Condiciones administrativa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Arial"/>
              </a:rPr>
              <a:t>Formas de pag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¿Qué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ransformadores de medid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Entregan una corriente proporcional a la que circula por su enrollado primari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3485" r="0" b="20775"/>
          <a:stretch/>
        </p:blipFill>
        <p:spPr>
          <a:xfrm>
            <a:off x="5435640" y="2060640"/>
            <a:ext cx="3220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T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De acuerdo a </a:t>
            </a: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características constructivas de la bobina primari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ipo bobinad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ipo barr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ipo ventan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T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ipo bobinad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67118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T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8781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ipo barr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ipo ventan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4897440" cy="1730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700360" y="4941720"/>
            <a:ext cx="404172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47800" y="96480"/>
            <a:ext cx="73245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eneralidades TC: Conex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9320" y="1980720"/>
            <a:ext cx="37591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Conexión estrell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Apropiada cuando se requiere obtener corrientes de secuencia cer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Conexión delt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92929"/>
                </a:solidFill>
                <a:latin typeface="Arial"/>
              </a:rPr>
              <a:t>Útil en aplicaciones a protecciones de distanci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3516" b="0"/>
          <a:stretch/>
        </p:blipFill>
        <p:spPr>
          <a:xfrm>
            <a:off x="5292720" y="1989000"/>
            <a:ext cx="3076560" cy="2179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435640" y="4365720"/>
            <a:ext cx="26845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21:13:52Z</dcterms:created>
  <dc:creator>Daniel Garrido</dc:creator>
  <dc:description/>
  <dc:language>en-US</dc:language>
  <cp:lastModifiedBy>ABOTTESELLE</cp:lastModifiedBy>
  <dcterms:modified xsi:type="dcterms:W3CDTF">2006-11-03T15:31:45Z</dcterms:modified>
  <cp:revision>22</cp:revision>
  <dc:subject/>
  <dc:title>Proyecto Planta de Magnetita</dc:title>
</cp:coreProperties>
</file>