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F56C-C962-42D0-9D82-64B58D4E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6141-B825-4B98-B3EF-0B47D574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5DE-6EE3-4557-9C8D-3EB0C8A6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345F-FA8C-4585-BB67-BA290A94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1642-32CA-4595-B3FC-FD4FA1BC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1DA5-583F-4928-83E7-E2B33C97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D0F0-D039-4295-8634-59980F35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04BC-A9A8-44E1-939F-4AA3D7B2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2415-BF05-44F0-B1ED-128FDE5F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706B-38E4-40EA-99C6-2897CD21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06B2-8C97-488B-A03E-7C5163FB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83DE-48D3-4104-B933-368009E2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9181-4F02-4634-85FD-177B632A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BA58-6205-4687-A0E1-790A43E5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FDB5-3754-41C4-905F-8AB087DA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53A8-EC05-4D6B-AF2D-B75F2260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0659-0735-4ECB-A26F-7E9007E5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A2F-48AC-473F-BC50-59E7A5F8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6FF-5F9D-471C-B4B2-0C7AA311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DAA-C7E6-4115-97C1-2F9162FB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4730-251D-428F-A5EA-60F54F1E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0F63-B334-407F-A53A-6CE1C198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5DA4-CB2C-468C-8380-C577A372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822-AF21-478F-8B72-DD24809C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3666-1905-4A72-8205-A42F71A0960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CB80-1CA5-411B-90AF-86B27FE0AB6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specificaciones Técnicas: Transformador de Corr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55640" y="386064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uan Pablo Castillo 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aniel Garrido V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anna Monteiro Z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arco Sánchez 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rlos Suazo 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47800" y="96480"/>
            <a:ext cx="73245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Conex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onexiones especiale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Utilizan sólo dos transformadores de corrient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Económicamente más convenient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19640" y="1916280"/>
            <a:ext cx="3138480" cy="1949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319572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16360" y="2205000"/>
            <a:ext cx="4248360" cy="34704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6160" y="96480"/>
            <a:ext cx="74678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Aplic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Medida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Alta precisió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Característica idealizada </a:t>
            </a: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para proteger instrumentos conectados a secundari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Proteccione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06400" indent="-26352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Es conveniente que no exista saturación ante elevadas corrientes primari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06400" indent="-26352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Precisión aceptable durante fallas en el sistem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776160" y="96480"/>
            <a:ext cx="74678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Aplic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32360" y="2637000"/>
            <a:ext cx="37450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Corriente Nomin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Debe ser mayor a la máxima corriente de operación del circuit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Debe considerarse la corriente de inrus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Factor de Sobrecarg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Máxima corriente primaria permanente tal que la temperatura máxima de los enrollados no supere los 30º 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725040" y="96480"/>
            <a:ext cx="76136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ficaciones Técnicas de un 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rriente Térmica de tiempo corto (1s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áximo valor de corriente, tal que la temperatura no exceda 250 o 350º C       (secundario cortocircuitado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ímite de solicitaciones Dinámica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áxima corriente asimétrica de cortocircuito sin producir dañ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5400" y="96840"/>
            <a:ext cx="7613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ficaciones Técnicas de un TC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71640" y="1981080"/>
            <a:ext cx="7488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Voltaje Nomin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rresponde a la tensión entre fases. Los T/C pueden operar hasta con un 10% por sobre el voltaje nominal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I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 especifica de acuerdo al voltaje nominal del sistema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3933720"/>
            <a:ext cx="8316720" cy="2398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25400" y="96840"/>
            <a:ext cx="7613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ficaciones Técnicas de un TC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92929"/>
                </a:solidFill>
                <a:latin typeface="Arial"/>
              </a:rPr>
              <a:t>Burd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Carga externa conectada al secundario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Se expresa generalmente en términos de impedancia y factor de potencia. En algunos casos se expresa también como los Volts-Amperes disipados en la impedancia, a corriente nominal secundaria, con el factor de potencia correspondient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5400" y="96840"/>
            <a:ext cx="7613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ficaciones Técnicas de un TC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yecto Planta de Magnet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286000" y="3581280"/>
            <a:ext cx="653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mpañía Minera del Pacífico S.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MP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672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diciones de Servicio y Oper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49320" y="2465280"/>
            <a:ext cx="76611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pecificaciones Técnicas 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49320" y="2035080"/>
            <a:ext cx="766116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Definición Especificación Técnic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Generalidades T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Especificaciones Técnicas de un T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Proyecto Planta de Magnetit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Proyecto Modernización Subestación Esmeralda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pecificaciones Técnicas 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76615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yecto Modernización Subestación Esmeral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6000" y="3581280"/>
            <a:ext cx="653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RANSELECTRIC S.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mpañía Nacional de Transmisión Eléctrica de Ecuador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enido de la  Especificación Téc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Norm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Requerimientos Genera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aracterísticas Constructiv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Diseños y Datos a Suministrars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Apéndice: Características Particulares del Suministr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enido de la  Especificación Téc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66880" y="1484280"/>
            <a:ext cx="37972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specificaciones Técnicas: Transformador de Corr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uan Pablo Castill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aniel Garrid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anna Monteir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arco Sánchez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rlos Suazo 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finición Especificación Téc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spcAft>
                <a:spcPts val="700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Una  </a:t>
            </a:r>
            <a:r>
              <a:rPr b="1" i="1" lang="es-ES_tradnl" sz="2800" spc="-1" strike="noStrike">
                <a:solidFill>
                  <a:srgbClr val="292929"/>
                </a:solidFill>
                <a:latin typeface="Arial"/>
              </a:rPr>
              <a:t>Especificación Técnica</a:t>
            </a: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 es un conjunto de documentos, emitidos por el cliente, que indica las necesidades funcionales, la calidad, la cantidad y los tipos de materiales con los cuales se debe construir el equipo requerido por dicho client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finición Especificación Téc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ontenido de una Especificación Técnic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Alcance de la Especificación Técnic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Definición de las capacidades nominal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Normas aplicabl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Condiciones de satisfacción, normalmente expresada por medio de las pruebas de recepció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Cantidad a adquiri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Plazo de entreg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Documentación a entreg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Condiciones administrativa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Formas de pag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¿Qué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ransformadores de medid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Entregan una corriente proporcional a la que circula por su enrollado primari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3485" r="0" b="20775"/>
          <a:stretch/>
        </p:blipFill>
        <p:spPr>
          <a:xfrm>
            <a:off x="5435640" y="2060640"/>
            <a:ext cx="3220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T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De acuerdo a 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características constructivas de la bobina primari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bobinad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barr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ventan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T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bobinad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7118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T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8781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barr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ventan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4897440" cy="1730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00360" y="4941720"/>
            <a:ext cx="404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47800" y="96480"/>
            <a:ext cx="73245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Conex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591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onexión estrell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Apropiada cuando se requiere obtener corrientes de secuencia cer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onexión delt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Útil en aplicaciones a protecciones de distanci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3516" b="0"/>
          <a:stretch/>
        </p:blipFill>
        <p:spPr>
          <a:xfrm>
            <a:off x="5292720" y="1989000"/>
            <a:ext cx="3076560" cy="2179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435640" y="4365720"/>
            <a:ext cx="26845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21:13:52Z</dcterms:created>
  <dc:creator>Daniel Garrido</dc:creator>
  <dc:description/>
  <dc:language>en-US</dc:language>
  <cp:lastModifiedBy>ABOTTESELLE</cp:lastModifiedBy>
  <dcterms:modified xsi:type="dcterms:W3CDTF">2006-11-03T15:31:45Z</dcterms:modified>
  <cp:revision>22</cp:revision>
  <dc:subject/>
  <dc:title>Proyecto Planta de Magnetita</dc:title>
</cp:coreProperties>
</file>