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935E-580E-4CB4-8D96-FEBF07532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A79E-1CB9-49C7-B908-EEE373A9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E7BE-213B-4785-A580-7433605D7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5ACE-96DA-44BE-B1E9-3615827FC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DDD6-8146-4BE5-9CE9-DE4FDD3CE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37F80-0CDE-4C98-95C0-E7F1BCC7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F103-FEBE-4FF9-B3A9-BE099CCB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14B5-A68B-4F35-8077-CE4A5C9D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163C-1F6E-4226-9854-609F2719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9930-A8B3-44F0-AC7F-56BE9674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CCB0-89FE-482F-8F95-F2662369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37B2-0616-47B1-B034-3FBDA7DB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41DB-3B99-43C6-A3EE-19D8ECD6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0161-7BFF-4A8F-A760-6CAB3DFA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596B-F206-4B11-98B1-E41026B3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FB69-3B54-4FB5-ADF5-F3B73247F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CD72-2098-44EA-8C0D-BA36DF3E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1D8C-7D59-4CFD-ADD0-C703BDE0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EFC7-D83D-4A8B-8E4F-CE95837F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FFA2-E234-4CDD-97AC-2585E34B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E217-69DE-458E-968B-C69C93D8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6BED-048D-435D-903A-2376C2BB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C5A1-D379-497F-ABB9-4DA9CFC4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5FFC-FBDF-4104-9831-DAAA42C8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212B-DA58-4D71-B26A-8BC7E021684B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41FC-4CD4-4A7A-B5C2-AFB536C9780E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Especificaciones Técnicas: Transformador de Corri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555640" y="386064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Juan Pablo Castillo M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aniel Garrido V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Johanna Monteiro Z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arco Sánchez A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arlos Suazo M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47800" y="96480"/>
            <a:ext cx="73245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Generalidades TC: Conex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Conexiones especiales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Arial"/>
              </a:rPr>
              <a:t>Utilizan sólo dos transformadores de corrient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Arial"/>
              </a:rPr>
              <a:t>Económicamente más convenient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219640" y="1916280"/>
            <a:ext cx="3138480" cy="1949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148360" y="4149720"/>
            <a:ext cx="319572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716360" y="2205000"/>
            <a:ext cx="4248360" cy="34704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6160" y="96480"/>
            <a:ext cx="74678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Generalidades TC: Aplic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375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Medidas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29"/>
                </a:solidFill>
                <a:latin typeface="Arial"/>
              </a:rPr>
              <a:t>Alta precisió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29"/>
                </a:solidFill>
                <a:latin typeface="Arial"/>
              </a:rPr>
              <a:t>Característica idealizada </a:t>
            </a:r>
            <a:r>
              <a:rPr b="0" lang="es-ES" sz="2400" spc="-1" strike="noStrike">
                <a:solidFill>
                  <a:srgbClr val="292929"/>
                </a:solidFill>
                <a:latin typeface="Arial"/>
              </a:rPr>
              <a:t>para proteger instrumentos conectados a secundari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Protecciones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06400" indent="-26352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Arial"/>
              </a:rPr>
              <a:t>Es conveniente que no exista saturación ante elevadas corrientes primaria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06400" indent="-26352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Arial"/>
              </a:rPr>
              <a:t>Precisión aceptable durante fallas en el sistem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776160" y="96480"/>
            <a:ext cx="74678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Generalidades TC: Aplic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932360" y="2637000"/>
            <a:ext cx="374508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Corriente Nomina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Debe ser mayor a la máxima corriente de operación del circuit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Debe considerarse la corriente de inrush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Factor de Sobrecarg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Máxima corriente primaria permanente tal que la temperatura máxima de los enrollados no supere los 30º C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725040" y="96480"/>
            <a:ext cx="76136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pecificaciones Técnicas de un T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orriente Térmica de tiempo corto (1s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áximo valor de corriente, tal que la temperatura no exceda 250 o 350º C       (secundario cortocircuitado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ímite de solicitaciones Dinámica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áxima corriente asimétrica de cortocircuito sin producir daño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5400" y="96840"/>
            <a:ext cx="7613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pecificaciones Técnicas de un TC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971640" y="1981080"/>
            <a:ext cx="7488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Voltaje Nomin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 algn="just"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rresponde a la tensión entre fases. Los T/C pueden operar hasta con un 10% por sobre el voltaje nominal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I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 algn="just"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 especifica de acuerdo al voltaje nominal del sistema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8360" y="3933720"/>
            <a:ext cx="8316720" cy="2398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25400" y="96840"/>
            <a:ext cx="7613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pecificaciones Técnicas de un TC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292929"/>
                </a:solidFill>
                <a:latin typeface="Arial"/>
              </a:rPr>
              <a:t>Burd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Carga externa conectada al secundario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Se expresa generalmente en términos de impedancia y factor de potencia. En algunos casos se expresa también como los Volts-Amperes disipados en la impedancia, a corriente nominal secundaria, con el factor de potencia correspondient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5400" y="96840"/>
            <a:ext cx="7613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pecificaciones Técnicas de un TC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yecto Planta de Magneti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286000" y="3581280"/>
            <a:ext cx="653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ompañía Minera del Pacífico S.A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MP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6723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diciones de Servicio y Operació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49320" y="2465280"/>
            <a:ext cx="766116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pecificaciones Técnicas T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49320" y="2035080"/>
            <a:ext cx="766116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Definición Especificación Técnic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Generalidades TC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Especificaciones Técnicas de un TC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Proyecto Planta de Magnetit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Proyecto Modernización Subestación Esmeralda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pecificaciones Técnicas T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76615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yecto Modernización Subestación Esmeral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286000" y="3581280"/>
            <a:ext cx="653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RANSELECTRIC S.A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ompañía Nacional de Transmisión Eléctrica de Ecuador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ntenido de la  Especificación Técn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Alcanc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Norma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Requerimientos General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Características Constructiva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Diseños y Datos a Suministrars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Apéndice: Características Particulares del Suministr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ntenido de la  Especificación Técn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666880" y="1484280"/>
            <a:ext cx="37972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Especificaciones Técnicas: Transformador de Corri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Juan Pablo Castill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aniel Garrid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Johanna Monteir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arco Sánchez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arlos Suazo M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efinición Especificación Técn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spcAft>
                <a:spcPts val="700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Una  </a:t>
            </a:r>
            <a:r>
              <a:rPr b="1" i="1" lang="es-ES_tradnl" sz="2800" spc="-1" strike="noStrike">
                <a:solidFill>
                  <a:srgbClr val="292929"/>
                </a:solidFill>
                <a:latin typeface="Arial"/>
              </a:rPr>
              <a:t>Especificación Técnica</a:t>
            </a: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 es un conjunto de documentos, emitidos por el cliente, que indica las necesidades funcionales, la calidad, la cantidad y los tipos de materiales con los cuales se debe construir el equipo requerido por dicho client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efinición Especificación Técn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Contenido de una Especificación Técnica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Alcance de la Especificación Técnic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Definición de las capacidades nominal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Normas aplicabl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Condiciones de satisfacción, normalmente expresada por medio de las pruebas de recepció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Cantidad a adquiri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Plazo de entreg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Documentación a entreg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Condiciones administrativa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Formas de pag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Generalidades TC: ¿Qué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Transformadores de medid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Entregan una corriente proporcional a la que circula por su enrollado primari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3485" r="0" b="20775"/>
          <a:stretch/>
        </p:blipFill>
        <p:spPr>
          <a:xfrm>
            <a:off x="5435640" y="2060640"/>
            <a:ext cx="32209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Generalidades TC: Tip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De acuerdo a </a:t>
            </a: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características constructivas de la bobina primaria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Tipo bobinad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Tipo barr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Tipo ventan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Generalidades TC: Tip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Tipo bobinad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67118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Generalidades TC: Tip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87812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Tipo barr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Tipo ventan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411280" y="2708280"/>
            <a:ext cx="4897440" cy="1730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700360" y="4941720"/>
            <a:ext cx="404172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47800" y="96480"/>
            <a:ext cx="73245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Generalidades TC: Conex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375912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Conexión estrella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Arial"/>
              </a:rPr>
              <a:t>Apropiada cuando se requiere obtener corrientes de secuencia cer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Conexión delta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Arial"/>
              </a:rPr>
              <a:t>Útil en aplicaciones a protecciones de distanci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0" r="3516" b="0"/>
          <a:stretch/>
        </p:blipFill>
        <p:spPr>
          <a:xfrm>
            <a:off x="5292720" y="1989000"/>
            <a:ext cx="3076560" cy="2179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435640" y="4365720"/>
            <a:ext cx="26845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21:13:52Z</dcterms:created>
  <dc:creator>Daniel Garrido</dc:creator>
  <dc:description/>
  <dc:language>en-US</dc:language>
  <cp:lastModifiedBy>ABOTTESELLE</cp:lastModifiedBy>
  <dcterms:modified xsi:type="dcterms:W3CDTF">2006-11-03T15:31:45Z</dcterms:modified>
  <cp:revision>22</cp:revision>
  <dc:subject/>
  <dc:title>Proyecto Planta de Magnetita</dc:title>
</cp:coreProperties>
</file>