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D28BC-D728-463F-BA5F-96749F079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C32D-B6A4-4C73-87F2-7102991B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33936-9683-4CC4-B743-628FC232C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A4C2B-6331-4636-B45E-81131895F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BAF3-B586-4EF6-A41B-AC403381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ED55-EE31-4DE8-A7B7-728026108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A25F0-68B0-4EBA-8AA0-2538D58E6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8289F-D80B-408E-B983-CEF62423C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3B8A-3B18-4FBC-9B14-4626ABD23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0507-B8C0-4389-9B62-1AE3B6DFD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5F52-D885-4911-9CAA-E94776464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0AF3-70B8-461B-908A-AF938F82B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AE0A-AD53-418A-8C4C-616E74657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OS DE PROTECCIÓN DE CARCAZAS Y CAJAS DE EQUIPOS Y APARATOS</a:t>
            </a:r>
            <a:br>
              <a:rPr sz="1600"/>
            </a:b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 norma internacional CEI 529, de la Comisión Electrotécnica Internacional establece una codificación numérica a través de la cual se definen las características de los grados de protección que la envolvente, carcaza o caja, de un equipo proporciona tanto desde el punto de vista de protección a las personas frente a la posibilidad de alcanzar partes energizadas en el interior del equipo o aparato, como desde el punto de vista de penetración de elementos extraños al equipo como cuerpos, polvos o agua que interfieran con su funcionamiento y/o le provoquen daño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aracterización de los grados de protección se establece mediante un código formado por las letras IP (índice de protección) seguidas de una combinación de dos cifras, cuyo significado se establece en las tablas 1.I a 1.V siguientes. Debe tenerse en cuenta que la primera cifra tiene dos significados que se indican en las tablas 1.I y 1.II, estos significados son complementarios y de aplicación simultán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Unicode MS"/>
              </a:rPr>
              <a:t>Type 4X</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hose-directed water, and corrosion; and that will be undamaged by the external formation of ice on the enclosure.</a:t>
            </a:r>
            <a:br>
              <a:rPr sz="1300"/>
            </a:br>
            <a:r>
              <a:rPr b="1" lang="en-US" sz="1300" spc="-1" strike="noStrike">
                <a:solidFill>
                  <a:srgbClr val="000000"/>
                </a:solidFill>
                <a:latin typeface="Verdana"/>
                <a:ea typeface="Arial Unicode MS"/>
              </a:rPr>
              <a:t>Type 5</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settling airborne dust, lint, fibres, and flyings; and to provide a degree of protection against dripping and light splashing of liquids. </a:t>
            </a:r>
            <a:br>
              <a:rPr sz="1300"/>
            </a:br>
            <a:r>
              <a:rPr b="1" lang="en-US" sz="1300" spc="-1" strike="noStrike">
                <a:solidFill>
                  <a:srgbClr val="000000"/>
                </a:solidFill>
                <a:latin typeface="Verdana"/>
                <a:ea typeface="Arial Unicode MS"/>
              </a:rPr>
              <a:t>Type 6</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occasional temporary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6P</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prolonged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12</a:t>
            </a:r>
            <a:r>
              <a:rPr b="0" lang="en-US" sz="1300" spc="-1" strike="noStrike">
                <a:solidFill>
                  <a:srgbClr val="000000"/>
                </a:solidFill>
                <a:latin typeface="Verdana"/>
                <a:ea typeface="Arial Unicode MS"/>
              </a:rPr>
              <a:t> - Enclosures constructed (without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2K</a:t>
            </a:r>
            <a:r>
              <a:rPr b="0" lang="en-US" sz="1300" spc="-1" strike="noStrike">
                <a:solidFill>
                  <a:srgbClr val="000000"/>
                </a:solidFill>
                <a:latin typeface="Verdana"/>
                <a:ea typeface="Arial Unicode MS"/>
              </a:rPr>
              <a:t> - Enclosures constructed (with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3</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circulating dust, lint, fibres, and flyings; and against the spraying, splashing, and seepage of water, oil, and non-corrosive coolants.</a:t>
            </a:r>
            <a:br>
              <a:rPr sz="1300"/>
            </a:b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3" name="fig13" descr=""/>
          <p:cNvPicPr/>
          <p:nvPr/>
        </p:nvPicPr>
        <p:blipFill>
          <a:blip r:embed="rId1"/>
          <a:stretch/>
        </p:blipFill>
        <p:spPr>
          <a:xfrm>
            <a:off x="1219320" y="762120"/>
            <a:ext cx="67816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1600" spc="-1" strike="noStrike">
                <a:solidFill>
                  <a:srgbClr val="000000"/>
                </a:solidFill>
                <a:latin typeface="Arial"/>
                <a:ea typeface="Arial"/>
              </a:rPr>
              <a:t>Los equipos o aparatos calificados según esta norma llevarán marcado sobre su carcaza o caja el número de código correspondiente, siguiendo la disposición mostrada a continuació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fig7" descr=""/>
          <p:cNvPicPr/>
          <p:nvPr/>
        </p:nvPicPr>
        <p:blipFill>
          <a:blip r:embed="rId1"/>
          <a:stretch/>
        </p:blipFill>
        <p:spPr>
          <a:xfrm>
            <a:off x="914400" y="1600200"/>
            <a:ext cx="73915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 el caso de la primera cifra característica 3,4,5 ó 6 la protección contra acceso a partes energizadas se satisface si se mantiene la distancia adecuada.</a:t>
            </a:r>
            <a:br>
              <a:rPr sz="1600"/>
            </a:b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Los requerimientos de esta Tabla se aplicarán simultáneamente con los de la Tabla 1.II.</a:t>
            </a:r>
            <a:br>
              <a:rPr sz="1600"/>
            </a:br>
            <a:endParaRPr b="0" lang="en-US" sz="1600" spc="-1" strike="noStrike">
              <a:solidFill>
                <a:srgbClr val="000000"/>
              </a:solidFill>
              <a:latin typeface="Times New Roman"/>
            </a:endParaRPr>
          </a:p>
        </p:txBody>
      </p:sp>
      <p:pic>
        <p:nvPicPr>
          <p:cNvPr id="46" name="fig8" descr=""/>
          <p:cNvPicPr/>
          <p:nvPr/>
        </p:nvPicPr>
        <p:blipFill>
          <a:blip r:embed="rId1"/>
          <a:stretch/>
        </p:blipFill>
        <p:spPr>
          <a:xfrm>
            <a:off x="762120" y="160020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II</a:t>
            </a:r>
            <a:br>
              <a:rPr sz="1800"/>
            </a:b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fig9" descr=""/>
          <p:cNvPicPr/>
          <p:nvPr/>
        </p:nvPicPr>
        <p:blipFill>
          <a:blip r:embed="rId1"/>
          <a:stretch/>
        </p:blipFill>
        <p:spPr>
          <a:xfrm>
            <a:off x="2133720" y="1371600"/>
            <a:ext cx="487656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I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2" name="fig10" descr=""/>
          <p:cNvPicPr/>
          <p:nvPr/>
        </p:nvPicPr>
        <p:blipFill>
          <a:blip r:embed="rId1"/>
          <a:stretch/>
        </p:blipFill>
        <p:spPr>
          <a:xfrm>
            <a:off x="2133720" y="519120"/>
            <a:ext cx="4876560" cy="59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 chorro de agua se obtendrá de una boquilla de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 6,3 mm que entregará un caudal de 12,5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el diámetro del chorro será 40 mm a 2,5 m del objeto.</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dem 1 pero caudal será 100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y diámetro del chorro 120 mm a 2,5 m. En ambos casos, 1 y 2, el chorro se aplicará durante 3 minutos a una distancia 2,5 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d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3 m.</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a muestra se sumergirá en agua con una altura de 150 mm sobre su cubierta si h = (alto de la muestr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y (1000 – h) si h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Tiempo de la prueba 1 minuto, temperatura muestra = temperatura del agu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gunas normas consideran la aplicación de letras adicionales que refuerzan o aclaran la calidad del grado de protección de un equipo, o bien restringen su aplicación a cierto tipos de equipos o condiciones particulares de aplicación. Estos índices adicionales se detallan en las Tablas 1.iV y 1.V siguient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V</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fig11" descr=""/>
          <p:cNvPicPr/>
          <p:nvPr/>
        </p:nvPicPr>
        <p:blipFill>
          <a:blip r:embed="rId1"/>
          <a:stretch/>
        </p:blipFill>
        <p:spPr>
          <a:xfrm>
            <a:off x="2209680" y="20574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520"/>
            <a:ext cx="77724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fig12" descr=""/>
          <p:cNvPicPr/>
          <p:nvPr/>
        </p:nvPicPr>
        <p:blipFill>
          <a:blip r:embed="rId1"/>
          <a:stretch/>
        </p:blipFill>
        <p:spPr>
          <a:xfrm>
            <a:off x="2133720" y="16002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MA Enclosure Types</a:t>
            </a:r>
            <a:br>
              <a:rPr sz="1200"/>
            </a:br>
            <a:br>
              <a:rPr sz="1200"/>
            </a:br>
            <a:r>
              <a:rPr b="0" lang="en-US" sz="1200" spc="-1" strike="noStrike">
                <a:solidFill>
                  <a:srgbClr val="000000"/>
                </a:solidFill>
                <a:latin typeface="Verdana"/>
                <a:ea typeface="Arial Unicode MS"/>
              </a:rPr>
              <a:t>[From NEMA 250-1997]</a:t>
            </a:r>
            <a:br>
              <a:rPr sz="1200"/>
            </a:br>
            <a:r>
              <a:rPr b="0" lang="en-US" sz="1200" spc="-1" strike="noStrike">
                <a:solidFill>
                  <a:srgbClr val="000000"/>
                </a:solidFill>
                <a:latin typeface="Verdana"/>
                <a:ea typeface="Arial Unicode MS"/>
              </a:rPr>
              <a:t>In Non-Hazardous Locations, the specific enclosure Types, their applications, and the environmental conditions they are designed to protect against, when completely and properly installed, are as follows:</a:t>
            </a:r>
            <a:br>
              <a:rPr sz="1200"/>
            </a:br>
            <a:r>
              <a:rPr b="1" lang="en-US" sz="1200" spc="-1" strike="noStrike">
                <a:solidFill>
                  <a:srgbClr val="000000"/>
                </a:solidFill>
                <a:latin typeface="Verdana"/>
                <a:ea typeface="Arial Unicode MS"/>
              </a:rPr>
              <a:t>Type 1 </a:t>
            </a:r>
            <a:r>
              <a:rPr b="0" lang="en-US" sz="1200" spc="-1" strike="noStrike">
                <a:solidFill>
                  <a:srgbClr val="000000"/>
                </a:solidFill>
                <a:latin typeface="Verdana"/>
                <a:ea typeface="Arial Unicode MS"/>
              </a:rPr>
              <a:t>- Enclosures constructed for indoor use to provide a degree of protection to personnel against incidental contact with the enclosed equipment and to provide a degree of protection against falling dirt.</a:t>
            </a:r>
            <a:br>
              <a:rPr sz="1200"/>
            </a:br>
            <a:r>
              <a:rPr b="1" lang="en-US" sz="1200" spc="-1" strike="noStrike">
                <a:solidFill>
                  <a:srgbClr val="000000"/>
                </a:solidFill>
                <a:latin typeface="Verdana"/>
                <a:ea typeface="Arial Unicode MS"/>
              </a:rPr>
              <a:t>Type 2</a:t>
            </a:r>
            <a:r>
              <a:rPr b="0" lang="en-US" sz="12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nd to provide a degree of protection against dripping and light splashing of liquids.</a:t>
            </a:r>
            <a:br>
              <a:rPr sz="1200"/>
            </a:br>
            <a:r>
              <a:rPr b="1" lang="en-US" sz="1200" spc="-1" strike="noStrike">
                <a:solidFill>
                  <a:srgbClr val="000000"/>
                </a:solidFill>
                <a:latin typeface="Verdana"/>
                <a:ea typeface="Arial Unicode MS"/>
              </a:rPr>
              <a:t>Type 3</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that will be undamaged by the external formation of ice on the enclosure. </a:t>
            </a:r>
            <a:br>
              <a:rPr sz="1200"/>
            </a:br>
            <a:r>
              <a:rPr b="1" lang="en-US" sz="1200" spc="-1" strike="noStrike">
                <a:solidFill>
                  <a:srgbClr val="000000"/>
                </a:solidFill>
                <a:latin typeface="Verdana"/>
                <a:ea typeface="Arial Unicode MS"/>
              </a:rPr>
              <a:t>Type 3R</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and snow; and that will be undamaged by the external formation of ice on the enclosure.</a:t>
            </a:r>
            <a:br>
              <a:rPr sz="1200"/>
            </a:br>
            <a:r>
              <a:rPr b="1" lang="en-US" sz="1200" spc="-1" strike="noStrike">
                <a:solidFill>
                  <a:srgbClr val="000000"/>
                </a:solidFill>
                <a:latin typeface="Verdana"/>
                <a:ea typeface="Arial Unicode MS"/>
              </a:rPr>
              <a:t>Type 3S</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in which the external mechanism(s) remain operable when ice laden.</a:t>
            </a:r>
            <a:br>
              <a:rPr sz="1200"/>
            </a:br>
            <a:r>
              <a:rPr b="1" lang="en-US" sz="1200" spc="-1" strike="noStrike">
                <a:solidFill>
                  <a:srgbClr val="000000"/>
                </a:solidFill>
                <a:latin typeface="Verdana"/>
                <a:ea typeface="Arial Unicode MS"/>
              </a:rPr>
              <a:t>Type 4</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and hose-directed water; and that will be undamaged by the external formation of ice on the enclos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8:22:11Z</dcterms:created>
  <dc:creator>oriol</dc:creator>
  <dc:description/>
  <dc:language>en-US</dc:language>
  <cp:lastModifiedBy>oriol</cp:lastModifiedBy>
  <dcterms:modified xsi:type="dcterms:W3CDTF">2003-08-27T18:57:09Z</dcterms:modified>
  <cp:revision>1</cp:revision>
  <dc:subject/>
  <dc:title>GRADOS DE PROTECCIÓN DE CARCAZAS Y CAJAS DE EQUIPOS Y APARATOS </dc:title>
</cp:coreProperties>
</file>