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4459-25D4-4F04-8A06-E828FEBA5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2DF9-DF06-449D-A313-15C9B134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4EEC-8DCF-4F07-B195-E39CE313F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1136-57AF-4B05-A573-65577508E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FF76-3232-4A46-8CD6-D190AC8D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A763-7AE9-423B-9E4C-540559468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1E747-A15D-4450-9A61-358D9C8EA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D1052-8C88-4E16-B592-5EC30503B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A42A-D902-4647-893B-961B5051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7551-2A39-4704-8C93-E62E2B3C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B3A78-EA4C-4A27-BD65-414645661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9C06-C9FC-434D-AB60-119B265D0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C87F-03C7-4476-9931-173AD5EBB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65F47-A214-4C24-97C5-A0EE4AC3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0E00F-CC18-4C90-9EC8-100EA874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FF307-B2EA-4BA4-90F9-91CE3DE92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0895-8C9D-4BCC-9129-1E04977C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8577-3F6B-4F3D-99D7-B7237C495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5E5E-79C6-4E96-A8DB-3D386E589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C5CB-E89D-4250-8038-186342E04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FCB7-F90E-4096-9F33-22EFE160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32B0-E33A-4E01-8544-B595A4EA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183-7693-49AB-87DC-7618F429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D90F-2DEF-47EB-8AE1-E45EFF1F4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B6FF5-16C6-456F-84AC-97E4785FF89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DACEC-041D-4F4F-B454-BDDDDD3D3107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086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STABILID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680" y="152388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ANGU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FRECUENC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 TE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ERMANENTE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NSITOR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OS: MAQUINA- BARRA INFINI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CUACIONES DIFERENCIALE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aeaea"/>
                </a:solidFill>
                <a:latin typeface="Tahoma"/>
              </a:rPr>
              <a:t>Postfalla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830556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n t = tc se despeja la falla abriendo el circuito dañad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El sistema queda con un  circuit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e’= E’V/ X’ sen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X’ = X’d + Xt + XL  &gt; X     La reactancia del sistema postfalla es mayo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Se produce oscilación de ángulo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uede ser estable o inestabl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ACTORES DE ESTABILIDA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ER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CTANC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N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OTENCIA INICI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EMPO DE DESPE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eaeaea"/>
                </a:solidFill>
                <a:latin typeface="Tahoma"/>
              </a:rPr>
              <a:t>ESTABILIDAD TRANSITORIA  CRITERIO DE AREAS IGUALES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2280" y="114264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M 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/dt  =  M (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/d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)(d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/dt)  =  M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 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/d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=  1/2 M d( 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f  ) 2 / d </a:t>
            </a:r>
            <a:r>
              <a:rPr b="0" lang="de-DE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=  dEc/d</a:t>
            </a:r>
            <a:r>
              <a:rPr b="0" lang="es-E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 que se define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  Ec  =  ½ M (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)2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=  f- f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Pm – Pe =  dEc/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c =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( Pm – Pe )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c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0     hay desequilibrio de potencias en el intervalo [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 ,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m]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La energía Ec es nula si hay equilibrio cinético ya que f = f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Balance energético requiere que Ec se anu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c=0  si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 = 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34290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3429000"/>
            <a:ext cx="33526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2120" y="4343400"/>
            <a:ext cx="3429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14800" y="3429000"/>
            <a:ext cx="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9528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CORTOCIRCUITO 3</a:t>
            </a:r>
            <a:r>
              <a:rPr b="0" lang="en-US" sz="4000" spc="-1" strike="noStrike">
                <a:solidFill>
                  <a:srgbClr val="eaeaea"/>
                </a:solidFill>
                <a:latin typeface="Symbol"/>
                <a:ea typeface="Symbol"/>
              </a:rPr>
              <a:t></a:t>
            </a:r>
            <a:r>
              <a:rPr b="0" lang="en-US" sz="4000" spc="-1" strike="noStrike">
                <a:solidFill>
                  <a:srgbClr val="eaeaea"/>
                </a:solidFill>
                <a:latin typeface="Tahoma"/>
              </a:rPr>
              <a:t>.</a:t>
            </a: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5345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ORTOCIRCUITO 3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n t =  0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               Angulo Ini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CELERAC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n  t = tc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         Angulo de despeje                             (falla desaparec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REN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n t= tm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m         Angulo máxim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y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f=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Ec= 0     en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=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m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c  =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( Pm – Pe )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+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( Pm – Pe ) d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=  0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0                      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c                             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1                                   A2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1 = A2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ahoma"/>
              </a:rPr>
              <a:t>AREA DE ACELERACION = AREA DE FRENA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Curva potencia-ángulo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7619760" cy="43434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066680" y="3809880"/>
            <a:ext cx="72392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2120" y="380988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81080" y="2895480"/>
            <a:ext cx="0" cy="2895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819520"/>
            <a:ext cx="0" cy="2819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4572000"/>
            <a:ext cx="50292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76520" y="4572000"/>
            <a:ext cx="0" cy="11430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81280" y="2362320"/>
            <a:ext cx="0" cy="22096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5638680"/>
            <a:ext cx="640080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066680" y="2819520"/>
            <a:ext cx="0" cy="32004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4724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33526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133720" y="4952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8120" y="35812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A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19112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Tahoma"/>
              </a:rPr>
              <a:t>Pm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5715000"/>
            <a:ext cx="68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81080" y="5105520"/>
            <a:ext cx="609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76520" y="5638680"/>
            <a:ext cx="6858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19520" y="55627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556272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0" lang="es-ES" sz="1800" spc="-1" strike="noStrike">
                <a:solidFill>
                  <a:srgbClr val="000099"/>
                </a:solidFill>
                <a:latin typeface="Tahoma"/>
              </a:rPr>
              <a:t>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5486400"/>
            <a:ext cx="0" cy="22860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28195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43800" y="548640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533160" y="2286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                 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c  =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( Pm – Pe ) d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+    (A1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0                                        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+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( Pm – Pe ) d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=  0     (A2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                                                        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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1 = A2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REA DE ACELERACION = AREA DE 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FRENAD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ALLA 3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EN UN CIRCUITO DE LINEA  y apertura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971800" y="27432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24080" y="3124080"/>
            <a:ext cx="2819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0400" y="3657600"/>
            <a:ext cx="2666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943600" y="27432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362320" y="33526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609480" y="3048120"/>
            <a:ext cx="2056680" cy="685440"/>
            <a:chOff x="609480" y="3048120"/>
            <a:chExt cx="2056680" cy="685440"/>
          </a:xfrm>
        </p:grpSpPr>
        <p:grpSp>
          <p:nvGrpSpPr>
            <p:cNvPr id="152" name=""/>
            <p:cNvGrpSpPr/>
            <p:nvPr/>
          </p:nvGrpSpPr>
          <p:grpSpPr>
            <a:xfrm>
              <a:off x="1954440" y="3048120"/>
              <a:ext cx="711720" cy="685440"/>
              <a:chOff x="1954440" y="3048120"/>
              <a:chExt cx="711720" cy="685440"/>
            </a:xfrm>
          </p:grpSpPr>
          <p:sp>
            <p:nvSpPr>
              <p:cNvPr id="153" name=""/>
              <p:cNvSpPr/>
              <p:nvPr/>
            </p:nvSpPr>
            <p:spPr>
              <a:xfrm>
                <a:off x="2033640" y="3048120"/>
                <a:ext cx="31608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954440" y="3253680"/>
                <a:ext cx="395280" cy="13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954440" y="3391200"/>
                <a:ext cx="39528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2033640" y="3596760"/>
                <a:ext cx="316080" cy="136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349720" y="3048120"/>
                <a:ext cx="31644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270880" y="3253680"/>
                <a:ext cx="395280" cy="1371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70880" y="3391200"/>
                <a:ext cx="316080" cy="2055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270880" y="3596760"/>
                <a:ext cx="316080" cy="1368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1" name=""/>
            <p:cNvGrpSpPr/>
            <p:nvPr/>
          </p:nvGrpSpPr>
          <p:grpSpPr>
            <a:xfrm>
              <a:off x="609480" y="3048120"/>
              <a:ext cx="1423800" cy="617040"/>
              <a:chOff x="609480" y="3048120"/>
              <a:chExt cx="1423800" cy="617040"/>
            </a:xfrm>
          </p:grpSpPr>
          <p:sp>
            <p:nvSpPr>
              <p:cNvPr id="162" name=""/>
              <p:cNvSpPr/>
              <p:nvPr/>
            </p:nvSpPr>
            <p:spPr>
              <a:xfrm>
                <a:off x="609480" y="3048120"/>
                <a:ext cx="711720" cy="617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00760" y="3390480"/>
                <a:ext cx="6325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"/>
          <p:cNvSpPr/>
          <p:nvPr/>
        </p:nvSpPr>
        <p:spPr>
          <a:xfrm flipH="1">
            <a:off x="3276360" y="3657600"/>
            <a:ext cx="228600" cy="3808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276720" y="3885840"/>
            <a:ext cx="380880" cy="152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200400" y="3886200"/>
            <a:ext cx="457200" cy="6858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200400" y="4419720"/>
            <a:ext cx="76320" cy="15228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3200040" y="4343400"/>
            <a:ext cx="152280" cy="2286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3581280"/>
            <a:ext cx="76320" cy="1526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3048120"/>
            <a:ext cx="76320" cy="152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43200" y="3276720"/>
            <a:ext cx="76320" cy="152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33526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638680" y="3048120"/>
            <a:ext cx="76320" cy="15228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3581280"/>
            <a:ext cx="76320" cy="152640"/>
          </a:xfrm>
          <a:prstGeom prst="rect">
            <a:avLst/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65760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31240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aeaea"/>
                </a:solidFill>
                <a:latin typeface="Tahoma"/>
              </a:rPr>
              <a:t>Hay 3 períodos: Pretalla, en falla y postfall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g: generación to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Pm: potencia mecánica tot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X’d: reactancia transitor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Xt: reactancia transformad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XL: reactancia de línea doble circu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E’: tensión interna tras  X’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V: tensión barra infini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1.  Prefalla:     Pg =Pm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aeaea"/>
                </a:solidFill>
                <a:latin typeface="Tahoma"/>
              </a:rPr>
              <a:t>1.  Prefalla:     Pg =P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Pe = ( E’ V/X ) sen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Pm 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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c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                  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X= X’d + Xt + XL/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ahoma"/>
              </a:rPr>
              <a:t>En fall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t = 0  Falla        Pe=0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A1= Ec1 = Pm (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c- </a:t>
            </a:r>
            <a:r>
              <a:rPr b="1" lang="es-ES" sz="32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0  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ahoma"/>
              </a:rPr>
              <a:t>Malla de secuencia positiv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4T16:53:00Z</dcterms:created>
  <dc:creator>Óscar Moya</dc:creator>
  <dc:description/>
  <dc:language>en-US</dc:language>
  <cp:lastModifiedBy>Óscar Moya</cp:lastModifiedBy>
  <dcterms:modified xsi:type="dcterms:W3CDTF">2006-10-26T21:54:08Z</dcterms:modified>
  <cp:revision>8</cp:revision>
  <dc:subject/>
  <dc:title>                  ESTABILIDAD TRANSITORIA-        CRITERIO DE AREAS IGUALES</dc:title>
</cp:coreProperties>
</file>