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4456E-03CD-4AAC-8854-7AC70D689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69634-21FD-435A-BF85-D632BA527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887CE-F8A4-43B4-93A7-13FF77042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428CC-6655-4259-92D1-43F3A6EBA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F1380-7462-48A8-844B-A286173D8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AC160-825A-47B9-A9A0-5BA88D498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605CB-4878-40B1-BF48-FC18BB1F8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BAFB9-B894-4D46-934C-EF21FB873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99FFA-0170-4636-A5B7-902AC9440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DE78A-ED1E-48F8-AA65-0A3DE2E61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F2DD1-2708-46D1-B693-412E91785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35553-FE5D-469B-B0CD-FC029E8E7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A8197-4D6A-4DFF-BF37-2A42448A8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3AE19-8E5B-4D45-98A0-5EDC269A1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1B894-74CC-4FC8-B6CD-12F4CCF38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D516F-4E9B-4946-8808-9D41F844F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D2C9B-D77A-44BE-8C9A-9576146EA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C91EA-36ED-45EB-82C0-E18F8932C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50D94-33CC-4D8A-80D5-C9EB0658F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F48AE-8C09-472D-A126-79D9D835F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1E4F1-775B-40BB-AC7A-7B4591111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3C11B-BDB1-41F8-905E-FD72944FA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4C19F-324D-4F03-80A2-70DD9286D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62490-B376-4A83-87CC-8F1D47994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93C34-FB98-4BEA-9AEF-1076D2947209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3A94C-6F07-4086-8007-C722F7C711A0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30492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ESTABILIDAD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066680" y="152388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 ANGUL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 FRECUENCI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 TENS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ERMANENTE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RANSITORI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DELOS: MAQUINA- BARRA INFINIT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CUACIONES DIFERENCIALES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eaeaea"/>
                </a:solidFill>
                <a:latin typeface="Tahoma"/>
              </a:rPr>
              <a:t>Postfalla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830556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En t = tc se despeja la falla abriendo el circuito dañad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El sistema queda con un  circuito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Pe’= E’V/ X’ sen </a:t>
            </a:r>
            <a:r>
              <a:rPr b="1" lang="es-ES" sz="32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X’ = X’d + Xt + XL  &gt; X     La reactancia del sistema postfalla es mayo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Se produce oscilación de ángulo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Puede ser estable o inestabl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FACTORES DE ESTABILIDAD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ERC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ACTANC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ENS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TENCIA INICI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IEMPO DE DESPEJ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ESTABILIDAD TRANSITORIA  CRITERIO DE AREAS IGUALES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52280" y="1142640"/>
            <a:ext cx="86868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M d</a:t>
            </a:r>
            <a:r>
              <a:rPr b="0" lang="es-ES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f/dt  =  M (d</a:t>
            </a:r>
            <a:r>
              <a:rPr b="0" lang="es-ES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f/d</a:t>
            </a:r>
            <a:r>
              <a:rPr b="0" lang="de-DE" sz="24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)(d</a:t>
            </a:r>
            <a:r>
              <a:rPr b="0" lang="de-DE" sz="24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/dt)  =  M </a:t>
            </a:r>
            <a:r>
              <a:rPr b="0" lang="es-ES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f d</a:t>
            </a:r>
            <a:r>
              <a:rPr b="0" lang="es-ES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f/d </a:t>
            </a:r>
            <a:r>
              <a:rPr b="0" lang="de-DE" sz="24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                </a:t>
            </a: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=  1/2 M d( </a:t>
            </a:r>
            <a:r>
              <a:rPr b="0" lang="es-ES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f  ) 2 / d </a:t>
            </a:r>
            <a:r>
              <a:rPr b="0" lang="de-DE" sz="24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                 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=  dEc/d</a:t>
            </a:r>
            <a:r>
              <a:rPr b="0" lang="es-ES" sz="24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En que se define</a:t>
            </a: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     Ec  =  ½ M (</a:t>
            </a:r>
            <a:r>
              <a:rPr b="1" lang="es-ES" sz="2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f)2       </a:t>
            </a:r>
            <a:r>
              <a:rPr b="1" lang="es-ES" sz="2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f=  f- f0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Pm – Pe =  dEc/ d</a:t>
            </a:r>
            <a:r>
              <a:rPr b="1" lang="es-ES" sz="20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                 </a:t>
            </a:r>
            <a:r>
              <a:rPr b="1" lang="es-ES" sz="20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m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n-GB" sz="2000" spc="-1" strike="noStrike">
                <a:solidFill>
                  <a:srgbClr val="ffffff"/>
                </a:solidFill>
                <a:latin typeface="Symbol"/>
                <a:ea typeface="Symbol"/>
              </a:rPr>
              <a:t></a:t>
            </a: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Ec =     </a:t>
            </a:r>
            <a:r>
              <a:rPr b="1" lang="es-ES" sz="2000" spc="-1" strike="noStrike">
                <a:solidFill>
                  <a:srgbClr val="ffffff"/>
                </a:solidFill>
                <a:latin typeface="Symbol"/>
                <a:ea typeface="Symbol"/>
              </a:rPr>
              <a:t></a:t>
            </a: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 ( Pm – Pe ) d</a:t>
            </a:r>
            <a:r>
              <a:rPr b="1" lang="es-ES" sz="20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                 </a:t>
            </a:r>
            <a:r>
              <a:rPr b="1" lang="es-ES" sz="20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Ec </a:t>
            </a:r>
            <a:r>
              <a:rPr b="1" lang="es-ES" sz="2000" spc="-1" strike="noStrike">
                <a:solidFill>
                  <a:srgbClr val="ffffff"/>
                </a:solidFill>
                <a:latin typeface="Symbol"/>
                <a:ea typeface="Symbol"/>
              </a:rPr>
              <a:t></a:t>
            </a: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 0     hay desequilibrio de potencias en el intervalo [</a:t>
            </a:r>
            <a:r>
              <a:rPr b="1" lang="es-ES" sz="20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0 , </a:t>
            </a:r>
            <a:r>
              <a:rPr b="1" lang="es-ES" sz="20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m]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La energía Ec es nula si hay equilibrio cinético ya que f = f0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Balance energético requiere que Ec se anul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Ec=0  si   </a:t>
            </a:r>
            <a:r>
              <a:rPr b="1" lang="es-ES" sz="2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f = 0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62120" y="3429000"/>
            <a:ext cx="0" cy="914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62120" y="3429000"/>
            <a:ext cx="33526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62120" y="4343400"/>
            <a:ext cx="3429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14800" y="3429000"/>
            <a:ext cx="0" cy="914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066680" y="4952880"/>
            <a:ext cx="152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320" y="304920"/>
            <a:ext cx="7543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Tahoma"/>
              </a:rPr>
              <a:t>CORTOCIRCUITO 3</a:t>
            </a:r>
            <a:r>
              <a:rPr b="0" lang="en-US" sz="4000" spc="-1" strike="noStrike">
                <a:solidFill>
                  <a:srgbClr val="eaeaea"/>
                </a:solidFill>
                <a:latin typeface="Symbol"/>
                <a:ea typeface="Symbol"/>
              </a:rPr>
              <a:t></a:t>
            </a:r>
            <a:r>
              <a:rPr b="0" lang="en-US" sz="4000" spc="-1" strike="noStrike">
                <a:solidFill>
                  <a:srgbClr val="eaeaea"/>
                </a:solidFill>
                <a:latin typeface="Tahoma"/>
              </a:rPr>
              <a:t>.</a:t>
            </a:r>
            <a:br>
              <a:rPr sz="4000"/>
            </a:b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914040"/>
            <a:ext cx="85345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CORTOCIRCUITO 3</a:t>
            </a:r>
            <a:r>
              <a:rPr b="1" lang="es-ES" sz="2000" spc="-1" strike="noStrike">
                <a:solidFill>
                  <a:srgbClr val="ffffff"/>
                </a:solidFill>
                <a:latin typeface="Symbol"/>
                <a:ea typeface="Symbol"/>
              </a:rPr>
              <a:t></a:t>
            </a: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En t =  0          </a:t>
            </a:r>
            <a:r>
              <a:rPr b="1" lang="es-ES" sz="20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 = </a:t>
            </a:r>
            <a:r>
              <a:rPr b="1" lang="es-ES" sz="20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0               Angulo Inici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ACELERAC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En  t = tc           </a:t>
            </a:r>
            <a:r>
              <a:rPr b="1" lang="es-ES" sz="20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 =  </a:t>
            </a:r>
            <a:r>
              <a:rPr b="1" lang="es-ES" sz="20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c         Angulo de despeje                             (falla desaparece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FRENAD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En t= tm            </a:t>
            </a:r>
            <a:r>
              <a:rPr b="1" lang="es-ES" sz="20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 =  </a:t>
            </a:r>
            <a:r>
              <a:rPr b="1" lang="es-ES" sz="20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 m         Angulo máxim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y                        </a:t>
            </a:r>
            <a:r>
              <a:rPr b="1" lang="es-ES" sz="2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f=0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Symbol"/>
                <a:ea typeface="Symbol"/>
              </a:rPr>
              <a:t></a:t>
            </a: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Ec= 0     en   </a:t>
            </a:r>
            <a:r>
              <a:rPr b="1" lang="es-ES" sz="20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 =  </a:t>
            </a:r>
            <a:r>
              <a:rPr b="1" lang="es-ES" sz="20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 m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             </a:t>
            </a:r>
            <a:r>
              <a:rPr b="1" lang="es-ES" sz="20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c                                 </a:t>
            </a:r>
            <a:r>
              <a:rPr b="1" lang="es-ES" sz="20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 m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Ec  =     </a:t>
            </a:r>
            <a:r>
              <a:rPr b="1" lang="es-ES" sz="2000" spc="-1" strike="noStrike">
                <a:solidFill>
                  <a:srgbClr val="ffffff"/>
                </a:solidFill>
                <a:latin typeface="Symbol"/>
                <a:ea typeface="Symbol"/>
              </a:rPr>
              <a:t></a:t>
            </a: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  ( Pm – Pe ) d</a:t>
            </a:r>
            <a:r>
              <a:rPr b="1" lang="es-ES" sz="20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   +    </a:t>
            </a:r>
            <a:r>
              <a:rPr b="1" lang="es-ES" sz="2000" spc="-1" strike="noStrike">
                <a:solidFill>
                  <a:srgbClr val="ffffff"/>
                </a:solidFill>
                <a:latin typeface="Symbol"/>
                <a:ea typeface="Symbol"/>
              </a:rPr>
              <a:t></a:t>
            </a: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   ( Pm – Pe ) d</a:t>
            </a:r>
            <a:r>
              <a:rPr b="1" lang="es-ES" sz="20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  =  0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             </a:t>
            </a:r>
            <a:r>
              <a:rPr b="1" lang="es-ES" sz="20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0                                                    </a:t>
            </a:r>
            <a:r>
              <a:rPr b="1" lang="es-ES" sz="20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c                              </a:t>
            </a: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A1                                   A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A1 = A2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AREA DE ACELERACION = AREA DE FRENAD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Curva potencia-ángulo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762120" y="1600200"/>
            <a:ext cx="7619760" cy="43434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1066680" y="3809880"/>
            <a:ext cx="72392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762120" y="3809880"/>
            <a:ext cx="3045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981080" y="2895480"/>
            <a:ext cx="0" cy="2895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895480" y="2819520"/>
            <a:ext cx="0" cy="281916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066680" y="4572000"/>
            <a:ext cx="502920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676520" y="4572000"/>
            <a:ext cx="0" cy="114300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81280" y="2362320"/>
            <a:ext cx="0" cy="220968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066680" y="5638680"/>
            <a:ext cx="640080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1066680" y="2819520"/>
            <a:ext cx="0" cy="320040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209680" y="47242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429000" y="33526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133720" y="49528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Tahoma"/>
              </a:rPr>
              <a:t>A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048120" y="35812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Tahoma"/>
              </a:rPr>
              <a:t>A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419112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Tahoma"/>
              </a:rPr>
              <a:t>Pm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752480" y="5715000"/>
            <a:ext cx="68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981080" y="5105520"/>
            <a:ext cx="6098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676520" y="5638680"/>
            <a:ext cx="6858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Symbol"/>
                <a:ea typeface="Symbol"/>
              </a:rPr>
              <a:t></a:t>
            </a: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819520" y="55627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99"/>
                </a:solidFill>
                <a:latin typeface="Symbol"/>
                <a:ea typeface="Symbol"/>
              </a:rPr>
              <a:t></a:t>
            </a:r>
            <a:r>
              <a:rPr b="0" lang="es-ES" sz="1800" spc="-1" strike="noStrike">
                <a:solidFill>
                  <a:srgbClr val="000099"/>
                </a:solidFill>
                <a:latin typeface="Tahoma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05320" y="556272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99"/>
                </a:solidFill>
                <a:latin typeface="Symbol"/>
                <a:ea typeface="Symbol"/>
              </a:rPr>
              <a:t></a:t>
            </a:r>
            <a:r>
              <a:rPr b="0" lang="es-ES" sz="1800" spc="-1" strike="noStrike">
                <a:solidFill>
                  <a:srgbClr val="000099"/>
                </a:solidFill>
                <a:latin typeface="Tahoma"/>
              </a:rPr>
              <a:t>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581280" y="5486400"/>
            <a:ext cx="0" cy="22860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28195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543800" y="548640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Symbol"/>
                <a:ea typeface="Symbol"/>
              </a:rPr>
              <a:t>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533160" y="228600"/>
            <a:ext cx="838188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1" lang="es-ES" sz="32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c                   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Ec  =  </a:t>
            </a:r>
            <a:r>
              <a:rPr b="1" lang="es-ES" sz="3200" spc="-1" strike="noStrike">
                <a:solidFill>
                  <a:srgbClr val="ffffff"/>
                </a:solidFill>
                <a:latin typeface="Symbol"/>
                <a:ea typeface="Symbol"/>
              </a:rPr>
              <a:t></a:t>
            </a: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 ( Pm – Pe ) d</a:t>
            </a:r>
            <a:r>
              <a:rPr b="1" lang="es-ES" sz="32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   +    (A1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1" lang="es-ES" sz="32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0                                                            </a:t>
            </a: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                 </a:t>
            </a: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es-ES" sz="32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 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+   </a:t>
            </a:r>
            <a:r>
              <a:rPr b="1" lang="es-ES" sz="3200" spc="-1" strike="noStrike">
                <a:solidFill>
                  <a:srgbClr val="ffffff"/>
                </a:solidFill>
                <a:latin typeface="Symbol"/>
                <a:ea typeface="Symbol"/>
              </a:rPr>
              <a:t></a:t>
            </a: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   ( Pm – Pe ) d</a:t>
            </a:r>
            <a:r>
              <a:rPr b="1" lang="es-ES" sz="32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  =  0     (A2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1" lang="es-ES" sz="32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c                                                          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               </a:t>
            </a:r>
            <a:r>
              <a:rPr b="1" lang="es-ES" sz="3200" spc="-1" strike="noStrike">
                <a:solidFill>
                  <a:srgbClr val="ffffff"/>
                </a:solidFill>
                <a:latin typeface="Symbol"/>
                <a:ea typeface="Symbol"/>
              </a:rPr>
              <a:t>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A1 = A2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AREA DE ACELERACION = AREA DE   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FRENAD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1066320" y="914040"/>
            <a:ext cx="7543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FALLA 3 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 EN UN CIRCUITO DE LINEA  y apertura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"/>
          <p:cNvSpPr/>
          <p:nvPr/>
        </p:nvSpPr>
        <p:spPr>
          <a:xfrm>
            <a:off x="2971800" y="2743200"/>
            <a:ext cx="0" cy="1371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124080" y="3124080"/>
            <a:ext cx="2819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0400" y="3657600"/>
            <a:ext cx="2666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943600" y="2743200"/>
            <a:ext cx="0" cy="1447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362320" y="335268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609480" y="3048120"/>
            <a:ext cx="2056680" cy="685440"/>
            <a:chOff x="609480" y="3048120"/>
            <a:chExt cx="2056680" cy="685440"/>
          </a:xfrm>
        </p:grpSpPr>
        <p:grpSp>
          <p:nvGrpSpPr>
            <p:cNvPr id="152" name=""/>
            <p:cNvGrpSpPr/>
            <p:nvPr/>
          </p:nvGrpSpPr>
          <p:grpSpPr>
            <a:xfrm>
              <a:off x="1954440" y="3048120"/>
              <a:ext cx="711720" cy="685440"/>
              <a:chOff x="1954440" y="3048120"/>
              <a:chExt cx="711720" cy="685440"/>
            </a:xfrm>
          </p:grpSpPr>
          <p:sp>
            <p:nvSpPr>
              <p:cNvPr id="153" name=""/>
              <p:cNvSpPr/>
              <p:nvPr/>
            </p:nvSpPr>
            <p:spPr>
              <a:xfrm>
                <a:off x="2033640" y="3048120"/>
                <a:ext cx="316080" cy="2055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 flipH="1">
                <a:off x="1954440" y="3253680"/>
                <a:ext cx="395280" cy="1371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1954440" y="3391200"/>
                <a:ext cx="395280" cy="2055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 flipH="1">
                <a:off x="2033640" y="3596760"/>
                <a:ext cx="316080" cy="1368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2349720" y="3048120"/>
                <a:ext cx="316440" cy="2055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flipH="1">
                <a:off x="2270880" y="3253680"/>
                <a:ext cx="395280" cy="1371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2270880" y="3391200"/>
                <a:ext cx="316080" cy="2055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>
                <a:off x="2270880" y="3596760"/>
                <a:ext cx="316080" cy="1368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61" name=""/>
            <p:cNvGrpSpPr/>
            <p:nvPr/>
          </p:nvGrpSpPr>
          <p:grpSpPr>
            <a:xfrm>
              <a:off x="609480" y="3048120"/>
              <a:ext cx="1423800" cy="617040"/>
              <a:chOff x="609480" y="3048120"/>
              <a:chExt cx="1423800" cy="617040"/>
            </a:xfrm>
          </p:grpSpPr>
          <p:sp>
            <p:nvSpPr>
              <p:cNvPr id="162" name=""/>
              <p:cNvSpPr/>
              <p:nvPr/>
            </p:nvSpPr>
            <p:spPr>
              <a:xfrm>
                <a:off x="609480" y="3048120"/>
                <a:ext cx="711720" cy="6170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1400760" y="3390480"/>
                <a:ext cx="6325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64" name=""/>
          <p:cNvSpPr/>
          <p:nvPr/>
        </p:nvSpPr>
        <p:spPr>
          <a:xfrm flipH="1">
            <a:off x="3276360" y="3657600"/>
            <a:ext cx="228600" cy="38088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276720" y="3885840"/>
            <a:ext cx="380880" cy="15228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3200400" y="3886200"/>
            <a:ext cx="457200" cy="68580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3200400" y="4419720"/>
            <a:ext cx="76320" cy="15228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3200040" y="4343400"/>
            <a:ext cx="152280" cy="22860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200400" y="3581280"/>
            <a:ext cx="76320" cy="15264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200400" y="3048120"/>
            <a:ext cx="76320" cy="15228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43200" y="3276720"/>
            <a:ext cx="76320" cy="15228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19520" y="335268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638680" y="3048120"/>
            <a:ext cx="76320" cy="15228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638680" y="3581280"/>
            <a:ext cx="76320" cy="15264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971800" y="365760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312408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eaeaea"/>
                </a:solidFill>
                <a:latin typeface="Tahoma"/>
              </a:rPr>
              <a:t>Hay 3 períodos: Pretalla, en falla y postfalla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Pg: generación tot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Pm: potencia mecánica tot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X’d: reactancia transitori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Xt: reactancia transformador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XL: reactancia de línea doble circuit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E’: tensión interna tras  X’d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V: tensión barra infinit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1.  Prefalla:     Pg =Pm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066320" y="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eaeaea"/>
                </a:solidFill>
                <a:latin typeface="Tahoma"/>
              </a:rPr>
              <a:t>1.  Prefalla:     Pg =Pm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                    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Pe = ( E’ V/X ) sen </a:t>
            </a:r>
            <a:r>
              <a:rPr b="1" lang="es-ES" sz="32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                    </a:t>
            </a: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Pm  </a:t>
            </a:r>
            <a:r>
              <a:rPr b="1" lang="es-ES" sz="3200" spc="-1" strike="noStrike">
                <a:solidFill>
                  <a:srgbClr val="ffffff"/>
                </a:solidFill>
                <a:latin typeface="Symbol"/>
                <a:ea typeface="Symbol"/>
              </a:rPr>
              <a:t></a:t>
            </a: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  ct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                    </a:t>
            </a: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X= X’d + Xt + XL/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ahoma"/>
              </a:rPr>
              <a:t>En falla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t = 0  Falla        Pe=0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A1= Ec1 = Pm (</a:t>
            </a:r>
            <a:r>
              <a:rPr b="1" lang="es-ES" sz="32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c- </a:t>
            </a:r>
            <a:r>
              <a:rPr b="1" lang="es-ES" sz="32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0  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Malla de secuencia positiva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4T16:53:00Z</dcterms:created>
  <dc:creator>Óscar Moya</dc:creator>
  <dc:description/>
  <dc:language>en-US</dc:language>
  <cp:lastModifiedBy>Óscar Moya</cp:lastModifiedBy>
  <dcterms:modified xsi:type="dcterms:W3CDTF">2006-10-26T21:54:08Z</dcterms:modified>
  <cp:revision>8</cp:revision>
  <dc:subject/>
  <dc:title>                  ESTABILIDAD TRANSITORIA-        CRITERIO DE AREAS IGUALES</dc:title>
</cp:coreProperties>
</file>