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2C7-18FE-45E0-9798-7D2D27AD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14C-08C7-4887-ADE4-39E2B87C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E79-3D5A-4913-817F-04708E24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6AB-EAD0-4200-9CAD-93FFF3F5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B52E-817F-4365-990C-233A5B24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2DA3-4127-42F8-A236-7B4C4F18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68CB-5ABC-4CCF-BA97-06DD05C6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7024-C1C7-4945-B86A-F957DC96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AEEE-0A7A-4F96-BDB3-4F2E14B7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C08B-11BE-47D7-B123-BF558A53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E742-8BB6-451D-835F-BEBB7A32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346-2B3B-4FD5-B88E-A6EAAB94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8305-7D2B-44AB-9D40-2F0E58C1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B004-42A6-4342-821D-C0346F77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4C81-AFD9-4047-95A4-BE71855C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6DFE-9244-44A7-B623-6A00432D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39DF-5C0F-4E7D-B9FC-C0A6D01B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F80-BBB6-4B6B-9011-BBCA0C7F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580-5066-4F45-9F74-9C741B86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234-7B4A-4835-BADC-74192A02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9FF-6C9A-445D-A90F-578E6A9F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A38-86C9-4869-AAF8-3C559BE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D7B-F1E0-4D57-A292-35E609A7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9BF-69A4-4FB4-996B-734A7123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8645-102F-4181-A5F1-943E6520132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C7F2-2753-4ED0-9978-6DACD254CBD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STABIL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ANG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FRECU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NENTE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OS: MAQUINA- BARRA INFIN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UACIONES DIFERENCIAL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Tahoma"/>
              </a:rPr>
              <a:t>Postfall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t = tc se despeja la falla abriendo el circuito dañ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sistema queda con un  circui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’= E’V/ X’ sen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X’ = X’d + Xt + XL  &gt; X     La reactancia del sistema postfalla es may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e produce oscilación de ángul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uede ser estable o ines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TORES DE ESTABIL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ER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ENCIA INI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MPO DE DESPE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ESTABILIDAD TRANSITORIA  CRITERIO DE AREAS IGUALE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M 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t  =  M (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)(d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/dt)  =  M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 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=  1/2 M d(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  ) 2 / d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=  dEc/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 que se define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Ec  =  ½ M (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)2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=  f- f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m – Pe =  dEc/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c =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0     hay desequilibrio de potencias en el intervalo [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a energía Ec es nula si hay equilibrio cinético ya que f = f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alance energético requiere que Ec se an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=0  si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4290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3434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9528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CORTOCIRCUITO 3</a:t>
            </a:r>
            <a:r>
              <a:rPr b="0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RTOCIRCUITO 3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t =  0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              Angulo In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CELERAC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 t = tc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Angulo de despeje                             (falla desapare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RE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t= tm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         Angulo máxi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y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=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= 0     en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c  =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+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=  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   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1                                   A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1 = A2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REA DE ACELERACION = AREA DE FRE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urva potencia-ángu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343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2120" y="3809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28954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0" cy="28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4572000"/>
            <a:ext cx="0" cy="1143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62320"/>
            <a:ext cx="0" cy="2209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5638680"/>
            <a:ext cx="64008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66680" y="2819520"/>
            <a:ext cx="0" cy="3200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952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191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m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7150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1055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5638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562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5562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5486400"/>
            <a:ext cx="0" cy="228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5486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c  =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( Pm – Pe ) d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+    (A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0                                        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+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( Pm – Pe ) d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=  0     (A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                 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1 = A2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REA DE ACELERACION = AREA DE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FREN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ALLA 3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EN UN CIRCUITO DE LINEA  y apertur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2743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124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6576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27432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480" y="3048120"/>
            <a:ext cx="2056680" cy="685440"/>
            <a:chOff x="609480" y="3048120"/>
            <a:chExt cx="2056680" cy="685440"/>
          </a:xfrm>
        </p:grpSpPr>
        <p:grpSp>
          <p:nvGrpSpPr>
            <p:cNvPr id="152" name=""/>
            <p:cNvGrpSpPr/>
            <p:nvPr/>
          </p:nvGrpSpPr>
          <p:grpSpPr>
            <a:xfrm>
              <a:off x="1954440" y="3048120"/>
              <a:ext cx="711720" cy="685440"/>
              <a:chOff x="1954440" y="3048120"/>
              <a:chExt cx="711720" cy="685440"/>
            </a:xfrm>
          </p:grpSpPr>
          <p:sp>
            <p:nvSpPr>
              <p:cNvPr id="153" name=""/>
              <p:cNvSpPr/>
              <p:nvPr/>
            </p:nvSpPr>
            <p:spPr>
              <a:xfrm>
                <a:off x="2033640" y="3048120"/>
                <a:ext cx="3160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954440" y="3253680"/>
                <a:ext cx="395280" cy="13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54440" y="3391200"/>
                <a:ext cx="3952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033640" y="3596760"/>
                <a:ext cx="316080" cy="13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49720" y="3048120"/>
                <a:ext cx="31644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270880" y="3253680"/>
                <a:ext cx="395280" cy="13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70880" y="3391200"/>
                <a:ext cx="3160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270880" y="3596760"/>
                <a:ext cx="316080" cy="13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09480" y="3048120"/>
              <a:ext cx="1423800" cy="617040"/>
              <a:chOff x="609480" y="3048120"/>
              <a:chExt cx="1423800" cy="617040"/>
            </a:xfrm>
          </p:grpSpPr>
          <p:sp>
            <p:nvSpPr>
              <p:cNvPr id="162" name=""/>
              <p:cNvSpPr/>
              <p:nvPr/>
            </p:nvSpPr>
            <p:spPr>
              <a:xfrm>
                <a:off x="609480" y="3048120"/>
                <a:ext cx="711720" cy="61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00760" y="3390480"/>
                <a:ext cx="63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 flipH="1">
            <a:off x="3276360" y="36576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76720" y="3885840"/>
            <a:ext cx="380880" cy="15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200400" y="3886200"/>
            <a:ext cx="4572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0400" y="4419720"/>
            <a:ext cx="7632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200040" y="4343400"/>
            <a:ext cx="15228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581280"/>
            <a:ext cx="76320" cy="152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0481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2767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33526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30481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3581280"/>
            <a:ext cx="76320" cy="152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124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Tahoma"/>
              </a:rPr>
              <a:t>Hay 3 períodos: Pretalla, en falla y postfal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g: generación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m: potencia mecánica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’d: reactancia transi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t: reactancia transform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L: reactancia de línea doble circu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’: tensión interna tras  X’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V: tensión barra infin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1.  Prefalla:     Pg =P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Tahoma"/>
              </a:rPr>
              <a:t>1.  Prefalla:     Pg =P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 = ( E’ V/X ) sen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m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c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X= X’d + Xt + XL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n fal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t = 0  Falla        Pe=0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1= Ec1 = Pm (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-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0 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alla de secuencia positiv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6:53:00Z</dcterms:created>
  <dc:creator>Óscar Moya</dc:creator>
  <dc:description/>
  <dc:language>en-US</dc:language>
  <cp:lastModifiedBy>Óscar Moya</cp:lastModifiedBy>
  <dcterms:modified xsi:type="dcterms:W3CDTF">2006-10-26T21:54:08Z</dcterms:modified>
  <cp:revision>8</cp:revision>
  <dc:subject/>
  <dc:title>                  ESTABILIDAD TRANSITORIA-        CRITERIO DE AREAS IGUALES</dc:title>
</cp:coreProperties>
</file>