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44B-5F48-4FAC-976C-0852EF49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EE2-EAC0-4DF1-AB1E-DB2C06BE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4C8-59C2-495E-AC55-545A3CD5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566-124D-45F6-A1EF-7CF6F37A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E70A-681E-4B91-919B-CA765C8B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CBE0-2637-4F9A-A830-0E2F18B6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D910-23D5-460B-87FD-7518E453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1215-D121-4587-A52D-EB3F4A29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FF47-E228-4AC0-998A-1EC30D1A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4BD9-F1B9-429A-94B2-571720F2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43E7-B58C-4085-93E7-C5578B29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324-5F6C-412B-949F-0640C746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041B-92EB-4CEB-81A2-41702CA5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601E-2C61-487B-BE43-B47BED5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E8A0-34C8-4E7B-92F2-52CAFA7A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AF8D-DA72-4CCD-B6C8-A9D0FAE7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962F-F32B-400A-B03B-13D40529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016-E78E-46BC-82B0-34A630A4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B57-A791-4559-A2C6-F30E0FA4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D2B-B7D8-4790-B229-6D9ADBCB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811-FB06-41F1-AAB0-9C588FBB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803-9EBE-4B39-B272-F148F267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8B9-2D27-47FD-8F2E-12CFD8B1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D55-742A-4884-85A3-1E8975D6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610A-6097-4F7B-A259-E53C4F1253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7FFF-10DA-407B-A37E-EA74B79092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ANG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FR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OS: MAQUINA- BARRA INFIN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UACIONES DIFERENCIAL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Postfall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t = tc se despeja la falla abriendo el circuito dañ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sistema queda con un  circui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’= E’V/ X’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X’ = X’d + Xt + XL  &gt; X     La reactancia del sistema postfalla es may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e produce oscilación de ángu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uede ser estable o ines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ORES DE 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ER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ENCIA INI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MPO DE DESP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STABILIDAD TRANSITORIA  CRITERIO DE AREAS IGUALE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t  =  M (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(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/dt)  =  M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=  1/2 M d(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 ) 2 / 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=  dEc/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 que se define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Ec  =  ½ M (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)2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  f- f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m – Pe =  dEc/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0     hay desequilibrio de potencias en el intervalo [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a energía Ec es nula si hay equilibrio cinético ya que f = f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alance energético requiere que Ec se an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0  si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4290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343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CORTOCIRCUITO 3</a:t>
            </a:r>
            <a:r>
              <a:rPr b="0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RTOCIRCUITO 3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 =  0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Angulo In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CELERAC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 t = tc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Angulo de despeje                             (falla desapare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= tm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       Angulo máx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y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 0     en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+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=  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                                  A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EA DE ACELERACION = AREA DE 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urva potencia-ángu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21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8954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0" cy="28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572000"/>
            <a:ext cx="0" cy="1143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62320"/>
            <a:ext cx="0" cy="220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63868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819520"/>
            <a:ext cx="0" cy="3200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95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191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m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715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1055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5638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48640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c  =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+    (A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                         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+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=  0     (A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REA DE ACELERACION = AREA DE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LLA 3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EN UN CIRCUITO DE LINEA  y apertur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124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6576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743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3048120"/>
            <a:ext cx="2056680" cy="685440"/>
            <a:chOff x="609480" y="3048120"/>
            <a:chExt cx="2056680" cy="685440"/>
          </a:xfrm>
        </p:grpSpPr>
        <p:grpSp>
          <p:nvGrpSpPr>
            <p:cNvPr id="152" name=""/>
            <p:cNvGrpSpPr/>
            <p:nvPr/>
          </p:nvGrpSpPr>
          <p:grpSpPr>
            <a:xfrm>
              <a:off x="1954440" y="3048120"/>
              <a:ext cx="711720" cy="685440"/>
              <a:chOff x="1954440" y="3048120"/>
              <a:chExt cx="711720" cy="685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033640" y="304812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95444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54440" y="3391200"/>
                <a:ext cx="3952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03364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720" y="3048120"/>
                <a:ext cx="31644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7088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70880" y="339120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7088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9480" y="3048120"/>
              <a:ext cx="1423800" cy="617040"/>
              <a:chOff x="609480" y="3048120"/>
              <a:chExt cx="1423800" cy="617040"/>
            </a:xfrm>
          </p:grpSpPr>
          <p:sp>
            <p:nvSpPr>
              <p:cNvPr id="162" name=""/>
              <p:cNvSpPr/>
              <p:nvPr/>
            </p:nvSpPr>
            <p:spPr>
              <a:xfrm>
                <a:off x="609480" y="3048120"/>
                <a:ext cx="711720" cy="61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00760" y="3390480"/>
                <a:ext cx="63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 flipH="1">
            <a:off x="3276360" y="36576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76720" y="3885840"/>
            <a:ext cx="38088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00400" y="3886200"/>
            <a:ext cx="4572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0400" y="4419720"/>
            <a:ext cx="7632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00040" y="434340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2767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352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124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Hay 3 períodos: Pretalla, en falla y post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g: generación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m: potencia mecánica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’d: reactancia transi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t: reactancia transform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L: reactancia de línea doble circu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’: tensión interna tras  X’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: tensión barra infin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1.  Prefalla:     Pg =P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1.  Prefalla:     Pg =P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 = ( E’ V/X )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m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c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X= X’d + Xt + XL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n 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 = 0  Falla        Pe=0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= Ec1 = Pm (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-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alla de secuencia positi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6:53:00Z</dcterms:created>
  <dc:creator>Óscar Moya</dc:creator>
  <dc:description/>
  <dc:language>en-US</dc:language>
  <cp:lastModifiedBy>Óscar Moya</cp:lastModifiedBy>
  <dcterms:modified xsi:type="dcterms:W3CDTF">2006-10-26T21:54:08Z</dcterms:modified>
  <cp:revision>8</cp:revision>
  <dc:subject/>
  <dc:title>                  ESTABILIDAD TRANSITORIA-        CRITERIO DE AREAS IGUALES</dc:title>
</cp:coreProperties>
</file>