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gif" ContentType="image/gif"/>
  <Override PartName="/ppt/media/image7.png" ContentType="image/png"/>
  <Override PartName="/ppt/media/image12.png" ContentType="image/png"/>
  <Override PartName="/ppt/media/image4.gif" ContentType="image/gif"/>
  <Override PartName="/ppt/media/image5.gif" ContentType="image/gif"/>
  <Override PartName="/ppt/media/image9.png" ContentType="image/png"/>
  <Override PartName="/ppt/media/image6.gif" ContentType="image/gif"/>
  <Override PartName="/ppt/media/image8.jpeg" ContentType="image/jpeg"/>
  <Override PartName="/ppt/media/image10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1EBB-E91E-40CA-B7B8-8259AA8F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BD09-B99F-45D3-B28B-2EFC34AC7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BF6-514D-4B0C-B8C5-2DE88B7CE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358B-8669-4509-810D-3CE8AFE63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A404-C945-4F8A-BACF-DF8622CD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D85C-5B79-46D9-8FEF-D2379F50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D207-FB35-420E-9F9A-1D997F173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61CE-0694-4E89-A4E6-A5AC7E005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AF06-F62D-476A-9344-8D6DE5912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32E2-49BC-4A2E-91DA-1D58E638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C042-E1BB-44C4-A280-CEF8E0FC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0390-B75F-4FCB-A670-1439ECF3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25620-5846-4931-B547-858DD9800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6120" y="1481040"/>
            <a:ext cx="5171760" cy="3895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50520" y="333360"/>
            <a:ext cx="269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LACE SATELI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81040" y="1442880"/>
            <a:ext cx="6181920" cy="39722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043080" y="398520"/>
            <a:ext cx="22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STEMAS VS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663640" cy="23986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3280" y="1197000"/>
            <a:ext cx="2016360" cy="13921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076720" y="2997360"/>
            <a:ext cx="1095480" cy="12571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4067280" y="5157720"/>
            <a:ext cx="3352680" cy="762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753280" y="471600"/>
            <a:ext cx="313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BITAS SATELI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7308720" y="1916280"/>
            <a:ext cx="152424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755640" y="1844640"/>
          <a:ext cx="7561440" cy="3640320"/>
        </p:xfrm>
        <a:graphic>
          <a:graphicData uri="http://schemas.openxmlformats.org/drawingml/2006/table">
            <a:tbl>
              <a:tblPr/>
              <a:tblGrid>
                <a:gridCol w="1079640"/>
                <a:gridCol w="2119320"/>
                <a:gridCol w="1760400"/>
                <a:gridCol w="2602080"/>
              </a:tblGrid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9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cripc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ow Earth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dium Earth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eostationary Eart Orbi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1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titu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0-300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00-12000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,282 mill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ríodo orb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5 mi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-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4 h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7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entaj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os de lanzamiento bajo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 comunicación ba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enuación baj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sto lanzamiento moder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 relativamente ba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ubre 42.2% superficie terrest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sta consta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 tiene problemas de efecto doppl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sventaj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Vida cort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inturones de radi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s mayo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tenuaciones mayore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tardos elevad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taciones terrenas costos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2052000" y="692280"/>
            <a:ext cx="48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RACTERISTICAS DE LAS ORBI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1173240"/>
            <a:ext cx="6408720" cy="4897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36920" y="471600"/>
            <a:ext cx="433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ONENTES DE UN SATE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03280" y="981000"/>
            <a:ext cx="3646440" cy="54723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45080" y="1484280"/>
            <a:ext cx="2814840" cy="3097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01440" y="333360"/>
            <a:ext cx="419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NZAMIENTO DE UN SATEL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7129800" cy="5259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50040" y="471600"/>
            <a:ext cx="37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SORCIÓN ATMOSFER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900000" y="1628640"/>
          <a:ext cx="7127640" cy="2487240"/>
        </p:xfrm>
        <a:graphic>
          <a:graphicData uri="http://schemas.openxmlformats.org/drawingml/2006/table">
            <a:tbl>
              <a:tblPr/>
              <a:tblGrid>
                <a:gridCol w="803880"/>
                <a:gridCol w="1665360"/>
                <a:gridCol w="1991880"/>
                <a:gridCol w="2666520"/>
              </a:tblGrid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AN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P-LINK 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OWN-LINK(GHz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SU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(3.7-4.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(5.925-6.4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ferencia con enlaces terrestr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 (11.7-12.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(14.0-14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enuación por lluv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(17.7-21.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(27.5-30.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sto elevado de equip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 (1.610-1.62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 (2.483-2.500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terferencia otros servic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2988720" y="476280"/>
            <a:ext cx="285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AS UTILIZ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63640" y="907920"/>
            <a:ext cx="5751720" cy="56199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751120" y="404640"/>
            <a:ext cx="32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IDO DE RECEPC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826920" y="1852560"/>
          <a:ext cx="7561080" cy="4455720"/>
        </p:xfrm>
        <a:graphic>
          <a:graphicData uri="http://schemas.openxmlformats.org/drawingml/2006/table">
            <a:tbl>
              <a:tblPr/>
              <a:tblGrid>
                <a:gridCol w="3780360"/>
                <a:gridCol w="3780720"/>
              </a:tblGrid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Potencia transmitida</a:t>
                      </a:r>
                      <a:r>
                        <a:rPr b="0" lang="es-E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 = </a:t>
                      </a: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40W = 16 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Ganancia antena transmisión</a:t>
                      </a: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 = </a:t>
                      </a: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30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o, EIRP = 30 + 16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46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atelite geoestacionario 37000 km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Downlink (Espacio a tierra) at 12GHz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So, FSPL = 20log(4πd/λ)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206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Ganancia antena recepto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35 d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Potencia recibida (= 46 - 206 + 3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-125 dB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1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Temperatura de ruido de recepción = 200K = 23 dBK</a:t>
                      </a:r>
                      <a:br>
                        <a:rPr sz="1200"/>
                      </a:b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k = -229 dBW/Hz/K, so N</a:t>
                      </a:r>
                      <a:r>
                        <a:rPr b="0" lang="es-ES" sz="1200" spc="-1" strike="noStrike" baseline="-30000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 = kT =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-206 dBW/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4c5254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8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C/N</a:t>
                      </a:r>
                      <a:r>
                        <a:rPr b="0" lang="en-US" sz="1200" spc="-1" strike="noStrike" baseline="-30000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o</a:t>
                      </a:r>
                      <a:r>
                        <a:rPr b="0" lang="en-U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 = (-125 - - 20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4c5254"/>
                          </a:solidFill>
                          <a:latin typeface="Arial"/>
                          <a:ea typeface="Times New Roman"/>
                        </a:rPr>
                        <a:t>82 dB-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" name=""/>
          <p:cNvSpPr/>
          <p:nvPr/>
        </p:nvSpPr>
        <p:spPr>
          <a:xfrm>
            <a:off x="2627280" y="83664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CULO DEL ENLACE BAJ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6T13:06:39Z</dcterms:created>
  <dc:creator>Jorge</dc:creator>
  <dc:description/>
  <dc:language>en-US</dc:language>
  <cp:lastModifiedBy>Jorge</cp:lastModifiedBy>
  <dcterms:modified xsi:type="dcterms:W3CDTF">2005-05-06T14:02:25Z</dcterms:modified>
  <cp:revision>3</cp:revision>
  <dc:subject/>
  <dc:title>Diapositiva 1</dc:title>
</cp:coreProperties>
</file>