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EFFA-05F2-4015-B435-0FF8331B1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FCFD-598D-497E-86BB-202AED74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FCA3-1CA1-4ED6-95C6-3E93E4C8C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C8E-59BD-4A4A-9412-589871C4C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7BE7-E90A-47E4-BB82-1A5FC61CF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EE1-834A-42DE-8386-3D422497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68CF-A3A7-48B6-B450-CA1A94CD2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9740-2164-40A4-AB47-B731F75EB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DF0F-C546-44E5-AA1F-70408DD61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320A-79FC-4F59-AC54-FB5458C2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C68-3A06-4456-8B68-89ECAB5F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195A-B7A4-4168-9869-9F0B9F8C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F29C7-46FD-4A0B-B7C1-447F677B69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25Z</dcterms:modified>
  <cp:revision>3</cp:revision>
  <dc:subject/>
  <dc:title>Diapositiva 1</dc:title>
</cp:coreProperties>
</file>