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17A-D8D1-4F31-8B33-FB6CB48E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21E-DC96-4F6A-978E-468DEE5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580-BB3F-428F-8765-76912FA7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6A7-1CC5-406A-B484-5D8A44C7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D55-3276-4C85-8184-DBD8A380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0CC-B86D-4A53-8C8F-69DE47CD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3B4-E64F-4228-893C-BABBD60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547-CB3D-4D86-AB62-E1F87A8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4E5-A95C-47AF-BE11-9F4B488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6F4-2531-4AA5-808B-890B600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E23-C548-464E-8F2D-904122A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1CE-DB4F-4528-87BE-B8BABAA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1E1F-6DF2-4FC3-923C-99219B02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25Z</dcterms:modified>
  <cp:revision>3</cp:revision>
  <dc:subject/>
  <dc:title>Diapositiva 1</dc:title>
</cp:coreProperties>
</file>