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A89-9881-4B87-AECC-A0686E0D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5F0-D10C-4B68-A303-31876A4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3BB-34A2-4F83-9E5F-7EA858BE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2EE-C7BC-4BB7-AC9C-18FC05ED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829-0A7D-4892-8454-54989063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2BC-77E1-4A53-A3A5-E288F5E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B97-2CB9-4C9F-B8C9-3FCB809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D1A-0715-4E40-8FE5-2354616E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2CE-AB50-4890-B11F-F134243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863-63F9-481A-9E05-B27B7F39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969-05AC-4DE4-AD88-CB562205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6B4-9FB6-473F-905E-59B8EC88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E19B-BD16-453F-8518-19BDA2C02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25Z</dcterms:modified>
  <cp:revision>3</cp:revision>
  <dc:subject/>
  <dc:title>Diapositiva 1</dc:title>
</cp:coreProperties>
</file>