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29F-868E-4D7A-818B-8A1DE2A5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E34-8C59-4C86-918B-7C2D0D3A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251B-07E6-4755-8F49-71489D8F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474-B61C-45E6-B3E0-D16EE867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FC6-F52F-465D-9DC1-2D1FD377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5C3-636B-4D9F-940F-04C35493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D21-5593-4541-A376-81E9AB66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43D-089D-4C0E-865E-475F7D40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0DA-7187-4A61-95A4-AF71FD68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16C-BBCC-43D5-B34D-F546115D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679-D1D0-4C74-B679-688F586F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556-FC9B-4AC8-B9AC-75949C47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5C75-FB71-4B32-BE7E-A1B730A0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25Z</dcterms:modified>
  <cp:revision>3</cp:revision>
  <dc:subject/>
  <dc:title>Diapositiva 1</dc:title>
</cp:coreProperties>
</file>