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1.wmf" ContentType="image/x-wmf"/>
  <Override PartName="/ppt/media/image23.wmf" ContentType="image/x-wmf"/>
  <Override PartName="/ppt/media/image9.jpeg" ContentType="image/jpeg"/>
  <Override PartName="/ppt/media/image12.wmf" ContentType="image/x-wmf"/>
  <Override PartName="/ppt/media/image4.png" ContentType="image/png"/>
  <Override PartName="/ppt/media/image8.jpeg" ContentType="image/jpeg"/>
  <Override PartName="/ppt/media/image13.wmf" ContentType="image/x-wmf"/>
  <Override PartName="/ppt/media/image10.jpeg" ContentType="image/jpeg"/>
  <Override PartName="/ppt/media/image30.wmf" ContentType="image/x-wmf"/>
  <Override PartName="/ppt/media/image28.wmf" ContentType="image/x-wmf"/>
  <Override PartName="/ppt/media/image34.wmf" ContentType="image/x-wmf"/>
  <Override PartName="/ppt/media/image37.wmf" ContentType="image/x-wmf"/>
  <Override PartName="/ppt/media/image3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CDC-D81E-44F5-B143-33FE4873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E74-E9B4-4813-B8AB-304111D0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E4E-A2D6-4DF8-A60C-570961DA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3BD-A362-413C-8165-FB92984D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8E4-51F6-43F8-88DC-84C8798B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95E-8655-4547-AB93-F69672F2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3E9-B57F-4592-9ADA-29A801DA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496-45BB-471E-93B2-D14844AB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2B5-F6F7-4502-8C1F-B7C27FCC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E80-9ED1-432D-BA13-CF5BD361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5C0-1354-4E08-AF60-7B98029A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AD2-BDD0-4B82-9580-080190DC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2A08-A4BD-43A8-A255-F3C37C367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13452480" cy="3298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61040" y="260280"/>
            <a:ext cx="36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L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2126960" cy="3173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3855960"/>
            <a:ext cx="11472840" cy="3002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28520" y="2080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11623680" cy="3039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88680" y="2602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3762360"/>
            <a:ext cx="11833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11910960" cy="2922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72680" y="2602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93840" y="260280"/>
            <a:ext cx="12158640" cy="5497560"/>
            <a:chOff x="393840" y="260280"/>
            <a:chExt cx="12158640" cy="5497560"/>
          </a:xfrm>
        </p:grpSpPr>
        <p:sp>
          <p:nvSpPr>
            <p:cNvPr id="91" name=""/>
            <p:cNvSpPr/>
            <p:nvPr/>
          </p:nvSpPr>
          <p:spPr>
            <a:xfrm>
              <a:off x="5580000" y="1484280"/>
              <a:ext cx="115272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0920" y="907920"/>
              <a:ext cx="165744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00360" y="2997360"/>
              <a:ext cx="936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4360" y="907920"/>
              <a:ext cx="1008000" cy="35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160" y="260280"/>
              <a:ext cx="72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CION REFLECTORES PASIVOS EN PUNTIL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393840" y="3429000"/>
            <a:ext cx="8750160" cy="2328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3840" y="3429000"/>
                      <a:ext cx="8750160" cy="232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687240" y="907920"/>
              <a:ext cx="97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FALF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58920" y="1268280"/>
              <a:ext cx="158436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627280" y="270792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29440" y="3068640"/>
              <a:ext cx="93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NTIL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2771280" y="1412640"/>
              <a:ext cx="7164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08560" y="857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2360" y="907920"/>
              <a:ext cx="138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C. OLIV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3640" y="1484280"/>
              <a:ext cx="21600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3640" y="270828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419640" y="2060640"/>
              <a:ext cx="2520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54520" y="1557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MBI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3564000" y="2205000"/>
            <a:ext cx="8988480" cy="2491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4000" y="2205000"/>
                      <a:ext cx="8988480" cy="24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878040"/>
            <a:ext cx="9864720" cy="5651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11600" y="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REFLECTOR P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930240"/>
            <a:ext cx="9648720" cy="5527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86160" y="6336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REFLECTOR P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74760" y="1204920"/>
          <a:ext cx="8810640" cy="46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204920"/>
                    <a:ext cx="88106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53760" y="5493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jas y desventajas de las opciones estud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6200" y="1843200"/>
            <a:ext cx="8931600" cy="3171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140280" y="566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200" y="1317600"/>
            <a:ext cx="8931600" cy="4221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66160" y="26028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 REFLECTORES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217440" y="1773360"/>
            <a:ext cx="9361440" cy="235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58440" y="476280"/>
            <a:ext cx="54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S DE MMOO APROP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200" y="1522440"/>
            <a:ext cx="8931600" cy="3811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67800" y="49536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 REFLECTORES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539640" y="907920"/>
          <a:ext cx="7962840" cy="260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7920"/>
                    <a:ext cx="796284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39640" y="3716280"/>
          <a:ext cx="7851960" cy="227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716280"/>
                    <a:ext cx="78519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607840" y="20808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s de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50920" y="1052640"/>
          <a:ext cx="7627680" cy="195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7627680" cy="19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0920" y="3141720"/>
          <a:ext cx="7632720" cy="220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141720"/>
                    <a:ext cx="7632720" cy="22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8720" y="26028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s inversion con reflectores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84400" y="3510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OS DE OPE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47640" y="1341360"/>
          <a:ext cx="5111280" cy="3141360"/>
        </p:xfrm>
        <a:graphic>
          <a:graphicData uri="http://schemas.openxmlformats.org/drawingml/2006/table">
            <a:tbl>
              <a:tblPr/>
              <a:tblGrid>
                <a:gridCol w="3554280"/>
                <a:gridCol w="155700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os de opera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ía eléct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bust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itas a R/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tención 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ues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7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888560" y="5275440"/>
            <a:ext cx="179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75000 pesos = USD 19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11280" y="692280"/>
          <a:ext cx="820872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92280"/>
                    <a:ext cx="820872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692360" y="333360"/>
            <a:ext cx="54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CION ELEGIDA DIAGRAMA BLOQUES MM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0" y="3500280"/>
          <a:ext cx="918684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00280"/>
                    <a:ext cx="9186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910520" y="2602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MEN DE COSTOS DE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6516720" cy="1368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5280" y="13413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00" y="141300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uipo de MM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75600" y="62064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J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2052720"/>
            <a:ext cx="8820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46880" y="2602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1773360"/>
            <a:ext cx="6753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proyecto es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a tasa interna de retorno del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ene capacidad de crecimiento futuro de nuevos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7760" y="1957320"/>
            <a:ext cx="12198240" cy="23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19640" y="2276640"/>
            <a:ext cx="44384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50520" y="549360"/>
            <a:ext cx="51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ALFALFAL POLICLI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0360" y="50799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ENCUENTRA OBSTR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760" y="1484280"/>
            <a:ext cx="8931240" cy="388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96800" y="3510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PO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61920"/>
          <a:ext cx="9144000" cy="69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192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47184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3887640" cy="2593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88560" y="3500280"/>
            <a:ext cx="23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LINICO - PU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0" y="907920"/>
            <a:ext cx="4127400" cy="245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42400" y="3500280"/>
            <a:ext cx="25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C OLIVARES - PU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4000" y="3809880"/>
            <a:ext cx="3887640" cy="2330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32760" y="62355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MBILLO -  PU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643280" y="4076640"/>
            <a:ext cx="4248360" cy="1889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51600" y="6019920"/>
            <a:ext cx="27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MARA  CARGA  - TAMBI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3240" y="33336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ILES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564000" y="1628640"/>
          <a:ext cx="5076720" cy="30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628640"/>
                    <a:ext cx="5076720" cy="30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50000" y="13644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OBACION EN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1000" y="1260360"/>
          <a:ext cx="8799480" cy="389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00" y="1260360"/>
                    <a:ext cx="879948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60720" y="558792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PEJE EN OBSTRUCCIÓN  2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73040" y="674640"/>
            <a:ext cx="673380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da de Frecuencia: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tencia transmitida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 Dbm   (100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ivel de umbral para BER 10-6: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85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tena adosada al equipo intemp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nancia de antenas: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6 m = 36.5 dB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m = 31.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8 m = 46    d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érdida de espacio li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 =  92.4 + 20log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+ 20log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= distancia en Km. entre la estación transmisora y la recep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 = frecuencia en Gigaher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501800"/>
            <a:ext cx="41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radio de la primera zona de Fresne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1 (m) =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300xD1xD2/FxD)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3760" y="5300280"/>
            <a:ext cx="56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1 = distancia de la obstrucción al terminal trans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2 = D – D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09640" y="42372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O ENLACE MM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97800" y="333360"/>
            <a:ext cx="50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O DE PROPAGACION DE EN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3360" y="5881680"/>
          <a:ext cx="2743200" cy="78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5881680"/>
                    <a:ext cx="27432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95280" y="1268280"/>
            <a:ext cx="9139320" cy="196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395280" y="2708280"/>
          <a:ext cx="8748720" cy="23907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2708280"/>
                    <a:ext cx="87487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95280" y="4581360"/>
          <a:ext cx="9018720" cy="1060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4581360"/>
                    <a:ext cx="9018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5:02:05Z</dcterms:created>
  <dc:creator>Jorge</dc:creator>
  <dc:description/>
  <dc:language>en-US</dc:language>
  <cp:lastModifiedBy>Jorge</cp:lastModifiedBy>
  <dcterms:modified xsi:type="dcterms:W3CDTF">2005-09-09T13:37:42Z</dcterms:modified>
  <cp:revision>7</cp:revision>
  <dc:subject/>
  <dc:title>Diapositiva 1</dc:title>
</cp:coreProperties>
</file>