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12.wmf" ContentType="image/x-wmf"/>
  <Override PartName="/ppt/media/image4.png" ContentType="image/png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8EF-D27F-485E-9B9C-B2B9B2D0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B35-32D3-41F9-AD02-C85D9389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FD7-ABA7-41B5-B2E1-8761E350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08C-4E28-409E-BCFC-97497AC8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444-4A51-4E73-9DD4-3E6CEE56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9A1-C150-4067-B91C-9D9CDB8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E1B-0CE6-40D7-BA03-84515C7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C04-24F6-4A53-8ED5-5D6A0EA6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739-FBF8-4C74-9B6D-24EF17F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507-1C27-46BD-BD28-7955CF6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0D-770A-4A22-9FAD-571884B7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DF5-BF34-4F81-9289-51571EA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861-DCA2-4A8B-B606-AB6FB86A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3452480" cy="32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61040" y="26028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L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126960" cy="317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3855960"/>
            <a:ext cx="11472840" cy="3002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28520" y="2080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1623680" cy="303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8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762360"/>
            <a:ext cx="11833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191096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72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3840" y="260280"/>
            <a:ext cx="12158640" cy="5497560"/>
            <a:chOff x="393840" y="260280"/>
            <a:chExt cx="12158640" cy="5497560"/>
          </a:xfrm>
        </p:grpSpPr>
        <p:sp>
          <p:nvSpPr>
            <p:cNvPr id="91" name=""/>
            <p:cNvSpPr/>
            <p:nvPr/>
          </p:nvSpPr>
          <p:spPr>
            <a:xfrm>
              <a:off x="5580000" y="1484280"/>
              <a:ext cx="1152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0920" y="907920"/>
              <a:ext cx="1657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0360" y="2997360"/>
              <a:ext cx="936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907920"/>
              <a:ext cx="1008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260280"/>
              <a:ext cx="72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CION REFLECTORES PASIVOS EN PUNTI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93840" y="3429000"/>
            <a:ext cx="8750160" cy="2328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3429000"/>
                      <a:ext cx="8750160" cy="23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687240" y="907920"/>
              <a:ext cx="97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FALF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8920" y="1268280"/>
              <a:ext cx="1584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627280" y="270792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29440" y="306864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NT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771280" y="1412640"/>
              <a:ext cx="71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08560" y="857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360" y="90792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C. OLIV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1484280"/>
              <a:ext cx="216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3640" y="2708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419640" y="2060640"/>
              <a:ext cx="25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4520" y="1557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BI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564000" y="2205000"/>
            <a:ext cx="8988480" cy="249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2205000"/>
                      <a:ext cx="898848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878040"/>
            <a:ext cx="9864720" cy="565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11600" y="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930240"/>
            <a:ext cx="9648720" cy="552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6160" y="633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4760" y="1204920"/>
          <a:ext cx="8810640" cy="46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04920"/>
                    <a:ext cx="88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760" y="5493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de las opcione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200" y="1843200"/>
            <a:ext cx="8931600" cy="3171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40280" y="566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" y="1317600"/>
            <a:ext cx="8931600" cy="422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6160" y="26028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17440" y="1773360"/>
            <a:ext cx="9361440" cy="235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58440" y="476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MMOO APROP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522440"/>
            <a:ext cx="8931600" cy="381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67800" y="4953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907920"/>
          <a:ext cx="7962840" cy="26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79628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3716280"/>
          <a:ext cx="7851960" cy="227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716280"/>
                    <a:ext cx="78519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607840" y="2080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de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1052640"/>
          <a:ext cx="7627680" cy="19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762768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3141720"/>
          <a:ext cx="7632720" cy="220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763272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8720" y="26028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inversion c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84400" y="3510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DE OP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7640" y="1341360"/>
          <a:ext cx="5111280" cy="3141360"/>
        </p:xfrm>
        <a:graphic>
          <a:graphicData uri="http://schemas.openxmlformats.org/drawingml/2006/table">
            <a:tbl>
              <a:tblPr/>
              <a:tblGrid>
                <a:gridCol w="3554280"/>
                <a:gridCol w="15570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de opera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s a R/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tención 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e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888560" y="5275440"/>
            <a:ext cx="17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75000 pesos = USD 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1280" y="692280"/>
          <a:ext cx="82087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82087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92360" y="33336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ION ELEGIDA DIAGRAMA BLOQUES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3500280"/>
          <a:ext cx="918684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86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910520" y="2602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EN DE COSTOS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651672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1341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0" y="141300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de MM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75600" y="62064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820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2602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73360"/>
            <a:ext cx="67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royecto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a tasa interna de retorno del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ne capacidad de crecimiento futuro de nuev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760" y="1957320"/>
            <a:ext cx="12198240" cy="23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44384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50520" y="54936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ALFALFAL POLICLI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0360" y="50799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NCUENTRA OBS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760" y="1484280"/>
            <a:ext cx="893124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0" y="351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1920"/>
          <a:ext cx="9144000" cy="69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92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47184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887640" cy="259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8560" y="350028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LINICO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2740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2400" y="350028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C OLIVARES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3809880"/>
            <a:ext cx="3887640" cy="233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2760" y="62355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MBILLO - 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248360" cy="188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51600" y="6019920"/>
            <a:ext cx="27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ARA  CARGA  - TAMB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3240" y="333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ILES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64000" y="1628640"/>
          <a:ext cx="507672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628640"/>
                    <a:ext cx="507672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0000" y="1364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BACION EN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1000" y="1260360"/>
          <a:ext cx="8799480" cy="389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1260360"/>
                    <a:ext cx="87994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60720" y="558792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EJE EN OBSTRUCCIÓN  2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3040" y="674640"/>
            <a:ext cx="6733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da de Frecuencia: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tencia transmitida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Dbm   (100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umbral para BER 10-6: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na adosada al equipo intemp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 de antenas: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6 m = 36.5 d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m = 3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 m = 46    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érdida de espacio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 =  92.4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= distancia en Km. entre la estación transmisora y la recep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= frecuencia en Gigaher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01800"/>
            <a:ext cx="41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radio de la primera zona de Fresn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1 (m) 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300xD1xD2/FxD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760" y="530028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1 = distancia de la obstrucción al terminal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2 = D – 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9640" y="4237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ENLACE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7800" y="3333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DE PROPAGACION DE EN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3360" y="5881680"/>
          <a:ext cx="274320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5881680"/>
                    <a:ext cx="27432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9139320" cy="19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95280" y="2708280"/>
          <a:ext cx="874872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708280"/>
                    <a:ext cx="87487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95280" y="4581360"/>
          <a:ext cx="9018720" cy="106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581360"/>
                    <a:ext cx="9018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5:02:05Z</dcterms:created>
  <dc:creator>Jorge</dc:creator>
  <dc:description/>
  <dc:language>en-US</dc:language>
  <cp:lastModifiedBy>Jorge</cp:lastModifiedBy>
  <dcterms:modified xsi:type="dcterms:W3CDTF">2005-09-09T13:37:42Z</dcterms:modified>
  <cp:revision>7</cp:revision>
  <dc:subject/>
  <dc:title>Diapositiva 1</dc:title>
</cp:coreProperties>
</file>