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1.wmf" ContentType="image/x-wmf"/>
  <Override PartName="/ppt/media/image23.wmf" ContentType="image/x-wmf"/>
  <Override PartName="/ppt/media/image9.jpeg" ContentType="image/jpeg"/>
  <Override PartName="/ppt/media/image12.wmf" ContentType="image/x-wmf"/>
  <Override PartName="/ppt/media/image4.png" ContentType="image/png"/>
  <Override PartName="/ppt/media/image8.jpeg" ContentType="image/jpeg"/>
  <Override PartName="/ppt/media/image13.wmf" ContentType="image/x-wmf"/>
  <Override PartName="/ppt/media/image10.jpeg" ContentType="image/jpeg"/>
  <Override PartName="/ppt/media/image30.wmf" ContentType="image/x-wmf"/>
  <Override PartName="/ppt/media/image28.wmf" ContentType="image/x-wmf"/>
  <Override PartName="/ppt/media/image34.wmf" ContentType="image/x-wmf"/>
  <Override PartName="/ppt/media/image37.wmf" ContentType="image/x-wmf"/>
  <Override PartName="/ppt/media/image38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7.jpeg" ContentType="image/jpeg"/>
  <Override PartName="/ppt/media/image31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D2F2-6454-4012-879C-FB542B17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93EF-CC4A-433A-BC83-1C1DBA8B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EAD1-BCF5-4F05-B482-B92B4380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3C1B-25A0-43D8-A146-0DA38291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1412-CE02-457C-8B7E-98E6428F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D91B-FEF4-42FC-AAC7-DF88A13D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CC3-37D1-4B5A-A81A-DBDBE360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B82A-A3A1-496C-A53F-595DFC4B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B94-0A2F-4848-9C6E-451E1E92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7136-3A4B-4DE0-8AA0-C3CFDF83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FF3A-42C6-4946-985F-70328E65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055A-578F-416A-9341-04E6D3AB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EC50-D78F-4876-BACD-1D5CAEBAB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5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13452480" cy="3298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61040" y="260280"/>
            <a:ext cx="36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DEL EN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12126960" cy="3173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24000" y="3855960"/>
            <a:ext cx="11472840" cy="3002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28520" y="20808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DE LOS EN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11623680" cy="3039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88680" y="26028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DE LOS EN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3762360"/>
            <a:ext cx="118332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11910960" cy="2922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72680" y="26028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DE LOS EN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93840" y="260280"/>
            <a:ext cx="12158640" cy="5497560"/>
            <a:chOff x="393840" y="260280"/>
            <a:chExt cx="12158640" cy="5497560"/>
          </a:xfrm>
        </p:grpSpPr>
        <p:sp>
          <p:nvSpPr>
            <p:cNvPr id="91" name=""/>
            <p:cNvSpPr/>
            <p:nvPr/>
          </p:nvSpPr>
          <p:spPr>
            <a:xfrm>
              <a:off x="5580000" y="1484280"/>
              <a:ext cx="115272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0920" y="907920"/>
              <a:ext cx="165744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00360" y="2997360"/>
              <a:ext cx="93672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4360" y="907920"/>
              <a:ext cx="1008000" cy="35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0160" y="260280"/>
              <a:ext cx="726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CION REFLECTORES PASIVOS EN PUNTIL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393840" y="3429000"/>
            <a:ext cx="8750160" cy="2328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3840" y="3429000"/>
                      <a:ext cx="8750160" cy="232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687240" y="907920"/>
              <a:ext cx="97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FALF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58920" y="1268280"/>
              <a:ext cx="158436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627280" y="2707920"/>
              <a:ext cx="504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29440" y="3068640"/>
              <a:ext cx="933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UNTIL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2771280" y="1412640"/>
              <a:ext cx="7164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08560" y="857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2360" y="907920"/>
              <a:ext cx="138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C. OLIVA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03640" y="1484280"/>
              <a:ext cx="21600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03640" y="2708280"/>
              <a:ext cx="504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3419640" y="2060640"/>
              <a:ext cx="25207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54520" y="1557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MBIL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9" name=""/>
            <p:cNvGraphicFramePr/>
            <p:nvPr/>
          </p:nvGraphicFramePr>
          <p:xfrm>
            <a:off x="3564000" y="2205000"/>
            <a:ext cx="8988480" cy="2491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64000" y="2205000"/>
                      <a:ext cx="8988480" cy="24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878040"/>
            <a:ext cx="9864720" cy="5651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11600" y="0"/>
            <a:ext cx="48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REFLECTOR PA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4360" y="930240"/>
            <a:ext cx="9648720" cy="5527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86160" y="63360"/>
            <a:ext cx="48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REFLECTOR PA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74760" y="1204920"/>
          <a:ext cx="8810640" cy="467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1204920"/>
                    <a:ext cx="881064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53760" y="54936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jas y desventajas de las opciones estudi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6200" y="1843200"/>
            <a:ext cx="8931600" cy="3171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140280" y="5666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200" y="1317600"/>
            <a:ext cx="8931600" cy="4221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66160" y="260280"/>
            <a:ext cx="51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 REFLECTORES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217440" y="1773360"/>
            <a:ext cx="9361440" cy="2359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58440" y="476280"/>
            <a:ext cx="54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S DE MMOO APROP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200" y="1522440"/>
            <a:ext cx="8931600" cy="3811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567800" y="495360"/>
            <a:ext cx="51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 REFLECTORES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539640" y="907920"/>
          <a:ext cx="7962840" cy="260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07920"/>
                    <a:ext cx="796284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39640" y="3716280"/>
          <a:ext cx="7851960" cy="2274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3716280"/>
                    <a:ext cx="785196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607840" y="20808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stos de i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50920" y="1052640"/>
          <a:ext cx="7627680" cy="195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052640"/>
                    <a:ext cx="7627680" cy="19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0920" y="3141720"/>
          <a:ext cx="7632720" cy="220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141720"/>
                    <a:ext cx="7632720" cy="22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88720" y="260280"/>
            <a:ext cx="61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stos inversion con reflectores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084400" y="35100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OS DE OPE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47640" y="1341360"/>
          <a:ext cx="5111280" cy="3141360"/>
        </p:xfrm>
        <a:graphic>
          <a:graphicData uri="http://schemas.openxmlformats.org/drawingml/2006/table">
            <a:tbl>
              <a:tblPr/>
              <a:tblGrid>
                <a:gridCol w="3554280"/>
                <a:gridCol w="1557000"/>
              </a:tblGrid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os de operación 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ía eléct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bust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itas a R/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tención equi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ues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r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75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1888560" y="5275440"/>
            <a:ext cx="179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75000 pesos = USD 19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11280" y="692280"/>
          <a:ext cx="820872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92280"/>
                    <a:ext cx="820872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692360" y="333360"/>
            <a:ext cx="54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CION ELEGIDA DIAGRAMA BLOQUES MM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0" y="3500280"/>
          <a:ext cx="9186840" cy="27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00280"/>
                    <a:ext cx="91868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910520" y="260280"/>
            <a:ext cx="55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MEN DE COSTOS DE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6516720" cy="1368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95280" y="13413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00" y="1413000"/>
            <a:ext cx="145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quipo de MM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775600" y="620640"/>
            <a:ext cx="28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UJOS DE C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2052720"/>
            <a:ext cx="88200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46880" y="2602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1773360"/>
            <a:ext cx="6753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proyecto es re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a tasa interna de retorno del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ene capacidad de crecimiento futuro de nuevos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7760" y="1957320"/>
            <a:ext cx="12198240" cy="2328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19640" y="2276640"/>
            <a:ext cx="44384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50520" y="549360"/>
            <a:ext cx="51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LACE ALFALFAL POLICLI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0360" y="507996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ENCUENTRA OBSTRU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760" y="1484280"/>
            <a:ext cx="8931240" cy="388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96800" y="3510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ES PO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61920"/>
          <a:ext cx="9144000" cy="691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1920"/>
                    <a:ext cx="9144000" cy="69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47184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3887640" cy="2593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88560" y="3500280"/>
            <a:ext cx="232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CLINICO - PUNT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0" y="907920"/>
            <a:ext cx="4127400" cy="245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42400" y="3500280"/>
            <a:ext cx="251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C OLIVARES - PUNT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24000" y="3809880"/>
            <a:ext cx="3887640" cy="2330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32760" y="62355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MBILLO -  PUNT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643280" y="4076640"/>
            <a:ext cx="4248360" cy="1889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51600" y="6019920"/>
            <a:ext cx="27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MARA  CARGA  - TAMBI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3240" y="33336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ILES DE LOS EN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564000" y="1628640"/>
          <a:ext cx="5076720" cy="303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628640"/>
                    <a:ext cx="5076720" cy="30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250000" y="13644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ROBACION EN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81000" y="1260360"/>
          <a:ext cx="8799480" cy="3897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00" y="1260360"/>
                    <a:ext cx="879948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60720" y="558792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PEJE EN OBSTRUCCIÓN  2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73040" y="674640"/>
            <a:ext cx="6733800" cy="36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da de Frecuencia: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tencia transmitida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0 Dbm   (100m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ivel de umbral para BER 10-6: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85 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ntena adosada al equipo intemp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anancia de antenas: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.6 m = 36.5 dB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 m = 31.5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8 m = 46    d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pérdida de espacio lib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 =  92.4 + 20log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 + 20log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 = distancia en Km. entre la estación transmisora y la recep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 = frecuencia en Gigahert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4501800"/>
            <a:ext cx="41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radio de la primera zona de Fresnel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1 (m) =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300xD1xD2/FxD)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3760" y="5300280"/>
            <a:ext cx="566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1 = distancia de la obstrucción al terminal transm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2 = D – D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09640" y="423720"/>
            <a:ext cx="31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O ENLACE MM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97800" y="333360"/>
            <a:ext cx="50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O DE PROPAGACION DE EN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3360" y="5881680"/>
          <a:ext cx="2743200" cy="78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5881680"/>
                    <a:ext cx="274320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95280" y="1268280"/>
            <a:ext cx="9139320" cy="196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395280" y="2708280"/>
          <a:ext cx="8748720" cy="23907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2708280"/>
                    <a:ext cx="87487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95280" y="4581360"/>
          <a:ext cx="9018720" cy="10605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4581360"/>
                    <a:ext cx="90187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15:02:05Z</dcterms:created>
  <dc:creator>Jorge</dc:creator>
  <dc:description/>
  <dc:language>en-US</dc:language>
  <cp:lastModifiedBy>Jorge</cp:lastModifiedBy>
  <dcterms:modified xsi:type="dcterms:W3CDTF">2005-09-09T13:37:42Z</dcterms:modified>
  <cp:revision>7</cp:revision>
  <dc:subject/>
  <dc:title>Diapositiva 1</dc:title>
</cp:coreProperties>
</file>