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3DE-A1F6-4F53-A55A-AB085BC1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48A-B1B2-4CC8-B038-9D3E4970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8D9-F690-4EB1-BE18-E1B6DABA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269-E935-4D60-A2F5-B6FF4475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D5D-4DA6-4659-A967-A4B1AE20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F8A-0861-4B4D-A915-398858E8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DA1-2311-4B51-BF27-917ACFB8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2C8-3008-48D9-9B76-AC5C037B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BEA-DBF6-4BD7-BBCC-C00288AB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04F-2C76-4BFD-97E3-C97F934F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5BB-EA94-47FA-B774-CE0197C5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40C-9909-4DEE-A72E-B64CAD2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3131-92F8-45A3-829D-BEB2F8DA6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ig3.jpg (49566 bytes)"/>
          <p:cNvPicPr/>
          <p:nvPr/>
        </p:nvPicPr>
        <p:blipFill>
          <a:blip r:embed="rId1"/>
          <a:stretch/>
        </p:blipFill>
        <p:spPr>
          <a:xfrm>
            <a:off x="395280" y="1712880"/>
            <a:ext cx="7921800" cy="344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0200" y="620640"/>
            <a:ext cx="59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BLOQUES SISTEMA FIBRA O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907920"/>
            <a:ext cx="55450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enuación Fibras: 2 dB/km a 850 nm, 0.5 dB/km a 1300 nm, 0.2 dB/km a 1550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 distancia-ancho de banda: 3000 MHz-k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odos  Laser dan 2-10 mW into cable, up to 6000-MHz velocidad de modulación,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oras de vida út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Ds dan 0.1 mW a la FO, 200-MHz velocidad de modulación, más de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oras de vida út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ors PIN photodiodes dan responsivity 0.5 A/W, noise equivalent power (NEP)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–1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/(Hz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Ds give responsivity 75 A/W, NEP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–1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/(Hz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ectores y empalmes (Splices) 0.1-0.5 dB insertion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560" y="39852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GENERALES FIBRAS US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8360" y="1878120"/>
          <a:ext cx="828036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78120"/>
                    <a:ext cx="828036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185120" y="836640"/>
            <a:ext cx="65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UNITARIOS FIBRA OPTICA INTERURB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4000" y="2492280"/>
          <a:ext cx="8316720" cy="209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2280"/>
                    <a:ext cx="831672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194200" y="476280"/>
            <a:ext cx="44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FUNITARIOS FO URB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26:25Z</dcterms:created>
  <dc:creator>Jorge</dc:creator>
  <dc:description/>
  <dc:language>en-US</dc:language>
  <cp:lastModifiedBy>Jorge Fritis</cp:lastModifiedBy>
  <dcterms:modified xsi:type="dcterms:W3CDTF">2006-08-25T15:19:37Z</dcterms:modified>
  <cp:revision>4</cp:revision>
  <dc:subject/>
  <dc:title>Diapositiva 1</dc:title>
</cp:coreProperties>
</file>