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175-2578-49C5-8884-655C6FD3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88F-8AD2-4ED4-B379-EE48BD8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106-B480-4797-98F8-A7FF6305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D18-04C8-4FEC-9270-ECF95C21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A13-F222-42BB-AF42-DC8DCA5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27B-5BD3-459C-9E30-BB03B20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B68-7627-4B87-9D5A-60C4C8D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954-E370-466F-9708-5635FE4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F73-EB66-45BA-97F6-594D769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413-4981-43D7-9C1C-19E2861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289-4777-48B5-83A6-0E42DCD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9C3-AF2C-41AA-94FA-B70CE7C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8E9-F4AC-4296-A546-36BCEDA7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ig3.jpg (49566 bytes)"/>
          <p:cNvPicPr/>
          <p:nvPr/>
        </p:nvPicPr>
        <p:blipFill>
          <a:blip r:embed="rId1"/>
          <a:stretch/>
        </p:blipFill>
        <p:spPr>
          <a:xfrm>
            <a:off x="395280" y="1712880"/>
            <a:ext cx="7921800" cy="344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0200" y="6206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BLOQUES SISTEMA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907920"/>
            <a:ext cx="5545080" cy="51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enuación Fibras: 2 dB/km a 850 nm, 0.5 dB/km a 1300 nm, 0.2 dB/km a 1550 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distancia-ancho de banda: 3000 MHz-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odos  Laser dan 2-10 mW into cable, up to 6000-MHz velocidad de modulación,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Ds dan 0.1 mW a la FO, 200-MHz velocidad de modulación, más de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oras de vida út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ors PIN photodiodes dan responsivity 0.5 A/W, noise equivalent power (NEP)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Ds give responsivity 75 A/W, NEP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–1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/(Hz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ectores y empalmes (Splices) 0.1-0.5 dB insertion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560" y="39852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GENERALES FIBRAS US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8360" y="1878120"/>
          <a:ext cx="8280360" cy="31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78120"/>
                    <a:ext cx="828036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85120" y="836640"/>
            <a:ext cx="65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UNITARIOS FIBRA OPTICA INTER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2492280"/>
          <a:ext cx="8316720" cy="20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8316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4200" y="4762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OS FUNITARIOS FO URB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4:26:25Z</dcterms:created>
  <dc:creator>Jorge</dc:creator>
  <dc:description/>
  <dc:language>en-US</dc:language>
  <cp:lastModifiedBy>Jorge Fritis</cp:lastModifiedBy>
  <dcterms:modified xsi:type="dcterms:W3CDTF">2006-08-25T15:19:37Z</dcterms:modified>
  <cp:revision>4</cp:revision>
  <dc:subject/>
  <dc:title>Diapositiva 1</dc:title>
</cp:coreProperties>
</file>