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2DB1-3845-4F9F-A73A-6716EBE44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069E-E911-4768-8B48-4EB2CE60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CB77-1934-4F04-86A5-A600FECA8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CC71-83FC-490B-B608-11F89166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275C-A52E-4A3A-98C9-F3E91C9A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ED2C-6690-4DC7-8968-681629A3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C411-71B8-47F5-9BA0-131859C7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A965-8B4C-4B01-A045-4794A8DE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E5A9-F5C6-40F2-B88E-A9A49533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636A-024E-4F58-A9F3-1368CAEE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E767-B798-4FBC-B380-5F35D14F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91C1-98B6-45AF-A779-B362D3C7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15D7-0EF0-42B5-913D-F5F220ADF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Fig3.jpg (49566 bytes)"/>
          <p:cNvPicPr/>
          <p:nvPr/>
        </p:nvPicPr>
        <p:blipFill>
          <a:blip r:embed="rId1"/>
          <a:stretch/>
        </p:blipFill>
        <p:spPr>
          <a:xfrm>
            <a:off x="395280" y="1712880"/>
            <a:ext cx="7921800" cy="3444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30200" y="620640"/>
            <a:ext cx="599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RAMA BLOQUES SISTEMA FIBRA OP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835280" y="907920"/>
            <a:ext cx="5545080" cy="51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tenuación Fibras: 2 dB/km a 850 nm, 0.5 dB/km a 1300 nm, 0.2 dB/km a 1550 n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ducto distancia-ancho de banda: 3000 MHz-k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odos  Laser dan 2-10 mW into cable, up to 6000-MHz velocidad de modulación, 10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horas de vida úti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Ds dan 0.1 mW a la FO, 200-MHz velocidad de modulación, más de 10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horas de vida úti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tectors PIN photodiodes dan responsivity 0.5 A/W, noise equivalent power (NEP) 10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–1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W/(Hz)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PDs give responsivity 75 A/W, NEP 10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–14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W/(Hz)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ectores y empalmes (Splices) 0.1-0.5 dB insertion lo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6560" y="398520"/>
            <a:ext cx="657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ACTERISTICAS GENERALES FIBRAS USU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68360" y="1878120"/>
          <a:ext cx="8280360" cy="312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78120"/>
                    <a:ext cx="8280360" cy="31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1185120" y="836640"/>
            <a:ext cx="654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OS UNITARIOS FIBRA OPTICA INTERURB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24000" y="2492280"/>
          <a:ext cx="8316720" cy="209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492280"/>
                    <a:ext cx="8316720" cy="20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194200" y="476280"/>
            <a:ext cx="44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OS FUNITARIOS FO URB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0T14:26:25Z</dcterms:created>
  <dc:creator>Jorge</dc:creator>
  <dc:description/>
  <dc:language>en-US</dc:language>
  <cp:lastModifiedBy>Jorge Fritis</cp:lastModifiedBy>
  <dcterms:modified xsi:type="dcterms:W3CDTF">2006-08-25T15:19:37Z</dcterms:modified>
  <cp:revision>4</cp:revision>
  <dc:subject/>
  <dc:title>Diapositiva 1</dc:title>
</cp:coreProperties>
</file>