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4F18-8B5C-4C30-82EA-F320360AB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C9F1-BB90-4A97-A196-3FD99FF1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6456-DE4D-4A3D-8AA8-D11532D6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F982-F3D1-4F3D-9E41-C9265925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62ED-C4AE-431D-BE3A-F0F8221B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E4BE-2A69-4188-95BB-7394C1BC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6D9C-68FE-4FE8-84CF-567B297F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4758-9AD3-4C1F-9F72-9E79488A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C828-E011-4AF2-A0C5-22C2CA27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08A9-6A43-44EA-A5A6-98F919F1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A846-F1E5-4334-B820-9BEFC892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7B9B-855F-4053-878A-C9781532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F06B-D0F9-4AE2-8570-5F6D62FCA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Fig3.jpg (49566 bytes)"/>
          <p:cNvPicPr/>
          <p:nvPr/>
        </p:nvPicPr>
        <p:blipFill>
          <a:blip r:embed="rId1"/>
          <a:stretch/>
        </p:blipFill>
        <p:spPr>
          <a:xfrm>
            <a:off x="395280" y="1712880"/>
            <a:ext cx="7921800" cy="3444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30200" y="620640"/>
            <a:ext cx="599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A BLOQUES SISTEMA FIBRA OP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35280" y="907920"/>
            <a:ext cx="5545080" cy="51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tenuación Fibras: 2 dB/km a 850 nm, 0.5 dB/km a 1300 nm, 0.2 dB/km a 1550 n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to distancia-ancho de banda: 3000 MHz-k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odos  Laser dan 2-10 mW into cable, up to 6000-MHz velocidad de modulación,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horas de vida út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Ds dan 0.1 mW a la FO, 200-MHz velocidad de modulación, más de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horas de vida út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ctors PIN photodiodes dan responsivity 0.5 A/W, noise equivalent power (NEP)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–1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W/(Hz)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Ds give responsivity 75 A/W, NEP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–14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W/(Hz)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ectores y empalmes (Splices) 0.1-0.5 dB insertion lo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6560" y="398520"/>
            <a:ext cx="657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ACTERISTICAS GENERALES FIBRAS USU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8360" y="1878120"/>
          <a:ext cx="8280360" cy="312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78120"/>
                    <a:ext cx="8280360" cy="31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1185120" y="836640"/>
            <a:ext cx="65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OS UNITARIOS FIBRA OPTICA INTERURB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24000" y="2492280"/>
          <a:ext cx="8316720" cy="209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492280"/>
                    <a:ext cx="8316720" cy="20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194200" y="476280"/>
            <a:ext cx="44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OS FUNITARIOS FO URB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14:26:25Z</dcterms:created>
  <dc:creator>Jorge</dc:creator>
  <dc:description/>
  <dc:language>en-US</dc:language>
  <cp:lastModifiedBy>Jorge Fritis</cp:lastModifiedBy>
  <dcterms:modified xsi:type="dcterms:W3CDTF">2006-08-25T15:19:37Z</dcterms:modified>
  <cp:revision>4</cp:revision>
  <dc:subject/>
  <dc:title>Diapositiva 1</dc:title>
</cp:coreProperties>
</file>