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587-6B5C-4B6E-9EAE-0D72C7BE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4BB-3376-440D-BD4B-642E2E51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B65-05BA-4A30-8009-792ED517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6D6-E714-48DE-A1C0-AEC8E59E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E96-62E0-4368-816A-D3102D93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A71-19E4-45BC-ADD5-98FDF23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AF3-5A90-477D-BC15-2E617CF6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5C7-8650-426D-ADBB-BD89BA64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28F-95CA-4C3C-9291-0C008D78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B0E-49A8-42D0-B8B1-AF614041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E80-9496-49D8-8E7A-D358651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C63-FCA2-4683-A7A0-751B999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7BF-D0BA-49B2-AEDB-2C5307B58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ig3.jpg (49566 bytes)"/>
          <p:cNvPicPr/>
          <p:nvPr/>
        </p:nvPicPr>
        <p:blipFill>
          <a:blip r:embed="rId1"/>
          <a:stretch/>
        </p:blipFill>
        <p:spPr>
          <a:xfrm>
            <a:off x="395280" y="1712880"/>
            <a:ext cx="7921800" cy="344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0200" y="620640"/>
            <a:ext cx="59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BLOQUES SISTEMA FIBRA O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907920"/>
            <a:ext cx="55450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enuación Fibras: 2 dB/km a 850 nm, 0.5 dB/km a 1300 nm, 0.2 dB/km a 155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distancia-ancho de banda: 3000 MHz-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odos  Laser dan 2-10 mW into cable, up to 6000-MHz velocidad de modulación,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Ds dan 0.1 mW a la FO, 200-MHz velocidad de modulación, más de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ors PIN photodiodes dan responsivity 0.5 A/W, noise equivalent power (NEP)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Ds give responsivity 75 A/W, NEP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ectores y empalmes (Splices) 0.1-0.5 dB insertion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560" y="39852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GENERALES FIBRAS US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8360" y="1878120"/>
          <a:ext cx="828036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78120"/>
                    <a:ext cx="828036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185120" y="836640"/>
            <a:ext cx="65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UNITARIOS FIBRA OPTICA INTER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2492280"/>
          <a:ext cx="8316720" cy="20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316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94200" y="47628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FUNITARIOS FO 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26:25Z</dcterms:created>
  <dc:creator>Jorge</dc:creator>
  <dc:description/>
  <dc:language>en-US</dc:language>
  <cp:lastModifiedBy>Jorge Fritis</cp:lastModifiedBy>
  <dcterms:modified xsi:type="dcterms:W3CDTF">2006-08-25T15:19:37Z</dcterms:modified>
  <cp:revision>4</cp:revision>
  <dc:subject/>
  <dc:title>Diapositiva 1</dc:title>
</cp:coreProperties>
</file>