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927-92BE-4E31-9FA9-3ACCA9CA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EE2-1154-4053-AC42-F84B3C19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461-4279-4BA5-ACA1-7F5169AE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25F-46CE-4097-A05B-16A9721B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A2F-F40E-4397-9C9C-A4C36983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134-505E-4CDA-B464-45159C6C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4EC-3BBF-46F0-AA34-52FD31FA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6DE-8F4D-45DA-87AE-F345E91A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46E-FBA4-48B8-8C42-583C476C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227-97C8-4048-9E17-006EEB3B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85C-5212-4B75-9299-3D000F65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D2D-7B8F-49E4-BBA0-B6403535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601A-36C3-42D4-8D87-BFAE0688E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hyperlink" Target="http://www.siecor.com/web/college/fsec.nsf/ehtml/type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305160" cy="1076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08400" y="379440"/>
            <a:ext cx="46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io funcionamiento fibra ó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39840" y="3562200"/>
            <a:ext cx="416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= 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dice de refracció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’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índice de refracción núc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11560" y="981000"/>
            <a:ext cx="65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lindro de material transparente que puede guiar rayos de lu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tener capas concéntricas con diferente índice de ref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FO-Fase2"/>
          <p:cNvPicPr/>
          <p:nvPr/>
        </p:nvPicPr>
        <p:blipFill>
          <a:blip r:embed="rId1"/>
          <a:stretch/>
        </p:blipFill>
        <p:spPr>
          <a:xfrm>
            <a:off x="1116000" y="692280"/>
            <a:ext cx="29718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41800" y="26028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BRICACIÓN DE FIBRA OP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FO-Fase3"/>
          <p:cNvPicPr/>
          <p:nvPr/>
        </p:nvPicPr>
        <p:blipFill>
          <a:blip r:embed="rId2"/>
          <a:stretch/>
        </p:blipFill>
        <p:spPr>
          <a:xfrm>
            <a:off x="1116000" y="3429000"/>
            <a:ext cx="2971800" cy="196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FO-Fase4"/>
          <p:cNvPicPr/>
          <p:nvPr/>
        </p:nvPicPr>
        <p:blipFill>
          <a:blip r:embed="rId3"/>
          <a:stretch/>
        </p:blipFill>
        <p:spPr>
          <a:xfrm>
            <a:off x="4932360" y="836640"/>
            <a:ext cx="3524400" cy="1876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5734080"/>
            <a:ext cx="37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bricación del fi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35640" y="486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2924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bricación del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cable con recubierta"/>
          <p:cNvPicPr/>
          <p:nvPr/>
        </p:nvPicPr>
        <p:blipFill>
          <a:blip r:embed="rId4"/>
          <a:stretch/>
        </p:blipFill>
        <p:spPr>
          <a:xfrm>
            <a:off x="7524720" y="3716280"/>
            <a:ext cx="1387440" cy="201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3114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5591160" cy="133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7800" y="333360"/>
            <a:ext cx="22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FI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0560" y="97488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bra monom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0600" y="3140640"/>
            <a:ext cx="56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bra Multimodo de Índice Gradiante Grad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5581440" cy="114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3480" y="4867920"/>
            <a:ext cx="48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bra Multimodo de índice escalon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9640" y="5373720"/>
            <a:ext cx="5572080" cy="1114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372360" y="981000"/>
            <a:ext cx="2771640" cy="49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onentes Fibra óp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Núcle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En sílice, cuarzo fundido o plást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ámetro: 50 o 62,5 um para  fibra multimodo,  9um para la fibra monomo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Funda Óp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Generalmente de los mismos materiales que el núcleo pero con aditivos que cambian l índice de refracción y confinan las ondas ópticas en el núcle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revestimiento de protección: por lo general esta fabricado en plástico y asegura la protección mecánica de la fib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000080"/>
            <a:ext cx="78487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marL="631800" indent="-63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nsión: cuando se estira o contrae el cable se pueden causar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fuerzas que rebasen el porcentaje de elasticidad de la fibra óptica y se rompa o formen microcurvat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acto: se debe principalmente a las protecciones del cable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ptico, y depende de su instal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rollamiento: existe siempre un límite para el ángulo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rvatura pero, la existencia del forro impide que s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brepase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orsión: es el esfuerzo que cambie el ángulo del eje transvers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mitaciones Térmicas: Estas limitaciones difieren en alto grado según se trate de fibras realizadas a partir del vidrio o a partir de materiales sinté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7280" y="549360"/>
            <a:ext cx="508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ACIONES MECANICAS EN USO 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258920" y="1413000"/>
          <a:ext cx="6625800" cy="4320360"/>
        </p:xfrm>
        <a:graphic>
          <a:graphicData uri="http://schemas.openxmlformats.org/drawingml/2006/table">
            <a:tbl>
              <a:tblPr/>
              <a:tblGrid>
                <a:gridCol w="4439520"/>
                <a:gridCol w="1336320"/>
                <a:gridCol w="849960"/>
              </a:tblGrid>
              <a:tr h="84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acterís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a  Óp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x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itud de la Bobina (m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so (kgs/k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(m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 de Curvatura (cm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ancia entre repetidores (Kms)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4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ón (dB / km) para un Sistema de 56 M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246400" y="39852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ción con cable coax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736720" cy="1647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2808360" cy="1663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10000" y="32688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EMISORES DE L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6560" y="1268280"/>
            <a:ext cx="33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odo emisor de luz (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2889360" cy="2092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27640" y="5229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iodo la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3456000" cy="162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37280" y="614520"/>
            <a:ext cx="416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POS DE DETECTORES DE L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7080" y="162864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odo 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0200" y="436572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todiodo de avalancha (AP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2600280" cy="1028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971640" cy="685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701440" y="476280"/>
            <a:ext cx="35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ALMES FIBRA O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9840" y="16956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2808360" cy="944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426000" y="414324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F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0920" y="4365720"/>
            <a:ext cx="3097440" cy="2125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54920" y="49410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0.01 a 0.10 dB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640" y="220428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0 a 1d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11:54:33Z</dcterms:created>
  <dc:creator>Jorge</dc:creator>
  <dc:description/>
  <dc:language>en-US</dc:language>
  <cp:lastModifiedBy>Jorge</cp:lastModifiedBy>
  <dcterms:modified xsi:type="dcterms:W3CDTF">2005-08-05T02:29:32Z</dcterms:modified>
  <cp:revision>7</cp:revision>
  <dc:subject/>
  <dc:title>Diapositiva 1</dc:title>
</cp:coreProperties>
</file>