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E75-4376-4196-A0FD-7AC20CE4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6D6-39F6-4E2C-A825-CBA4A64D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6B5-00FD-41E2-91CF-85C81034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A57-E2EC-47A0-A281-F0FE377C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03B1-5ECF-4330-B919-6B3665A8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DF9-1458-4400-917E-F703FE4D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F3D-DCC2-4AB4-B84A-4D70E1D6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FC7-9A4C-412F-97BF-B18F3A80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977-CC9D-486C-BD44-73278B25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E0B-7380-4608-B7E5-90BC060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EE1-D8A1-455F-827F-0B78211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942-63C6-451F-ACDC-3F466F56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3743-C834-4675-82FC-04EBE66A0D6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 Fritis</cp:lastModifiedBy>
  <dcterms:modified xsi:type="dcterms:W3CDTF">2006-08-18T14:55:04Z</dcterms:modified>
  <cp:revision>9</cp:revision>
  <dc:subject/>
  <dc:title>Sin título de diapositiva</dc:title>
</cp:coreProperties>
</file>