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81FA-2B02-491E-A592-809CCEAC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376-39D3-441E-BF72-F19F748A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4AB-A351-4CA7-8A14-A23408E9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E87-ABC8-41F7-91D4-C617DA6B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C3F-8A3C-4522-A23C-5FB955C8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337-2126-40E6-B61D-9D8FB193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816-3531-4AF3-8C46-03866FE4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211-B336-43C2-B0A5-C114BDA7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A50-E518-4EC8-8B52-A2A1492B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CEC-16E8-421D-9B57-872251F1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332-418E-4B8C-A669-C4E576D3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39C-7F8B-4F56-828C-D9C8540F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8A17-F02F-4E55-8B26-A5377697278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 Fritis</cp:lastModifiedBy>
  <dcterms:modified xsi:type="dcterms:W3CDTF">2006-08-18T14:55:04Z</dcterms:modified>
  <cp:revision>9</cp:revision>
  <dc:subject/>
  <dc:title>Sin título de diapositiva</dc:title>
</cp:coreProperties>
</file>