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897-FE4D-4FFA-B456-384F267D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437-1CB9-425C-BB9C-4E236F2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3FD-9D4C-412B-8775-AD94A7F7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CFB-25BB-4614-ACE8-31E3B709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BE4-7C1C-4823-9AEE-CFE0CC2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5DA-5CAE-4EB1-B6D0-91983A4C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619-AAC0-47D5-92FF-571F31C2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4A1-37C7-4CB5-9DA1-BFD3EFB0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149-A566-4E3A-A6AF-28F5C8C0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03C-2603-472F-9361-AFAD0C8F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59D-EB67-41D5-B755-28341E74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D9E-B359-49D7-A5B4-E7514B70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0A2C-13E9-4E8D-B934-EB9B891F4F6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 Fritis</cp:lastModifiedBy>
  <dcterms:modified xsi:type="dcterms:W3CDTF">2006-08-18T14:55:04Z</dcterms:modified>
  <cp:revision>9</cp:revision>
  <dc:subject/>
  <dc:title>Sin título de diapositiva</dc:title>
</cp:coreProperties>
</file>