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12F-5EA8-4694-AABF-414E875D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179-7269-4EDF-99D9-3BB4F700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D37-2ECC-479D-8832-1B8BFBCD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3DC-1B69-4C80-A4D9-B05C2B3E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9BF-AA1B-447E-AFB6-1672F44D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CB8-D495-4B9F-BE9C-E2823580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434-A08A-4EB2-8530-982E7215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32B-0414-406A-9BF5-99A7B8A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3FB-027D-40BD-9C5A-13E4C4C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C89-6904-4D76-98A6-6102151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DB3-1E3C-4A3F-A60D-AB55A97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73E-6865-496B-80AA-313CA4E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ECE-0EF0-4DAE-AC31-98E620B2F4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 Fritis</cp:lastModifiedBy>
  <dcterms:modified xsi:type="dcterms:W3CDTF">2006-08-18T14:55:04Z</dcterms:modified>
  <cp:revision>9</cp:revision>
  <dc:subject/>
  <dc:title>Sin título de diapositiva</dc:title>
</cp:coreProperties>
</file>