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B56-01A1-412A-B4D2-703A8A1F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26A-3096-4330-812D-7B883BA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E97-C4D4-44D4-9D89-FD5F1A30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79E-61EA-48B2-85CD-B52B926E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93E-00EF-408F-80AC-E722FDE5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C24-A981-4805-A8AF-76418CF8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DAD-5BC1-488C-86B2-0B6E131A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C5D-D3B8-44DB-B9FB-F735C6E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888-9595-44F6-B74A-B6FA165A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9BA-0159-4063-9E7C-D1C6B87F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410-A349-40C7-BEAB-8FD11170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68D-0858-410F-87D1-57FA7A6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7CD8-E0F5-477F-99ED-639292550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42A Octubre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517-6603-4ED0-886E-D83A9E0B01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00:49Z</dcterms:created>
  <dc:creator>Nicolas Beltran</dc:creator>
  <dc:description/>
  <dc:language>en-US</dc:language>
  <cp:lastModifiedBy>Nicolas Beltran</cp:lastModifiedBy>
  <dcterms:modified xsi:type="dcterms:W3CDTF">2006-11-01T20:49:11Z</dcterms:modified>
  <cp:revision>4</cp:revision>
  <dc:subject/>
  <dc:title>Presentación de PowerPoint</dc:title>
</cp:coreProperties>
</file>