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A55E-16C7-4214-B2B1-37F4C361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6C27-214A-4E3B-A40D-9C6195C8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3926-43D1-4B47-8490-3629EB28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FF64-668B-4F65-B360-8D8AC905C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3647-113A-44AA-AAEF-CA4D2B35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00A6-3F9A-4719-BF1E-25DBAAD8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D237-DCFF-4AC2-A431-AD675915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E947-FA5C-4025-9B04-6E26C21F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5A3-F6FE-4901-B39E-9EFA2274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E01C-B8D1-4CC7-8680-0BFA6107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E0CF-52BB-4D7E-AFEF-A4BA70C8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A383-E9A3-48D6-B36E-53F82765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9072-D35F-402B-843A-964B3BD13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57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42A Octubre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C9EF-9C4A-4A77-8F4E-27D15CFCB8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2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9:00:49Z</dcterms:created>
  <dc:creator>Nicolas Beltran</dc:creator>
  <dc:description/>
  <dc:language>en-US</dc:language>
  <cp:lastModifiedBy>Nicolas Beltran</cp:lastModifiedBy>
  <dcterms:modified xsi:type="dcterms:W3CDTF">2006-11-01T20:49:11Z</dcterms:modified>
  <cp:revision>4</cp:revision>
  <dc:subject/>
  <dc:title>Presentación de PowerPoint</dc:title>
</cp:coreProperties>
</file>