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09A-B3A0-49D7-992F-394145E9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5D8-FA67-4451-A675-C4FC2148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660-E322-484F-91B3-9B060D5C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231-5273-4E2F-B6DF-5B886961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13D-8DD8-4103-87E7-A5DEA608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280-41A7-4D9F-9EB1-F44EFBD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6BC-B4F3-44E8-954E-3B1AC608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DD1-8D77-4E8D-AB19-228DB9B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409-6355-4D33-871D-39E0653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66D-0A23-42DF-92FB-3FC61FE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ED4-1EFA-4F5A-9257-9FDB0345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C8D-C96E-43F8-BA21-07D8286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91D7-9E74-47B5-838D-B2298BC0CC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ROCEDIMIENTO PARA OBTENER COORDENADAS UTM EN UN MAPA O CARTA TOPOGRÁ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530064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nando Millar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 Taller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turismo U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47640" y="510516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GENERAL DE UNA CARTA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4760" y="112680"/>
            <a:ext cx="440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472000" cy="513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440" y="6162840"/>
            <a:ext cx="68659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CIÓN CUADRÍCULA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4440" y="299700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87700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557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0040" cy="48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404640"/>
            <a:ext cx="208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90792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STA ESCALA 1 cm en el mapa, representa 500 metros  en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6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2808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cuadrícula representa una dimensión de  1000 m en el terreno en el eje Norte (Y) y 1000 m en el eje Este (X), y en el mapa esta dimensión es de 2 cm en cada 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967280" cy="46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99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445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5345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13372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645000"/>
            <a:ext cx="399564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 mm x la escala=&gt; 11x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11 mm representa en terreno 550.000 mm o 550 me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mismo para 13 mm x 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650 metros en terr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las coordenadas para el punto son las del origen inferior izquierdo más los valores obten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5877000"/>
            <a:ext cx="43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85.000 m + 650 m = 85.6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44.000 m + 550 m = 44.5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877000"/>
            <a:ext cx="24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9440" y="40464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e una carta IGM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6920" y="38289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1680" y="643716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97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5280" y="6221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92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Norte (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61801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Este  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71640" y="4076640"/>
            <a:ext cx="19447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58920" y="4869000"/>
            <a:ext cx="1944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1280" y="614844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grafic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15480" y="4824360"/>
            <a:ext cx="144360" cy="144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3080" y="4941720"/>
            <a:ext cx="10792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07240" y="6073920"/>
            <a:ext cx="3058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para este pu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39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54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093000"/>
            <a:ext cx="22100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4880" y="5546880"/>
            <a:ext cx="122400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3168720"/>
            <a:ext cx="57636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221000"/>
            <a:ext cx="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58920" y="5877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33960"/>
            <a:ext cx="2879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de origen para la car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65.000 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1.000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7440" y="2706840"/>
            <a:ext cx="14436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50920" y="278136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781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3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044680" y="3012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x 50 =75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x 50 =50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7036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0680" y="4030560"/>
            <a:ext cx="2664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en de las coordenadas para la cuadrícul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5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= 62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58136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500 m = 65.5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750 m = 62.7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5873760"/>
            <a:ext cx="3456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das fina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265.50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2.75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260280"/>
            <a:ext cx="21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do un punto en la carta, deseo obtener las coordenadas de otro a partir de este, teniendo como datos un azimut y una dista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0440" y="2478240"/>
            <a:ext cx="14472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9000"/>
            <a:ext cx="22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1: 6.742.000 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46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97360"/>
            <a:ext cx="21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2 : a 3 km de distancia en azimut 45º a partir del Pto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337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 1: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1876320"/>
            <a:ext cx="1368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76760" y="1576440"/>
            <a:ext cx="0" cy="95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2536920"/>
            <a:ext cx="1842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2080" y="25653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0320" y="12542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2389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961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7720" y="62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2387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4160" y="861480"/>
            <a:ext cx="1697040" cy="168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692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z 45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76760" y="1523520"/>
            <a:ext cx="1020600" cy="10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349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 km o 3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7280" y="1989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2548080"/>
            <a:ext cx="13921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9560" y="1403280"/>
            <a:ext cx="145800" cy="158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33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92600" y="1630440"/>
            <a:ext cx="1296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3760" y="5189400"/>
            <a:ext cx="31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de origen de la cuadrícula de trabaj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000 m N  y 48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" y="5907240"/>
            <a:ext cx="889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to 2 se encuentra a 5 mm aprox. del origen de la cuadríc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 x 50 = 250 m =&gt; 44.000 m N + 250 m y 48.000 m E + 25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ordenadas finales serían 6.744.250 m N y 348.250 m E para el Pto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2:54:09Z</dcterms:created>
  <dc:creator>FM</dc:creator>
  <dc:description/>
  <dc:language>en-US</dc:language>
  <cp:lastModifiedBy>TANO</cp:lastModifiedBy>
  <dcterms:modified xsi:type="dcterms:W3CDTF">2006-11-07T20:16:56Z</dcterms:modified>
  <cp:revision>12</cp:revision>
  <dc:subject/>
  <dc:title>PROCEDIMIENTO PARA OBTENER COORDENADAS UTM EN UN MAPA O CARTA TOPOGRÁFICA</dc:title>
</cp:coreProperties>
</file>