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DF1-41B1-4919-8AEC-CBEBE631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8F4-51F2-42E4-B18C-BBA59CC5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489-CFB1-4653-B321-D5FC2A3D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049-07DB-4AF5-91F1-AB9FC6D4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F87-C03F-49A1-AB26-8202C746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3CF-FE23-4965-8F14-CAE78214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443-DBEF-43E2-98A4-D6524FDD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B29-A747-42F9-89E6-18728288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91F-E755-46D7-9149-3A0E7FED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513-A018-49C3-9789-00ADB5ED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608-D948-4B29-8FF0-8AB8C5D2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5D8D-33D3-41C8-A942-96306611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9074-0E82-4ECA-BD19-397EC682C4B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PROCEDIMIENTO PARA OBTENER COORDENADAS UTM EN UN MAPA O CARTA TOPOGRÁF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2000" y="5300640"/>
            <a:ext cx="273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nando Millar 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or Taller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turismo UN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47640" y="5105160"/>
            <a:ext cx="64008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A GENERAL DE UNA CARTA TOP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44760" y="112680"/>
            <a:ext cx="44085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5472000" cy="5135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2440" y="6162840"/>
            <a:ext cx="6865920" cy="6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CIÓN CUADRÍCULA U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144440" y="2997000"/>
            <a:ext cx="0" cy="23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5877000"/>
            <a:ext cx="27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94480" y="55738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640040" cy="4824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19640" y="404640"/>
            <a:ext cx="2089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90792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STA ESCALA 1 cm en el mapa, representa 500 metros  en el terr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56536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2840" y="2808360"/>
            <a:ext cx="34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cuadrícula representa una dimensión de  1000 m en el terreno en el eje Norte (Y) y 1000 m en el eje Este (X), y en el mapa esta dimensión es de 2 cm en cada e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967280" cy="466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03640" y="134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997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4076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4076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2000" y="2852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5445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06880" y="5345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119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2133720"/>
            <a:ext cx="2160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645000"/>
            <a:ext cx="399564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1 mm x la escala=&gt; 11x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r lo tanto 11 mm representa en terreno 550.000 mm o 550 met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 mismo para 13 mm x 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presenta 650 metros en terr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r lo tanto las coordenadas para el punto son las del origen inferior izquierdo más los valores obten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5877000"/>
            <a:ext cx="43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85.000 m + 650 m = 85.6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44.000 m + 550 m = 44.5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5877000"/>
            <a:ext cx="2447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79440" y="404640"/>
            <a:ext cx="7777080" cy="5656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 de una carta IGM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26920" y="382896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01680" y="6437160"/>
            <a:ext cx="187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3973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75280" y="62215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892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 Norte (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1400" y="618012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 Este  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971640" y="4076640"/>
            <a:ext cx="194472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258920" y="4869000"/>
            <a:ext cx="194472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1280" y="6148440"/>
            <a:ext cx="22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s grafic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15480" y="4824360"/>
            <a:ext cx="144360" cy="144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093080" y="4941720"/>
            <a:ext cx="1079280" cy="11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07240" y="6073920"/>
            <a:ext cx="30589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enadas para este pu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39.00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54.00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093000"/>
            <a:ext cx="2210040" cy="74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6280" y="895320"/>
            <a:ext cx="8191440" cy="5067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04880" y="5546880"/>
            <a:ext cx="122400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15920" y="3168720"/>
            <a:ext cx="576360" cy="136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221000"/>
            <a:ext cx="71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258920" y="587700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33960"/>
            <a:ext cx="2879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enadas de origen para la car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65.000 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1.000 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67440" y="2706840"/>
            <a:ext cx="144360" cy="1425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850920" y="2781360"/>
            <a:ext cx="12970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2781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2349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5044680" y="3012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2060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5 x 50 =75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2997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 x 50 =50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370368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30680" y="4030560"/>
            <a:ext cx="2664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en de las coordenadas para la cuadrícula de tr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= 65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= 62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56360" y="4581360"/>
            <a:ext cx="201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500 m = 65.5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750 m = 62.75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508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26040" y="5873760"/>
            <a:ext cx="3456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rdenadas fina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265.500 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2.750 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500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260280"/>
            <a:ext cx="219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do un punto en la carta, deseo obtener las coordenadas de otro a partir de este, teniendo como datos un azimut y una distanc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00440" y="2478240"/>
            <a:ext cx="144720" cy="1425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89000"/>
            <a:ext cx="226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to 1: 6.742.000 m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46.000 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997360"/>
            <a:ext cx="21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to 2 : a 3 km de distancia en azimut 45º a partir del Pto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93372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la 1:5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81600" y="1876320"/>
            <a:ext cx="136836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676760" y="1576440"/>
            <a:ext cx="0" cy="95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2536920"/>
            <a:ext cx="18428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72080" y="256536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40320" y="125424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3573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89240" y="23893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29160" y="96192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27720" y="62064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07000" y="2387520"/>
            <a:ext cx="47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664160" y="861480"/>
            <a:ext cx="1697040" cy="168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692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z 45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76760" y="1523520"/>
            <a:ext cx="1020600" cy="1033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234936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 km o 3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867280" y="1989000"/>
            <a:ext cx="14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99080" y="2548080"/>
            <a:ext cx="13921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9560" y="1403280"/>
            <a:ext cx="145800" cy="158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1339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t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592600" y="1630440"/>
            <a:ext cx="12960" cy="36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03760" y="5189400"/>
            <a:ext cx="3168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s de origen de la cuadrícula de trabaj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.000 m N  y 48.000 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4320" y="5907240"/>
            <a:ext cx="8893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to 2 se encuentra a 5 mm aprox. del origen de la cuadrícu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 x 50 = 250 m =&gt; 44.000 m N + 250 m y 48.000 m E + 250 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coordenadas finales serían 6.744.250 m N y 348.250 m E para el Pto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02:54:09Z</dcterms:created>
  <dc:creator>FM</dc:creator>
  <dc:description/>
  <dc:language>en-US</dc:language>
  <cp:lastModifiedBy>TANO</cp:lastModifiedBy>
  <dcterms:modified xsi:type="dcterms:W3CDTF">2006-11-07T20:16:56Z</dcterms:modified>
  <cp:revision>12</cp:revision>
  <dc:subject/>
  <dc:title>PROCEDIMIENTO PARA OBTENER COORDENADAS UTM EN UN MAPA O CARTA TOPOGRÁFICA</dc:title>
</cp:coreProperties>
</file>